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qit00004.wav" ContentType="audio/x-wav"/>
  <Override PartName="/ppt/media/image11.jpeg" ContentType="image/jpeg"/>
  <Override PartName="/ppt/media/image13.png" ContentType="image/png"/>
  <Override PartName="/ppt/media/image12.jpeg" ContentType="image/jpeg"/>
  <Override PartName="/ppt/media/image10.png" ContentType="image/png"/>
  <Override PartName="/ppt/media/image3.jpeg" ContentType="image/jpeg"/>
  <Override PartName="/ppt/media/type.wav" ContentType="audio/x-wav"/>
  <Override PartName="/ppt/media/laser.wav" ContentType="audio/x-wav"/>
  <Override PartName="/ppt/media/image2.png" ContentType="image/png"/>
  <Override PartName="/ppt/media/image4.jpeg" ContentType="image/jpeg"/>
  <Override PartName="/ppt/media/projctor.wav" ContentType="audio/x-wav"/>
  <Override PartName="/ppt/media/image9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7B5-8D25-4BB7-A14E-7F63E5FF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C129-EFDA-40C5-A2DE-2B7BD4EF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0341-3D51-4DF9-BEC7-F509816E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A3A6-8508-4D0B-B1B3-E1F858B2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F029-F2F3-4401-BA1C-C6F4CAE7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D17B-1D88-41F7-9A68-1FCCB265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2E3C-A771-4231-924A-374B8679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9848-44A5-47FD-B5C0-50E87864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9672-D4F8-4DFA-94FB-1B45548E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9E11-15F9-4DBE-B265-E47A17DE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2FF7-89E7-47CF-B947-2ACE4C83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1939-0EF3-49AB-8173-5ED6F365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673C-2A7D-4098-B8A5-79E7AA7BF3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qit00004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SUM00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xid00002.WAV" descr=""/>
          <p:cNvPicPr/>
          <p:nvPr/>
        </p:nvPicPr>
        <p:blipFill>
          <a:blip r:embed="rId2"/>
          <a:stretch/>
        </p:blipFill>
        <p:spPr>
          <a:xfrm>
            <a:off x="15228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4" name="WordArt 9"/>
          <p:cNvSpPr txBox="1"/>
          <p:nvPr/>
        </p:nvSpPr>
        <p:spPr>
          <a:xfrm rot="21576000">
            <a:off x="1828800" y="2057400"/>
            <a:ext cx="6248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24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楷体_GB2312"/>
              </a:rPr>
              <a:t>从现在开始</a:t>
            </a:r>
            <a:endParaRPr b="1" lang="en-US" sz="9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24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2209320" y="6237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BRL00030"/>
          <p:cNvPicPr/>
          <p:nvPr/>
        </p:nvPicPr>
        <p:blipFill>
          <a:blip r:embed="rId1"/>
          <a:stretch/>
        </p:blipFill>
        <p:spPr>
          <a:xfrm>
            <a:off x="0" y="-533520"/>
            <a:ext cx="5334120" cy="7391520"/>
          </a:xfrm>
          <a:prstGeom prst="rect">
            <a:avLst/>
          </a:prstGeom>
          <a:ln w="0">
            <a:noFill/>
          </a:ln>
        </p:spPr>
      </p:pic>
      <p:sp>
        <p:nvSpPr>
          <p:cNvPr id="90" name="Line 5"/>
          <p:cNvSpPr/>
          <p:nvPr/>
        </p:nvSpPr>
        <p:spPr>
          <a:xfrm>
            <a:off x="4343400" y="304920"/>
            <a:ext cx="0" cy="632448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4648320" y="533520"/>
            <a:ext cx="41907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方正楷体简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楷体简体"/>
              </a:rPr>
              <a:t>袋鼠虽然你落选了，可你不要灰心丧气，只要你懂得尊重别人的生活习惯，认识到自己的不足，取长补短，下次再竞选“万兽之王”时，我相信你一定能成功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5181480" y="12193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6"/>
          <p:cNvSpPr/>
          <p:nvPr/>
        </p:nvSpPr>
        <p:spPr>
          <a:xfrm>
            <a:off x="5257800" y="2590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7"/>
          <p:cNvSpPr/>
          <p:nvPr/>
        </p:nvSpPr>
        <p:spPr>
          <a:xfrm>
            <a:off x="5257800" y="38098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8"/>
          <p:cNvSpPr/>
          <p:nvPr/>
        </p:nvSpPr>
        <p:spPr>
          <a:xfrm>
            <a:off x="5029200" y="5029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9"/>
          <p:cNvSpPr/>
          <p:nvPr/>
        </p:nvSpPr>
        <p:spPr>
          <a:xfrm>
            <a:off x="5181480" y="60958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304920" y="228600"/>
            <a:ext cx="8610480" cy="632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qit000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C146-B173-4D30-A3D1-215B7D25B5A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2840" y="6854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方正行楷简体"/>
              </a:rPr>
              <a:t>我  会  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现在开始，你们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当‘万兽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王’，每个动物当一个星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个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是猫头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现在开始，每个动物都照自己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过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狮子见了，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眯地说：“不用再往下轮了。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宣布，从现在开始，小猴子就是‘万兽之王’了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RIT00173"/>
          <p:cNvPicPr/>
          <p:nvPr/>
        </p:nvPicPr>
        <p:blipFill>
          <a:blip r:embed="rId1"/>
          <a:stretch/>
        </p:blipFill>
        <p:spPr>
          <a:xfrm>
            <a:off x="380880" y="152280"/>
            <a:ext cx="1992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6091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方正行楷简体"/>
              </a:rPr>
              <a:t>我  会  认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之      轮      期            第      任      惯    式      眯      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RIT00024"/>
          <p:cNvPicPr/>
          <p:nvPr/>
        </p:nvPicPr>
        <p:blipFill>
          <a:blip r:embed="rId1"/>
          <a:stretch/>
        </p:blipFill>
        <p:spPr>
          <a:xfrm>
            <a:off x="457200" y="2286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SUM00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BRL00007"/>
          <p:cNvPicPr/>
          <p:nvPr/>
        </p:nvPicPr>
        <p:blipFill>
          <a:blip r:embed="rId2"/>
          <a:stretch/>
        </p:blipFill>
        <p:spPr>
          <a:xfrm>
            <a:off x="228600" y="3657600"/>
            <a:ext cx="4191120" cy="2651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BRL00012"/>
          <p:cNvPicPr/>
          <p:nvPr/>
        </p:nvPicPr>
        <p:blipFill>
          <a:blip r:embed="rId3"/>
          <a:stretch/>
        </p:blipFill>
        <p:spPr>
          <a:xfrm>
            <a:off x="5334120" y="28954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BRL00062"/>
          <p:cNvPicPr/>
          <p:nvPr/>
        </p:nvPicPr>
        <p:blipFill>
          <a:blip r:embed="rId4"/>
          <a:stretch/>
        </p:blipFill>
        <p:spPr>
          <a:xfrm>
            <a:off x="-762120" y="0"/>
            <a:ext cx="4419720" cy="3505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BRL00215"/>
          <p:cNvPicPr/>
          <p:nvPr/>
        </p:nvPicPr>
        <p:blipFill>
          <a:blip r:embed="rId5"/>
          <a:stretch/>
        </p:blipFill>
        <p:spPr>
          <a:xfrm>
            <a:off x="2514600" y="4114800"/>
            <a:ext cx="3429000" cy="3048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1295280" y="4114800"/>
            <a:ext cx="1143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cc"/>
                </a:solidFill>
                <a:latin typeface="Times New Roman"/>
                <a:ea typeface="宋体"/>
              </a:rPr>
              <a:t>之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7162920" y="4572000"/>
            <a:ext cx="12189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cc"/>
                </a:solidFill>
                <a:latin typeface="Times New Roman"/>
                <a:ea typeface="宋体"/>
              </a:rPr>
              <a:t>第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1066680" y="1600200"/>
            <a:ext cx="9144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cc"/>
                </a:solidFill>
                <a:latin typeface="Times New Roman"/>
                <a:ea typeface="宋体"/>
              </a:rPr>
              <a:t>任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3657600" y="5557680"/>
            <a:ext cx="13716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cc"/>
                </a:solidFill>
                <a:latin typeface="Times New Roman"/>
                <a:ea typeface="宋体"/>
              </a:rPr>
              <a:t>式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5" descr="NIL00026"/>
          <p:cNvPicPr/>
          <p:nvPr/>
        </p:nvPicPr>
        <p:blipFill>
          <a:blip r:embed="rId6"/>
          <a:stretch/>
        </p:blipFill>
        <p:spPr>
          <a:xfrm>
            <a:off x="4267080" y="0"/>
            <a:ext cx="4264200" cy="2286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6"/>
          <p:cNvSpPr/>
          <p:nvPr/>
        </p:nvSpPr>
        <p:spPr>
          <a:xfrm>
            <a:off x="5029200" y="762120"/>
            <a:ext cx="12193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cc"/>
                </a:solidFill>
                <a:latin typeface="Times New Roman"/>
                <a:ea typeface="宋体"/>
              </a:rPr>
              <a:t>郑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toy0223.wav" descr=""/>
          <p:cNvPicPr/>
          <p:nvPr/>
        </p:nvPicPr>
        <p:blipFill>
          <a:blip r:embed="rId7"/>
          <a:stretch/>
        </p:blipFill>
        <p:spPr>
          <a:xfrm>
            <a:off x="228600" y="2286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35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RIT00043"/>
          <p:cNvPicPr/>
          <p:nvPr/>
        </p:nvPicPr>
        <p:blipFill>
          <a:blip r:embed="rId1"/>
          <a:stretch/>
        </p:blipFill>
        <p:spPr>
          <a:xfrm>
            <a:off x="228600" y="228600"/>
            <a:ext cx="2743200" cy="2249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048120" y="838080"/>
            <a:ext cx="44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我  会 写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990720" y="3200400"/>
            <a:ext cx="70866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9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第      轮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133720" y="3048120"/>
            <a:ext cx="1752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2057400" y="3581280"/>
            <a:ext cx="1676520" cy="13716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2209680" y="3048120"/>
            <a:ext cx="1524240" cy="1523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1"/>
          <p:cNvSpPr/>
          <p:nvPr/>
        </p:nvSpPr>
        <p:spPr>
          <a:xfrm>
            <a:off x="2209680" y="3809880"/>
            <a:ext cx="14479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2971800" y="3124080"/>
            <a:ext cx="0" cy="14479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5410080" y="3048120"/>
            <a:ext cx="1524240" cy="1523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5334120" y="388620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7"/>
          <p:cNvSpPr/>
          <p:nvPr/>
        </p:nvSpPr>
        <p:spPr>
          <a:xfrm>
            <a:off x="6172200" y="304812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行楷简体"/>
              </a:rPr>
              <a:t>我 能 读 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RIT00137"/>
          <p:cNvPicPr/>
          <p:nvPr/>
        </p:nvPicPr>
        <p:blipFill>
          <a:blip r:embed="rId1"/>
          <a:stretch/>
        </p:blipFill>
        <p:spPr>
          <a:xfrm>
            <a:off x="304920" y="0"/>
            <a:ext cx="2209680" cy="1905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53352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个上任的是猫头鹰。它想到自己成为了“万兽之王”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神气极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立刻下令：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“从现在开始，你们都要跟我一样，白天休息，夜里做事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个星期，轮到袋鼠上任了。他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激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地说：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“从现在开始，你们都要跳着走路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19810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大家听了议论纷纷，可是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不得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服从命令，只好天天熬夜。一个星期下来，动物们都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叫苦连天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听了袋鼠的话，大家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直摇头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可是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不得不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服从命令，只好苦练跳的本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RIT00137"/>
          <p:cNvPicPr/>
          <p:nvPr/>
        </p:nvPicPr>
        <p:blipFill>
          <a:blip r:embed="rId1"/>
          <a:stretch/>
        </p:blipFill>
        <p:spPr>
          <a:xfrm>
            <a:off x="304920" y="0"/>
            <a:ext cx="2133360" cy="20620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2790360" y="954000"/>
            <a:ext cx="3301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行楷简体"/>
              </a:rPr>
              <a:t>我 能 读 好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gud00002.wav" descr=""/>
          <p:cNvPicPr/>
          <p:nvPr/>
        </p:nvPicPr>
        <p:blipFill>
          <a:blip r:embed="rId2"/>
          <a:stretch/>
        </p:blipFill>
        <p:spPr>
          <a:xfrm>
            <a:off x="8077320" y="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80880" y="22096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三个星期，轮到小猴子当“万兽之王”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大家都非常担心：他会不会命令我们从现在开始，都得住在树上，成天抓着藤条荡来荡去？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谁知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小猴子只说了一句话：“从现在开始，每个动物都照自己习惯的方式过日子。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话音刚落，大伙儿立刻欢呼起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RIT00137"/>
          <p:cNvPicPr/>
          <p:nvPr/>
        </p:nvPicPr>
        <p:blipFill>
          <a:blip r:embed="rId1"/>
          <a:stretch/>
        </p:blipFill>
        <p:spPr>
          <a:xfrm>
            <a:off x="228600" y="0"/>
            <a:ext cx="2133720" cy="2057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2714040" y="725400"/>
            <a:ext cx="3301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行楷简体"/>
              </a:rPr>
              <a:t>我 能 读 好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2438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狮子见了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笑眯眯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地说：“不用再往下轮了。我郑重宣布，从现在开始，小猴子就是‘万兽之王’！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RIT00137"/>
          <p:cNvPicPr/>
          <p:nvPr/>
        </p:nvPicPr>
        <p:blipFill>
          <a:blip r:embed="rId1"/>
          <a:stretch/>
        </p:blipFill>
        <p:spPr>
          <a:xfrm>
            <a:off x="380880" y="380880"/>
            <a:ext cx="1905120" cy="1836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2942640" y="725400"/>
            <a:ext cx="3301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方正行楷简体"/>
              </a:rPr>
              <a:t>我 能 读 好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1"/>
          <p:cNvSpPr/>
          <p:nvPr/>
        </p:nvSpPr>
        <p:spPr>
          <a:xfrm>
            <a:off x="457200" y="6156360"/>
            <a:ext cx="628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5:39:31Z</dcterms:modified>
  <cp:revision>1</cp:revision>
  <dc:subject/>
  <dc:title>幻灯片 1</dc:title>
</cp:coreProperties>
</file>