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camera.wav" ContentType="audio/x-wav"/>
  <Override PartName="/ppt/media/image6.png" ContentType="image/png"/>
  <Override PartName="/ppt/media/image12.jpeg" ContentType="image/jpeg"/>
  <Override PartName="/ppt/media/image14.jpeg" ContentType="image/jpeg"/>
  <Override PartName="/ppt/media/type.wav" ContentType="audio/x-wav"/>
  <Override PartName="/ppt/media/image13.jpeg" ContentType="image/jpeg"/>
  <Override PartName="/ppt/media/chimes.wav" ContentType="audio/x-wav"/>
  <Override PartName="/ppt/media/image9.jpeg" ContentType="image/jpeg"/>
  <Override PartName="/ppt/media/image1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E78B-14EA-4956-A7CC-E5907DD36A4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6ABF-FCB5-4EDC-827C-66F95E81937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5791-01A5-4790-A12B-115E0F00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90DB-71CA-448C-B761-DF6D5CE6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2E5B-C236-4813-BDC5-0808FEB3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60BB-18BC-491F-8687-5E1EF4F5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BB2C-9911-4AA7-8075-8E34C049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8800-9FC9-4D68-BA9E-7875EE6F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5007-33B3-43C5-8349-F9F75746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D243-2865-4572-BC93-0A34B18C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BE10-10E5-4DE1-AC66-D95F92CE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676D-19B9-4585-AC30-880D78D2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0E0C-0F73-4009-81B8-D170D11D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9195-A361-43B1-A299-C787A7E9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F89B-E756-4491-BC69-66C82CF1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4424-BF5C-4EA1-80CD-855B3237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F9A0-3425-434C-935E-9BDA1356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9112-BD4B-4219-86C4-0F45FA1B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4A07-991D-4ACF-91B2-9CC2560AD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28802-5DE0-45B6-9BB4-B3F0A985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B649D-31C3-4D25-8BD6-8D76411E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CF53B-9D86-4AAA-B7F5-C9A43BB4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7058C-9198-4AF4-92F4-FF8ADCF7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15BA1-D691-443B-817E-F0710E53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00D7-E8AD-4259-8CC0-CE653C25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94583-886E-4422-B931-6C843A91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9196D-2107-40A7-AEF7-EA546DFD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3824B-58A4-45A6-8CE1-C60CDE6E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78049-78FB-4B66-A4C6-661AF0C4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B0514-9E40-42D4-A7BA-CCA41259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B26F3-9DA7-4C9D-99F7-EBA26213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83097-A443-424F-BE9E-9377AAA3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BFE1-FD09-4406-BA74-B081F07E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E2AB-2FE6-4D71-834B-434E4663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6DFB-5DE0-456E-9A49-878A26C0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F8DC-3193-4122-92DF-AFFC223B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7397-319D-4BC2-9EBA-E07EF57B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5386-C767-4C1F-A7BB-41BD23A7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1064-7856-4818-A7CD-F0FBF9A1B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2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A546-DCCE-4BAF-BB90-6ABB44DFCB3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6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7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3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A763-43DB-4A57-AA27-B0CA7932463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1" descr=""/>
          <p:cNvPicPr/>
          <p:nvPr/>
        </p:nvPicPr>
        <p:blipFill>
          <a:blip r:embed="rId1"/>
          <a:stretch/>
        </p:blipFill>
        <p:spPr>
          <a:xfrm>
            <a:off x="1905120" y="2193840"/>
            <a:ext cx="4991040" cy="3808440"/>
          </a:xfrm>
          <a:prstGeom prst="rect">
            <a:avLst/>
          </a:prstGeom>
          <a:ln w="0">
            <a:noFill/>
          </a:ln>
        </p:spPr>
      </p:pic>
      <p:pic>
        <p:nvPicPr>
          <p:cNvPr id="158" name="WordArt 2" descr=""/>
          <p:cNvPicPr/>
          <p:nvPr/>
        </p:nvPicPr>
        <p:blipFill>
          <a:blip r:embed="rId2"/>
          <a:stretch/>
        </p:blipFill>
        <p:spPr>
          <a:xfrm>
            <a:off x="895320" y="473040"/>
            <a:ext cx="7467480" cy="13622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0"/>
          <p:cNvSpPr/>
          <p:nvPr/>
        </p:nvSpPr>
        <p:spPr>
          <a:xfrm>
            <a:off x="7315200" y="5791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7"/>
          <p:cNvSpPr/>
          <p:nvPr/>
        </p:nvSpPr>
        <p:spPr>
          <a:xfrm>
            <a:off x="2176560" y="61578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月球背面10"/>
          <p:cNvPicPr/>
          <p:nvPr/>
        </p:nvPicPr>
        <p:blipFill>
          <a:blip r:embed="rId1"/>
          <a:stretch/>
        </p:blipFill>
        <p:spPr>
          <a:xfrm>
            <a:off x="0" y="0"/>
            <a:ext cx="8991720" cy="6804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1097640" y="5335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月球飞船拍摄的月球图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986928"/>
          <p:cNvPicPr/>
          <p:nvPr/>
        </p:nvPicPr>
        <p:blipFill>
          <a:blip r:embed="rId1"/>
          <a:stretch/>
        </p:blipFill>
        <p:spPr>
          <a:xfrm>
            <a:off x="533520" y="609480"/>
            <a:ext cx="4762440" cy="47437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1676520" y="548640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"/>
          <p:cNvSpPr/>
          <p:nvPr/>
        </p:nvSpPr>
        <p:spPr>
          <a:xfrm flipV="1">
            <a:off x="2514600" y="1371600"/>
            <a:ext cx="3886200" cy="1371600"/>
          </a:xfrm>
          <a:prstGeom prst="line">
            <a:avLst/>
          </a:prstGeom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4038480" y="586728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月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3657600" y="4800600"/>
            <a:ext cx="914400" cy="1066680"/>
          </a:xfrm>
          <a:prstGeom prst="line">
            <a:avLst/>
          </a:prstGeom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6477120" y="9907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月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>
            <a:off x="4952880" y="2438280"/>
            <a:ext cx="1524240" cy="152424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6553080" y="36576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环行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7847640" y="19810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6702840" y="33526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4721760" y="54244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月海"/>
          <p:cNvPicPr/>
          <p:nvPr/>
        </p:nvPicPr>
        <p:blipFill>
          <a:blip r:embed="rId1"/>
          <a:stretch/>
        </p:blipFill>
        <p:spPr>
          <a:xfrm>
            <a:off x="46080" y="0"/>
            <a:ext cx="4840200" cy="52959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1447920" y="5486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月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5257800" y="762120"/>
            <a:ext cx="3581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所谓的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月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并非月球上面的海洋，而是月球上比较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低洼的平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并无一滴水存在。比较多人认为月海是小天体撞击月球时，撞破月壳，使月幔流出，玄武岩岩浆覆盖了低地，形成了月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环行山"/>
          <p:cNvPicPr/>
          <p:nvPr/>
        </p:nvPicPr>
        <p:blipFill>
          <a:blip r:embed="rId1"/>
          <a:stretch/>
        </p:blipFill>
        <p:spPr>
          <a:xfrm>
            <a:off x="0" y="0"/>
            <a:ext cx="5018040" cy="56386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1752480" y="5715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环行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5334120" y="68580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环形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希腊文的意思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所以又称为碗状凹坑结构。环形山的形成可能有两个原因，一是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陨星撞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结果，二是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火山活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但是大多数的环形结构均属于陨星的撞击结果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1143000" y="22860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月球是怎么运动的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85800" y="2514600"/>
            <a:ext cx="8077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  <a:ea typeface="黑体"/>
              </a:rPr>
              <a:t>   </a:t>
            </a: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黑体"/>
              </a:rPr>
              <a:t>月球围绕地球逆时针方向运行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"/>
          <p:cNvSpPr/>
          <p:nvPr/>
        </p:nvSpPr>
        <p:spPr>
          <a:xfrm>
            <a:off x="1573200" y="581328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0" y="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月球的基本数据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609480" y="1523880"/>
            <a:ext cx="769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月球</a:t>
            </a:r>
            <a:r>
              <a:rPr b="1" lang="zh-CN" sz="4800" spc="-1" strike="noStrike">
                <a:solidFill>
                  <a:srgbClr val="ccecff"/>
                </a:solidFill>
                <a:latin typeface="黑体"/>
                <a:ea typeface="黑体"/>
              </a:rPr>
              <a:t>直径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大约是地球的</a:t>
            </a:r>
            <a:r>
              <a:rPr b="1" lang="en-US" sz="4800" spc="-1" strike="noStrike">
                <a:solidFill>
                  <a:srgbClr val="ffff00"/>
                </a:solidFill>
                <a:latin typeface="黑体"/>
                <a:ea typeface="黑体"/>
              </a:rPr>
              <a:t>1∕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609480" y="251460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月球</a:t>
            </a:r>
            <a:r>
              <a:rPr b="1" lang="zh-CN" sz="4800" spc="-1" strike="noStrike">
                <a:solidFill>
                  <a:srgbClr val="ccecff"/>
                </a:solidFill>
                <a:latin typeface="黑体"/>
                <a:ea typeface="黑体"/>
              </a:rPr>
              <a:t>质量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大约是地球的</a:t>
            </a:r>
            <a:r>
              <a:rPr b="1" lang="en-US" sz="4800" spc="-1" strike="noStrike">
                <a:solidFill>
                  <a:srgbClr val="ffff00"/>
                </a:solidFill>
                <a:latin typeface="黑体"/>
                <a:ea typeface="黑体"/>
              </a:rPr>
              <a:t>1∕8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533520" y="388620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月球</a:t>
            </a:r>
            <a:r>
              <a:rPr b="1" lang="zh-CN" sz="4800" spc="-1" strike="noStrike">
                <a:solidFill>
                  <a:srgbClr val="ccecff"/>
                </a:solidFill>
                <a:latin typeface="黑体"/>
                <a:ea typeface="黑体"/>
              </a:rPr>
              <a:t>体积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大约是地球的</a:t>
            </a:r>
            <a:r>
              <a:rPr b="1" lang="en-US" sz="4800" spc="-1" strike="noStrike">
                <a:solidFill>
                  <a:srgbClr val="ffff00"/>
                </a:solidFill>
                <a:latin typeface="黑体"/>
                <a:ea typeface="黑体"/>
              </a:rPr>
              <a:t>1∕4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33520" y="480060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月球</a:t>
            </a:r>
            <a:r>
              <a:rPr b="1" lang="zh-CN" sz="4800" spc="-1" strike="noStrike">
                <a:solidFill>
                  <a:srgbClr val="ccecff"/>
                </a:solidFill>
                <a:latin typeface="黑体"/>
                <a:ea typeface="黑体"/>
              </a:rPr>
              <a:t>引力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大约是地球的</a:t>
            </a:r>
            <a:r>
              <a:rPr b="1" lang="en-US" sz="4800" spc="-1" strike="noStrike">
                <a:solidFill>
                  <a:srgbClr val="ffff00"/>
                </a:solidFill>
                <a:latin typeface="黑体"/>
                <a:ea typeface="黑体"/>
              </a:rPr>
              <a:t>1∕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609480" y="1127160"/>
            <a:ext cx="820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黑体"/>
              </a:rPr>
              <a:t>     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黑体"/>
              </a:rPr>
              <a:t>我国太空技术发展很快，也发射了卫星探索月球，就是“嫦娥一号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3"/>
          <p:cNvSpPr/>
          <p:nvPr/>
        </p:nvSpPr>
        <p:spPr>
          <a:xfrm>
            <a:off x="250920" y="685800"/>
            <a:ext cx="8893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月球是围绕地球运动的（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行星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卫星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恒星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彗星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月球上有许多的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环形山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火山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湖泊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雪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月球的直径大约是地球直径的（      ）分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二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三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四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月球质量大约是地球质量的（     ）分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八十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七十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六十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五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881600" y="83808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734280" y="220968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5951520" y="350532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2209680" y="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地球的卫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月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5715000" y="480060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250920" y="762120"/>
            <a:ext cx="889308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一人在地球上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斤的人，到了月球上称的体重是（     ）斤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0    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0   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0    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第一个在月球上留下足迹的人是（      ）的阿姆斯特朗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英国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美国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法国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德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我国第一颗人造月球卫星的名字叫（    ）一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牛郎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嫦娥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织女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探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距离地球最近的星球是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太阳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月球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金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22320" y="144792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6405840" y="266688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6558120" y="449568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2286000" y="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地球的卫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月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4876920" y="5715000"/>
            <a:ext cx="6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3"/>
          <p:cNvSpPr/>
          <p:nvPr/>
        </p:nvSpPr>
        <p:spPr>
          <a:xfrm>
            <a:off x="250920" y="914400"/>
            <a:ext cx="88930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年美国的（    ）载人飞船成功地在月球上着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阿波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号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嫦娥一号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神舟六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第一个在月球上留下足迹的宇航员是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嫦娥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阿波罗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阿姆斯特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地球的直径大约是月球直径的（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/4       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倍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/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3658680" y="106668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7246800" y="297180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2209680" y="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地球的卫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月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6232680" y="426708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990720" y="152388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  <a:ea typeface="华文楷体"/>
              </a:rPr>
              <a:t>      </a:t>
            </a:r>
            <a:r>
              <a:rPr b="1" lang="zh-CN" sz="8000" spc="-1" strike="noStrike">
                <a:solidFill>
                  <a:srgbClr val="ffff00"/>
                </a:solidFill>
                <a:latin typeface="Arial"/>
                <a:ea typeface="华文楷体"/>
              </a:rPr>
              <a:t>你知道地球的卫星是谁吗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"/>
          <p:cNvSpPr/>
          <p:nvPr/>
        </p:nvSpPr>
        <p:spPr>
          <a:xfrm>
            <a:off x="1422360" y="5603760"/>
            <a:ext cx="72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9732-F138-40BB-943C-FA28C81B620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380880" y="175248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黑体"/>
              </a:rPr>
              <a:t>      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黑体"/>
              </a:rPr>
              <a:t>自古以来，我们人类就不断地探索月球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S50022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152280" y="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远古时期－－－月球形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3107d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228600" y="585144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</a:rPr>
              <a:t>伽利略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发明的天文望远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S5002290"/>
          <p:cNvPicPr/>
          <p:nvPr/>
        </p:nvPicPr>
        <p:blipFill>
          <a:blip r:embed="rId1"/>
          <a:stretch/>
        </p:blipFill>
        <p:spPr>
          <a:xfrm>
            <a:off x="0" y="0"/>
            <a:ext cx="9372600" cy="67676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4191120" y="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无人月球探测飞行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3105d"/>
          <p:cNvPicPr/>
          <p:nvPr/>
        </p:nvPicPr>
        <p:blipFill>
          <a:blip r:embed="rId1"/>
          <a:stretch/>
        </p:blipFill>
        <p:spPr>
          <a:xfrm>
            <a:off x="0" y="0"/>
            <a:ext cx="4191120" cy="46483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4267080" y="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66ff"/>
                </a:solidFill>
                <a:latin typeface="黑体"/>
                <a:ea typeface="黑体"/>
              </a:rPr>
              <a:t>1969</a:t>
            </a: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66ff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月</a:t>
            </a:r>
            <a:r>
              <a:rPr b="1" lang="en-US" sz="3600" spc="-1" strike="noStrike">
                <a:solidFill>
                  <a:srgbClr val="0066ff"/>
                </a:solidFill>
                <a:latin typeface="黑体"/>
                <a:ea typeface="黑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日，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美国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“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阿波罗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11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号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”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飞船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次将人类送上了月球。宇航员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阿姆斯特朗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个踏上月球，人类首次登月成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419720" y="36576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琥珀"/>
              </a:rPr>
              <a:t>      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  <a:ea typeface="华文琥珀"/>
              </a:rPr>
              <a:t>“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我迈出了一小步，但人类迈出了一大步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0" y="46483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登上月球－－实地考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200602101807026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8"/>
          <p:cNvSpPr/>
          <p:nvPr/>
        </p:nvSpPr>
        <p:spPr>
          <a:xfrm>
            <a:off x="1636200" y="7128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关于月球，你了解多少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200629165558886"/>
          <p:cNvPicPr/>
          <p:nvPr/>
        </p:nvPicPr>
        <p:blipFill>
          <a:blip r:embed="rId1"/>
          <a:stretch/>
        </p:blipFill>
        <p:spPr>
          <a:xfrm>
            <a:off x="380880" y="1981080"/>
            <a:ext cx="2438640" cy="2819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3111d"/>
          <p:cNvPicPr/>
          <p:nvPr/>
        </p:nvPicPr>
        <p:blipFill>
          <a:blip r:embed="rId2"/>
          <a:stretch/>
        </p:blipFill>
        <p:spPr>
          <a:xfrm>
            <a:off x="3200400" y="1981080"/>
            <a:ext cx="2514600" cy="2819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3115d"/>
          <p:cNvPicPr/>
          <p:nvPr/>
        </p:nvPicPr>
        <p:blipFill>
          <a:blip r:embed="rId3"/>
          <a:srcRect l="20002" t="3335" r="20002" b="10001"/>
          <a:stretch/>
        </p:blipFill>
        <p:spPr>
          <a:xfrm>
            <a:off x="6095880" y="1981080"/>
            <a:ext cx="2286000" cy="28195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1905120" y="60948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天文望远镜下的月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5:32:0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5:57Z</dcterms:modified>
  <cp:revision>5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