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8"/>
          <p:cNvSpPr/>
          <p:nvPr/>
        </p:nvSpPr>
        <p:spPr>
          <a:xfrm>
            <a:off x="642960" y="1557360"/>
            <a:ext cx="8143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"/>
                <a:ea typeface="楷体_GB2312"/>
              </a:rPr>
              <a:t>Unit 4  Where is my ca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261540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71680" y="1928880"/>
          <a:ext cx="8001000" cy="381780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8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会话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 Let’s talk/Let’s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go home, wher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n, desk, under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illy 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here is 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t’s in/under the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教师的帮助下理解对话大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语境中理解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here is …? It’s in/under the …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语用功能，并在图片或动作等帮助下，理解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go home. Silly me!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意思。使用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here is …?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询问物品的位置并使用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t’s in/under the …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作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朗读对话，并能进行角色表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使用学过的文具、食品等拓展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play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练习内容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1" name="文本框 1"/>
          <p:cNvSpPr/>
          <p:nvPr/>
        </p:nvSpPr>
        <p:spPr>
          <a:xfrm>
            <a:off x="1030320" y="610560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 Let’s learn/Let’s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on, in, under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chair, de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here is 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t’s in/under/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the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听、说、认读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on, in, under, chair, desk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五个单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教师提供的语境中运用这些来简单询问物品的方位并作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听懂指令并做出相应的动作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字母语音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sp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语音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isten and 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听音写字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通过听例词发音，观察例词结构中共有的字母，理解字母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o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对应发音  。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教师的引导下说出例词由哪些音构成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之前的练习基础上给出几个独立的音，让学生试着自己拼起来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四线三格中正确书写单词，注意到字母间距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071880" y="2714760"/>
            <a:ext cx="304560" cy="21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786280" y="3000240"/>
            <a:ext cx="30492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71680" y="1928880"/>
          <a:ext cx="8001000" cy="381780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8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会话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 Let’s talk/Let’s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cap, toy bo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have a goo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s it in 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Yes, it 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No, it isn’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教师的帮助下理解对话大意。能在语境中理解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s it in …? Yes, it is. No, it isn’t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语用功能，并在图片或动作等帮助下理解语境语言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Have a good time!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简单询问物品的位置关系。能正确读出和使用肯定和否定回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朗读对话并能进行角色表演。教师注意引导学生注意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Yes/No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问句的升降调读法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使用身边的物品完成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play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游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71680" y="1928880"/>
          <a:ext cx="8001000" cy="381168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 Let’s learn/Let’s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cap, ball, car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oat,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s it in 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Yes, it 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No, it isn’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听、说、认读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cap, ball, car, boat, map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等单词。注意告知学生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cap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是有帽檐的棒球帽，可补充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hat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运用这些单词综合复习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部分学习的词汇完成藏物品找物品的游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听懂指令并做出相应的动作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时间允许的情况下可以复习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在重度闭音节中的发音，将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cap, map, hat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加入到第一单元发音例词中去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71680" y="1928880"/>
          <a:ext cx="8001000" cy="409248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663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综合技能活动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art to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ory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语境的帮助下认读句子，并且能够以文段中的句子为范本，回答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Zoom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提出的问题找到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Zip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藏身之处。（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art to read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检测部分要求学生能够熟练地听、说本单元对话部分的主要句型，能听、说、认读词汇部分的所有单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学会唱歌曲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here is the toy ca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理解故事内容，在教师的帮助下表演故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516E-5F19-4FAE-B4B4-8EA8A5A816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5:41Z</dcterms:modified>
  <cp:revision>1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