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E47-F883-4BE2-8B89-1CFE4DD5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86B-3A3D-4B82-ABE7-A7E3F722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5A61E-D412-47E6-86CE-5BFEC3A7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E3088-6785-4A35-92F5-827D977D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173D2-BCFF-4C20-81DC-38FE08BF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AF9F8-12F5-41F2-A1E1-8F84BCCB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3468E-EBB5-4763-BE93-09CC8590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9E994-BA7A-4ADC-815E-2A0D020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35A4E-85A0-4E2B-A57B-24B1FF57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0580C-047D-485C-B87B-5090160A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60C1B-9A39-4E15-B75B-9682D988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3BB35-7E3E-4702-BAD4-EE6AF833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AB8-682E-4280-9960-F5C162BC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9F923-69CB-4015-AE6A-0B8048F8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4DAAB-F98F-4D4B-B5C2-C61A0615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562DA-F154-4387-9C99-5843A1B4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311B5-ED26-4CB2-A8D6-E82A2DE6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FF2A6-D05A-490D-A46C-2C9B5B31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83D4A-41BE-44ED-899F-006BF8C4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41084-C801-4FDF-9C77-044024A7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1C659-BAC9-4181-A3CD-A7D9379F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DA0B8-9F8A-4C1B-8EB4-9A21F573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C1645-754D-4A34-8251-0767EB62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CDC-D3BA-4F1D-9652-F415E245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20CE6-AB22-48D6-9167-37DF0EF5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D4AB-8FD3-49ED-B018-901621A8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F801-6503-418B-B642-CED8256C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2204-F35F-40C4-8CF5-BECD5B8C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4B15-135C-44B3-AFDB-10BB1BE5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404B-39C9-4D9C-89CB-203DE4A9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7057-3741-4345-A289-1755161D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7ED5-4F7A-4863-949B-F85183B7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8B1-9BD4-4536-83FD-7F77F3E0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DE13-107C-414D-9623-D38119B3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863F-D1BA-42F1-879C-2E1D8E2D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FFDD-9C61-4D1A-8D24-A5AAB190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7B1E-EB1B-409F-BC54-C8201974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0281-3809-4ACD-9778-50AB1BE5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E307B-A1D5-4A3B-AA3A-6E44BA9A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C8C6-354E-44A7-95A7-76EA3813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E78E-F969-4141-A97A-CFB5157D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90821-2EA1-4A67-89E7-75EF7482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3EB0-2775-4E06-8998-1995DFB7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31F-9FF0-46D9-B0C4-5BF42232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F55C-05B1-41A4-8230-C25FDDF1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0291-0494-4751-8698-0254B6D8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A95B-3EB9-480C-BC56-DF07CBDB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9BAA2-A7C9-44E6-88DE-E6374280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03A84-BA9F-4ADA-8606-F22B1929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FD8D-748C-40D0-89D2-F76C5C38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FB67-6A9C-4148-B976-B6C25576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E236E-F74D-4E12-B227-33E13A1F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FA5BB-EBAE-47B5-ABEA-6C26F10C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6119D-8CB2-4CF6-9884-CF3EB80C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12A-BCFC-474F-BFD1-81FD1950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7912A-52FF-4516-A24D-0349C571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4683-1AB8-4CAA-85E3-6E26BA9E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45A6-3B2B-46CE-8918-3B82D72B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D4B86-8082-40BA-87F9-BD150EAA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6007-3C45-4343-9BBF-A9481EF1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A1B1-3917-450C-9EE6-DB2FBE4D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F943-0651-4154-8BFE-45B6A8BC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D372F-20B6-4CC2-A6EB-750E5929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CF91C-EC42-4E47-B49D-9AE00FC1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3C5AB-6139-4989-B28C-74993290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4A9-B96A-4921-80B7-DF01DC71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FFCB-896E-47AB-9874-6AC2A3C3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95E3D-3689-4F32-84CE-0E02EAB3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56AF-9DA3-40A5-AE89-612C34F3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A7574-2D7D-41DE-887C-E81E76B3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81F0F-FA7F-4C37-BFE8-A1F796DF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82698-ABB4-42DA-9A2F-331F45E1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2FE59-FE26-4140-B6AE-063CC4B6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982B2-83B3-4D1B-A4B2-592777D2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78107-1477-4485-AF7F-5D2E2FD7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31E45-9B62-43AB-8B0C-FFBD2838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596-C992-4887-996A-5C63B56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245FB-9238-4617-A35D-EF41598C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39ED8-23E5-49E3-980D-EFED7E12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AD6EF-A715-4258-9077-F208964A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E9190-E1DA-447B-8876-024B43EF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8F919-CEEB-4819-BD5E-775F4A6E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FF06E-04DC-46D2-B31C-0A9F0C0A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11BBA-4BA7-45D7-BE8D-3F3AA5CE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BDAD8-B179-4AEA-AA5A-F4488F04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9A6C9-3743-45B0-AD33-4A248F49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59EF-5320-4145-BF30-F2E6A92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144-1361-495A-9D9A-03B8318F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C868A-8F60-4169-B4C8-D229644E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0AFAE-3186-4813-857B-EF7EB7DE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E8C6E-CBE9-4DB0-8C84-2EF2C21B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ED5FF-1EC4-47B8-856F-F383E120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96836-3423-4E1C-8A2A-0EA152AD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B8DB-6DF8-4580-8CAC-E85C16EA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29E98-C712-4735-84CE-25449E55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D628E-A3F0-4464-92B5-B42C74A8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CD9D2-7A22-4CAE-8CE0-464F8C78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88EB1-273E-4714-96ED-14730282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8C5-1402-401D-BDE8-4C21C890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B07EC-49F3-4033-87B9-A8A2ED09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859C2-4819-4E43-B54C-07771DF7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B848E-A67E-48A0-9A2A-79E963C0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602F7-1D84-4220-99FF-0C0E5462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77422-3F40-4B6C-BCEE-B2F6A3A5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C8BC7-F237-4B9A-8F18-134B3467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9B27D-851C-4584-A8EE-C300C70F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0F6F8-B3B8-4E06-8933-2205E608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D0685-B5E2-4A30-9942-F70906F3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14D3E-46C8-4EB3-B963-3F18E590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5E0-C7F1-4231-8A40-E9DB8916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BDDB9-F678-4E4A-BC83-F48C522F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CDB74-52ED-47F6-A1D2-C42E196D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15FF2-4E78-4D7A-B85E-955B6FFE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74B27-0678-4B29-99C9-42BC4482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44734-218B-4212-9020-47B50570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24BA4-6FCB-46DB-9859-D56A3DF4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C1E13-F677-41C8-AB1B-06DF69C9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EC7E7-0760-4BE8-A4FF-FB11EB05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16ACB-43A0-4D30-AF66-84017FAC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31AB3-D078-4098-ADE6-CA2C42FB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FC7F-3C8A-485D-8455-2DA8B72F31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ABF5-F250-40B1-AD46-A213BFD620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8DB4-C0C9-4BCE-A8F4-9A7805B1F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D981-E6B5-4662-BD95-D353990B2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6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7272-36C8-4DA5-841B-91C0AC9D1F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6C64-28EC-4487-8C70-2D6845F75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76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1897-194D-4EF6-BEB6-06A84DF468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06B5-77F4-4EB2-BBE9-8783CEA72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C996-E717-4DB8-8654-F1AE8BE44E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1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1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1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1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20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2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3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5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ACE4-5F1F-4715-B3A3-E8078A4735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中国园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123640" y="836280"/>
            <a:ext cx="6448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答谢中书书</a:t>
            </a:r>
            <a:br>
              <a:rPr sz="6600"/>
            </a:b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陶弘景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1" name="矩形 8"/>
          <p:cNvSpPr/>
          <p:nvPr/>
        </p:nvSpPr>
        <p:spPr>
          <a:xfrm>
            <a:off x="2391480" y="6308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结：这篇山水小品廖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字，就概括古今，包罗了四时，兼顾了晨昏，山川草木，飞禽走兽，使文章清幽隽雅，像诗一般优美动人。你喜欢哪一幅画面，写一段赏析的文字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F0AE-F8F9-4EEC-A438-936CD43803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说课内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说内容：本课两篇短文都是吟咏自然风光的佳作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答谢中书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是南朝梁时陶弘景写给好友谢征的一封回信，也是一篇优美的山水小品。作者以清峻的笔触，描绘了江南秀美的山川景色，传达出与自然融合并陶醉其中的愉悦，体现了酷爱自然，归隐山林的人生志趣，流露出与古今知音共赏美景的得意之感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说课内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说教学方法：本文语言精美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描写生动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多短句。教学本文，应引导学生反复地读。在反复诵读中深入体味作品的意境，仔细地品味作品的语句，美美地感悟作品的内容，享受其中的乐趣。以朗读带动其他教学环节。让学生在美读中赏析清幽隽雅的景色和意境，从中把握四个美点：山水相映之美，色彩配合之美，晨昏变化之美，动静相衬之美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说课内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24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说教学目标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了解作者及背景，便于理解作者的思想感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朗读课文，感知内容，由画面的布局巧妙，体会文章优美的意境，把握作者的思想感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体会文章缜密的结构和凝练的语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朗读的基础上背诵课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作者情况、背景及题解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24000" y="1915920"/>
            <a:ext cx="860400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陶弘景，字通明，南朝梁时丹徒秣陵（今江苏江宁）人。他曾担任诸王的侍读，因看透了浑浊的人世，遂隐居山林。可是国家每有吉凶征讨大事，无不前以咨询，时人谓之山中“宰相”。陶弘景给谢征的这封回信，称道江南山水之美，措山川于笔下，容万物于眼前，文辞清丽，为六朝山水小品名作。南北朝时，时局动荡不安，不少文人隐迹山林，描山绘水，从大自然美景中寻求精神上的解脱。这类作品虽没有表现积极进步的政治观点，但却以其高超的艺术笔力，创造了具有相当美学价值的精品，具有较高的鉴赏意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书，即书信，古人的书信又叫“尺牍”或“札记”，是一种应用性文体，多记事陈情。我国古代的抒情散文及始于书信，书信的实用性和审美性的结合十分完美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课文疏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解释加粗的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具备    晓雾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歇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夕日欲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颓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沉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竞跃    未复有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奇者    答谢中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解释句子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实是欲界之仙都     未复有能与其奇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文本框 1"/>
          <p:cNvSpPr/>
          <p:nvPr/>
        </p:nvSpPr>
        <p:spPr>
          <a:xfrm>
            <a:off x="695160" y="573084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内容理解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50920" y="2060640"/>
            <a:ext cx="854064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哪句话写出了景物的共同特点？关键词是哪一个？这句话在文中有什么作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文中哪些语句是描写山川景色秀美的？怎样从多种角度层次分明地描写景物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通过景物描写，表达了作者怎样的思想感情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文章的结构和写作方法上你有什么认识，和大家交流一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矩形 12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637d95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2" descr="中国园林2"/>
          <p:cNvPicPr/>
          <p:nvPr/>
        </p:nvPicPr>
        <p:blipFill>
          <a:blip r:embed="rId16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cc"/>
                </a:solidFill>
                <a:latin typeface="Arial"/>
              </a:rPr>
              <a:t>主要内容板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2707920"/>
            <a:ext cx="954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总领全文，点名中心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山川之美，古来共谈        叙议结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                                       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仰视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高峰入云                       语言凝练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写景  四季常景   俯视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清流见底                       层次井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                                       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平视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两岸石壁，青林翠竹     沉醉山水的喜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                                        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晨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晓雾将歇                      与古今知音共赏美景的自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日变景        昏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夕日欲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感叹抒怀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————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欲界仙都，与其奇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-300600" y="328464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答谢中书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684360" y="3068640"/>
            <a:ext cx="142560" cy="2232000"/>
          </a:xfrm>
          <a:custGeom>
            <a:avLst/>
            <a:gdLst>
              <a:gd name="textAreaLeft" fmla="*/ 91080 w 142560"/>
              <a:gd name="textAreaRight" fmla="*/ 142920 w 1425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9"/>
          <p:cNvSpPr/>
          <p:nvPr/>
        </p:nvSpPr>
        <p:spPr>
          <a:xfrm>
            <a:off x="2627280" y="3357720"/>
            <a:ext cx="144360" cy="863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0"/>
          <p:cNvSpPr/>
          <p:nvPr/>
        </p:nvSpPr>
        <p:spPr>
          <a:xfrm>
            <a:off x="2627280" y="4365720"/>
            <a:ext cx="73080" cy="647640"/>
          </a:xfrm>
          <a:custGeom>
            <a:avLst/>
            <a:gdLst>
              <a:gd name="textAreaLeft" fmla="*/ 46800 w 73080"/>
              <a:gd name="textAreaRight" fmla="*/ 73440 w 730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6012000" y="2924280"/>
            <a:ext cx="215640" cy="2449440"/>
          </a:xfrm>
          <a:custGeom>
            <a:avLst/>
            <a:gdLst>
              <a:gd name="textAreaLeft" fmla="*/ 0 w 215640"/>
              <a:gd name="textAreaRight" fmla="*/ 77760 w 21564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1255320" y="2610000"/>
            <a:ext cx="630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山水相映之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高峰入云，清流见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色彩相配之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岸石壁，青林翠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晨昏变化之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晓雾将歇，夕日欲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27600" y="327204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意境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8104680" y="245916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动静相衬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8"/>
          <p:cNvSpPr/>
          <p:nvPr/>
        </p:nvSpPr>
        <p:spPr>
          <a:xfrm>
            <a:off x="1116000" y="3068640"/>
            <a:ext cx="142920" cy="216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740720" y="2997360"/>
            <a:ext cx="144360" cy="2232000"/>
          </a:xfrm>
          <a:custGeom>
            <a:avLst/>
            <a:gdLst>
              <a:gd name="textAreaLeft" fmla="*/ 0 w 144360"/>
              <a:gd name="textAreaRight" fmla="*/ 52200 w 144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9:51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44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