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41A-1731-418B-82A6-28654F74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0D5-9512-4B74-B886-B072BDC1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27E04-C0EA-4306-BB18-07576926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FD082-7DB2-45FC-9AEA-9E0E55C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885FC-FBA1-4EA5-A2CE-133B1C8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E1DD9-CC2E-4C99-9824-1F654A9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ECDE3-5C62-401C-9509-E1B7554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FEE1B-CCC0-4B9F-8063-B8585DB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0A97-C156-4A4A-BC4E-A7FC3D39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E7601-18DE-44B8-821D-A6DF0FAD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5879-7EAB-4A79-89A0-E600827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68EBE-5426-43DF-A5DF-9EF17F0D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ABB-E016-49FA-AD82-B5B5DA7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AA335-0506-43AB-857C-D86306B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783F4-0EFA-49E7-93D2-579A91A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FF3C7-090C-40FA-9AB9-429F757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33169-0CE3-4C98-A8ED-0A50D50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49713-12AF-4FA1-9B7D-06713C7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4ABCC-874A-454C-A80B-EA05E72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19DFC-6A78-4D71-B128-15306DC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9E2FD-3017-46C1-8E4A-FFF9CE1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554BE-71EA-4789-B6D4-1EA75138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85667-76D9-4E80-84AB-A2715CAE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952-1F4B-453E-A9F4-9A4E2EC3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77A93-81AD-4CCA-93DE-DCC5D780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1B12-C1AF-4C06-A2E2-ED5926E2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490BC-AC64-4FEC-BB62-A1E2583C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F364B-9897-4878-8EAD-F1107D7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7F9D-68BF-4CA6-91B4-CAE3535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CAE46-3461-47A2-9DBB-C9C252D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D461F-4C11-427E-A5C3-36C8411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7464-70CF-4FB3-AC75-CAA0841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7C3B4-79FC-4830-9883-32B4C25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91D2E-9449-4AFA-A29E-A8E4F45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1ADF-761D-4F1C-8BD1-C8A4C926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CDA0-8432-49B2-9A86-36CA763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60A06-C2A8-457C-8FD5-D0CCFBD3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6FB3E-F864-42B4-9C1F-7F19B5B1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40E9A-36E1-4928-9657-257C7016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E5608-4E4D-4BC7-B4D2-D519647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F2FF2-313F-442F-9410-AA28B1B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790F6-9678-4904-A91A-D50FD93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96824-7A8F-46E5-A456-C9D5574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7B098-9B9C-40A3-A1E4-D89C31E9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EE3D1-1ABE-45DB-B6C0-2CAB086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BDB-BC10-4E3D-A390-E1616A7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A9185-252B-43A9-B114-2F4043E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38D5D-2542-4642-8ED9-90F5AAF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0519-B2BA-4599-99FB-0B9FEF2E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2FA63-17B8-4ED7-AB1E-29BFA49C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DE62F-AAB3-470B-A495-9D730410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5AF-9430-462E-9216-6B7199D8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AAD-DFB1-45D9-8AF4-1FE7CA5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D873-3C88-4785-B3DE-E725F99E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8FA4-CB74-48C6-8DF7-5425EF5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9523-70BC-4DE3-9BCD-CFA158E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068-4F30-4DEE-9130-9947D63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87C-9230-4EDA-AF22-23BCF10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72E7-86D1-4717-A3D4-1432EF8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2305-1D7D-4336-B9ED-F82AA45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9070-C91E-4E3D-BDC5-385B8CAE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1595-02AA-4584-B8CA-E2B3E62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9404-7925-4A43-A902-A1686EE9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2174-0B6D-4647-AFC8-9F1FE274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8AAE-9A4E-4D74-99CB-A7CDB7A3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8251-8562-47AE-87C7-382D2CB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C792-9F1B-4A7C-B8E8-ACEBA50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43A-CBC5-4DD5-99D6-5145E99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2978-E683-4EBC-BB29-5D1084D4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2961-C93A-4AB1-80C2-2BE19B6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9A7F-7A65-414E-9A2C-3239206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D529-346D-4461-AC82-AF38CBC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E66D-6EF4-4220-9D5A-59357E7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FA0E-C655-49CC-B567-4F5EE4DC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30CD-9F5D-47BD-AA68-A74131F8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72A5-C9AB-4B09-9AC3-B4972199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374E-2C76-4CB4-AB0D-0A81AE2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01E2-BB15-4B16-8D9E-F9FFE2A6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8D8-A800-4016-95CD-57A4C68C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19D4-762B-4770-AA8B-45B6A69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ACDC-0646-450A-B68A-07B681B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02E0-7097-486B-B08B-C8E232C7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1D90-E699-40D6-963D-DEACE88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773C-A03B-4833-A852-CCAB783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8B7C-EDF9-4805-930E-FDA9F9E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670A-2976-4A0C-B6D0-62487FA8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7B46-78FF-4FEE-A48B-47739BFF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7A2B-DA30-4CCF-99F7-200CC8B2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378F-B524-4203-87FD-B52A1E7E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511-F723-4802-9C96-908C93DE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6C6A-0F23-4E2F-A114-793A76C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1B2A7-7E34-409E-BE99-3BDAF18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E1E8-0A00-487A-B3DF-C325C839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B4E5-F233-4E58-B454-2796F5DB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16C4-20D6-455C-8B8D-BC941B5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03AC-74BB-4AA7-80CF-40AB758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8B597-54AD-40F4-9A7D-03479B2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6DF6-FAE3-4614-AA41-F6912D4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9915C-5948-4D7F-8923-A68D0D2A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3414-AFB2-437D-9C7B-A17EBE32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FB2-031C-47E2-9F35-69CE5E7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3144-E9D8-45D7-B2A5-C970C696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D66E-2135-476B-B74A-A522D326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A0D47-A9F3-4009-AC49-39C611B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E068-DBD4-4393-BB1A-4E51C6B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CB59-4E27-4974-AC62-9B3DA33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F7CD-4A3E-4C30-B220-5583A897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2911-68E0-4878-B46E-CA4DD8E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EFBB-63E2-4DE7-B314-354E3C5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88C8-D02F-4228-ACDF-5A5A2BC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034F6-CD17-40BF-829C-CF08848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0F6-C277-4AD5-85EA-5C75CA4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F5288-58D0-4D16-87BB-F435373F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CD19-63B8-406C-82DA-9EC65D6C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B4AC2-EA68-48F2-9852-FF4A354B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A9B1-8DF6-4916-A0CB-58F81405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C1E4F-65E5-439A-98D4-51BE3F7C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9CB9-46B4-4E02-B365-729E407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22C0-66F9-425C-A977-5535022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1B24A-1B42-4A09-BB7D-54E4014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CEFF8-63E1-4998-96B1-3D4BFB9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E63F-9D5E-4949-B7DD-99F982C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616-FBC0-40B1-942A-55D6D28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FAF0C-15BB-4B0C-A468-3361D91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C9E1-023D-4066-B7C3-38086FF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A905-40A8-4F03-9956-93BEA90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D8DA-DF4D-4FCB-89E7-B8775E17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D5582-5CD8-4E45-84E0-036BFA41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7EFB-EDF1-4974-B09D-8BD1E54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6A74-3F75-466D-813C-5CEDEAF3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E981-FA5B-4E31-BC92-59755F9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7C9CF-A17B-4571-86DB-04D67BBB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B0302-59FB-48D1-89A4-D4E0B02F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E46-018D-49A9-8680-F934F3C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1F4A-3F53-418B-993F-B461799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E376-AB2E-4CE4-913F-FA7FD81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4EF98-F9FD-4AE3-A592-0F9906F3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A7E49-1C69-4E83-A51B-891BB4B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4CDA-2766-4C78-857A-0644771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B6CC-9CD7-4A99-8945-6FFE950F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119E0-7831-49E1-9A42-6703BC30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87BCA-27A2-4817-872F-07C61895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F18AA-6A62-4015-B16E-FEDA5593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A3BB3-A10F-4EBA-B42C-2486463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373-0CE2-4F70-BB39-73A357CC0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779-B476-4ADA-B34E-A6C4F195F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7283-7E37-4395-AEFA-FC7D0C96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F16F-4A00-4BB2-B837-92D9C189056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8E6-0CC4-4369-897A-4E634B6A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2EA-62B8-4867-991D-F759DC0B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80E-C3A7-4408-BFFA-A2A9BF9DD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BF0-1D32-4F2C-A452-D1543256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1CF-637C-47C9-9376-BDDCCFBF6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1B6-FDC8-421D-B11B-F4ACC582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9E39-3DFE-41AE-8C76-493A45C40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531-07AE-4B9C-AD95-FBAE01A25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ext Box 5" descr=""/>
          <p:cNvPicPr/>
          <p:nvPr/>
        </p:nvPicPr>
        <p:blipFill>
          <a:blip r:embed="rId1"/>
          <a:stretch/>
        </p:blipFill>
        <p:spPr>
          <a:xfrm>
            <a:off x="1509840" y="1123920"/>
            <a:ext cx="5472000" cy="2216160"/>
          </a:xfrm>
          <a:prstGeom prst="rect">
            <a:avLst/>
          </a:prstGeom>
          <a:ln w="0">
            <a:noFill/>
          </a:ln>
        </p:spPr>
      </p:pic>
      <p:sp>
        <p:nvSpPr>
          <p:cNvPr id="547" name="矩形 2"/>
          <p:cNvSpPr/>
          <p:nvPr/>
        </p:nvSpPr>
        <p:spPr>
          <a:xfrm>
            <a:off x="90720" y="628488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57200" y="3886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相接的两句话，字数相同，意思相对，这样的句子叫骈句，也就是修辞中的              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295280" y="457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苔痕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宋体"/>
              </a:rPr>
              <a:t>上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  <a:ea typeface="宋体"/>
              </a:rPr>
              <a:t>阶绿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1371600" y="2666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草色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宋体"/>
              </a:rPr>
              <a:t>入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  <a:ea typeface="宋体"/>
              </a:rPr>
              <a:t>帘青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2133720" y="14479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3124080" y="1600200"/>
            <a:ext cx="0" cy="99072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Line 14"/>
          <p:cNvSpPr/>
          <p:nvPr/>
        </p:nvSpPr>
        <p:spPr>
          <a:xfrm>
            <a:off x="4191120" y="152388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355720" y="5334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对偶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2362320" y="304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黑体"/>
              </a:rPr>
              <a:t>练一练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0" y="152388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划线词的意思相同的一项是（      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A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有仙则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不能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其一处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惟吾德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馨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如兰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C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拍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而起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无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牍之劳形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D  a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无案牍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形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我们在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  <a:ea typeface="宋体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012080" y="13716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4"/>
          <p:cNvSpPr/>
          <p:nvPr/>
        </p:nvSpPr>
        <p:spPr>
          <a:xfrm>
            <a:off x="0" y="42670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在物质生活日益丰富的今天，你如何看待本文作者所表达的“惟吾德馨”的道德情操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0" y="2590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完成下面的对偶创作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：品千古美文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0" y="2286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用文中的语句填空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陋室不陋”的原因是                  ，与“陋室”主人交往的人都是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   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125320" y="114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惟吾德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5238720" y="1752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鸿儒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648-4579-4893-B389-39727010E0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5"/>
          <p:cNvSpPr/>
          <p:nvPr/>
        </p:nvSpPr>
        <p:spPr>
          <a:xfrm>
            <a:off x="457200" y="9144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2133720" y="1981080"/>
            <a:ext cx="4724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明月松间照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清泉石上流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80880" y="5335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根据诗句，想象一种情境。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铭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古代刻在器物上用来警戒自己或者称述功德的文字，叫做“铭”，后来就成为一种文体。这种文体一般都是用韵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143000" y="32004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座右铭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886200" y="3352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写出来放在座位旁边的格言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2590920" y="304920"/>
            <a:ext cx="3520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作者简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609480" y="15238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禹锡（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772—842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），字梦得，唐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洛阳（现在属河南省）人，著名诗人。唐顺宗时，曾参加王叔文集团的政治革新运动，不久失败，被贬为朗州司马。后又连任连州、夔州、和州等地刺史。晚年回洛阳任太子宾客，世称刘宾客。作品有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宾客集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8467560" y="182520"/>
            <a:ext cx="549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7784280" y="678240"/>
            <a:ext cx="139932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57680" y="685800"/>
            <a:ext cx="6884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水不在深，有龙则灵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斯是陋室，惟吾德馨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青。谈笑有鸿儒，往来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无白丁。可以调素琴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无丝竹之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耳，无案牍之劳形。南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阳诸葛庐，西蜀子云亭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7089840" y="329112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刘禹锡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7696080" y="60958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8406"/>
                </a:moveTo>
                <a:lnTo>
                  <a:pt x="12543" y="8406"/>
                </a:lnTo>
                <a:lnTo>
                  <a:pt x="16964" y="3794"/>
                </a:lnTo>
                <a:lnTo>
                  <a:pt x="16964" y="17806"/>
                </a:lnTo>
                <a:lnTo>
                  <a:pt x="12543" y="13194"/>
                </a:lnTo>
                <a:lnTo>
                  <a:pt x="8112" y="13194"/>
                </a:lnTo>
                <a:close/>
              </a:path>
              <a:path fill="darken" w="30238" h="21600">
                <a:moveTo>
                  <a:pt x="18618" y="10800"/>
                </a:moveTo>
                <a:lnTo>
                  <a:pt x="22125" y="10800"/>
                </a:lnTo>
              </a:path>
              <a:path fill="darken" w="30238" h="21600">
                <a:moveTo>
                  <a:pt x="18618" y="8406"/>
                </a:moveTo>
                <a:lnTo>
                  <a:pt x="22125" y="5639"/>
                </a:lnTo>
              </a:path>
              <a:path fill="darken" w="30238" h="21600">
                <a:moveTo>
                  <a:pt x="18618" y="13194"/>
                </a:moveTo>
                <a:lnTo>
                  <a:pt x="22125" y="15961"/>
                </a:lnTo>
              </a:path>
            </a:pathLst>
          </a:cu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28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一  解释下列词语</a:t>
            </a:r>
            <a:r>
              <a:rPr b="0" lang="zh-CN" sz="4800" spc="-1" strike="noStrike">
                <a:solidFill>
                  <a:srgbClr val="545472"/>
                </a:solidFill>
                <a:latin typeface="Times New Roman"/>
                <a:ea typeface="宋体"/>
              </a:rPr>
              <a:t>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533520" y="1676520"/>
            <a:ext cx="5181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名：              馨 ：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鸿儒：                   案牍 ：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劳形：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1676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著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4114800" y="1676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香气，这里指品德高尚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752480" y="2514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博学的人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官府的公文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2322360" y="32767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使身体劳累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1253520" y="3962520"/>
            <a:ext cx="319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二 翻译下面句子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9144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斯是陋室，惟吾德馨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914400" y="57913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宋体"/>
              </a:rPr>
              <a:t>何陋之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28600" y="6858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山（仙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)  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名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28600" y="1600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水（龙）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962520" y="121932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陋室（          ）</a:t>
            </a:r>
            <a:r>
              <a:rPr b="0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2286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6668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18288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228600" y="4267080"/>
            <a:ext cx="2743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诸葛庐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子云亭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1981080" y="47242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3124080" y="4876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以古人自比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Line 20"/>
          <p:cNvSpPr/>
          <p:nvPr/>
        </p:nvSpPr>
        <p:spPr>
          <a:xfrm>
            <a:off x="3352680" y="152388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1" name="AutoShape 21"/>
          <p:cNvSpPr/>
          <p:nvPr/>
        </p:nvSpPr>
        <p:spPr>
          <a:xfrm>
            <a:off x="3200400" y="99072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2" name="Line 22"/>
          <p:cNvSpPr/>
          <p:nvPr/>
        </p:nvSpPr>
        <p:spPr>
          <a:xfrm>
            <a:off x="4724280" y="19051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Line 23"/>
          <p:cNvSpPr/>
          <p:nvPr/>
        </p:nvSpPr>
        <p:spPr>
          <a:xfrm>
            <a:off x="2133720" y="52578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4" name="Line 24"/>
          <p:cNvSpPr/>
          <p:nvPr/>
        </p:nvSpPr>
        <p:spPr>
          <a:xfrm flipV="1">
            <a:off x="4648320" y="3809880"/>
            <a:ext cx="0" cy="10670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4339080" y="3200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不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6" name="Line 28"/>
          <p:cNvSpPr/>
          <p:nvPr/>
        </p:nvSpPr>
        <p:spPr>
          <a:xfrm>
            <a:off x="2590920" y="3505320"/>
            <a:ext cx="14475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Text Box 30"/>
          <p:cNvSpPr/>
          <p:nvPr/>
        </p:nvSpPr>
        <p:spPr>
          <a:xfrm>
            <a:off x="5875560" y="106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德馨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8" name="Text Box 31"/>
          <p:cNvSpPr/>
          <p:nvPr/>
        </p:nvSpPr>
        <p:spPr>
          <a:xfrm>
            <a:off x="6557040" y="1447920"/>
            <a:ext cx="200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黑体"/>
              </a:rPr>
              <a:t>托 物 言 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0" name="Picture 9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"/>
          <p:cNvSpPr/>
          <p:nvPr/>
        </p:nvSpPr>
        <p:spPr>
          <a:xfrm>
            <a:off x="5410080" y="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想一想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962520" y="10666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作者写陋室不陋，表达了怎样的思想感情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962520" y="34290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通过对居室的描绘，极力形容陋室不陋，表达了一种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高洁傲岸的节操和安贫乐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情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158436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380880" y="6094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铭</a:t>
            </a: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隶书"/>
              </a:rPr>
              <a:t>”是古代的一种文体，这种文体一般都是             的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449568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4267080" y="1295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用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457200" y="22860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请在课文中划出押韵的字，想一想，这些字的韵母都是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------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3808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宋体"/>
              </a:rPr>
              <a:t>名  灵   馨  青  丁  经   形  亭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685800" y="5257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Verdana"/>
              </a:rPr>
              <a:t>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1:43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49Z</dcterms:modified>
  <cp:revision>26</cp:revision>
  <dc:subject>第一PPT模板网-WWW.1PPT.COM</dc:subject>
  <dc:title>第一PPT模板网-WWW.1PPT.COM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