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7.gif" ContentType="image/gi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32.gif" ContentType="image/gi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28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988-15B1-42B0-8378-78A8F8EC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70A-FA95-4851-94EE-4890F01B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B8F-8E1E-4391-BD45-EDF6691E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FFE-33FF-4F40-BF27-7E5E9D14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2DBE-9A61-477A-9B9F-7347E81C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2BAB-4E34-49EA-B23C-303E65CD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65D0-4FEF-40CE-B749-B2297D18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E9E7-DC47-4203-A736-F96B0E11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4B7C-3BAA-4E9F-BCC8-C6B6C6E7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BD1F-7880-4ABE-A13B-C6573B5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A7C2-A7A4-48B4-81E9-9AB092B2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087-82BB-4F46-B2C1-6F17562B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67C4-4C59-4217-9D4D-D8D7E709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75FE-FFA3-43C8-A3D9-AE4F62F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18FA-E7E0-4078-A22C-5C6460E8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86A6-4501-4323-BFF4-E74A1C16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8BD-4889-4CAD-851E-ADCA4979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C6F-6DBB-43B4-814F-CBB03154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E26-CEA1-492B-B3A3-7685A2E9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486-6B1B-43AB-AC60-3106DEF1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AAE-6D5A-4589-81A5-A908E57D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138-C192-4F8D-A470-963CD9A1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CD4-D5D2-4853-8135-E5C4F12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796-5A2C-4895-BAF4-7ADB561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DAC7-2943-4B94-A9C8-D56DB8D2EE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058F-07F2-4C2C-9B45-95C3E949D6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4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9640" y="220500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单项式乘单项式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2771640" y="981000"/>
            <a:ext cx="334800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整式的乘除与因式分解</a:t>
            </a:r>
            <a:endParaRPr b="1" lang="en-US" sz="4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0" y="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下列计算中，正确的是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·3a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=6a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B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·2x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=8x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3x·3x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=9x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·5x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=10x</a:t>
            </a:r>
            <a:r>
              <a:rPr b="1" i="1" lang="zh-CN" sz="4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299736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列运算正确的是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B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=2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(-2X)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=-4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(-2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)(-3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)=6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885080" y="1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508720" y="306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下列等式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+3a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=4a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     m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(-ab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=-2a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(-7x) ·    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y=-4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确的有（   ）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   B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     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     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863640" cy="165600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5" descr=""/>
          <p:cNvPicPr/>
          <p:nvPr/>
        </p:nvPicPr>
        <p:blipFill>
          <a:blip r:embed="rId3"/>
          <a:stretch/>
        </p:blipFill>
        <p:spPr>
          <a:xfrm>
            <a:off x="2340000" y="2997360"/>
            <a:ext cx="719280" cy="1439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3059280" y="458136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324000" y="189000"/>
            <a:ext cx="828036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如果单项式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-3x</a:t>
            </a:r>
            <a:r>
              <a:rPr b="1" lang="zh-CN" sz="6000" spc="-1" strike="noStrike" baseline="30000">
                <a:solidFill>
                  <a:srgbClr val="cc0000"/>
                </a:solidFill>
                <a:latin typeface="Arial"/>
              </a:rPr>
              <a:t>4a-b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1" lang="zh-CN" sz="6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与    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zh-CN" sz="60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1" lang="zh-CN" sz="6000" spc="-1" strike="noStrike" baseline="30000">
                <a:solidFill>
                  <a:srgbClr val="cc0000"/>
                </a:solidFill>
                <a:latin typeface="Arial"/>
              </a:rPr>
              <a:t>a+b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同类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那么这两个单项式的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是（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B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-3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D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-3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ject 4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04560" cy="863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6516720" y="2349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0" y="2349360"/>
            <a:ext cx="91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-a)</a:t>
            </a:r>
            <a:r>
              <a:rPr b="1" lang="zh-CN" sz="6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·a</a:t>
            </a:r>
            <a:r>
              <a:rPr b="1" lang="zh-CN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· (-2b)</a:t>
            </a:r>
            <a:r>
              <a:rPr b="1" lang="zh-CN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(-2ab)</a:t>
            </a:r>
            <a:r>
              <a:rPr b="1" lang="zh-CN" sz="6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· (-3a)</a:t>
            </a:r>
            <a:r>
              <a:rPr b="1" lang="zh-CN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GIRL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4760" y="5956200"/>
            <a:ext cx="849240" cy="901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187280" y="83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计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8199"/>
          <p:cNvSpPr/>
          <p:nvPr/>
        </p:nvSpPr>
        <p:spPr>
          <a:xfrm>
            <a:off x="1654200" y="35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549360"/>
            <a:ext cx="7559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已知 ：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ject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893080" cy="2663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2771640" y="544500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家连锁店以相同的价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单位：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瓶）销售某种商品，它们在一个月内的销售量（单位：瓶）分别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能用不同的方法计算它们在这个月内销售这种商品的总收入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143000" y="2057400"/>
            <a:ext cx="75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观察这个式子有什么特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179280" y="907920"/>
            <a:ext cx="8137440" cy="916920"/>
            <a:chOff x="179280" y="907920"/>
            <a:chExt cx="8137440" cy="916920"/>
          </a:xfrm>
        </p:grpSpPr>
        <p:sp>
          <p:nvSpPr>
            <p:cNvPr id="219" name="Text Box 4"/>
            <p:cNvSpPr/>
            <p:nvPr/>
          </p:nvSpPr>
          <p:spPr>
            <a:xfrm>
              <a:off x="179280" y="907920"/>
              <a:ext cx="434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Times New Roman"/>
                </a:rPr>
                <a:t>m(a+b</a:t>
              </a:r>
              <a:r>
                <a:rPr b="1" lang="zh-CN" sz="5400" spc="-1" strike="noStrike">
                  <a:solidFill>
                    <a:srgbClr val="0000ff"/>
                  </a:solidFill>
                  <a:latin typeface="Times New Roman"/>
                </a:rPr>
                <a:t>＋</a:t>
              </a:r>
              <a:r>
                <a:rPr b="1" lang="zh-CN" sz="5400" spc="-1" strike="noStrike">
                  <a:solidFill>
                    <a:srgbClr val="0000ff"/>
                  </a:solidFill>
                  <a:latin typeface="Times New Roman"/>
                </a:rPr>
                <a:t>c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"/>
            <p:cNvSpPr/>
            <p:nvPr/>
          </p:nvSpPr>
          <p:spPr>
            <a:xfrm>
              <a:off x="3075120" y="907920"/>
              <a:ext cx="108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6"/>
            <p:cNvSpPr/>
            <p:nvPr/>
          </p:nvSpPr>
          <p:spPr>
            <a:xfrm>
              <a:off x="3972600" y="907920"/>
              <a:ext cx="434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0000ff"/>
                  </a:solidFill>
                  <a:latin typeface="Times New Roman"/>
                </a:rPr>
                <a:t>ma+mb</a:t>
              </a:r>
              <a:r>
                <a:rPr b="1" lang="zh-CN" sz="5400" spc="-1" strike="noStrike">
                  <a:solidFill>
                    <a:srgbClr val="0000ff"/>
                  </a:solidFill>
                  <a:latin typeface="Times New Roman"/>
                </a:rPr>
                <a:t>＋</a:t>
              </a:r>
              <a:r>
                <a:rPr b="1" lang="zh-CN" sz="5400" spc="-1" strike="noStrike">
                  <a:solidFill>
                    <a:srgbClr val="0000ff"/>
                  </a:solidFill>
                  <a:latin typeface="Times New Roman"/>
                </a:rPr>
                <a:t>m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Object 7" descr=""/>
          <p:cNvPicPr/>
          <p:nvPr/>
        </p:nvPicPr>
        <p:blipFill>
          <a:blip r:embed="rId1"/>
          <a:stretch/>
        </p:blipFill>
        <p:spPr>
          <a:xfrm>
            <a:off x="380880" y="4697280"/>
            <a:ext cx="1271880" cy="2160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609480" y="274320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a0a0e"/>
                </a:solidFill>
                <a:latin typeface="Tahoma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00000" y="306864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43c5b"/>
                </a:solidFill>
                <a:latin typeface="Tahoma"/>
              </a:rPr>
              <a:t>       </a:t>
            </a:r>
            <a:r>
              <a:rPr b="1" lang="zh-CN" sz="5400" spc="-1" strike="noStrike">
                <a:solidFill>
                  <a:srgbClr val="009999"/>
                </a:solidFill>
                <a:latin typeface="Tahoma"/>
              </a:rPr>
              <a:t>你能说出单项式与多    项式相乘的法则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415240" y="260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如何进行单项式与多项式相乘的 运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79280" y="8380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用单项式分别去乘多项式的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每一项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再把所得的积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相加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GIF-502"/>
          <p:cNvPicPr/>
          <p:nvPr/>
        </p:nvPicPr>
        <p:blipFill>
          <a:blip r:embed="rId1"/>
          <a:stretch/>
        </p:blipFill>
        <p:spPr>
          <a:xfrm>
            <a:off x="7751880" y="2971800"/>
            <a:ext cx="1392120" cy="1828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12"/>
          <p:cNvPicPr/>
          <p:nvPr/>
        </p:nvPicPr>
        <p:blipFill>
          <a:blip r:embed="rId2"/>
          <a:stretch/>
        </p:blipFill>
        <p:spPr>
          <a:xfrm>
            <a:off x="838080" y="5943600"/>
            <a:ext cx="7391520" cy="5144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457200" y="2514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你能用字母表示这一结论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7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8" descr=""/>
          <p:cNvPicPr/>
          <p:nvPr/>
        </p:nvPicPr>
        <p:blipFill>
          <a:blip r:embed="rId4"/>
          <a:stretch/>
        </p:blipFill>
        <p:spPr>
          <a:xfrm>
            <a:off x="698400" y="3429000"/>
            <a:ext cx="5843520" cy="10191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324000" y="450864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思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60680" y="4592520"/>
            <a:ext cx="16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单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505320" y="464832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733920" y="4952880"/>
            <a:ext cx="1676160" cy="360"/>
            <a:chOff x="3733920" y="4952880"/>
            <a:chExt cx="1676160" cy="360"/>
          </a:xfrm>
        </p:grpSpPr>
        <p:sp>
          <p:nvSpPr>
            <p:cNvPr id="238" name="Line 12"/>
            <p:cNvSpPr/>
            <p:nvPr/>
          </p:nvSpPr>
          <p:spPr>
            <a:xfrm>
              <a:off x="3733920" y="49528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733920" y="4952880"/>
              <a:ext cx="167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3"/>
          <p:cNvSpPr/>
          <p:nvPr/>
        </p:nvSpPr>
        <p:spPr>
          <a:xfrm>
            <a:off x="3886200" y="434340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转  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870360" y="497376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配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5943600" y="464832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单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0" y="0"/>
            <a:ext cx="9396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）</a:t>
            </a: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(- 2a) • (2a </a:t>
            </a:r>
            <a:r>
              <a:rPr b="1" lang="zh-CN" sz="6000" spc="-1" strike="noStrike" baseline="30000">
                <a:solidFill>
                  <a:srgbClr val="0a0a0e"/>
                </a:solidFill>
                <a:latin typeface="Times New Roman"/>
              </a:rPr>
              <a:t>2</a:t>
            </a: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 - 3a + 1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2120" y="2438280"/>
            <a:ext cx="86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 (- 2a) • 2a 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+(- 2a) •( - 3a)+(- 2a) •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85800" y="38401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= - 4a</a:t>
            </a:r>
            <a:r>
              <a:rPr b="1" lang="zh-CN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+6a</a:t>
            </a:r>
            <a:r>
              <a:rPr b="1" lang="zh-CN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-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762120" y="3124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乘法分配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826920" y="49417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单项式乘法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38960" y="115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0" y="0"/>
            <a:ext cx="95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1.</a:t>
            </a: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单项式乘多项式的结果仍是多项式，积的项数与原多项式的项数相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27082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在单项式乘法运算中要注意系数的符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458136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3.</a:t>
            </a:r>
            <a:r>
              <a:rPr b="1" lang="zh-CN" sz="6000" spc="-1" strike="noStrike">
                <a:solidFill>
                  <a:srgbClr val="0a0a0e"/>
                </a:solidFill>
                <a:latin typeface="Times New Roman"/>
              </a:rPr>
              <a:t>不要出现漏乘现象，运算要有顺序</a:t>
            </a:r>
            <a:r>
              <a:rPr b="1" lang="zh-CN" sz="6000" spc="-1" strike="noStrike">
                <a:solidFill>
                  <a:srgbClr val="dc4a08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71240" y="3213000"/>
            <a:ext cx="12776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"/>
              </a:rPr>
              <a:t>注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0728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单项式与单项式相乘的法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2060640"/>
            <a:ext cx="91440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9999"/>
                </a:solidFill>
                <a:latin typeface="华文新魏"/>
                <a:ea typeface="华文新魏"/>
              </a:rPr>
              <a:t>单项式与单项式相乘，把它们的</a:t>
            </a:r>
            <a:r>
              <a:rPr b="1" lang="zh-CN" sz="5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系数、相同字母</a:t>
            </a:r>
            <a:r>
              <a:rPr b="1" lang="zh-CN" sz="5400" spc="-1" strike="noStrike">
                <a:solidFill>
                  <a:srgbClr val="009999"/>
                </a:solidFill>
                <a:latin typeface="华文新魏"/>
                <a:ea typeface="华文新魏"/>
              </a:rPr>
              <a:t>分别相乘，对于只在一个单项式里含有的字母，则连同它的指数作为积的一个因式</a:t>
            </a:r>
            <a:r>
              <a:rPr b="1" lang="zh-CN" sz="5400" spc="-1" strike="noStrike">
                <a:solidFill>
                  <a:srgbClr val="009999"/>
                </a:solidFill>
                <a:latin typeface="华文新魏"/>
                <a:ea typeface="华文新魏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ject 2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8101080" cy="222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tov=72"/>
          <p:cNvPicPr/>
          <p:nvPr/>
        </p:nvPicPr>
        <p:blipFill>
          <a:blip r:embed="rId2"/>
          <a:stretch/>
        </p:blipFill>
        <p:spPr>
          <a:xfrm>
            <a:off x="7467480" y="541008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992880" y="3049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0" y="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349268"/>
                </a:moveTo>
                <a:lnTo>
                  <a:pt x="349271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8"/>
                </a:lnTo>
                <a:lnTo>
                  <a:pt x="631831" y="565127"/>
                </a:lnTo>
                <a:lnTo>
                  <a:pt x="739764" y="914397"/>
                </a:lnTo>
                <a:lnTo>
                  <a:pt x="457200" y="698534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Object 6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7"/>
          <p:cNvSpPr/>
          <p:nvPr/>
        </p:nvSpPr>
        <p:spPr>
          <a:xfrm>
            <a:off x="33480" y="162864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33480" y="31417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3480" y="45813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ject 10" descr=""/>
          <p:cNvPicPr/>
          <p:nvPr/>
        </p:nvPicPr>
        <p:blipFill>
          <a:blip r:embed="rId4"/>
          <a:stretch/>
        </p:blipFill>
        <p:spPr>
          <a:xfrm>
            <a:off x="611280" y="765000"/>
            <a:ext cx="7921440" cy="191304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11" descr=""/>
          <p:cNvPicPr/>
          <p:nvPr/>
        </p:nvPicPr>
        <p:blipFill>
          <a:blip r:embed="rId5"/>
          <a:stretch/>
        </p:blipFill>
        <p:spPr>
          <a:xfrm>
            <a:off x="468360" y="4292640"/>
            <a:ext cx="8353440" cy="1303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2"/>
          <p:cNvSpPr/>
          <p:nvPr/>
        </p:nvSpPr>
        <p:spPr>
          <a:xfrm>
            <a:off x="8561880" y="1844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3c5b"/>
                </a:solidFill>
                <a:latin typeface="Tahoma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856188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3c5b"/>
                </a:solidFill>
                <a:latin typeface="Tahoma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8355600" y="5300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3c5b"/>
                </a:solidFill>
                <a:latin typeface="Tahoma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971640" y="11592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判断正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2"/>
          <p:cNvSpPr txBox="1"/>
          <p:nvPr/>
        </p:nvSpPr>
        <p:spPr>
          <a:xfrm>
            <a:off x="1295280" y="404640"/>
            <a:ext cx="259092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探索与思考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0" y="2205000"/>
            <a:ext cx="8529840" cy="2048400"/>
            <a:chOff x="0" y="2205000"/>
            <a:chExt cx="8529840" cy="2048400"/>
          </a:xfrm>
        </p:grpSpPr>
        <p:sp>
          <p:nvSpPr>
            <p:cNvPr id="273" name="Rectangle 4"/>
            <p:cNvSpPr/>
            <p:nvPr/>
          </p:nvSpPr>
          <p:spPr>
            <a:xfrm>
              <a:off x="7919640" y="3643560"/>
              <a:ext cx="610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的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"/>
            <p:cNvSpPr/>
            <p:nvPr/>
          </p:nvSpPr>
          <p:spPr>
            <a:xfrm>
              <a:off x="961920" y="3643560"/>
              <a:ext cx="55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496800" y="2346840"/>
              <a:ext cx="1166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1.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已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7360920" y="361944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2506680" y="361944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4848840" y="232272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"/>
            <p:cNvSpPr/>
            <p:nvPr/>
          </p:nvSpPr>
          <p:spPr>
            <a:xfrm>
              <a:off x="0" y="2322720"/>
              <a:ext cx="18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1"/>
            <p:cNvSpPr/>
            <p:nvPr/>
          </p:nvSpPr>
          <p:spPr>
            <a:xfrm>
              <a:off x="6043320" y="3501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4145400" y="3501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3318840" y="3501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4"/>
            <p:cNvSpPr/>
            <p:nvPr/>
          </p:nvSpPr>
          <p:spPr>
            <a:xfrm>
              <a:off x="3318840" y="2205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"/>
            <p:cNvSpPr/>
            <p:nvPr/>
          </p:nvSpPr>
          <p:spPr>
            <a:xfrm>
              <a:off x="6903360" y="36194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5087160" y="3619440"/>
              <a:ext cx="509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ff"/>
                  </a:solidFill>
                  <a:latin typeface="Times New Roman"/>
                </a:rPr>
                <a:t>a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7"/>
            <p:cNvSpPr/>
            <p:nvPr/>
          </p:nvSpPr>
          <p:spPr>
            <a:xfrm>
              <a:off x="3647160" y="36194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"/>
            <p:cNvSpPr/>
            <p:nvPr/>
          </p:nvSpPr>
          <p:spPr>
            <a:xfrm>
              <a:off x="2839680" y="36194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9"/>
            <p:cNvSpPr/>
            <p:nvPr/>
          </p:nvSpPr>
          <p:spPr>
            <a:xfrm>
              <a:off x="1725480" y="3619440"/>
              <a:ext cx="509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ff"/>
                  </a:solidFill>
                  <a:latin typeface="Times New Roman"/>
                </a:rPr>
                <a:t>a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0"/>
            <p:cNvSpPr/>
            <p:nvPr/>
          </p:nvSpPr>
          <p:spPr>
            <a:xfrm>
              <a:off x="2554920" y="2322720"/>
              <a:ext cx="55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ff"/>
                  </a:solidFill>
                  <a:latin typeface="Times New Roman"/>
                </a:rPr>
                <a:t>a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1"/>
            <p:cNvSpPr/>
            <p:nvPr/>
          </p:nvSpPr>
          <p:spPr>
            <a:xfrm>
              <a:off x="6385320" y="352980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2"/>
            <p:cNvSpPr/>
            <p:nvPr/>
          </p:nvSpPr>
          <p:spPr>
            <a:xfrm>
              <a:off x="4568760" y="352980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3"/>
            <p:cNvSpPr/>
            <p:nvPr/>
          </p:nvSpPr>
          <p:spPr>
            <a:xfrm>
              <a:off x="4330080" y="223380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4"/>
            <p:cNvSpPr/>
            <p:nvPr/>
          </p:nvSpPr>
          <p:spPr>
            <a:xfrm>
              <a:off x="3639240" y="2233800"/>
              <a:ext cx="404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Object 25" descr=""/>
          <p:cNvPicPr/>
          <p:nvPr/>
        </p:nvPicPr>
        <p:blipFill>
          <a:blip r:embed="rId1"/>
          <a:stretch/>
        </p:blipFill>
        <p:spPr>
          <a:xfrm>
            <a:off x="7315200" y="4952880"/>
            <a:ext cx="1828800" cy="156528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26"/>
          <p:cNvSpPr/>
          <p:nvPr/>
        </p:nvSpPr>
        <p:spPr>
          <a:xfrm>
            <a:off x="380880" y="533520"/>
            <a:ext cx="6858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Object 2" descr=""/>
          <p:cNvPicPr/>
          <p:nvPr/>
        </p:nvPicPr>
        <p:blipFill>
          <a:blip r:embed="rId1"/>
          <a:stretch/>
        </p:blipFill>
        <p:spPr>
          <a:xfrm>
            <a:off x="-6480" y="949320"/>
            <a:ext cx="9258480" cy="4079880"/>
          </a:xfrm>
          <a:prstGeom prst="rect">
            <a:avLst/>
          </a:prstGeom>
          <a:ln w="0">
            <a:noFill/>
          </a:ln>
        </p:spPr>
      </p:pic>
      <p:pic>
        <p:nvPicPr>
          <p:cNvPr id="298" name="Object 3" descr=""/>
          <p:cNvPicPr/>
          <p:nvPr/>
        </p:nvPicPr>
        <p:blipFill>
          <a:blip r:embed="rId2"/>
          <a:stretch/>
        </p:blipFill>
        <p:spPr>
          <a:xfrm>
            <a:off x="7086600" y="4343400"/>
            <a:ext cx="1752480" cy="205092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8199"/>
          <p:cNvSpPr/>
          <p:nvPr/>
        </p:nvSpPr>
        <p:spPr>
          <a:xfrm>
            <a:off x="1139760" y="477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-659520" y="692280"/>
            <a:ext cx="31978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我收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我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76360" y="981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理解掌握了单项  式乘法法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268360" y="2060640"/>
            <a:ext cx="66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会利用法则进行单项式的乘法运算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195640" y="4653000"/>
            <a:ext cx="649080" cy="21049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059280" y="4941720"/>
            <a:ext cx="54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单项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单项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结果仍是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单项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979640" y="3284640"/>
            <a:ext cx="7993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运算顺序：先乘方，再乘除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68436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042920" y="2492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组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P149  3    &lt;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练习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&gt;P60  7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L-ANGE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4653000"/>
            <a:ext cx="2016000" cy="17082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900000" y="3645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组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P145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练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1    P149  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2895-5DD2-43E7-96A6-DDE8B02F7F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9396360" cy="602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光的速度约为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6600" spc="-1" strike="noStrike" baseline="36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秒，太阳光照射到地球上需要的时间大约是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66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秒。你知道地球与太阳的距离约是多少千米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0920" y="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问题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628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如何计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-3a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79280" y="33336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试试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250920" y="1197000"/>
            <a:ext cx="5182920" cy="1367640"/>
            <a:chOff x="-250920" y="1197000"/>
            <a:chExt cx="5182920" cy="1367640"/>
          </a:xfrm>
        </p:grpSpPr>
        <p:sp>
          <p:nvSpPr>
            <p:cNvPr id="94" name="Text Box 3"/>
            <p:cNvSpPr/>
            <p:nvPr/>
          </p:nvSpPr>
          <p:spPr>
            <a:xfrm>
              <a:off x="-250920" y="1346040"/>
              <a:ext cx="12121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  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解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Object 4" descr=""/>
            <p:cNvPicPr/>
            <p:nvPr/>
          </p:nvPicPr>
          <p:blipFill>
            <a:blip r:embed="rId1"/>
            <a:stretch/>
          </p:blipFill>
          <p:spPr>
            <a:xfrm>
              <a:off x="839880" y="1197000"/>
              <a:ext cx="409212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5"/>
          <p:cNvGrpSpPr/>
          <p:nvPr/>
        </p:nvGrpSpPr>
        <p:grpSpPr>
          <a:xfrm>
            <a:off x="755640" y="2940120"/>
            <a:ext cx="4824360" cy="992880"/>
            <a:chOff x="755640" y="2940120"/>
            <a:chExt cx="4824360" cy="992880"/>
          </a:xfrm>
        </p:grpSpPr>
        <p:pic>
          <p:nvPicPr>
            <p:cNvPr id="97" name="Object 6" descr=""/>
            <p:cNvPicPr/>
            <p:nvPr/>
          </p:nvPicPr>
          <p:blipFill>
            <a:blip r:embed="rId2"/>
            <a:stretch/>
          </p:blipFill>
          <p:spPr>
            <a:xfrm>
              <a:off x="2411280" y="2940120"/>
              <a:ext cx="316872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Object 7" descr=""/>
            <p:cNvPicPr/>
            <p:nvPr/>
          </p:nvPicPr>
          <p:blipFill>
            <a:blip r:embed="rId3"/>
            <a:stretch/>
          </p:blipFill>
          <p:spPr>
            <a:xfrm>
              <a:off x="755640" y="3017880"/>
              <a:ext cx="1655640" cy="91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 Box 8"/>
          <p:cNvSpPr/>
          <p:nvPr/>
        </p:nvSpPr>
        <p:spPr>
          <a:xfrm>
            <a:off x="3952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55640" y="2997360"/>
            <a:ext cx="1655640" cy="863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987640" y="3013200"/>
            <a:ext cx="216000" cy="41580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419640" y="3013200"/>
            <a:ext cx="215640" cy="41580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4282920" y="3011400"/>
            <a:ext cx="289080" cy="34632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716360" y="3011400"/>
            <a:ext cx="287280" cy="48888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219640" y="3213000"/>
            <a:ext cx="360360" cy="4302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5" descr=""/>
          <p:cNvPicPr/>
          <p:nvPr/>
        </p:nvPicPr>
        <p:blipFill>
          <a:blip r:embed="rId4"/>
          <a:stretch/>
        </p:blipFill>
        <p:spPr>
          <a:xfrm>
            <a:off x="6084720" y="2997360"/>
            <a:ext cx="906480" cy="514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6"/>
          <p:cNvSpPr/>
          <p:nvPr/>
        </p:nvSpPr>
        <p:spPr>
          <a:xfrm>
            <a:off x="57243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17" descr=""/>
          <p:cNvPicPr/>
          <p:nvPr/>
        </p:nvPicPr>
        <p:blipFill>
          <a:blip r:embed="rId5"/>
          <a:stretch/>
        </p:blipFill>
        <p:spPr>
          <a:xfrm>
            <a:off x="6948360" y="2925720"/>
            <a:ext cx="986040" cy="6318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18" descr=""/>
          <p:cNvPicPr/>
          <p:nvPr/>
        </p:nvPicPr>
        <p:blipFill>
          <a:blip r:embed="rId6"/>
          <a:stretch/>
        </p:blipFill>
        <p:spPr>
          <a:xfrm>
            <a:off x="7885080" y="2997360"/>
            <a:ext cx="395280" cy="5522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9"/>
          <p:cNvGrpSpPr/>
          <p:nvPr/>
        </p:nvGrpSpPr>
        <p:grpSpPr>
          <a:xfrm>
            <a:off x="1403280" y="3573000"/>
            <a:ext cx="5329080" cy="503640"/>
            <a:chOff x="1403280" y="3573000"/>
            <a:chExt cx="5329080" cy="503640"/>
          </a:xfrm>
        </p:grpSpPr>
        <p:grpSp>
          <p:nvGrpSpPr>
            <p:cNvPr id="111" name=""/>
            <p:cNvGrpSpPr/>
            <p:nvPr/>
          </p:nvGrpSpPr>
          <p:grpSpPr>
            <a:xfrm>
              <a:off x="1403280" y="3697920"/>
              <a:ext cx="360" cy="378000"/>
              <a:chOff x="1403280" y="3697920"/>
              <a:chExt cx="360" cy="378000"/>
            </a:xfrm>
          </p:grpSpPr>
          <p:sp>
            <p:nvSpPr>
              <p:cNvPr id="112" name="Line 20"/>
              <p:cNvSpPr/>
              <p:nvPr/>
            </p:nvSpPr>
            <p:spPr>
              <a:xfrm>
                <a:off x="1403280" y="3697920"/>
                <a:ext cx="0" cy="378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1403280" y="3697920"/>
                <a:ext cx="360" cy="37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403280" y="4076280"/>
              <a:ext cx="5329080" cy="360"/>
              <a:chOff x="1403280" y="4076280"/>
              <a:chExt cx="5329080" cy="360"/>
            </a:xfrm>
          </p:grpSpPr>
          <p:sp>
            <p:nvSpPr>
              <p:cNvPr id="115" name="Line 21"/>
              <p:cNvSpPr/>
              <p:nvPr/>
            </p:nvSpPr>
            <p:spPr>
              <a:xfrm>
                <a:off x="1403280" y="4076280"/>
                <a:ext cx="5329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1403280" y="4076280"/>
                <a:ext cx="532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732000" y="3573000"/>
              <a:ext cx="360" cy="502920"/>
              <a:chOff x="6732000" y="3573000"/>
              <a:chExt cx="360" cy="502920"/>
            </a:xfrm>
          </p:grpSpPr>
          <p:sp>
            <p:nvSpPr>
              <p:cNvPr id="118" name="Line 22"/>
              <p:cNvSpPr/>
              <p:nvPr/>
            </p:nvSpPr>
            <p:spPr>
              <a:xfrm flipV="1">
                <a:off x="6732360" y="3573000"/>
                <a:ext cx="0" cy="502920"/>
              </a:xfrm>
              <a:prstGeom prst="line">
                <a:avLst/>
              </a:prstGeom>
              <a:ln w="2844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 rot="10800000">
                <a:off x="6732000" y="3573000"/>
                <a:ext cx="360" cy="50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23"/>
          <p:cNvGrpSpPr/>
          <p:nvPr/>
        </p:nvGrpSpPr>
        <p:grpSpPr>
          <a:xfrm>
            <a:off x="3131640" y="2781360"/>
            <a:ext cx="4033080" cy="360360"/>
            <a:chOff x="3131640" y="2781360"/>
            <a:chExt cx="4033080" cy="360360"/>
          </a:xfrm>
        </p:grpSpPr>
        <p:grpSp>
          <p:nvGrpSpPr>
            <p:cNvPr id="121" name=""/>
            <p:cNvGrpSpPr/>
            <p:nvPr/>
          </p:nvGrpSpPr>
          <p:grpSpPr>
            <a:xfrm>
              <a:off x="3131640" y="2781360"/>
              <a:ext cx="360" cy="216000"/>
              <a:chOff x="3131640" y="2781360"/>
              <a:chExt cx="360" cy="216000"/>
            </a:xfrm>
          </p:grpSpPr>
          <p:sp>
            <p:nvSpPr>
              <p:cNvPr id="122" name="Line 24"/>
              <p:cNvSpPr/>
              <p:nvPr/>
            </p:nvSpPr>
            <p:spPr>
              <a:xfrm flipV="1">
                <a:off x="3132000" y="2781360"/>
                <a:ext cx="0" cy="216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 rot="10800000">
                <a:off x="3131640" y="2781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492000" y="2781360"/>
              <a:ext cx="360" cy="216000"/>
              <a:chOff x="3492000" y="2781360"/>
              <a:chExt cx="360" cy="216000"/>
            </a:xfrm>
          </p:grpSpPr>
          <p:sp>
            <p:nvSpPr>
              <p:cNvPr id="125" name="Line 25"/>
              <p:cNvSpPr/>
              <p:nvPr/>
            </p:nvSpPr>
            <p:spPr>
              <a:xfrm flipV="1">
                <a:off x="3492360" y="2781360"/>
                <a:ext cx="0" cy="216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 rot="10800000">
                <a:off x="3492000" y="2781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3132000" y="2781360"/>
              <a:ext cx="4032360" cy="360"/>
              <a:chOff x="3132000" y="2781360"/>
              <a:chExt cx="4032360" cy="360"/>
            </a:xfrm>
          </p:grpSpPr>
          <p:sp>
            <p:nvSpPr>
              <p:cNvPr id="128" name="Line 26"/>
              <p:cNvSpPr/>
              <p:nvPr/>
            </p:nvSpPr>
            <p:spPr>
              <a:xfrm>
                <a:off x="3132000" y="2781360"/>
                <a:ext cx="4032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3132000" y="2781360"/>
                <a:ext cx="403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164360" y="2781360"/>
              <a:ext cx="360" cy="360360"/>
              <a:chOff x="7164360" y="2781360"/>
              <a:chExt cx="360" cy="360360"/>
            </a:xfrm>
          </p:grpSpPr>
          <p:sp>
            <p:nvSpPr>
              <p:cNvPr id="131" name="Line 27"/>
              <p:cNvSpPr/>
              <p:nvPr/>
            </p:nvSpPr>
            <p:spPr>
              <a:xfrm>
                <a:off x="7164360" y="2781360"/>
                <a:ext cx="0" cy="36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7164360" y="2781360"/>
                <a:ext cx="36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28"/>
          <p:cNvGrpSpPr/>
          <p:nvPr/>
        </p:nvGrpSpPr>
        <p:grpSpPr>
          <a:xfrm>
            <a:off x="4427280" y="2636640"/>
            <a:ext cx="3169440" cy="505080"/>
            <a:chOff x="4427280" y="2636640"/>
            <a:chExt cx="3169440" cy="505080"/>
          </a:xfrm>
        </p:grpSpPr>
        <p:grpSp>
          <p:nvGrpSpPr>
            <p:cNvPr id="134" name=""/>
            <p:cNvGrpSpPr/>
            <p:nvPr/>
          </p:nvGrpSpPr>
          <p:grpSpPr>
            <a:xfrm>
              <a:off x="4427280" y="2636640"/>
              <a:ext cx="360" cy="360360"/>
              <a:chOff x="4427280" y="2636640"/>
              <a:chExt cx="360" cy="360360"/>
            </a:xfrm>
          </p:grpSpPr>
          <p:sp>
            <p:nvSpPr>
              <p:cNvPr id="135" name="Line 29"/>
              <p:cNvSpPr/>
              <p:nvPr/>
            </p:nvSpPr>
            <p:spPr>
              <a:xfrm flipV="1">
                <a:off x="4427640" y="2636640"/>
                <a:ext cx="0" cy="36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 rot="10800000">
                <a:off x="4427280" y="2636640"/>
                <a:ext cx="36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787640" y="2636640"/>
              <a:ext cx="360" cy="360360"/>
              <a:chOff x="4787640" y="2636640"/>
              <a:chExt cx="360" cy="360360"/>
            </a:xfrm>
          </p:grpSpPr>
          <p:sp>
            <p:nvSpPr>
              <p:cNvPr id="138" name="Line 30"/>
              <p:cNvSpPr/>
              <p:nvPr/>
            </p:nvSpPr>
            <p:spPr>
              <a:xfrm flipV="1">
                <a:off x="4788000" y="2636640"/>
                <a:ext cx="0" cy="36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 rot="10800000">
                <a:off x="4787640" y="2636640"/>
                <a:ext cx="36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427640" y="2637000"/>
              <a:ext cx="3168720" cy="360"/>
              <a:chOff x="4427640" y="2637000"/>
              <a:chExt cx="3168720" cy="360"/>
            </a:xfrm>
          </p:grpSpPr>
          <p:sp>
            <p:nvSpPr>
              <p:cNvPr id="141" name="Line 31"/>
              <p:cNvSpPr/>
              <p:nvPr/>
            </p:nvSpPr>
            <p:spPr>
              <a:xfrm>
                <a:off x="4427640" y="2637000"/>
                <a:ext cx="3168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4427640" y="2637000"/>
                <a:ext cx="316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596360" y="2637000"/>
              <a:ext cx="360" cy="504720"/>
              <a:chOff x="7596360" y="2637000"/>
              <a:chExt cx="360" cy="504720"/>
            </a:xfrm>
          </p:grpSpPr>
          <p:sp>
            <p:nvSpPr>
              <p:cNvPr id="144" name="Line 32"/>
              <p:cNvSpPr/>
              <p:nvPr/>
            </p:nvSpPr>
            <p:spPr>
              <a:xfrm>
                <a:off x="7596360" y="2637000"/>
                <a:ext cx="0" cy="504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7596360" y="263700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33"/>
          <p:cNvGrpSpPr/>
          <p:nvPr/>
        </p:nvGrpSpPr>
        <p:grpSpPr>
          <a:xfrm>
            <a:off x="5435640" y="3501720"/>
            <a:ext cx="2665440" cy="432360"/>
            <a:chOff x="5435640" y="3501720"/>
            <a:chExt cx="2665440" cy="432360"/>
          </a:xfrm>
        </p:grpSpPr>
        <p:grpSp>
          <p:nvGrpSpPr>
            <p:cNvPr id="147" name=""/>
            <p:cNvGrpSpPr/>
            <p:nvPr/>
          </p:nvGrpSpPr>
          <p:grpSpPr>
            <a:xfrm>
              <a:off x="5435640" y="3502080"/>
              <a:ext cx="360" cy="431640"/>
              <a:chOff x="5435640" y="3502080"/>
              <a:chExt cx="360" cy="431640"/>
            </a:xfrm>
          </p:grpSpPr>
          <p:sp>
            <p:nvSpPr>
              <p:cNvPr id="148" name="Line 34"/>
              <p:cNvSpPr/>
              <p:nvPr/>
            </p:nvSpPr>
            <p:spPr>
              <a:xfrm>
                <a:off x="5435640" y="3502080"/>
                <a:ext cx="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5435640" y="350208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435640" y="3933720"/>
              <a:ext cx="2665440" cy="360"/>
              <a:chOff x="5435640" y="3933720"/>
              <a:chExt cx="2665440" cy="360"/>
            </a:xfrm>
          </p:grpSpPr>
          <p:sp>
            <p:nvSpPr>
              <p:cNvPr id="151" name="Line 35"/>
              <p:cNvSpPr/>
              <p:nvPr/>
            </p:nvSpPr>
            <p:spPr>
              <a:xfrm>
                <a:off x="5435640" y="3933720"/>
                <a:ext cx="26654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5435640" y="3933720"/>
                <a:ext cx="266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8100720" y="3501720"/>
              <a:ext cx="360" cy="431640"/>
              <a:chOff x="8100720" y="3501720"/>
              <a:chExt cx="360" cy="431640"/>
            </a:xfrm>
          </p:grpSpPr>
          <p:sp>
            <p:nvSpPr>
              <p:cNvPr id="154" name="Line 36"/>
              <p:cNvSpPr/>
              <p:nvPr/>
            </p:nvSpPr>
            <p:spPr>
              <a:xfrm flipV="1">
                <a:off x="8101080" y="3501720"/>
                <a:ext cx="0" cy="431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 rot="10800000">
                <a:off x="8100720" y="35017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AutoShape 37"/>
          <p:cNvSpPr/>
          <p:nvPr/>
        </p:nvSpPr>
        <p:spPr>
          <a:xfrm>
            <a:off x="5076720" y="333360"/>
            <a:ext cx="4067280" cy="1943280"/>
          </a:xfrm>
          <a:prstGeom prst="wedgeRectCallout">
            <a:avLst>
              <a:gd name="adj1" fmla="val -43324"/>
              <a:gd name="adj2" fmla="val 67648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相同字母的指数的和作为积里这个字母的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8"/>
          <p:cNvSpPr/>
          <p:nvPr/>
        </p:nvSpPr>
        <p:spPr>
          <a:xfrm>
            <a:off x="4859280" y="4221000"/>
            <a:ext cx="4284720" cy="2637000"/>
          </a:xfrm>
          <a:prstGeom prst="wedgeRoundRectCallout">
            <a:avLst>
              <a:gd name="adj1" fmla="val -28138"/>
              <a:gd name="adj2" fmla="val -60657"/>
              <a:gd name="adj3" fmla="val 16667"/>
            </a:avLst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只在一个单项式里含有的字母连同它的指数作为积的一个因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9"/>
          <p:cNvSpPr/>
          <p:nvPr/>
        </p:nvSpPr>
        <p:spPr>
          <a:xfrm>
            <a:off x="0" y="4221000"/>
            <a:ext cx="5364000" cy="1800360"/>
          </a:xfrm>
          <a:prstGeom prst="wedgeEllipseCallout">
            <a:avLst>
              <a:gd name="adj1" fmla="val -15375"/>
              <a:gd name="adj2" fmla="val -68078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各因式系数的积作为积的系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476280"/>
            <a:ext cx="83818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1)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-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i="1" lang="zh-CN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(2)  (-5</a:t>
            </a:r>
            <a:r>
              <a:rPr b="1" i="1" lang="zh-CN" sz="5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zh-CN" sz="5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5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zh-CN" sz="5400" spc="-1" strike="noStrike" baseline="30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•</a:t>
            </a:r>
            <a:r>
              <a:rPr b="1" lang="zh-CN" sz="5400" spc="-1" strike="noStrike" baseline="30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(-4</a:t>
            </a:r>
            <a:r>
              <a:rPr b="1" i="1" lang="zh-CN" sz="5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zh-CN" sz="5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i="1" lang="zh-CN" sz="5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5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Object 3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7128000" cy="1800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0" y="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936800" y="3933720"/>
            <a:ext cx="5209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单项式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单项式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的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果仍是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单项式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68360" y="1268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下面计算对不 对？如果不对，请改正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68360" y="2565360"/>
            <a:ext cx="3742920" cy="953640"/>
            <a:chOff x="468360" y="2565360"/>
            <a:chExt cx="3742920" cy="953640"/>
          </a:xfrm>
        </p:grpSpPr>
        <p:sp>
          <p:nvSpPr>
            <p:cNvPr id="165" name="Text Box 4"/>
            <p:cNvSpPr/>
            <p:nvPr/>
          </p:nvSpPr>
          <p:spPr>
            <a:xfrm>
              <a:off x="468360" y="2682360"/>
              <a:ext cx="5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Object 5" descr=""/>
            <p:cNvPicPr/>
            <p:nvPr/>
          </p:nvPicPr>
          <p:blipFill>
            <a:blip r:embed="rId1"/>
            <a:stretch/>
          </p:blipFill>
          <p:spPr>
            <a:xfrm>
              <a:off x="932760" y="2565360"/>
              <a:ext cx="327852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6"/>
          <p:cNvGrpSpPr/>
          <p:nvPr/>
        </p:nvGrpSpPr>
        <p:grpSpPr>
          <a:xfrm>
            <a:off x="324000" y="4508640"/>
            <a:ext cx="3671280" cy="1007640"/>
            <a:chOff x="324000" y="4508640"/>
            <a:chExt cx="3671280" cy="1007640"/>
          </a:xfrm>
        </p:grpSpPr>
        <p:sp>
          <p:nvSpPr>
            <p:cNvPr id="168" name="Text Box 7"/>
            <p:cNvSpPr/>
            <p:nvPr/>
          </p:nvSpPr>
          <p:spPr>
            <a:xfrm>
              <a:off x="324000" y="4554000"/>
              <a:ext cx="5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Object 8" descr=""/>
            <p:cNvPicPr/>
            <p:nvPr/>
          </p:nvPicPr>
          <p:blipFill>
            <a:blip r:embed="rId2"/>
            <a:stretch/>
          </p:blipFill>
          <p:spPr>
            <a:xfrm>
              <a:off x="862200" y="4508640"/>
              <a:ext cx="3133080" cy="10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Group 9"/>
          <p:cNvGrpSpPr/>
          <p:nvPr/>
        </p:nvGrpSpPr>
        <p:grpSpPr>
          <a:xfrm>
            <a:off x="324000" y="3573360"/>
            <a:ext cx="4247280" cy="1079280"/>
            <a:chOff x="324000" y="3573360"/>
            <a:chExt cx="4247280" cy="1079280"/>
          </a:xfrm>
        </p:grpSpPr>
        <p:sp>
          <p:nvSpPr>
            <p:cNvPr id="171" name="Text Box 10"/>
            <p:cNvSpPr/>
            <p:nvPr/>
          </p:nvSpPr>
          <p:spPr>
            <a:xfrm>
              <a:off x="324000" y="3660120"/>
              <a:ext cx="58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Object 11" descr=""/>
            <p:cNvPicPr/>
            <p:nvPr/>
          </p:nvPicPr>
          <p:blipFill>
            <a:blip r:embed="rId3"/>
            <a:stretch/>
          </p:blipFill>
          <p:spPr>
            <a:xfrm>
              <a:off x="873000" y="3573360"/>
              <a:ext cx="369828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Group 12"/>
          <p:cNvGrpSpPr/>
          <p:nvPr/>
        </p:nvGrpSpPr>
        <p:grpSpPr>
          <a:xfrm>
            <a:off x="4140360" y="2708280"/>
            <a:ext cx="3239280" cy="1007640"/>
            <a:chOff x="4140360" y="2708280"/>
            <a:chExt cx="3239280" cy="1007640"/>
          </a:xfrm>
        </p:grpSpPr>
        <p:sp>
          <p:nvSpPr>
            <p:cNvPr id="174" name="Text Box 13"/>
            <p:cNvSpPr/>
            <p:nvPr/>
          </p:nvSpPr>
          <p:spPr>
            <a:xfrm>
              <a:off x="4140360" y="2831760"/>
              <a:ext cx="5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Object 14" descr=""/>
            <p:cNvPicPr/>
            <p:nvPr/>
          </p:nvPicPr>
          <p:blipFill>
            <a:blip r:embed="rId4"/>
            <a:stretch/>
          </p:blipFill>
          <p:spPr>
            <a:xfrm>
              <a:off x="4580640" y="2708280"/>
              <a:ext cx="2799000" cy="100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Object 15" descr=""/>
          <p:cNvPicPr/>
          <p:nvPr/>
        </p:nvPicPr>
        <p:blipFill>
          <a:blip r:embed="rId5"/>
          <a:stretch/>
        </p:blipFill>
        <p:spPr>
          <a:xfrm>
            <a:off x="3132000" y="2708280"/>
            <a:ext cx="1070280" cy="86508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16" descr=""/>
          <p:cNvPicPr/>
          <p:nvPr/>
        </p:nvPicPr>
        <p:blipFill>
          <a:blip r:embed="rId6"/>
          <a:stretch/>
        </p:blipFill>
        <p:spPr>
          <a:xfrm>
            <a:off x="6659640" y="285264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7" descr=""/>
          <p:cNvPicPr/>
          <p:nvPr/>
        </p:nvPicPr>
        <p:blipFill>
          <a:blip r:embed="rId7"/>
          <a:stretch/>
        </p:blipFill>
        <p:spPr>
          <a:xfrm>
            <a:off x="3203640" y="3716280"/>
            <a:ext cx="1368360" cy="86508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18" descr=""/>
          <p:cNvPicPr/>
          <p:nvPr/>
        </p:nvPicPr>
        <p:blipFill>
          <a:blip r:embed="rId8"/>
          <a:stretch/>
        </p:blipFill>
        <p:spPr>
          <a:xfrm>
            <a:off x="3059280" y="4653000"/>
            <a:ext cx="1152360" cy="86364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9"/>
          <p:cNvGrpSpPr/>
          <p:nvPr/>
        </p:nvGrpSpPr>
        <p:grpSpPr>
          <a:xfrm>
            <a:off x="250920" y="5516640"/>
            <a:ext cx="5184360" cy="1007640"/>
            <a:chOff x="250920" y="5516640"/>
            <a:chExt cx="5184360" cy="1007640"/>
          </a:xfrm>
        </p:grpSpPr>
        <p:sp>
          <p:nvSpPr>
            <p:cNvPr id="181" name="Text Box 20"/>
            <p:cNvSpPr/>
            <p:nvPr/>
          </p:nvSpPr>
          <p:spPr>
            <a:xfrm>
              <a:off x="250920" y="5584320"/>
              <a:ext cx="5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Object 21" descr=""/>
            <p:cNvPicPr/>
            <p:nvPr/>
          </p:nvPicPr>
          <p:blipFill>
            <a:blip r:embed="rId9"/>
            <a:stretch/>
          </p:blipFill>
          <p:spPr>
            <a:xfrm>
              <a:off x="842400" y="5516640"/>
              <a:ext cx="459288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WordArt 22"/>
          <p:cNvSpPr txBox="1"/>
          <p:nvPr/>
        </p:nvSpPr>
        <p:spPr>
          <a:xfrm>
            <a:off x="1403280" y="476280"/>
            <a:ext cx="403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99"/>
                  </a:solidFill>
                  <a:round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是法官我来判</a:t>
            </a:r>
            <a:endParaRPr b="0" lang="en-US" sz="1800" spc="1" strike="noStrike">
              <a:ln w="9360">
                <a:solidFill>
                  <a:srgbClr val="ff3399"/>
                </a:solidFill>
                <a:round/>
              </a:ln>
              <a:solidFill>
                <a:srgbClr val="ff00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AutoShape 23"/>
          <p:cNvSpPr/>
          <p:nvPr/>
        </p:nvSpPr>
        <p:spPr>
          <a:xfrm>
            <a:off x="6877080" y="404640"/>
            <a:ext cx="1763640" cy="1366920"/>
          </a:xfrm>
          <a:prstGeom prst="cloudCallout">
            <a:avLst>
              <a:gd name="adj1" fmla="val -45949"/>
              <a:gd name="adj2" fmla="val 25174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0"/>
            <a:ext cx="99727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y·(-2y)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-(-xy)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(-xy)-xy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·(-4x)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234936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解：原式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=3xy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·4y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-x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· (-xy)-xy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·16x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=12x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+x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-16x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=-3x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4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L-ANGE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797360"/>
            <a:ext cx="2016000" cy="1708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0920" y="0"/>
            <a:ext cx="9372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心算一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(1) 3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·5x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=    (2) 4y· (-2xy</a:t>
            </a:r>
            <a:r>
              <a:rPr b="1" lang="zh-CN" sz="4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79280" y="1844640"/>
            <a:ext cx="91440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宋体"/>
              </a:rPr>
              <a:t>(3) (-3x</a:t>
            </a:r>
            <a:r>
              <a:rPr b="1" lang="zh-CN" sz="5400" spc="-1" strike="noStrike" baseline="30000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宋体"/>
              </a:rPr>
              <a:t>y) ·(-4x)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(4)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(-xy</a:t>
            </a:r>
            <a:r>
              <a:rPr b="0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50920" y="39337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宋体"/>
              </a:rPr>
              <a:t>(5) (-9ab</a:t>
            </a:r>
            <a:r>
              <a:rPr b="1" lang="zh-CN" sz="5400" spc="-1" strike="noStrike" baseline="30000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宋体"/>
              </a:rPr>
              <a:t>) ·(-ab</a:t>
            </a:r>
            <a:r>
              <a:rPr b="1" lang="zh-CN" sz="5400" spc="-1" strike="noStrike" baseline="30000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宋体"/>
              </a:rPr>
              <a:t>)</a:t>
            </a:r>
            <a:r>
              <a:rPr b="1" lang="zh-CN" sz="5400" spc="-1" strike="noStrike" baseline="30000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(6) (2ab)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·(-a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c)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7:29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3:30Z</dcterms:modified>
  <cp:revision>16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