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5.png" ContentType="image/png"/>
  <Override PartName="/ppt/media/image17.gif" ContentType="image/gif"/>
  <Override PartName="/ppt/media/image13.wmf" ContentType="image/x-wmf"/>
  <Override PartName="/ppt/media/image16.jpeg" ContentType="image/jpeg"/>
  <Override PartName="/ppt/media/image35.wmf" ContentType="image/x-wmf"/>
  <Override PartName="/ppt/media/image9.jpeg" ContentType="image/jpeg"/>
  <Override PartName="/ppt/media/image11.jpeg" ContentType="image/jpeg"/>
  <Override PartName="/ppt/media/image23.wmf" ContentType="image/x-wmf"/>
  <Override PartName="/ppt/media/image30.wmf" ContentType="image/x-wmf"/>
  <Override PartName="/ppt/media/image6.jpeg" ContentType="image/jpeg"/>
  <Override PartName="/ppt/media/cashreg.wav" ContentType="audio/x-wav"/>
  <Override PartName="/ppt/media/image12.jpeg" ContentType="image/jpeg"/>
  <Override PartName="/ppt/media/image8.jpeg" ContentType="image/jpeg"/>
  <Override PartName="/ppt/media/image32.wmf" ContentType="image/x-wmf"/>
  <Override PartName="/ppt/media/image33.png" ContentType="image/png"/>
  <Override PartName="/ppt/media/image34.wmf" ContentType="image/x-wmf"/>
  <Override PartName="/ppt/media/image36.wmf" ContentType="image/x-wmf"/>
  <Override PartName="/ppt/media/image37.wmf" ContentType="image/x-wmf"/>
  <Override PartName="/ppt/media/image14.gif" ContentType="image/gif"/>
  <Override PartName="/ppt/media/image39.wmf" ContentType="image/x-wmf"/>
  <Override PartName="/ppt/media/image40.wmf" ContentType="image/x-wmf"/>
  <Override PartName="/ppt/media/image41.jpeg" ContentType="image/jpeg"/>
  <Override PartName="/ppt/media/image42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3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DE89-02E4-4680-B321-7BFD1196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61A-413A-4D4D-9E7C-24A4C490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A5B-6056-48C9-89C7-2F92CF55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EE96-71D7-43F0-B4E3-787EB462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5D5-68FC-4EB8-84A0-FD4B32FF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0C4-9DB6-461C-AABE-984B881C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1DC-DBF7-4916-A7E0-5DF77C10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5271-F600-4CDA-9AE3-37D7FEC5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423D-639F-45A6-8025-B750FECF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662-F2F8-4DAC-B045-B8EB6437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E00-A8D4-4973-8979-134753D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6AD-2968-49F5-AA47-D4588632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047-5338-438E-9643-116FC23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6C7D-B5CA-4DCE-BF5E-B437B6A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E30E-8F83-4FFB-A130-4833485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D765-379B-4A4B-B512-C43A058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E22-18B5-4A6F-93B0-49B6F72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F24-D9CC-4B2B-90DE-86843DDB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27D-D66E-412F-AD54-A4BEEC92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C687-CB20-4C88-94D8-8F77A05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A25-3509-4BE0-9208-EB4EDEBA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C077-FCAB-42A9-AF1D-9D6B0AF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D084-0E12-4F2C-917D-9A3D1AC4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0D86-FEEA-4FBD-83E8-089BB71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EA0B-4777-414A-960F-67AB36E9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ADC-3B71-47B9-937E-FA99BC01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6E2D-CB17-4642-B9E1-A75B4B01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2EC3-209E-4B11-8832-AA62F2E2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C804-CC73-45E7-BCB5-E4051B8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E78E-C09A-43FB-9C67-DB427F7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2D89-7B18-4762-B829-2E75AE9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365-E3F2-4A64-B9AD-5D5E1F6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1AC7-5727-434D-8955-BC2CED9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4D2F-71EB-4442-A843-AB78D38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FF11-AC83-45D7-9B53-4D031CC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BAD3-B0CD-4447-B6A1-A99CBA65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4AAB-A956-4804-8978-FD3252C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C201-BD2B-4131-A937-D01398FD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ACEF-9A48-4410-A655-B698F6A2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15D-2ECF-41BA-AE98-E02D146B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11F-ED90-4489-8502-47558DB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8A2-1698-45E0-9647-7020E34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6F7-A968-4FB1-BB08-0B91B412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7D0-3C21-4256-ABA9-F99CBB4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B9F-6ACF-4FA6-9DCE-C6DC3EA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5EC-8CED-493E-88F0-74CF1365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286-A400-4BF5-B09E-69DC17B9A9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69C-CC54-440D-82E4-7DC671D337B0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1561;&#33136;&#19977;&#35282;&#24418;\2.swf" TargetMode="External"/><Relationship Id="rId2" Type="http://schemas.openxmlformats.org/officeDocument/2006/relationships/hyperlink" Target="F:\6666\GSP4.06.e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E:\zhaojing\&#39134;&#40560;&#21046;&#20316;&#23460;\Sketchpad\GSP 4.06.exe E:\&#26032;&#24314;&#25991;&#20214;&#22841;\&#23454;&#39564;1.gsp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4.xml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" Target="slide16.xml"/><Relationship Id="rId6" Type="http://schemas.openxmlformats.org/officeDocument/2006/relationships/image" Target="../media/image18.jpeg"/><Relationship Id="rId7" Type="http://schemas.openxmlformats.org/officeDocument/2006/relationships/slide" Target="slide16.xml"/><Relationship Id="rId8" Type="http://schemas.openxmlformats.org/officeDocument/2006/relationships/image" Target="../media/image17.gif"/><Relationship Id="rId9" Type="http://schemas.openxmlformats.org/officeDocument/2006/relationships/slide" Target="slide15.xml"/><Relationship Id="rId10" Type="http://schemas.openxmlformats.org/officeDocument/2006/relationships/image" Target="../media/image19.jpeg"/><Relationship Id="rId11" Type="http://schemas.openxmlformats.org/officeDocument/2006/relationships/slide" Target="slide15.xml"/><Relationship Id="rId12" Type="http://schemas.openxmlformats.org/officeDocument/2006/relationships/image" Target="../media/image17.gif"/><Relationship Id="rId13" Type="http://schemas.openxmlformats.org/officeDocument/2006/relationships/slide" Target="slide17.xml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gi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D:\&#29579;&#27589;&#25935;&#12288;&#21442;&#36187;2004.5.16&#65293;&#65293;2004.11\&#29305;&#24449;2&#26032;.exe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alianschool.com/image/main3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hualianschool.com/hualian/10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rcRect l="0" t="0" r="0" b="60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9"/>
          <p:cNvSpPr txBox="1"/>
          <p:nvPr/>
        </p:nvSpPr>
        <p:spPr>
          <a:xfrm>
            <a:off x="1332000" y="1628640"/>
            <a:ext cx="6624720" cy="621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等腰三角形的性质课件</a:t>
            </a:r>
            <a:r>
              <a:rPr b="0" lang="en-US" sz="4000" spc="-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载</a:t>
            </a:r>
            <a:endParaRPr b="0" lang="en-US" sz="4000" spc="-1" strike="noStrike">
              <a:ln w="0">
                <a:noFill/>
              </a:ln>
              <a:noFill/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24000" y="2781360"/>
            <a:ext cx="8638920" cy="3590640"/>
            <a:chOff x="324000" y="2781360"/>
            <a:chExt cx="8638920" cy="3590640"/>
          </a:xfrm>
        </p:grpSpPr>
        <p:sp>
          <p:nvSpPr>
            <p:cNvPr id="233" name="AutoShape 3"/>
            <p:cNvSpPr/>
            <p:nvPr/>
          </p:nvSpPr>
          <p:spPr>
            <a:xfrm>
              <a:off x="324000" y="2781360"/>
              <a:ext cx="8416800" cy="2631960"/>
            </a:xfrm>
            <a:prstGeom prst="wedgeEllipseCallout">
              <a:avLst>
                <a:gd name="adj1" fmla="val -46000"/>
                <a:gd name="adj2" fmla="val 8522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">
              <a:hlinkClick r:id="rId1"/>
            </p:cNvPr>
            <p:cNvSpPr/>
            <p:nvPr/>
          </p:nvSpPr>
          <p:spPr>
            <a:xfrm>
              <a:off x="846000" y="3481560"/>
              <a:ext cx="8116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把剪出的等腰三角形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ABC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沿折痕对折，找出其中重合的线段和角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华文新魏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5"/>
            <p:cNvSpPr txBox="1"/>
            <p:nvPr/>
          </p:nvSpPr>
          <p:spPr>
            <a:xfrm rot="1089000">
              <a:off x="1101600" y="5105520"/>
              <a:ext cx="1730520" cy="1022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3352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round/>
                  </a:ln>
                  <a:solidFill>
                    <a:srgbClr val="ff3300"/>
                  </a:solidFill>
                  <a:latin typeface="隶书"/>
                </a:rPr>
                <a:t>找一找</a:t>
              </a:r>
              <a:endParaRPr b="0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236" name="Text Box 6"/>
          <p:cNvSpPr/>
          <p:nvPr/>
        </p:nvSpPr>
        <p:spPr>
          <a:xfrm>
            <a:off x="1116000" y="476280"/>
            <a:ext cx="7861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等腰三角形是轴对称图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 rot="5400000">
            <a:off x="455400" y="5619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思考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38" name="Text Box 11">
            <a:hlinkClick r:id="rId2"/>
          </p:cNvPr>
          <p:cNvSpPr/>
          <p:nvPr/>
        </p:nvSpPr>
        <p:spPr>
          <a:xfrm>
            <a:off x="2764440" y="1341360"/>
            <a:ext cx="42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腰三角形是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轴对称图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称轴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顶角平分线所在的直线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611280" y="523800"/>
          <a:ext cx="5400720" cy="3429000"/>
        </p:xfrm>
        <a:graphic>
          <a:graphicData uri="http://schemas.openxmlformats.org/drawingml/2006/table">
            <a:tbl>
              <a:tblPr/>
              <a:tblGrid>
                <a:gridCol w="2311560"/>
                <a:gridCol w="3089160"/>
              </a:tblGrid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重合的线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重合的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572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572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25"/>
          <p:cNvSpPr/>
          <p:nvPr/>
        </p:nvSpPr>
        <p:spPr>
          <a:xfrm>
            <a:off x="844560" y="1625760"/>
            <a:ext cx="186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844560" y="2409840"/>
            <a:ext cx="2044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663480" y="3219480"/>
            <a:ext cx="2225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3419640" y="1557360"/>
            <a:ext cx="2230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757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3059280" y="2349360"/>
            <a:ext cx="3063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AD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2916360" y="3213000"/>
            <a:ext cx="3284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DB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＝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611280" y="4941720"/>
            <a:ext cx="79930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腰三角形除了两腰相等以外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还能发现它的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角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什么性质吗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611280" y="4149720"/>
            <a:ext cx="3066840" cy="642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猜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6">
            <a:hlinkClick r:id="rId1"/>
          </p:cNvPr>
          <p:cNvSpPr/>
          <p:nvPr/>
        </p:nvSpPr>
        <p:spPr>
          <a:xfrm>
            <a:off x="7516800" y="5969160"/>
            <a:ext cx="1422360" cy="587160"/>
          </a:xfrm>
          <a:custGeom>
            <a:avLst/>
            <a:gdLst>
              <a:gd name="textAreaLeft" fmla="*/ 37800 w 1422360"/>
              <a:gd name="textAreaRight" fmla="*/ 1384560 w 1422360"/>
              <a:gd name="textAreaTop" fmla="*/ 37800 h 587160"/>
              <a:gd name="textAreaBottom" fmla="*/ 549360 h 587160"/>
            </a:gdLst>
            <a:ahLst/>
            <a:rect l="textAreaLeft" t="textAreaTop" r="textAreaRight" b="textAreaBottom"/>
            <a:pathLst>
              <a:path w="52306" h="21600">
                <a:moveTo>
                  <a:pt x="0" y="0"/>
                </a:moveTo>
                <a:lnTo>
                  <a:pt x="52306" y="0"/>
                </a:lnTo>
                <a:lnTo>
                  <a:pt x="52306" y="21600"/>
                </a:lnTo>
                <a:lnTo>
                  <a:pt x="0" y="21600"/>
                </a:lnTo>
                <a:close/>
              </a:path>
              <a:path fill="lightenLess" w="52306" h="21600">
                <a:moveTo>
                  <a:pt x="0" y="0"/>
                </a:moveTo>
                <a:lnTo>
                  <a:pt x="52306" y="0"/>
                </a:lnTo>
                <a:lnTo>
                  <a:pt x="50906" y="1400"/>
                </a:lnTo>
                <a:lnTo>
                  <a:pt x="1400" y="1400"/>
                </a:lnTo>
                <a:close/>
              </a:path>
              <a:path fill="darken" w="52306" h="21600">
                <a:moveTo>
                  <a:pt x="52306" y="0"/>
                </a:moveTo>
                <a:lnTo>
                  <a:pt x="52306" y="21600"/>
                </a:lnTo>
                <a:lnTo>
                  <a:pt x="50906" y="20200"/>
                </a:lnTo>
                <a:lnTo>
                  <a:pt x="50906" y="1400"/>
                </a:lnTo>
                <a:close/>
              </a:path>
              <a:path fill="darkenLess" w="52306" h="21600">
                <a:moveTo>
                  <a:pt x="5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06" y="20200"/>
                </a:lnTo>
                <a:close/>
              </a:path>
              <a:path fill="lighten" w="5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5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79108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533520" y="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猜想与论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00000" y="907920"/>
            <a:ext cx="51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腰三角形的两个底角相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6920" y="1989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826920" y="270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求证：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900000" y="34290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析：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如何证明两个角相等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116000" y="42926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何构造两个全等的三角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7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352728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08800" y="297720"/>
            <a:ext cx="7946280" cy="1669320"/>
            <a:chOff x="208800" y="297720"/>
            <a:chExt cx="7946280" cy="1669320"/>
          </a:xfrm>
        </p:grpSpPr>
        <p:sp>
          <p:nvSpPr>
            <p:cNvPr id="258" name="Freeform 3"/>
            <p:cNvSpPr/>
            <p:nvPr/>
          </p:nvSpPr>
          <p:spPr>
            <a:xfrm>
              <a:off x="250920" y="1438560"/>
              <a:ext cx="7904160" cy="52848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4"/>
            <p:cNvGrpSpPr/>
            <p:nvPr/>
          </p:nvGrpSpPr>
          <p:grpSpPr>
            <a:xfrm>
              <a:off x="208800" y="297720"/>
              <a:ext cx="6915600" cy="1517400"/>
              <a:chOff x="208800" y="297720"/>
              <a:chExt cx="6915600" cy="1517400"/>
            </a:xfrm>
          </p:grpSpPr>
          <p:sp>
            <p:nvSpPr>
              <p:cNvPr id="260" name="Freeform 5"/>
              <p:cNvSpPr/>
              <p:nvPr/>
            </p:nvSpPr>
            <p:spPr>
              <a:xfrm rot="208800">
                <a:off x="390240" y="466200"/>
                <a:ext cx="833400" cy="99072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">
                <a:hlinkClick r:id="rId1" action="ppaction://hlinksldjump"/>
              </p:cNvPr>
              <p:cNvSpPr/>
              <p:nvPr/>
            </p:nvSpPr>
            <p:spPr>
              <a:xfrm>
                <a:off x="668160" y="533520"/>
                <a:ext cx="834840" cy="9237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 rot="878400">
                <a:off x="390240" y="333000"/>
                <a:ext cx="417240" cy="105732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807840" y="334800"/>
                <a:ext cx="695160" cy="26352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320400" y="1127160"/>
                <a:ext cx="555480" cy="59544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 rot="1539600">
                <a:off x="250560" y="1537920"/>
                <a:ext cx="212400" cy="243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1"/>
              <p:cNvSpPr/>
              <p:nvPr/>
            </p:nvSpPr>
            <p:spPr>
              <a:xfrm rot="21436800">
                <a:off x="1085760" y="399960"/>
                <a:ext cx="207720" cy="666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1522440" y="530280"/>
                <a:ext cx="5601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如何构造两个全等的三角形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8" name="Picture 13" descr="想&#10;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773360"/>
            <a:ext cx="5359320" cy="1172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gif003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1844640"/>
            <a:ext cx="1109520" cy="1109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做一做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365720"/>
            <a:ext cx="5576760" cy="1225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gif003[1]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4581360"/>
            <a:ext cx="935280" cy="936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议一议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997360"/>
            <a:ext cx="5405400" cy="116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8" descr="gif003[1]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3068640"/>
            <a:ext cx="1036800" cy="1038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29280" y="2205000"/>
            <a:ext cx="31147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380360" y="981000"/>
            <a:ext cx="360" cy="2806920"/>
            <a:chOff x="7380360" y="981000"/>
            <a:chExt cx="360" cy="2806920"/>
          </a:xfrm>
        </p:grpSpPr>
        <p:sp>
          <p:nvSpPr>
            <p:cNvPr id="276" name="Line 2"/>
            <p:cNvSpPr/>
            <p:nvPr/>
          </p:nvSpPr>
          <p:spPr>
            <a:xfrm>
              <a:off x="7380360" y="981000"/>
              <a:ext cx="0" cy="2806920"/>
            </a:xfrm>
            <a:prstGeom prst="line">
              <a:avLst/>
            </a:prstGeom>
            <a:ln w="34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7380360" y="981000"/>
              <a:ext cx="360" cy="280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3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5679000" y="298440"/>
            <a:ext cx="3499200" cy="4140360"/>
            <a:chOff x="5679000" y="298440"/>
            <a:chExt cx="3499200" cy="4140360"/>
          </a:xfrm>
        </p:grpSpPr>
        <p:sp>
          <p:nvSpPr>
            <p:cNvPr id="280" name="AutoShape 5"/>
            <p:cNvSpPr/>
            <p:nvPr/>
          </p:nvSpPr>
          <p:spPr>
            <a:xfrm>
              <a:off x="6110280" y="928800"/>
              <a:ext cx="2521080" cy="2879640"/>
            </a:xfrm>
            <a:prstGeom prst="flowChartExtra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6"/>
            <p:cNvSpPr/>
            <p:nvPr/>
          </p:nvSpPr>
          <p:spPr>
            <a:xfrm>
              <a:off x="7120440" y="2984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7"/>
            <p:cNvSpPr/>
            <p:nvPr/>
          </p:nvSpPr>
          <p:spPr>
            <a:xfrm>
              <a:off x="5679000" y="3735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8"/>
            <p:cNvSpPr/>
            <p:nvPr/>
          </p:nvSpPr>
          <p:spPr>
            <a:xfrm>
              <a:off x="8631720" y="3645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9"/>
          <p:cNvSpPr/>
          <p:nvPr/>
        </p:nvSpPr>
        <p:spPr>
          <a:xfrm>
            <a:off x="1154160" y="3645000"/>
            <a:ext cx="217440" cy="1224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468360" y="1844640"/>
            <a:ext cx="46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有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7119000" y="373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6950520" y="157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7382160" y="157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332000" y="2589120"/>
            <a:ext cx="51130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2520" y="1214280"/>
            <a:ext cx="592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顶角的平分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1409760" y="3294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1295280" y="393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1409760" y="4548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3429000" y="4525920"/>
            <a:ext cx="38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公共边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1219320" y="5189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5562720" y="5189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A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5"/>
          <p:cNvSpPr/>
          <p:nvPr/>
        </p:nvSpPr>
        <p:spPr>
          <a:xfrm>
            <a:off x="1219320" y="5830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6"/>
          <p:cNvSpPr/>
          <p:nvPr/>
        </p:nvSpPr>
        <p:spPr>
          <a:xfrm>
            <a:off x="369576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全等三角形对应角相等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27"/>
          <p:cNvSpPr/>
          <p:nvPr/>
        </p:nvSpPr>
        <p:spPr>
          <a:xfrm rot="21225600">
            <a:off x="7140240" y="995400"/>
            <a:ext cx="239760" cy="401760"/>
          </a:xfrm>
          <a:custGeom>
            <a:avLst/>
            <a:gdLst/>
            <a:ahLst/>
            <a:rect l="l" t="t" r="r" b="b"/>
            <a:pathLst>
              <a:path fill="none" w="12694" h="21600">
                <a:moveTo>
                  <a:pt x="12694" y="19993"/>
                </a:moveTo>
                <a:cubicBezTo>
                  <a:pt x="10099" y="21054"/>
                  <a:pt x="7322" y="21599"/>
                  <a:pt x="4519" y="21600"/>
                </a:cubicBezTo>
                <a:cubicBezTo>
                  <a:pt x="3000" y="21600"/>
                  <a:pt x="1485" y="21439"/>
                  <a:pt x="0" y="21121"/>
                </a:cubicBezTo>
              </a:path>
              <a:path stroke="0" w="12694" h="21600">
                <a:moveTo>
                  <a:pt x="12694" y="19993"/>
                </a:moveTo>
                <a:cubicBezTo>
                  <a:pt x="10099" y="21054"/>
                  <a:pt x="7322" y="21599"/>
                  <a:pt x="4519" y="21600"/>
                </a:cubicBezTo>
                <a:cubicBezTo>
                  <a:pt x="3000" y="21600"/>
                  <a:pt x="1485" y="21439"/>
                  <a:pt x="0" y="21121"/>
                </a:cubicBezTo>
                <a:lnTo>
                  <a:pt x="4519" y="0"/>
                </a:lnTo>
                <a:lnTo>
                  <a:pt x="12694" y="1999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28"/>
          <p:cNvSpPr/>
          <p:nvPr/>
        </p:nvSpPr>
        <p:spPr>
          <a:xfrm rot="21225600">
            <a:off x="7380360" y="1001880"/>
            <a:ext cx="181080" cy="401400"/>
          </a:xfrm>
          <a:custGeom>
            <a:avLst/>
            <a:gdLst/>
            <a:ahLst/>
            <a:rect l="l" t="t" r="r" b="b"/>
            <a:pathLst>
              <a:path fill="none" w="9622" h="21600">
                <a:moveTo>
                  <a:pt x="9622" y="21551"/>
                </a:moveTo>
                <a:cubicBezTo>
                  <a:pt x="9140" y="21583"/>
                  <a:pt x="8657" y="21599"/>
                  <a:pt x="8175" y="21600"/>
                </a:cubicBezTo>
                <a:cubicBezTo>
                  <a:pt x="5371" y="21600"/>
                  <a:pt x="2594" y="21054"/>
                  <a:pt x="-1" y="19993"/>
                </a:cubicBezTo>
              </a:path>
              <a:path stroke="0" w="9622" h="21600">
                <a:moveTo>
                  <a:pt x="9622" y="21551"/>
                </a:moveTo>
                <a:cubicBezTo>
                  <a:pt x="9140" y="21583"/>
                  <a:pt x="8657" y="21599"/>
                  <a:pt x="8175" y="21600"/>
                </a:cubicBezTo>
                <a:cubicBezTo>
                  <a:pt x="5371" y="21600"/>
                  <a:pt x="2594" y="21054"/>
                  <a:pt x="-1" y="19993"/>
                </a:cubicBezTo>
                <a:lnTo>
                  <a:pt x="8175" y="0"/>
                </a:lnTo>
                <a:lnTo>
                  <a:pt x="9622" y="2155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9"/>
          <p:cNvGrpSpPr/>
          <p:nvPr/>
        </p:nvGrpSpPr>
        <p:grpSpPr>
          <a:xfrm>
            <a:off x="6103440" y="907920"/>
            <a:ext cx="2521080" cy="2879640"/>
            <a:chOff x="6103440" y="907920"/>
            <a:chExt cx="2521080" cy="2879640"/>
          </a:xfrm>
        </p:grpSpPr>
        <p:grpSp>
          <p:nvGrpSpPr>
            <p:cNvPr id="303" name=""/>
            <p:cNvGrpSpPr/>
            <p:nvPr/>
          </p:nvGrpSpPr>
          <p:grpSpPr>
            <a:xfrm>
              <a:off x="6103440" y="907920"/>
              <a:ext cx="1260720" cy="2879640"/>
              <a:chOff x="6103440" y="907920"/>
              <a:chExt cx="1260720" cy="2879640"/>
            </a:xfrm>
          </p:grpSpPr>
          <p:sp>
            <p:nvSpPr>
              <p:cNvPr id="304" name="Line 30"/>
              <p:cNvSpPr/>
              <p:nvPr/>
            </p:nvSpPr>
            <p:spPr>
              <a:xfrm flipH="1">
                <a:off x="610344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610380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364160" y="907920"/>
              <a:ext cx="1260360" cy="2879640"/>
              <a:chOff x="7364160" y="907920"/>
              <a:chExt cx="1260360" cy="2879640"/>
            </a:xfrm>
          </p:grpSpPr>
          <p:sp>
            <p:nvSpPr>
              <p:cNvPr id="307" name="Line 31"/>
              <p:cNvSpPr/>
              <p:nvPr/>
            </p:nvSpPr>
            <p:spPr>
              <a:xfrm>
                <a:off x="736416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736416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9" name="Picture 32" descr="678"/>
          <p:cNvPicPr/>
          <p:nvPr/>
        </p:nvPicPr>
        <p:blipFill>
          <a:blip r:embed="rId2"/>
          <a:stretch/>
        </p:blipFill>
        <p:spPr>
          <a:xfrm>
            <a:off x="318960" y="0"/>
            <a:ext cx="1952640" cy="1098720"/>
          </a:xfrm>
          <a:prstGeom prst="rect">
            <a:avLst/>
          </a:prstGeom>
          <a:ln w="0">
            <a:noFill/>
          </a:ln>
        </p:spPr>
      </p:pic>
      <p:sp>
        <p:nvSpPr>
          <p:cNvPr id="310" name="WordArt 33"/>
          <p:cNvSpPr txBox="1"/>
          <p:nvPr/>
        </p:nvSpPr>
        <p:spPr>
          <a:xfrm>
            <a:off x="1006560" y="298440"/>
            <a:ext cx="16603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方法一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11" name="文本框 8199"/>
          <p:cNvSpPr/>
          <p:nvPr/>
        </p:nvSpPr>
        <p:spPr>
          <a:xfrm>
            <a:off x="2897280" y="38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7380360" y="981000"/>
            <a:ext cx="360" cy="2806920"/>
            <a:chOff x="7380360" y="981000"/>
            <a:chExt cx="360" cy="2806920"/>
          </a:xfrm>
        </p:grpSpPr>
        <p:sp>
          <p:nvSpPr>
            <p:cNvPr id="313" name="Line 2"/>
            <p:cNvSpPr/>
            <p:nvPr/>
          </p:nvSpPr>
          <p:spPr>
            <a:xfrm>
              <a:off x="7380360" y="981000"/>
              <a:ext cx="0" cy="2806920"/>
            </a:xfrm>
            <a:prstGeom prst="line">
              <a:avLst/>
            </a:prstGeom>
            <a:ln w="34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7380360" y="981000"/>
              <a:ext cx="360" cy="280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3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5679000" y="298440"/>
            <a:ext cx="3499200" cy="4140360"/>
            <a:chOff x="5679000" y="298440"/>
            <a:chExt cx="3499200" cy="4140360"/>
          </a:xfrm>
        </p:grpSpPr>
        <p:sp>
          <p:nvSpPr>
            <p:cNvPr id="317" name="AutoShape 5"/>
            <p:cNvSpPr/>
            <p:nvPr/>
          </p:nvSpPr>
          <p:spPr>
            <a:xfrm>
              <a:off x="6110280" y="928800"/>
              <a:ext cx="2521080" cy="2879640"/>
            </a:xfrm>
            <a:prstGeom prst="flowChartExtra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7120440" y="2984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679000" y="3735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8631720" y="3645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9"/>
          <p:cNvSpPr/>
          <p:nvPr/>
        </p:nvSpPr>
        <p:spPr>
          <a:xfrm>
            <a:off x="1154160" y="3645000"/>
            <a:ext cx="217440" cy="1224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68360" y="1844640"/>
            <a:ext cx="46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7119000" y="373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332000" y="2589120"/>
            <a:ext cx="51130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82520" y="1214280"/>
            <a:ext cx="592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中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409760" y="3294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1409760" y="393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1409760" y="4548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3429000" y="4525920"/>
            <a:ext cx="38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公共边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1219320" y="5189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5562720" y="5189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S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1219320" y="5830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369576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全等三角形对应角相等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5"/>
          <p:cNvGrpSpPr/>
          <p:nvPr/>
        </p:nvGrpSpPr>
        <p:grpSpPr>
          <a:xfrm>
            <a:off x="6103440" y="907920"/>
            <a:ext cx="2521080" cy="2879640"/>
            <a:chOff x="6103440" y="907920"/>
            <a:chExt cx="2521080" cy="2879640"/>
          </a:xfrm>
        </p:grpSpPr>
        <p:grpSp>
          <p:nvGrpSpPr>
            <p:cNvPr id="336" name=""/>
            <p:cNvGrpSpPr/>
            <p:nvPr/>
          </p:nvGrpSpPr>
          <p:grpSpPr>
            <a:xfrm>
              <a:off x="6103440" y="907920"/>
              <a:ext cx="1260720" cy="2879640"/>
              <a:chOff x="6103440" y="907920"/>
              <a:chExt cx="1260720" cy="2879640"/>
            </a:xfrm>
          </p:grpSpPr>
          <p:sp>
            <p:nvSpPr>
              <p:cNvPr id="337" name="Line 26"/>
              <p:cNvSpPr/>
              <p:nvPr/>
            </p:nvSpPr>
            <p:spPr>
              <a:xfrm flipH="1">
                <a:off x="610344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610380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364160" y="907920"/>
              <a:ext cx="1260360" cy="2879640"/>
              <a:chOff x="7364160" y="907920"/>
              <a:chExt cx="1260360" cy="2879640"/>
            </a:xfrm>
          </p:grpSpPr>
          <p:sp>
            <p:nvSpPr>
              <p:cNvPr id="340" name="Line 27"/>
              <p:cNvSpPr/>
              <p:nvPr/>
            </p:nvSpPr>
            <p:spPr>
              <a:xfrm>
                <a:off x="736416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736416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WordArt 29"/>
          <p:cNvSpPr txBox="1"/>
          <p:nvPr/>
        </p:nvSpPr>
        <p:spPr>
          <a:xfrm>
            <a:off x="1006560" y="298440"/>
            <a:ext cx="16603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方法二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440" y="3451320"/>
            <a:ext cx="1270080" cy="368280"/>
            <a:chOff x="6094440" y="3451320"/>
            <a:chExt cx="1270080" cy="368280"/>
          </a:xfrm>
        </p:grpSpPr>
        <p:sp>
          <p:nvSpPr>
            <p:cNvPr id="344" name="Line 30"/>
            <p:cNvSpPr/>
            <p:nvPr/>
          </p:nvSpPr>
          <p:spPr>
            <a:xfrm flipV="1">
              <a:off x="6094440" y="3798720"/>
              <a:ext cx="1270080" cy="208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6094440" y="3451320"/>
              <a:ext cx="12700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380000" y="3808440"/>
            <a:ext cx="1244880" cy="368280"/>
            <a:chOff x="7380000" y="3808440"/>
            <a:chExt cx="1244880" cy="368280"/>
          </a:xfrm>
        </p:grpSpPr>
        <p:sp>
          <p:nvSpPr>
            <p:cNvPr id="347" name="Line 31"/>
            <p:cNvSpPr/>
            <p:nvPr/>
          </p:nvSpPr>
          <p:spPr>
            <a:xfrm flipH="1">
              <a:off x="7380000" y="3808440"/>
              <a:ext cx="1244520" cy="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380360" y="3808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25"/>
                            </p:stCondLst>
                            <p:childTnLst>
                              <p:par>
                                <p:cTn id="4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625"/>
                            </p:stCondLst>
                            <p:childTnLst>
                              <p:par>
                                <p:cTn id="4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7364520" y="1000080"/>
            <a:ext cx="15840" cy="2787840"/>
            <a:chOff x="7364520" y="1000080"/>
            <a:chExt cx="15840" cy="2787840"/>
          </a:xfrm>
        </p:grpSpPr>
        <p:sp>
          <p:nvSpPr>
            <p:cNvPr id="350" name="Line 2"/>
            <p:cNvSpPr/>
            <p:nvPr/>
          </p:nvSpPr>
          <p:spPr>
            <a:xfrm>
              <a:off x="7364520" y="1000080"/>
              <a:ext cx="15840" cy="2787840"/>
            </a:xfrm>
            <a:prstGeom prst="line">
              <a:avLst/>
            </a:prstGeom>
            <a:ln w="34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7364520" y="1000080"/>
              <a:ext cx="15840" cy="278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3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5679000" y="298440"/>
            <a:ext cx="3499200" cy="4140360"/>
            <a:chOff x="5679000" y="298440"/>
            <a:chExt cx="3499200" cy="4140360"/>
          </a:xfrm>
        </p:grpSpPr>
        <p:sp>
          <p:nvSpPr>
            <p:cNvPr id="354" name="AutoShape 5"/>
            <p:cNvSpPr/>
            <p:nvPr/>
          </p:nvSpPr>
          <p:spPr>
            <a:xfrm>
              <a:off x="6110280" y="928800"/>
              <a:ext cx="2521080" cy="2879640"/>
            </a:xfrm>
            <a:prstGeom prst="flowChartExtra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6"/>
            <p:cNvSpPr/>
            <p:nvPr/>
          </p:nvSpPr>
          <p:spPr>
            <a:xfrm>
              <a:off x="7120440" y="2984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7"/>
            <p:cNvSpPr/>
            <p:nvPr/>
          </p:nvSpPr>
          <p:spPr>
            <a:xfrm>
              <a:off x="5679000" y="3735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8"/>
            <p:cNvSpPr/>
            <p:nvPr/>
          </p:nvSpPr>
          <p:spPr>
            <a:xfrm>
              <a:off x="8631720" y="3645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AutoShape 9"/>
          <p:cNvSpPr/>
          <p:nvPr/>
        </p:nvSpPr>
        <p:spPr>
          <a:xfrm>
            <a:off x="1154160" y="3645000"/>
            <a:ext cx="217440" cy="792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24000" y="1844640"/>
            <a:ext cx="5840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有 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119000" y="373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811080" y="2498760"/>
            <a:ext cx="55404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t△A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t△A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182520" y="1214280"/>
            <a:ext cx="592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高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1409760" y="3294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1409760" y="3995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3429000" y="3935520"/>
            <a:ext cx="38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公共边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811080" y="4869000"/>
            <a:ext cx="52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0"/>
          <p:cNvSpPr/>
          <p:nvPr/>
        </p:nvSpPr>
        <p:spPr>
          <a:xfrm>
            <a:off x="5445000" y="4869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914400" y="551016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>
            <a:off x="3429000" y="55101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全等三角形对应角相等）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3"/>
          <p:cNvGrpSpPr/>
          <p:nvPr/>
        </p:nvGrpSpPr>
        <p:grpSpPr>
          <a:xfrm>
            <a:off x="6103440" y="907920"/>
            <a:ext cx="2521080" cy="2879640"/>
            <a:chOff x="6103440" y="907920"/>
            <a:chExt cx="2521080" cy="2879640"/>
          </a:xfrm>
        </p:grpSpPr>
        <p:grpSp>
          <p:nvGrpSpPr>
            <p:cNvPr id="372" name=""/>
            <p:cNvGrpSpPr/>
            <p:nvPr/>
          </p:nvGrpSpPr>
          <p:grpSpPr>
            <a:xfrm>
              <a:off x="6103440" y="907920"/>
              <a:ext cx="1260720" cy="2879640"/>
              <a:chOff x="6103440" y="907920"/>
              <a:chExt cx="1260720" cy="2879640"/>
            </a:xfrm>
          </p:grpSpPr>
          <p:sp>
            <p:nvSpPr>
              <p:cNvPr id="373" name="Line 24"/>
              <p:cNvSpPr/>
              <p:nvPr/>
            </p:nvSpPr>
            <p:spPr>
              <a:xfrm flipH="1">
                <a:off x="610344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10380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364160" y="907920"/>
              <a:ext cx="1260360" cy="2879640"/>
              <a:chOff x="7364160" y="907920"/>
              <a:chExt cx="1260360" cy="2879640"/>
            </a:xfrm>
          </p:grpSpPr>
          <p:sp>
            <p:nvSpPr>
              <p:cNvPr id="376" name="Line 25"/>
              <p:cNvSpPr/>
              <p:nvPr/>
            </p:nvSpPr>
            <p:spPr>
              <a:xfrm>
                <a:off x="7364160" y="907920"/>
                <a:ext cx="1260360" cy="287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364160" y="907920"/>
                <a:ext cx="1260360" cy="28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WordArt 27"/>
          <p:cNvSpPr txBox="1"/>
          <p:nvPr/>
        </p:nvSpPr>
        <p:spPr>
          <a:xfrm>
            <a:off x="1006560" y="298440"/>
            <a:ext cx="16603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方法三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79" name="Group 28"/>
          <p:cNvGrpSpPr/>
          <p:nvPr/>
        </p:nvGrpSpPr>
        <p:grpSpPr>
          <a:xfrm>
            <a:off x="7380360" y="3494160"/>
            <a:ext cx="287280" cy="288720"/>
            <a:chOff x="7380360" y="3494160"/>
            <a:chExt cx="287280" cy="288720"/>
          </a:xfrm>
        </p:grpSpPr>
        <p:grpSp>
          <p:nvGrpSpPr>
            <p:cNvPr id="380" name=""/>
            <p:cNvGrpSpPr/>
            <p:nvPr/>
          </p:nvGrpSpPr>
          <p:grpSpPr>
            <a:xfrm>
              <a:off x="7380360" y="3494160"/>
              <a:ext cx="287280" cy="360"/>
              <a:chOff x="7380360" y="3494160"/>
              <a:chExt cx="287280" cy="360"/>
            </a:xfrm>
          </p:grpSpPr>
          <p:sp>
            <p:nvSpPr>
              <p:cNvPr id="381" name="Line 29"/>
              <p:cNvSpPr/>
              <p:nvPr/>
            </p:nvSpPr>
            <p:spPr>
              <a:xfrm>
                <a:off x="7380360" y="3494160"/>
                <a:ext cx="28728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7380360" y="349416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667280" y="3494160"/>
              <a:ext cx="360" cy="288720"/>
              <a:chOff x="7667280" y="3494160"/>
              <a:chExt cx="360" cy="288720"/>
            </a:xfrm>
          </p:grpSpPr>
          <p:sp>
            <p:nvSpPr>
              <p:cNvPr id="384" name="Line 30"/>
              <p:cNvSpPr/>
              <p:nvPr/>
            </p:nvSpPr>
            <p:spPr>
              <a:xfrm flipV="1">
                <a:off x="7667640" y="3494160"/>
                <a:ext cx="0" cy="28872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 rot="10800000">
                <a:off x="7667280" y="3494160"/>
                <a:ext cx="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7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25"/>
                            </p:stCondLst>
                            <p:childTnLst>
                              <p:par>
                                <p:cTn id="4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625"/>
                            </p:stCondLst>
                            <p:childTnLst>
                              <p:par>
                                <p:cTn id="4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125"/>
                            </p:stCondLst>
                            <p:childTnLst>
                              <p:par>
                                <p:cTn id="4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3"/>
          <p:cNvSpPr/>
          <p:nvPr/>
        </p:nvSpPr>
        <p:spPr>
          <a:xfrm>
            <a:off x="1701000" y="22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符号语言表示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"/>
          <p:cNvSpPr/>
          <p:nvPr/>
        </p:nvSpPr>
        <p:spPr>
          <a:xfrm>
            <a:off x="684360" y="3213000"/>
            <a:ext cx="64087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在△</a:t>
            </a:r>
            <a:r>
              <a:rPr b="1" lang="en-US" sz="3600" spc="-1" strike="noStrike">
                <a:solidFill>
                  <a:srgbClr val="333399"/>
                </a:solidFill>
                <a:latin typeface="幼圆"/>
                <a:ea typeface="幼圆"/>
              </a:rPr>
              <a:t>ABC</a:t>
            </a: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∵ </a:t>
            </a:r>
            <a:r>
              <a:rPr b="1" lang="en-US" sz="3600" spc="-1" strike="noStrike">
                <a:solidFill>
                  <a:srgbClr val="333399"/>
                </a:solidFill>
                <a:latin typeface="幼圆"/>
                <a:ea typeface="幼圆"/>
              </a:rPr>
              <a:t>AC=AB</a:t>
            </a: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（ 已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∴ ∠</a:t>
            </a:r>
            <a:r>
              <a:rPr b="1" lang="en-US" sz="3600" spc="-1" strike="noStrike">
                <a:solidFill>
                  <a:srgbClr val="333399"/>
                </a:solidFill>
                <a:latin typeface="幼圆"/>
                <a:ea typeface="幼圆"/>
              </a:rPr>
              <a:t>B=∠C </a:t>
            </a:r>
            <a:r>
              <a:rPr b="1" lang="zh-CN" sz="3600" spc="-1" strike="noStrike">
                <a:solidFill>
                  <a:srgbClr val="333399"/>
                </a:solidFill>
                <a:latin typeface="幼圆"/>
                <a:ea typeface="幼圆"/>
              </a:rPr>
              <a:t>（</a:t>
            </a:r>
            <a:r>
              <a:rPr b="1" lang="zh-CN" sz="3600" spc="-1" strike="noStrike">
                <a:solidFill>
                  <a:srgbClr val="262673"/>
                </a:solidFill>
                <a:latin typeface="Monotype Corsiva"/>
              </a:rPr>
              <a:t>等边对等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5"/>
          <p:cNvSpPr/>
          <p:nvPr/>
        </p:nvSpPr>
        <p:spPr>
          <a:xfrm>
            <a:off x="1746720" y="549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73"/>
                </a:solidFill>
                <a:latin typeface="Times New Roman"/>
              </a:rPr>
              <a:t>等腰三角形的性质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腰三角形的两个底角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026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等腰三角形一个底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75°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它的另外两个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31"/>
          <p:cNvSpPr/>
          <p:nvPr/>
        </p:nvSpPr>
        <p:spPr>
          <a:xfrm>
            <a:off x="5651640" y="119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75°, 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32"/>
          <p:cNvSpPr/>
          <p:nvPr/>
        </p:nvSpPr>
        <p:spPr>
          <a:xfrm>
            <a:off x="3276720" y="2421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0°,40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5°,5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33"/>
          <p:cNvSpPr/>
          <p:nvPr/>
        </p:nvSpPr>
        <p:spPr>
          <a:xfrm>
            <a:off x="6227640" y="371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5°,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34"/>
          <p:cNvSpPr/>
          <p:nvPr/>
        </p:nvSpPr>
        <p:spPr>
          <a:xfrm>
            <a:off x="-181080" y="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小试牛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2"/>
          <p:cNvSpPr/>
          <p:nvPr/>
        </p:nvSpPr>
        <p:spPr>
          <a:xfrm>
            <a:off x="0" y="1773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⒉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等腰三角形一个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70°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它的另外两个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3"/>
          <p:cNvSpPr/>
          <p:nvPr/>
        </p:nvSpPr>
        <p:spPr>
          <a:xfrm>
            <a:off x="108000" y="3068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等腰三角形一个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10°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它的另外两个角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852120" y="4800600"/>
            <a:ext cx="33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①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2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底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894600" y="5334120"/>
            <a:ext cx="34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②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180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底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998640" y="5791320"/>
            <a:ext cx="39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③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底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80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顶角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5435640" y="494172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④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0°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＜顶角＜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⑤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0°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＜底角＜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533520" y="40384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结论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在等腰三角形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5"/>
          <p:cNvSpPr/>
          <p:nvPr/>
        </p:nvSpPr>
        <p:spPr>
          <a:xfrm>
            <a:off x="1463760" y="276120"/>
            <a:ext cx="29559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行楷"/>
                <a:ea typeface="华文行楷"/>
              </a:rPr>
              <a:t>想一想</a:t>
            </a:r>
            <a:r>
              <a:rPr b="1" lang="en-US" sz="4400" spc="-1" strike="noStrike">
                <a:solidFill>
                  <a:srgbClr val="990000"/>
                </a:solidFill>
                <a:latin typeface="方正舒体"/>
                <a:ea typeface="方正舒体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1280" y="1137960"/>
            <a:ext cx="743436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才的证明除了能得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能发现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82760" y="2509920"/>
          <a:ext cx="5457600" cy="3429000"/>
        </p:xfrm>
        <a:graphic>
          <a:graphicData uri="http://schemas.openxmlformats.org/drawingml/2006/table">
            <a:tbl>
              <a:tblPr/>
              <a:tblGrid>
                <a:gridCol w="2288880"/>
                <a:gridCol w="3168720"/>
              </a:tblGrid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重合的线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重合的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33"/>
          <p:cNvSpPr/>
          <p:nvPr/>
        </p:nvSpPr>
        <p:spPr>
          <a:xfrm>
            <a:off x="684360" y="3573360"/>
            <a:ext cx="1863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4"/>
          <p:cNvSpPr/>
          <p:nvPr/>
        </p:nvSpPr>
        <p:spPr>
          <a:xfrm>
            <a:off x="611280" y="4365720"/>
            <a:ext cx="2044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468360" y="5157720"/>
            <a:ext cx="2225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843280" y="3429000"/>
            <a:ext cx="2230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2843280" y="4292640"/>
            <a:ext cx="3063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AD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＝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2627280" y="5229360"/>
            <a:ext cx="3284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B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∠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640560" y="537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5099400" y="522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黑体"/>
                <a:ea typeface="黑体"/>
              </a:rPr>
              <a:t>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7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31147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qi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9"/>
          <p:cNvGrpSpPr/>
          <p:nvPr/>
        </p:nvGrpSpPr>
        <p:grpSpPr>
          <a:xfrm>
            <a:off x="3995640" y="1436760"/>
            <a:ext cx="3116520" cy="2322360"/>
            <a:chOff x="3995640" y="1436760"/>
            <a:chExt cx="3116520" cy="2322360"/>
          </a:xfrm>
        </p:grpSpPr>
        <p:sp>
          <p:nvSpPr>
            <p:cNvPr id="135" name="Freeform 6"/>
            <p:cNvSpPr/>
            <p:nvPr/>
          </p:nvSpPr>
          <p:spPr>
            <a:xfrm>
              <a:off x="3997440" y="1465200"/>
              <a:ext cx="2084400" cy="1962360"/>
            </a:xfrm>
            <a:custGeom>
              <a:avLst/>
              <a:gdLst/>
              <a:ahLst/>
              <a:rect l="l" t="t" r="r" b="b"/>
              <a:pathLst>
                <a:path w="1313" h="1236">
                  <a:moveTo>
                    <a:pt x="1313" y="0"/>
                  </a:moveTo>
                  <a:lnTo>
                    <a:pt x="0" y="1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6081840" y="1436760"/>
              <a:ext cx="1030320" cy="2322360"/>
            </a:xfrm>
            <a:custGeom>
              <a:avLst/>
              <a:gdLst/>
              <a:ahLst/>
              <a:rect l="l" t="t" r="r" b="b"/>
              <a:pathLst>
                <a:path w="649" h="1463">
                  <a:moveTo>
                    <a:pt x="0" y="0"/>
                  </a:moveTo>
                  <a:lnTo>
                    <a:pt x="649" y="14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95640" y="3429000"/>
              <a:ext cx="3097440" cy="287280"/>
              <a:chOff x="3995640" y="3429000"/>
              <a:chExt cx="3097440" cy="287280"/>
            </a:xfrm>
          </p:grpSpPr>
          <p:sp>
            <p:nvSpPr>
              <p:cNvPr id="138" name="Line 8"/>
              <p:cNvSpPr/>
              <p:nvPr/>
            </p:nvSpPr>
            <p:spPr>
              <a:xfrm>
                <a:off x="3995640" y="3429000"/>
                <a:ext cx="3097440" cy="287280"/>
              </a:xfrm>
              <a:prstGeom prst="line">
                <a:avLst/>
              </a:prstGeom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3995640" y="3429000"/>
                <a:ext cx="3097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9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114720" cy="35053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027"/>
          <p:cNvSpPr/>
          <p:nvPr/>
        </p:nvSpPr>
        <p:spPr>
          <a:xfrm>
            <a:off x="1763640" y="83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等腰三角形顶角的平分线平分底边并且垂直于底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33"/>
          <p:cNvSpPr/>
          <p:nvPr/>
        </p:nvSpPr>
        <p:spPr>
          <a:xfrm>
            <a:off x="108000" y="8366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35"/>
          <p:cNvSpPr/>
          <p:nvPr/>
        </p:nvSpPr>
        <p:spPr>
          <a:xfrm>
            <a:off x="1763640" y="29862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等腰三角形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三线合一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26"/>
          <p:cNvSpPr/>
          <p:nvPr/>
        </p:nvSpPr>
        <p:spPr>
          <a:xfrm>
            <a:off x="108000" y="1159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是真是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72"/>
          <p:cNvSpPr/>
          <p:nvPr/>
        </p:nvSpPr>
        <p:spPr>
          <a:xfrm>
            <a:off x="343080" y="2033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的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顶角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平分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底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上的中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底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上的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440" y="35654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</a:rPr>
              <a:t>性质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262673"/>
                </a:solidFill>
                <a:latin typeface="Arial"/>
              </a:rPr>
              <a:t>可分解成下面三个方面来理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029280" y="3068640"/>
            <a:ext cx="3114720" cy="3505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179280" y="189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等腰三角形的顶角的平分线，既是底边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线，又是底边上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395280" y="1197000"/>
            <a:ext cx="1069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</a:rPr>
              <a:t>应用格式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     ∠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C     AD⊥BC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等腰三角形三线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0" y="2492280"/>
            <a:ext cx="88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等腰三角形的底边上中线，既是底边上的高，又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顶角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79280" y="3573360"/>
            <a:ext cx="98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</a:rPr>
              <a:t>应用格式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      B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C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⊥BC     ∠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等腰三角形三线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324000" y="4508640"/>
            <a:ext cx="74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等腰三角形的底边上的高，既是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上的中线，又是顶角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250920" y="5626080"/>
            <a:ext cx="10333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73"/>
                </a:solidFill>
                <a:latin typeface="Arial"/>
              </a:rPr>
              <a:t>应用格式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      AD⊥BC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C     ∠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等腰三角形三线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28600" y="22860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6d9c"/>
                </a:solidFill>
                <a:latin typeface="Arial"/>
              </a:rPr>
              <a:t>画出任意一个等腰三角形的底角平分线、这个底角所对的腰上的中线和高，看看它们是否重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3"/>
          <p:cNvGrpSpPr/>
          <p:nvPr/>
        </p:nvGrpSpPr>
        <p:grpSpPr>
          <a:xfrm>
            <a:off x="4952880" y="533520"/>
            <a:ext cx="4038480" cy="5714640"/>
            <a:chOff x="4952880" y="533520"/>
            <a:chExt cx="4038480" cy="5714640"/>
          </a:xfrm>
        </p:grpSpPr>
        <p:sp>
          <p:nvSpPr>
            <p:cNvPr id="429" name="AutoShape 4"/>
            <p:cNvSpPr/>
            <p:nvPr/>
          </p:nvSpPr>
          <p:spPr>
            <a:xfrm>
              <a:off x="5403240" y="1183320"/>
              <a:ext cx="3154680" cy="482652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Object 5" descr=""/>
            <p:cNvPicPr/>
            <p:nvPr/>
          </p:nvPicPr>
          <p:blipFill>
            <a:blip r:embed="rId1"/>
            <a:stretch/>
          </p:blipFill>
          <p:spPr>
            <a:xfrm>
              <a:off x="6830640" y="533520"/>
              <a:ext cx="3578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Object 6" descr=""/>
            <p:cNvPicPr/>
            <p:nvPr/>
          </p:nvPicPr>
          <p:blipFill>
            <a:blip r:embed="rId2"/>
            <a:stretch/>
          </p:blipFill>
          <p:spPr>
            <a:xfrm>
              <a:off x="4952880" y="5731560"/>
              <a:ext cx="3582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Object 7" descr=""/>
            <p:cNvPicPr/>
            <p:nvPr/>
          </p:nvPicPr>
          <p:blipFill>
            <a:blip r:embed="rId3"/>
            <a:stretch/>
          </p:blipFill>
          <p:spPr>
            <a:xfrm>
              <a:off x="8633520" y="5731560"/>
              <a:ext cx="357840" cy="51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8"/>
          <p:cNvGrpSpPr/>
          <p:nvPr/>
        </p:nvGrpSpPr>
        <p:grpSpPr>
          <a:xfrm>
            <a:off x="5409720" y="3809880"/>
            <a:ext cx="2919600" cy="2209320"/>
            <a:chOff x="5409720" y="3809880"/>
            <a:chExt cx="2919600" cy="2209320"/>
          </a:xfrm>
        </p:grpSpPr>
        <p:grpSp>
          <p:nvGrpSpPr>
            <p:cNvPr id="434" name="Group 9"/>
            <p:cNvGrpSpPr/>
            <p:nvPr/>
          </p:nvGrpSpPr>
          <p:grpSpPr>
            <a:xfrm>
              <a:off x="5409720" y="4188960"/>
              <a:ext cx="2591280" cy="1830240"/>
              <a:chOff x="5409720" y="4188960"/>
              <a:chExt cx="2591280" cy="183024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5409720" y="4188960"/>
                <a:ext cx="2591280" cy="1830240"/>
                <a:chOff x="5409720" y="4188960"/>
                <a:chExt cx="2591280" cy="1830240"/>
              </a:xfrm>
            </p:grpSpPr>
            <p:sp>
              <p:nvSpPr>
                <p:cNvPr id="436" name="Line 10"/>
                <p:cNvSpPr/>
                <p:nvPr/>
              </p:nvSpPr>
              <p:spPr>
                <a:xfrm flipV="1">
                  <a:off x="5410080" y="4188960"/>
                  <a:ext cx="2590920" cy="183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 rot="10800000">
                  <a:off x="5409720" y="4188960"/>
                  <a:ext cx="259092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638680" y="5520240"/>
                <a:ext cx="76320" cy="82800"/>
                <a:chOff x="5638680" y="5520240"/>
                <a:chExt cx="76320" cy="82800"/>
              </a:xfrm>
            </p:grpSpPr>
            <p:sp>
              <p:nvSpPr>
                <p:cNvPr id="439" name="Line 11"/>
                <p:cNvSpPr/>
                <p:nvPr/>
              </p:nvSpPr>
              <p:spPr>
                <a:xfrm>
                  <a:off x="5638680" y="5520240"/>
                  <a:ext cx="76320" cy="8280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5638680" y="5520240"/>
                  <a:ext cx="76320" cy="8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867280" y="5769720"/>
                <a:ext cx="76320" cy="82800"/>
                <a:chOff x="5867280" y="5769720"/>
                <a:chExt cx="76320" cy="82800"/>
              </a:xfrm>
            </p:grpSpPr>
            <p:sp>
              <p:nvSpPr>
                <p:cNvPr id="442" name="Line 12"/>
                <p:cNvSpPr/>
                <p:nvPr/>
              </p:nvSpPr>
              <p:spPr>
                <a:xfrm>
                  <a:off x="5867280" y="5769720"/>
                  <a:ext cx="76320" cy="8280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>
                  <a:off x="5867280" y="5769720"/>
                  <a:ext cx="76320" cy="8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4" name="Object 13" descr=""/>
            <p:cNvPicPr/>
            <p:nvPr/>
          </p:nvPicPr>
          <p:blipFill>
            <a:blip r:embed="rId4"/>
            <a:stretch/>
          </p:blipFill>
          <p:spPr>
            <a:xfrm>
              <a:off x="7950240" y="3809880"/>
              <a:ext cx="379080" cy="42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14"/>
          <p:cNvGrpSpPr/>
          <p:nvPr/>
        </p:nvGrpSpPr>
        <p:grpSpPr>
          <a:xfrm>
            <a:off x="5410080" y="3352680"/>
            <a:ext cx="2879640" cy="2666520"/>
            <a:chOff x="5410080" y="3352680"/>
            <a:chExt cx="2879640" cy="2666520"/>
          </a:xfrm>
        </p:grpSpPr>
        <p:grpSp>
          <p:nvGrpSpPr>
            <p:cNvPr id="446" name=""/>
            <p:cNvGrpSpPr/>
            <p:nvPr/>
          </p:nvGrpSpPr>
          <p:grpSpPr>
            <a:xfrm>
              <a:off x="5410080" y="3657240"/>
              <a:ext cx="2362320" cy="2361960"/>
              <a:chOff x="5410080" y="3657240"/>
              <a:chExt cx="2362320" cy="2361960"/>
            </a:xfrm>
          </p:grpSpPr>
          <p:sp>
            <p:nvSpPr>
              <p:cNvPr id="447" name="Line 15"/>
              <p:cNvSpPr/>
              <p:nvPr/>
            </p:nvSpPr>
            <p:spPr>
              <a:xfrm flipV="1">
                <a:off x="5410080" y="3657240"/>
                <a:ext cx="2362320" cy="2361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 rot="10800000">
                <a:off x="5410080" y="3657240"/>
                <a:ext cx="2362320" cy="236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9" name="Object 16" descr=""/>
            <p:cNvPicPr/>
            <p:nvPr/>
          </p:nvPicPr>
          <p:blipFill>
            <a:blip r:embed="rId5"/>
            <a:stretch/>
          </p:blipFill>
          <p:spPr>
            <a:xfrm>
              <a:off x="7926120" y="3352680"/>
              <a:ext cx="36360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17"/>
          <p:cNvGrpSpPr/>
          <p:nvPr/>
        </p:nvGrpSpPr>
        <p:grpSpPr>
          <a:xfrm>
            <a:off x="5486400" y="4648320"/>
            <a:ext cx="3276720" cy="1307160"/>
            <a:chOff x="5486400" y="4648320"/>
            <a:chExt cx="3276720" cy="1307160"/>
          </a:xfrm>
        </p:grpSpPr>
        <p:grpSp>
          <p:nvGrpSpPr>
            <p:cNvPr id="451" name=""/>
            <p:cNvGrpSpPr/>
            <p:nvPr/>
          </p:nvGrpSpPr>
          <p:grpSpPr>
            <a:xfrm>
              <a:off x="5486400" y="4888800"/>
              <a:ext cx="2819520" cy="1066680"/>
              <a:chOff x="5486400" y="4888800"/>
              <a:chExt cx="2819520" cy="1066680"/>
            </a:xfrm>
          </p:grpSpPr>
          <p:sp>
            <p:nvSpPr>
              <p:cNvPr id="452" name="Line 18"/>
              <p:cNvSpPr/>
              <p:nvPr/>
            </p:nvSpPr>
            <p:spPr>
              <a:xfrm flipV="1">
                <a:off x="5486400" y="4888800"/>
                <a:ext cx="2819520" cy="1066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 rot="10800000">
                <a:off x="5486400" y="4888800"/>
                <a:ext cx="281952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4" name="Object 19" descr=""/>
            <p:cNvPicPr/>
            <p:nvPr/>
          </p:nvPicPr>
          <p:blipFill>
            <a:blip r:embed="rId6"/>
            <a:stretch/>
          </p:blipFill>
          <p:spPr>
            <a:xfrm>
              <a:off x="8369280" y="4648320"/>
              <a:ext cx="393840" cy="39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20"/>
          <p:cNvGrpSpPr/>
          <p:nvPr/>
        </p:nvGrpSpPr>
        <p:grpSpPr>
          <a:xfrm>
            <a:off x="685800" y="5105520"/>
            <a:ext cx="3581280" cy="1371600"/>
            <a:chOff x="685800" y="5105520"/>
            <a:chExt cx="3581280" cy="1371600"/>
          </a:xfrm>
        </p:grpSpPr>
        <p:sp>
          <p:nvSpPr>
            <p:cNvPr id="456" name="WordArt 21"/>
            <p:cNvSpPr txBox="1"/>
            <p:nvPr/>
          </p:nvSpPr>
          <p:spPr>
            <a:xfrm>
              <a:off x="2190600" y="5562720"/>
              <a:ext cx="2076480" cy="504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不重合！</a:t>
              </a:r>
              <a:endPara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457" name="Picture 22" descr="Osx40"/>
            <p:cNvPicPr/>
            <p:nvPr/>
          </p:nvPicPr>
          <p:blipFill>
            <a:blip r:embed="rId7"/>
            <a:stretch/>
          </p:blipFill>
          <p:spPr>
            <a:xfrm>
              <a:off x="685800" y="5105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Rectangle 23"/>
          <p:cNvSpPr/>
          <p:nvPr/>
        </p:nvSpPr>
        <p:spPr>
          <a:xfrm>
            <a:off x="0" y="0"/>
            <a:ext cx="441972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4"/>
          <p:cNvGrpSpPr/>
          <p:nvPr/>
        </p:nvGrpSpPr>
        <p:grpSpPr>
          <a:xfrm>
            <a:off x="304920" y="0"/>
            <a:ext cx="4876200" cy="4800240"/>
            <a:chOff x="304920" y="0"/>
            <a:chExt cx="4876200" cy="4800240"/>
          </a:xfrm>
        </p:grpSpPr>
        <p:grpSp>
          <p:nvGrpSpPr>
            <p:cNvPr id="460" name="Group 25"/>
            <p:cNvGrpSpPr/>
            <p:nvPr/>
          </p:nvGrpSpPr>
          <p:grpSpPr>
            <a:xfrm>
              <a:off x="304920" y="0"/>
              <a:ext cx="3733200" cy="4800240"/>
              <a:chOff x="304920" y="0"/>
              <a:chExt cx="3733200" cy="4800240"/>
            </a:xfrm>
          </p:grpSpPr>
          <p:sp>
            <p:nvSpPr>
              <p:cNvPr id="461" name="AutoShape 26"/>
              <p:cNvSpPr/>
              <p:nvPr/>
            </p:nvSpPr>
            <p:spPr>
              <a:xfrm>
                <a:off x="869040" y="714960"/>
                <a:ext cx="2632680" cy="3370320"/>
              </a:xfrm>
              <a:prstGeom prst="triangle">
                <a:avLst>
                  <a:gd name="adj" fmla="val 50000"/>
                </a:avLst>
              </a:prstGeom>
              <a:solidFill>
                <a:srgbClr val="eaeaea">
                  <a:alpha val="4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2185200" y="714960"/>
                <a:ext cx="360" cy="3370320"/>
                <a:chOff x="2185200" y="714960"/>
                <a:chExt cx="360" cy="3370320"/>
              </a:xfrm>
            </p:grpSpPr>
            <p:sp>
              <p:nvSpPr>
                <p:cNvPr id="463" name="Line 27"/>
                <p:cNvSpPr/>
                <p:nvPr/>
              </p:nvSpPr>
              <p:spPr>
                <a:xfrm>
                  <a:off x="2185200" y="714960"/>
                  <a:ext cx="0" cy="337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 txBox="1"/>
                <p:nvPr/>
              </p:nvSpPr>
              <p:spPr>
                <a:xfrm>
                  <a:off x="2185200" y="714960"/>
                  <a:ext cx="360" cy="33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5" name="Object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7280" y="0"/>
                <a:ext cx="536400" cy="62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Object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920" y="3677040"/>
                <a:ext cx="536400" cy="62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Object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01720" y="3653280"/>
                <a:ext cx="536400" cy="67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8" name=""/>
              <p:cNvGrpSpPr/>
              <p:nvPr/>
            </p:nvGrpSpPr>
            <p:grpSpPr>
              <a:xfrm>
                <a:off x="1436400" y="2324880"/>
                <a:ext cx="181080" cy="48960"/>
                <a:chOff x="1436400" y="2324880"/>
                <a:chExt cx="181080" cy="48960"/>
              </a:xfrm>
            </p:grpSpPr>
            <p:sp>
              <p:nvSpPr>
                <p:cNvPr id="469" name="Line 31"/>
                <p:cNvSpPr/>
                <p:nvPr/>
              </p:nvSpPr>
              <p:spPr>
                <a:xfrm>
                  <a:off x="1436400" y="2324880"/>
                  <a:ext cx="181080" cy="4860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 txBox="1"/>
                <p:nvPr/>
              </p:nvSpPr>
              <p:spPr>
                <a:xfrm rot="900000">
                  <a:off x="1432800" y="2349000"/>
                  <a:ext cx="18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752560" y="2324520"/>
                <a:ext cx="181800" cy="49320"/>
                <a:chOff x="2752560" y="2324520"/>
                <a:chExt cx="181800" cy="49320"/>
              </a:xfrm>
            </p:grpSpPr>
            <p:sp>
              <p:nvSpPr>
                <p:cNvPr id="472" name="Line 32"/>
                <p:cNvSpPr/>
                <p:nvPr/>
              </p:nvSpPr>
              <p:spPr>
                <a:xfrm flipV="1">
                  <a:off x="2752560" y="2324520"/>
                  <a:ext cx="181800" cy="489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 txBox="1"/>
                <p:nvPr/>
              </p:nvSpPr>
              <p:spPr>
                <a:xfrm rot="20700000">
                  <a:off x="2749320" y="2349000"/>
                  <a:ext cx="188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74" name="Object 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09080" y="4170600"/>
                <a:ext cx="581400" cy="62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5" name="WordArt 34"/>
            <p:cNvSpPr txBox="1"/>
            <p:nvPr/>
          </p:nvSpPr>
          <p:spPr>
            <a:xfrm>
              <a:off x="2895480" y="885960"/>
              <a:ext cx="2285640" cy="561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solidFill>
                    <a:srgbClr val="9933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三线合一</a:t>
              </a:r>
              <a:endParaRPr b="0" lang="en-US" sz="44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361600" y="1523880"/>
              <a:ext cx="1447920" cy="1371600"/>
              <a:chOff x="2361600" y="1523880"/>
              <a:chExt cx="1447920" cy="1371600"/>
            </a:xfrm>
          </p:grpSpPr>
          <p:sp>
            <p:nvSpPr>
              <p:cNvPr id="477" name="Line 35"/>
              <p:cNvSpPr/>
              <p:nvPr/>
            </p:nvSpPr>
            <p:spPr>
              <a:xfrm flipH="1">
                <a:off x="2361600" y="1523880"/>
                <a:ext cx="1447560" cy="137160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2361960" y="1523880"/>
                <a:ext cx="14475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Rectangle 36"/>
          <p:cNvSpPr/>
          <p:nvPr/>
        </p:nvSpPr>
        <p:spPr>
          <a:xfrm>
            <a:off x="76320" y="4876920"/>
            <a:ext cx="464796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7"/>
          <p:cNvSpPr/>
          <p:nvPr/>
        </p:nvSpPr>
        <p:spPr>
          <a:xfrm>
            <a:off x="0" y="49528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线合一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”应该对应等腰三角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角平分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中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WordArt 38"/>
          <p:cNvSpPr txBox="1"/>
          <p:nvPr/>
        </p:nvSpPr>
        <p:spPr>
          <a:xfrm>
            <a:off x="3238560" y="2381400"/>
            <a:ext cx="3009960" cy="514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为什么不一样</a:t>
            </a:r>
            <a:r>
              <a:rPr b="0" lang="en-US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0520" y="3124080"/>
            <a:ext cx="923760" cy="1600200"/>
            <a:chOff x="3800520" y="3124080"/>
            <a:chExt cx="923760" cy="1600200"/>
          </a:xfrm>
        </p:grpSpPr>
        <p:sp>
          <p:nvSpPr>
            <p:cNvPr id="483" name="Line 39"/>
            <p:cNvSpPr/>
            <p:nvPr/>
          </p:nvSpPr>
          <p:spPr>
            <a:xfrm flipH="1">
              <a:off x="3800520" y="3124080"/>
              <a:ext cx="923760" cy="1600200"/>
            </a:xfrm>
            <a:prstGeom prst="line">
              <a:avLst/>
            </a:prstGeom>
            <a:ln w="38160">
              <a:solidFill>
                <a:srgbClr val="00808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800520" y="3124080"/>
              <a:ext cx="9237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44"/>
          <p:cNvGrpSpPr/>
          <p:nvPr/>
        </p:nvGrpSpPr>
        <p:grpSpPr>
          <a:xfrm>
            <a:off x="7924320" y="4724280"/>
            <a:ext cx="228960" cy="304920"/>
            <a:chOff x="7924320" y="4724280"/>
            <a:chExt cx="228960" cy="304920"/>
          </a:xfrm>
        </p:grpSpPr>
        <p:grpSp>
          <p:nvGrpSpPr>
            <p:cNvPr id="486" name=""/>
            <p:cNvGrpSpPr/>
            <p:nvPr/>
          </p:nvGrpSpPr>
          <p:grpSpPr>
            <a:xfrm>
              <a:off x="7924680" y="4800600"/>
              <a:ext cx="76320" cy="228600"/>
              <a:chOff x="7924680" y="4800600"/>
              <a:chExt cx="76320" cy="228600"/>
            </a:xfrm>
          </p:grpSpPr>
          <p:sp>
            <p:nvSpPr>
              <p:cNvPr id="487" name="Line 42"/>
              <p:cNvSpPr/>
              <p:nvPr/>
            </p:nvSpPr>
            <p:spPr>
              <a:xfrm>
                <a:off x="7924680" y="480060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7924680" y="480060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924320" y="4724280"/>
              <a:ext cx="228960" cy="76320"/>
              <a:chOff x="7924320" y="4724280"/>
              <a:chExt cx="228960" cy="76320"/>
            </a:xfrm>
          </p:grpSpPr>
          <p:sp>
            <p:nvSpPr>
              <p:cNvPr id="490" name="Line 43"/>
              <p:cNvSpPr/>
              <p:nvPr/>
            </p:nvSpPr>
            <p:spPr>
              <a:xfrm flipV="1">
                <a:off x="7924680" y="4724280"/>
                <a:ext cx="228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 rot="10800000">
                <a:off x="7924320" y="4724280"/>
                <a:ext cx="22860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plit dir="out" orient="ver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"/>
                            </p:stCondLst>
                            <p:childTnLst>
                              <p:par>
                                <p:cTn id="7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1"/>
                            </p:stCondLst>
                            <p:childTnLst>
                              <p:par>
                                <p:cTn id="75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的顶角一定是锐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的底角可能是锐角或者直角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钝角都可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的顶角平分线一定垂直底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的角平分线、中线和高互相重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底边上的中线一定平分顶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7812000" y="1413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812000" y="2492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7812000" y="3213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7812000" y="4292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7812000" y="50292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WordArt 12"/>
          <p:cNvSpPr txBox="1"/>
          <p:nvPr/>
        </p:nvSpPr>
        <p:spPr>
          <a:xfrm>
            <a:off x="457200" y="228600"/>
            <a:ext cx="289548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63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辨是非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3029040" cy="4457520"/>
          </a:xfrm>
          <a:prstGeom prst="rect">
            <a:avLst/>
          </a:prstGeom>
          <a:ln w="0">
            <a:noFill/>
          </a:ln>
        </p:spPr>
      </p:pic>
      <p:sp>
        <p:nvSpPr>
          <p:cNvPr id="500" name="矩形 28"/>
          <p:cNvSpPr/>
          <p:nvPr/>
        </p:nvSpPr>
        <p:spPr>
          <a:xfrm>
            <a:off x="32400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如图，在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 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B=A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点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上，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D=BC=AD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求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各角的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1"/>
          <p:cNvSpPr/>
          <p:nvPr/>
        </p:nvSpPr>
        <p:spPr>
          <a:xfrm>
            <a:off x="6300720" y="4797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32"/>
          <p:cNvSpPr/>
          <p:nvPr/>
        </p:nvSpPr>
        <p:spPr>
          <a:xfrm>
            <a:off x="7093080" y="2276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4"/>
          <p:cNvSpPr/>
          <p:nvPr/>
        </p:nvSpPr>
        <p:spPr>
          <a:xfrm>
            <a:off x="6588000" y="45086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2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5"/>
          <p:cNvSpPr/>
          <p:nvPr/>
        </p:nvSpPr>
        <p:spPr>
          <a:xfrm>
            <a:off x="7380360" y="501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36"/>
          <p:cNvSpPr/>
          <p:nvPr/>
        </p:nvSpPr>
        <p:spPr>
          <a:xfrm>
            <a:off x="7451640" y="443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95280" y="2060640"/>
            <a:ext cx="7848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D=BC=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C=∠B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ABD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对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x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C= ∠A+ ∠ABD=2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而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= ∠C= ∠BDC=2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+∠ABC+∠C=x+2x+2x=18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36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36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∠C=7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8199"/>
          <p:cNvSpPr/>
          <p:nvPr/>
        </p:nvSpPr>
        <p:spPr>
          <a:xfrm>
            <a:off x="2482920" y="155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5"/>
          <p:cNvSpPr/>
          <p:nvPr/>
        </p:nvSpPr>
        <p:spPr>
          <a:xfrm>
            <a:off x="152280" y="1219320"/>
            <a:ext cx="8991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如图，在</a:t>
            </a:r>
            <a:r>
              <a:rPr b="0" i="1" lang="zh-CN" sz="3600" spc="-1" strike="noStrike">
                <a:solidFill>
                  <a:srgbClr val="009999"/>
                </a:solidFill>
                <a:latin typeface="Times New Roman"/>
              </a:rPr>
              <a:t>△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ABC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中，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09999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9999"/>
                </a:solidFill>
                <a:latin typeface="Times New Roman"/>
              </a:rPr>
              <a:t>是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9999"/>
                </a:solidFill>
                <a:latin typeface="Times New Roman"/>
              </a:rPr>
              <a:t>边上的中点</a:t>
            </a:r>
            <a:r>
              <a:rPr b="0" i="1" lang="zh-CN" sz="3600" spc="-1" strike="noStrike">
                <a:solidFill>
                  <a:srgbClr val="009999"/>
                </a:solidFill>
                <a:latin typeface="Times New Roman"/>
              </a:rPr>
              <a:t>，∠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B=30</a:t>
            </a:r>
            <a:r>
              <a:rPr b="1" i="1" lang="zh-CN" sz="4000" spc="-1" strike="noStrike" baseline="50000">
                <a:solidFill>
                  <a:srgbClr val="00999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求</a:t>
            </a:r>
            <a:r>
              <a:rPr b="0" i="1" lang="zh-CN" sz="3600" spc="-1" strike="noStrike">
                <a:solidFill>
                  <a:srgbClr val="009999"/>
                </a:solidFill>
                <a:latin typeface="Times New Roman"/>
              </a:rPr>
              <a:t>∠１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和</a:t>
            </a:r>
            <a:r>
              <a:rPr b="0" i="1" lang="zh-CN" sz="3600" spc="-1" strike="noStrike">
                <a:solidFill>
                  <a:srgbClr val="009999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ADC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的度数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510" name="WordArt 7"/>
          <p:cNvSpPr txBox="1"/>
          <p:nvPr/>
        </p:nvSpPr>
        <p:spPr>
          <a:xfrm>
            <a:off x="152280" y="243828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0" y="2895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边上的中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3352680" y="3687840"/>
            <a:ext cx="30481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0" y="4495680"/>
            <a:ext cx="792468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Object 11" descr=""/>
          <p:cNvPicPr/>
          <p:nvPr/>
        </p:nvPicPr>
        <p:blipFill>
          <a:blip r:embed="rId2"/>
          <a:stretch/>
        </p:blipFill>
        <p:spPr>
          <a:xfrm>
            <a:off x="152280" y="5257800"/>
            <a:ext cx="2897280" cy="5112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2"/>
          <p:cNvGrpSpPr/>
          <p:nvPr/>
        </p:nvGrpSpPr>
        <p:grpSpPr>
          <a:xfrm>
            <a:off x="3581280" y="4419720"/>
            <a:ext cx="5532480" cy="2504520"/>
            <a:chOff x="3581280" y="4419720"/>
            <a:chExt cx="5532480" cy="2504520"/>
          </a:xfrm>
        </p:grpSpPr>
        <p:grpSp>
          <p:nvGrpSpPr>
            <p:cNvPr id="516" name="Group 13"/>
            <p:cNvGrpSpPr/>
            <p:nvPr/>
          </p:nvGrpSpPr>
          <p:grpSpPr>
            <a:xfrm>
              <a:off x="3581280" y="4419720"/>
              <a:ext cx="5532480" cy="2504520"/>
              <a:chOff x="3581280" y="4419720"/>
              <a:chExt cx="5532480" cy="2504520"/>
            </a:xfrm>
          </p:grpSpPr>
          <p:sp>
            <p:nvSpPr>
              <p:cNvPr id="517" name="AutoShape 14"/>
              <p:cNvSpPr/>
              <p:nvPr/>
            </p:nvSpPr>
            <p:spPr>
              <a:xfrm>
                <a:off x="3886200" y="4813200"/>
                <a:ext cx="4876560" cy="144720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6324480" y="4813200"/>
                <a:ext cx="360" cy="1447200"/>
                <a:chOff x="6324480" y="4813200"/>
                <a:chExt cx="360" cy="1447200"/>
              </a:xfrm>
            </p:grpSpPr>
            <p:sp>
              <p:nvSpPr>
                <p:cNvPr id="519" name="Line 15"/>
                <p:cNvSpPr/>
                <p:nvPr/>
              </p:nvSpPr>
              <p:spPr>
                <a:xfrm>
                  <a:off x="6324480" y="4813200"/>
                  <a:ext cx="0" cy="144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>
                  <a:off x="6324480" y="4813200"/>
                  <a:ext cx="360" cy="14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1" name="Object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507000" y="4419720"/>
                <a:ext cx="503280" cy="54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Object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6337080"/>
                <a:ext cx="503280" cy="54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Object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0480" y="6337080"/>
                <a:ext cx="50328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075360" y="6337080"/>
                <a:ext cx="544320" cy="54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5954760" y="4965480"/>
                <a:ext cx="293400" cy="54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386400" y="4944960"/>
                <a:ext cx="377640" cy="58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7" name=""/>
            <p:cNvGrpSpPr/>
            <p:nvPr/>
          </p:nvGrpSpPr>
          <p:grpSpPr>
            <a:xfrm>
              <a:off x="5181480" y="5333760"/>
              <a:ext cx="152280" cy="151920"/>
              <a:chOff x="5181480" y="5333760"/>
              <a:chExt cx="152280" cy="151920"/>
            </a:xfrm>
          </p:grpSpPr>
          <p:sp>
            <p:nvSpPr>
              <p:cNvPr id="528" name="Line 22"/>
              <p:cNvSpPr/>
              <p:nvPr/>
            </p:nvSpPr>
            <p:spPr>
              <a:xfrm>
                <a:off x="5181480" y="5333760"/>
                <a:ext cx="152280" cy="15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5181480" y="533376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7314840" y="5333760"/>
              <a:ext cx="152640" cy="151920"/>
              <a:chOff x="7314840" y="5333760"/>
              <a:chExt cx="152640" cy="151920"/>
            </a:xfrm>
          </p:grpSpPr>
          <p:sp>
            <p:nvSpPr>
              <p:cNvPr id="531" name="Line 23"/>
              <p:cNvSpPr/>
              <p:nvPr/>
            </p:nvSpPr>
            <p:spPr>
              <a:xfrm flipH="1">
                <a:off x="7314840" y="5333760"/>
                <a:ext cx="152280" cy="15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7315200" y="533376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3" name="Object 24" descr=""/>
          <p:cNvPicPr/>
          <p:nvPr/>
        </p:nvPicPr>
        <p:blipFill>
          <a:blip r:embed="rId9"/>
          <a:stretch/>
        </p:blipFill>
        <p:spPr>
          <a:xfrm>
            <a:off x="82440" y="3548160"/>
            <a:ext cx="2873520" cy="976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5"/>
          <p:cNvSpPr/>
          <p:nvPr/>
        </p:nvSpPr>
        <p:spPr>
          <a:xfrm>
            <a:off x="5638680" y="3625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三线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380880" y="7542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09480" y="457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162160" y="1186920"/>
            <a:ext cx="55310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2124000" y="1844640"/>
            <a:ext cx="65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底角相等，简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边对等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>
            <a:hlinkClick r:id="rId1"/>
          </p:cNvPr>
          <p:cNvSpPr/>
          <p:nvPr/>
        </p:nvSpPr>
        <p:spPr>
          <a:xfrm>
            <a:off x="3541320" y="2708280"/>
            <a:ext cx="423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顶角平分线、底边上的中线、和底边上的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互相重合，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简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线合 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5"/>
          <p:cNvSpPr txBox="1"/>
          <p:nvPr/>
        </p:nvSpPr>
        <p:spPr>
          <a:xfrm rot="5400000">
            <a:off x="-457200" y="3298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等腰三角形</a:t>
            </a:r>
            <a:endParaRPr b="0" lang="en-US" sz="1800" spc="1" strike="noStrike">
              <a:ln w="12600">
                <a:solidFill>
                  <a:srgbClr val="8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41" name="Group 6"/>
          <p:cNvGrpSpPr/>
          <p:nvPr/>
        </p:nvGrpSpPr>
        <p:grpSpPr>
          <a:xfrm>
            <a:off x="1378080" y="1411200"/>
            <a:ext cx="710640" cy="4125600"/>
            <a:chOff x="1378080" y="1411200"/>
            <a:chExt cx="710640" cy="4125600"/>
          </a:xfrm>
        </p:grpSpPr>
        <p:grpSp>
          <p:nvGrpSpPr>
            <p:cNvPr id="542" name=""/>
            <p:cNvGrpSpPr/>
            <p:nvPr/>
          </p:nvGrpSpPr>
          <p:grpSpPr>
            <a:xfrm>
              <a:off x="1378080" y="1511280"/>
              <a:ext cx="360" cy="3924720"/>
              <a:chOff x="1378080" y="1511280"/>
              <a:chExt cx="360" cy="3924720"/>
            </a:xfrm>
          </p:grpSpPr>
          <p:sp>
            <p:nvSpPr>
              <p:cNvPr id="543" name="Line 7"/>
              <p:cNvSpPr/>
              <p:nvPr/>
            </p:nvSpPr>
            <p:spPr>
              <a:xfrm>
                <a:off x="1378080" y="1511280"/>
                <a:ext cx="0" cy="3924720"/>
              </a:xfrm>
              <a:prstGeom prst="line">
                <a:avLst/>
              </a:prstGeom>
              <a:ln w="1015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1378080" y="1511280"/>
                <a:ext cx="360" cy="392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AutoShape 8"/>
            <p:cNvSpPr/>
            <p:nvPr/>
          </p:nvSpPr>
          <p:spPr>
            <a:xfrm>
              <a:off x="1378080" y="5235120"/>
              <a:ext cx="685440" cy="301680"/>
            </a:xfrm>
            <a:prstGeom prst="rightArrow">
              <a:avLst>
                <a:gd name="adj1" fmla="val 50000"/>
                <a:gd name="adj2" fmla="val 56802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9"/>
            <p:cNvSpPr/>
            <p:nvPr/>
          </p:nvSpPr>
          <p:spPr>
            <a:xfrm>
              <a:off x="1403280" y="1987200"/>
              <a:ext cx="685440" cy="301680"/>
            </a:xfrm>
            <a:prstGeom prst="rightArrow">
              <a:avLst>
                <a:gd name="adj1" fmla="val 50000"/>
                <a:gd name="adj2" fmla="val 56802"/>
              </a:avLst>
            </a:prstGeom>
            <a:solidFill>
              <a:srgbClr val="33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0"/>
            <p:cNvSpPr/>
            <p:nvPr/>
          </p:nvSpPr>
          <p:spPr>
            <a:xfrm>
              <a:off x="1378080" y="1411200"/>
              <a:ext cx="685440" cy="301680"/>
            </a:xfrm>
            <a:prstGeom prst="rightArrow">
              <a:avLst>
                <a:gd name="adj1" fmla="val 50000"/>
                <a:gd name="adj2" fmla="val 56802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WordArt 12"/>
          <p:cNvSpPr txBox="1"/>
          <p:nvPr/>
        </p:nvSpPr>
        <p:spPr>
          <a:xfrm>
            <a:off x="3129120" y="301680"/>
            <a:ext cx="3187440" cy="662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efe17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   结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efe17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1403280" y="2997360"/>
            <a:ext cx="685800" cy="301320"/>
          </a:xfrm>
          <a:prstGeom prst="rightArrow">
            <a:avLst>
              <a:gd name="adj1" fmla="val 50000"/>
              <a:gd name="adj2" fmla="val 75128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1619280" y="489276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的数学思想及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讨论和一题多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1403280" y="4076640"/>
            <a:ext cx="685800" cy="301680"/>
          </a:xfrm>
          <a:prstGeom prst="rightArrow">
            <a:avLst>
              <a:gd name="adj1" fmla="val 50000"/>
              <a:gd name="adj2" fmla="val 75039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7"/>
          <p:cNvSpPr/>
          <p:nvPr/>
        </p:nvSpPr>
        <p:spPr>
          <a:xfrm>
            <a:off x="3376440" y="4076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解决等腰三角形问题时常用的辅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1FE-4679-4718-838E-45B9DC6246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jxtp0039"/>
          <p:cNvPicPr/>
          <p:nvPr/>
        </p:nvPicPr>
        <p:blipFill>
          <a:blip r:embed="rId1"/>
          <a:stretch/>
        </p:blipFill>
        <p:spPr>
          <a:xfrm>
            <a:off x="-1143000" y="-173160"/>
            <a:ext cx="10287000" cy="71233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539280" y="692280"/>
            <a:ext cx="2520000" cy="4249440"/>
            <a:chOff x="539280" y="692280"/>
            <a:chExt cx="2520000" cy="4249440"/>
          </a:xfrm>
        </p:grpSpPr>
        <p:sp>
          <p:nvSpPr>
            <p:cNvPr id="142" name="Line 9"/>
            <p:cNvSpPr/>
            <p:nvPr/>
          </p:nvSpPr>
          <p:spPr>
            <a:xfrm flipH="1">
              <a:off x="539280" y="692280"/>
              <a:ext cx="2519640" cy="4249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39640" y="692280"/>
              <a:ext cx="2519640" cy="42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59280" y="692280"/>
            <a:ext cx="4681440" cy="3744720"/>
            <a:chOff x="3059280" y="692280"/>
            <a:chExt cx="4681440" cy="3744720"/>
          </a:xfrm>
        </p:grpSpPr>
        <p:sp>
          <p:nvSpPr>
            <p:cNvPr id="145" name="Line 10"/>
            <p:cNvSpPr/>
            <p:nvPr/>
          </p:nvSpPr>
          <p:spPr>
            <a:xfrm>
              <a:off x="3059280" y="692280"/>
              <a:ext cx="4681440" cy="37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059280" y="692280"/>
              <a:ext cx="4681440" cy="37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9280" y="4437000"/>
            <a:ext cx="7201440" cy="504720"/>
            <a:chOff x="539280" y="4437000"/>
            <a:chExt cx="7201440" cy="504720"/>
          </a:xfrm>
        </p:grpSpPr>
        <p:sp>
          <p:nvSpPr>
            <p:cNvPr id="148" name="Line 11"/>
            <p:cNvSpPr/>
            <p:nvPr/>
          </p:nvSpPr>
          <p:spPr>
            <a:xfrm flipV="1">
              <a:off x="539640" y="4437000"/>
              <a:ext cx="7201080" cy="50472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 rot="10800000">
              <a:off x="539280" y="4436640"/>
              <a:ext cx="720108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jxtp0041"/>
          <p:cNvPicPr/>
          <p:nvPr/>
        </p:nvPicPr>
        <p:blipFill>
          <a:blip r:embed="rId1"/>
          <a:stretch/>
        </p:blipFill>
        <p:spPr>
          <a:xfrm>
            <a:off x="-1066680" y="0"/>
            <a:ext cx="10439280" cy="706104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627280" y="692280"/>
            <a:ext cx="2952720" cy="3960720"/>
            <a:chOff x="2627280" y="692280"/>
            <a:chExt cx="2952720" cy="3960720"/>
          </a:xfrm>
        </p:grpSpPr>
        <p:sp>
          <p:nvSpPr>
            <p:cNvPr id="152" name="Line 5"/>
            <p:cNvSpPr/>
            <p:nvPr/>
          </p:nvSpPr>
          <p:spPr>
            <a:xfrm flipH="1">
              <a:off x="2627280" y="692280"/>
              <a:ext cx="2952720" cy="396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627280" y="692280"/>
              <a:ext cx="295272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80000" y="692280"/>
            <a:ext cx="576360" cy="5041800"/>
            <a:chOff x="5580000" y="692280"/>
            <a:chExt cx="576360" cy="5041800"/>
          </a:xfrm>
        </p:grpSpPr>
        <p:sp>
          <p:nvSpPr>
            <p:cNvPr id="155" name="Line 6"/>
            <p:cNvSpPr/>
            <p:nvPr/>
          </p:nvSpPr>
          <p:spPr>
            <a:xfrm>
              <a:off x="5580000" y="692280"/>
              <a:ext cx="576360" cy="504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580000" y="692280"/>
              <a:ext cx="576360" cy="504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27280" y="4653000"/>
            <a:ext cx="3529080" cy="1081080"/>
            <a:chOff x="2627280" y="4653000"/>
            <a:chExt cx="3529080" cy="1081080"/>
          </a:xfrm>
        </p:grpSpPr>
        <p:sp>
          <p:nvSpPr>
            <p:cNvPr id="158" name="Line 7"/>
            <p:cNvSpPr/>
            <p:nvPr/>
          </p:nvSpPr>
          <p:spPr>
            <a:xfrm>
              <a:off x="2627280" y="4653000"/>
              <a:ext cx="3529080" cy="10810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27280" y="4653000"/>
              <a:ext cx="352908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tu-001-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Picture 3" descr="main3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70836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" descr="1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708360" y="0"/>
              <a:ext cx="5435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pyramids-7"/>
            <p:cNvPicPr/>
            <p:nvPr/>
          </p:nvPicPr>
          <p:blipFill>
            <a:blip r:embed="rId5"/>
            <a:stretch/>
          </p:blipFill>
          <p:spPr>
            <a:xfrm>
              <a:off x="0" y="2997360"/>
              <a:ext cx="3635280" cy="38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giza-2"/>
            <p:cNvPicPr/>
            <p:nvPr/>
          </p:nvPicPr>
          <p:blipFill>
            <a:blip r:embed="rId6"/>
            <a:stretch/>
          </p:blipFill>
          <p:spPr>
            <a:xfrm>
              <a:off x="3635280" y="2997360"/>
              <a:ext cx="5508720" cy="386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9" descr="旷野中的小屋"/>
          <p:cNvPicPr/>
          <p:nvPr/>
        </p:nvPicPr>
        <p:blipFill>
          <a:blip r:embed="rId7"/>
          <a:stretch/>
        </p:blipFill>
        <p:spPr>
          <a:xfrm>
            <a:off x="3635280" y="0"/>
            <a:ext cx="5508720" cy="2997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别墅"/>
          <p:cNvPicPr/>
          <p:nvPr/>
        </p:nvPicPr>
        <p:blipFill>
          <a:blip r:embed="rId8"/>
          <a:stretch/>
        </p:blipFill>
        <p:spPr>
          <a:xfrm>
            <a:off x="0" y="0"/>
            <a:ext cx="36352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1">
            <a:hlinkClick r:id="rId1" action="ppaction://hlinksldjump"/>
          </p:cNvPr>
          <p:cNvSpPr/>
          <p:nvPr/>
        </p:nvSpPr>
        <p:spPr>
          <a:xfrm>
            <a:off x="1619280" y="260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动手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剪纸"/>
          <p:cNvPicPr/>
          <p:nvPr/>
        </p:nvPicPr>
        <p:blipFill>
          <a:blip r:embed="rId2"/>
          <a:stretch/>
        </p:blipFill>
        <p:spPr>
          <a:xfrm>
            <a:off x="1619280" y="836640"/>
            <a:ext cx="4537080" cy="3651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1"/>
          <p:cNvSpPr/>
          <p:nvPr/>
        </p:nvSpPr>
        <p:spPr>
          <a:xfrm>
            <a:off x="1379520" y="4091040"/>
            <a:ext cx="961920" cy="180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79520" y="4992840"/>
            <a:ext cx="961920" cy="360"/>
            <a:chOff x="1379520" y="4992840"/>
            <a:chExt cx="961920" cy="360"/>
          </a:xfrm>
        </p:grpSpPr>
        <p:sp>
          <p:nvSpPr>
            <p:cNvPr id="172" name="Line 32"/>
            <p:cNvSpPr/>
            <p:nvPr/>
          </p:nvSpPr>
          <p:spPr>
            <a:xfrm>
              <a:off x="1379520" y="4992840"/>
              <a:ext cx="961920" cy="0"/>
            </a:xfrm>
            <a:prstGeom prst="line">
              <a:avLst/>
            </a:prstGeom>
            <a:ln w="9360">
              <a:solidFill>
                <a:srgbClr val="9933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379520" y="4992840"/>
              <a:ext cx="961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3"/>
          <p:cNvSpPr/>
          <p:nvPr/>
        </p:nvSpPr>
        <p:spPr>
          <a:xfrm>
            <a:off x="3909960" y="4989600"/>
            <a:ext cx="961920" cy="90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67280" y="5010120"/>
            <a:ext cx="792000" cy="720720"/>
            <a:chOff x="4067280" y="5010120"/>
            <a:chExt cx="792000" cy="720720"/>
          </a:xfrm>
        </p:grpSpPr>
        <p:sp>
          <p:nvSpPr>
            <p:cNvPr id="176" name="Line 34"/>
            <p:cNvSpPr/>
            <p:nvPr/>
          </p:nvSpPr>
          <p:spPr>
            <a:xfrm>
              <a:off x="4067280" y="5010120"/>
              <a:ext cx="792000" cy="720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067280" y="501012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5" descr="MCj02340680000[1]"/>
          <p:cNvPicPr/>
          <p:nvPr/>
        </p:nvPicPr>
        <p:blipFill>
          <a:blip r:embed="rId3"/>
          <a:stretch/>
        </p:blipFill>
        <p:spPr>
          <a:xfrm>
            <a:off x="4691160" y="5497560"/>
            <a:ext cx="842760" cy="1387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6"/>
          <p:cNvSpPr/>
          <p:nvPr/>
        </p:nvSpPr>
        <p:spPr>
          <a:xfrm>
            <a:off x="2738520" y="4894200"/>
            <a:ext cx="842760" cy="196920"/>
          </a:xfrm>
          <a:prstGeom prst="rightArrow">
            <a:avLst>
              <a:gd name="adj1" fmla="val 50000"/>
              <a:gd name="adj2" fmla="val 1069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7"/>
          <p:cNvSpPr/>
          <p:nvPr/>
        </p:nvSpPr>
        <p:spPr>
          <a:xfrm>
            <a:off x="5219640" y="4869000"/>
            <a:ext cx="817560" cy="183960"/>
          </a:xfrm>
          <a:prstGeom prst="rightArrow">
            <a:avLst>
              <a:gd name="adj1" fmla="val 50000"/>
              <a:gd name="adj2" fmla="val 111085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8"/>
          <p:cNvGrpSpPr/>
          <p:nvPr/>
        </p:nvGrpSpPr>
        <p:grpSpPr>
          <a:xfrm>
            <a:off x="6084720" y="3933720"/>
            <a:ext cx="1820520" cy="2130840"/>
            <a:chOff x="6084720" y="3933720"/>
            <a:chExt cx="1820520" cy="2130840"/>
          </a:xfrm>
        </p:grpSpPr>
        <p:grpSp>
          <p:nvGrpSpPr>
            <p:cNvPr id="182" name="Group 39"/>
            <p:cNvGrpSpPr/>
            <p:nvPr/>
          </p:nvGrpSpPr>
          <p:grpSpPr>
            <a:xfrm>
              <a:off x="6486480" y="4330800"/>
              <a:ext cx="1236600" cy="1263600"/>
              <a:chOff x="6486480" y="4330800"/>
              <a:chExt cx="1236600" cy="1263600"/>
            </a:xfrm>
          </p:grpSpPr>
          <p:sp>
            <p:nvSpPr>
              <p:cNvPr id="183" name="AutoShape 40"/>
              <p:cNvSpPr/>
              <p:nvPr/>
            </p:nvSpPr>
            <p:spPr>
              <a:xfrm rot="16200000">
                <a:off x="6472080" y="4344840"/>
                <a:ext cx="1263600" cy="12351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88280" y="4962600"/>
                <a:ext cx="1234800" cy="360"/>
                <a:chOff x="6488280" y="4962600"/>
                <a:chExt cx="1234800" cy="360"/>
              </a:xfrm>
            </p:grpSpPr>
            <p:sp>
              <p:nvSpPr>
                <p:cNvPr id="185" name="Line 41"/>
                <p:cNvSpPr/>
                <p:nvPr/>
              </p:nvSpPr>
              <p:spPr>
                <a:xfrm>
                  <a:off x="6488280" y="4962600"/>
                  <a:ext cx="12348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6488280" y="4962600"/>
                  <a:ext cx="1234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Text Box 42"/>
            <p:cNvSpPr/>
            <p:nvPr/>
          </p:nvSpPr>
          <p:spPr>
            <a:xfrm>
              <a:off x="6084720" y="4763880"/>
              <a:ext cx="4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7538760" y="3933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7540200" y="5665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46"/>
          <p:cNvSpPr/>
          <p:nvPr/>
        </p:nvSpPr>
        <p:spPr>
          <a:xfrm>
            <a:off x="6017040" y="27082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△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什么特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236000" y="3213000"/>
            <a:ext cx="72720" cy="1079640"/>
            <a:chOff x="7236000" y="3213000"/>
            <a:chExt cx="72720" cy="1079640"/>
          </a:xfrm>
        </p:grpSpPr>
        <p:sp>
          <p:nvSpPr>
            <p:cNvPr id="192" name="Line 47"/>
            <p:cNvSpPr/>
            <p:nvPr/>
          </p:nvSpPr>
          <p:spPr>
            <a:xfrm>
              <a:off x="7236000" y="3213000"/>
              <a:ext cx="72720" cy="107964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7236000" y="3213000"/>
              <a:ext cx="7272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48"/>
          <p:cNvSpPr/>
          <p:nvPr/>
        </p:nvSpPr>
        <p:spPr>
          <a:xfrm>
            <a:off x="6176160" y="2205000"/>
            <a:ext cx="485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看一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右箭头 22"/>
          <p:cNvSpPr/>
          <p:nvPr/>
        </p:nvSpPr>
        <p:spPr>
          <a:xfrm>
            <a:off x="6804000" y="1557360"/>
            <a:ext cx="1008000" cy="287280"/>
          </a:xfrm>
          <a:prstGeom prst="rightArrow">
            <a:avLst>
              <a:gd name="adj1" fmla="val 50000"/>
              <a:gd name="adj2" fmla="val 50114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68360" y="76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条边相等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的三角形叫做</a:t>
            </a: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等腰三角形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.</a:t>
            </a:r>
            <a:r>
              <a:rPr b="1" lang="en-US" sz="3600" spc="-1" strike="noStrike">
                <a:solidFill>
                  <a:srgbClr val="66ffff"/>
                </a:solidFill>
                <a:latin typeface="Tahoma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95280" y="4869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等腰三角形中，相等的两边都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另一边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边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两腰的夹角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顶角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腰和底边的夹角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角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2133720" y="1268280"/>
            <a:ext cx="3352680" cy="3202920"/>
            <a:chOff x="2133720" y="1268280"/>
            <a:chExt cx="3352680" cy="3202920"/>
          </a:xfrm>
        </p:grpSpPr>
        <p:sp>
          <p:nvSpPr>
            <p:cNvPr id="199" name="AutoShape 5"/>
            <p:cNvSpPr/>
            <p:nvPr/>
          </p:nvSpPr>
          <p:spPr>
            <a:xfrm>
              <a:off x="2590920" y="1725480"/>
              <a:ext cx="2438280" cy="2438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581640" y="1268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5105520" y="393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2133720" y="401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2590920" y="1725480"/>
            <a:ext cx="2438280" cy="2438640"/>
            <a:chOff x="2590920" y="1725480"/>
            <a:chExt cx="2438280" cy="2438640"/>
          </a:xfrm>
        </p:grpSpPr>
        <p:grpSp>
          <p:nvGrpSpPr>
            <p:cNvPr id="204" name=""/>
            <p:cNvGrpSpPr/>
            <p:nvPr/>
          </p:nvGrpSpPr>
          <p:grpSpPr>
            <a:xfrm>
              <a:off x="2590920" y="1725480"/>
              <a:ext cx="1218960" cy="2438640"/>
              <a:chOff x="2590920" y="1725480"/>
              <a:chExt cx="1218960" cy="2438640"/>
            </a:xfrm>
          </p:grpSpPr>
          <p:sp>
            <p:nvSpPr>
              <p:cNvPr id="205" name="Line 10"/>
              <p:cNvSpPr/>
              <p:nvPr/>
            </p:nvSpPr>
            <p:spPr>
              <a:xfrm flipH="1">
                <a:off x="2590920" y="1725480"/>
                <a:ext cx="121896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2590920" y="1725480"/>
                <a:ext cx="1218960" cy="243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809880" y="1725480"/>
              <a:ext cx="1219320" cy="2438640"/>
              <a:chOff x="3809880" y="1725480"/>
              <a:chExt cx="1219320" cy="2438640"/>
            </a:xfrm>
          </p:grpSpPr>
          <p:sp>
            <p:nvSpPr>
              <p:cNvPr id="208" name="Line 11"/>
              <p:cNvSpPr/>
              <p:nvPr/>
            </p:nvSpPr>
            <p:spPr>
              <a:xfrm>
                <a:off x="3809880" y="1725480"/>
                <a:ext cx="121932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3809880" y="1725480"/>
                <a:ext cx="1219320" cy="243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590920" y="4164120"/>
            <a:ext cx="2438280" cy="1440"/>
            <a:chOff x="2590920" y="4164120"/>
            <a:chExt cx="2438280" cy="1440"/>
          </a:xfrm>
        </p:grpSpPr>
        <p:sp>
          <p:nvSpPr>
            <p:cNvPr id="211" name="Line 12"/>
            <p:cNvSpPr/>
            <p:nvPr/>
          </p:nvSpPr>
          <p:spPr>
            <a:xfrm>
              <a:off x="2590920" y="4164120"/>
              <a:ext cx="2438280" cy="1440"/>
            </a:xfrm>
            <a:prstGeom prst="line">
              <a:avLst/>
            </a:prstGeom>
            <a:ln w="3816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2590920" y="4164120"/>
              <a:ext cx="2438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68360" y="2220840"/>
            <a:ext cx="3217680" cy="609480"/>
            <a:chOff x="2268360" y="2220840"/>
            <a:chExt cx="3217680" cy="609480"/>
          </a:xfrm>
        </p:grpSpPr>
        <p:sp>
          <p:nvSpPr>
            <p:cNvPr id="214" name="AutoShape 14"/>
            <p:cNvSpPr/>
            <p:nvPr/>
          </p:nvSpPr>
          <p:spPr>
            <a:xfrm>
              <a:off x="4743720" y="2220840"/>
              <a:ext cx="742320" cy="60948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505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5"/>
            <p:cNvSpPr/>
            <p:nvPr/>
          </p:nvSpPr>
          <p:spPr>
            <a:xfrm>
              <a:off x="2268360" y="2220840"/>
              <a:ext cx="742320" cy="60948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6"/>
          <p:cNvSpPr/>
          <p:nvPr/>
        </p:nvSpPr>
        <p:spPr>
          <a:xfrm>
            <a:off x="3780000" y="4365720"/>
            <a:ext cx="914400" cy="457200"/>
          </a:xfrm>
          <a:prstGeom prst="wedgeRoundRectCallout">
            <a:avLst>
              <a:gd name="adj1" fmla="val -43921"/>
              <a:gd name="adj2" fmla="val -83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隶书"/>
              </a:rPr>
              <a:t>底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3280320" y="1857240"/>
            <a:ext cx="790200" cy="782280"/>
            <a:chOff x="3280320" y="1857240"/>
            <a:chExt cx="790200" cy="782280"/>
          </a:xfrm>
        </p:grpSpPr>
        <p:sp>
          <p:nvSpPr>
            <p:cNvPr id="218" name="Arc 18"/>
            <p:cNvSpPr/>
            <p:nvPr/>
          </p:nvSpPr>
          <p:spPr>
            <a:xfrm rot="6028800">
              <a:off x="3757320" y="1846080"/>
              <a:ext cx="104400" cy="15228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3280320" y="1954080"/>
              <a:ext cx="79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20"/>
          <p:cNvGrpSpPr/>
          <p:nvPr/>
        </p:nvGrpSpPr>
        <p:grpSpPr>
          <a:xfrm>
            <a:off x="2743200" y="3782880"/>
            <a:ext cx="2239920" cy="396720"/>
            <a:chOff x="2743200" y="3782880"/>
            <a:chExt cx="2239920" cy="396720"/>
          </a:xfrm>
        </p:grpSpPr>
        <p:sp>
          <p:nvSpPr>
            <p:cNvPr id="221" name="Arc 21"/>
            <p:cNvSpPr/>
            <p:nvPr/>
          </p:nvSpPr>
          <p:spPr>
            <a:xfrm>
              <a:off x="2743200" y="3935160"/>
              <a:ext cx="76320" cy="244440"/>
            </a:xfrm>
            <a:custGeom>
              <a:avLst/>
              <a:gdLst/>
              <a:ahLst/>
              <a:rect l="l" t="t" r="r" b="b"/>
              <a:pathLst>
                <a:path fill="none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</a:path>
                <a:path stroke="0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22"/>
            <p:cNvSpPr/>
            <p:nvPr/>
          </p:nvSpPr>
          <p:spPr>
            <a:xfrm rot="13070400">
              <a:off x="4822560" y="3870000"/>
              <a:ext cx="75960" cy="301320"/>
            </a:xfrm>
            <a:custGeom>
              <a:avLst/>
              <a:gdLst/>
              <a:ahLst/>
              <a:rect l="l" t="t" r="r" b="b"/>
              <a:pathLst>
                <a:path fill="none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</a:path>
                <a:path stroke="0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4114800" y="3782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2743200" y="3797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28"/>
          <p:cNvSpPr txBox="1"/>
          <p:nvPr/>
        </p:nvSpPr>
        <p:spPr>
          <a:xfrm>
            <a:off x="250920" y="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概念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395280" y="1413000"/>
            <a:ext cx="842472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等腰三角形一腰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3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底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4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则它的周长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等腰三角形的一边长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3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另一边长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4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则它的周长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等腰三角形的一边长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3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另一边长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  <a:ea typeface="宋体"/>
              </a:rPr>
              <a:t>8cm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则它的周长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84328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572000" y="31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 cm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716360" y="4365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9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1890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小试牛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20041224203606427"/>
          <p:cNvPicPr/>
          <p:nvPr/>
        </p:nvPicPr>
        <p:blipFill>
          <a:blip r:embed="rId1"/>
          <a:stretch/>
        </p:blipFill>
        <p:spPr>
          <a:xfrm>
            <a:off x="7689960" y="0"/>
            <a:ext cx="13460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3:20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5:52Z</dcterms:modified>
  <cp:revision>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