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3.wmf" ContentType="image/x-wmf"/>
  <Override PartName="/ppt/media/image20.wmf" ContentType="image/x-wmf"/>
  <Override PartName="/ppt/media/image57.wmf" ContentType="image/x-wmf"/>
  <Override PartName="/ppt/media/image14.jpeg" ContentType="image/jpeg"/>
  <Override PartName="/ppt/media/image55.wmf" ContentType="image/x-wmf"/>
  <Override PartName="/ppt/media/image22.gif" ContentType="image/gif"/>
  <Override PartName="/ppt/media/image40.gif" ContentType="image/gif"/>
  <Override PartName="/ppt/media/image4.jpeg" ContentType="image/jpeg"/>
  <Override PartName="/ppt/media/image38.wmf" ContentType="image/x-wmf"/>
  <Override PartName="/ppt/media/image45.wmf" ContentType="image/x-wmf"/>
  <Override PartName="/ppt/media/image3.png" ContentType="image/png"/>
  <Override PartName="/ppt/media/image12.gif" ContentType="image/gif"/>
  <Override PartName="/ppt/media/image50.wmf" ContentType="image/x-wmf"/>
  <Override PartName="/ppt/media/image1.jpeg" ContentType="image/jpeg"/>
  <Override PartName="/ppt/media/image35.wmf" ContentType="image/x-wmf"/>
  <Override PartName="/ppt/media/image16.jpeg" ContentType="image/jpeg"/>
  <Override PartName="/ppt/media/image31.wmf" ContentType="image/x-wmf"/>
  <Override PartName="/ppt/media/image7.jpeg" ContentType="image/jpeg"/>
  <Override PartName="/ppt/media/image29.wmf" ContentType="image/x-wmf"/>
  <Override PartName="/ppt/media/image18.png" ContentType="image/png"/>
  <Override PartName="/ppt/media/image6.jpeg" ContentType="image/jpeg"/>
  <Override PartName="/ppt/media/image58.wmf" ContentType="image/x-wmf"/>
  <Override PartName="/ppt/media/image21.wmf" ContentType="image/x-wmf"/>
  <Override PartName="/ppt/media/image25.wmf" ContentType="image/x-wmf"/>
  <Override PartName="/ppt/media/image15.jpeg" ContentType="image/jpeg"/>
  <Override PartName="/ppt/media/image59.wmf" ContentType="image/x-wmf"/>
  <Override PartName="/ppt/media/image24.wmf" ContentType="image/x-wmf"/>
  <Override PartName="/ppt/media/image23.wmf" ContentType="image/x-wmf"/>
  <Override PartName="/ppt/media/image19.wmf" ContentType="image/x-wmf"/>
  <Override PartName="/ppt/media/image26.wmf" ContentType="image/x-wmf"/>
  <Override PartName="/ppt/media/image5.jpeg" ContentType="image/jpeg"/>
  <Override PartName="/ppt/media/image48.wmf" ContentType="image/x-wmf"/>
  <Override PartName="/ppt/media/image28.wmf" ContentType="image/x-wmf"/>
  <Override PartName="/ppt/media/image11.jpeg" ContentType="image/jpeg"/>
  <Override PartName="/ppt/media/image2.gif" ContentType="image/gif"/>
  <Override PartName="/ppt/media/image10.jpeg" ContentType="image/jpeg"/>
  <Override PartName="/ppt/media/image54.wmf" ContentType="image/x-wmf"/>
  <Override PartName="/ppt/media/image8.jpeg" ContentType="image/jpeg"/>
  <Override PartName="/ppt/media/image30.wmf" ContentType="image/x-wmf"/>
  <Override PartName="/ppt/media/image32.wmf" ContentType="image/x-wmf"/>
  <Override PartName="/ppt/media/image17.jpeg" ContentType="image/jpeg"/>
  <Override PartName="/ppt/media/chimes.wav" ContentType="audio/x-wav"/>
  <Override PartName="/ppt/media/image33.wmf" ContentType="image/x-wmf"/>
  <Override PartName="/ppt/media/image34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41.gif" ContentType="image/gif"/>
  <Override PartName="/ppt/media/image42.gif" ContentType="image/gif"/>
  <Override PartName="/ppt/media/image9.png" ContentType="image/png"/>
  <Override PartName="/ppt/media/image43.wmf" ContentType="image/x-wmf"/>
  <Override PartName="/ppt/media/image60.wmf" ContentType="image/x-wmf"/>
  <Override PartName="/ppt/media/image44.jpeg" ContentType="image/jpeg"/>
  <Override PartName="/ppt/media/image46.wmf" ContentType="image/x-wmf"/>
  <Override PartName="/ppt/media/image13.jpeg" ContentType="image/jpeg"/>
  <Override PartName="/ppt/media/image47.wmf" ContentType="image/x-wmf"/>
  <Override PartName="/ppt/media/image49.wmf" ContentType="image/x-wmf"/>
  <Override PartName="/ppt/media/image51.wmf" ContentType="image/x-wmf"/>
  <Override PartName="/ppt/media/image27.gif" ContentType="image/gif"/>
  <Override PartName="/ppt/media/image5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B11-F507-4515-800A-E7632831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144-342E-43AD-93B6-C6527FD1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3362-A480-4549-886A-E2CF3CE3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7A5-64FD-46A5-AB9B-482C2BE6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3E4-1A92-441B-9FF8-5393D1C7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A3F-DF51-4556-862A-E57DBC42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3CE-6B49-4E72-8E8A-5080E606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29C-B12F-4C38-AA2A-4A1FA6D0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274-1EC3-4733-9AD5-70CC9DEB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14A-EFDA-47DE-B3D0-AB793E26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38A-D324-4553-9147-1D5B5A27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764-B166-4B41-A14B-0060857D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E943-57D8-4E33-AC4C-D8B1D860E9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3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gif"/><Relationship Id="rId6" Type="http://schemas.openxmlformats.org/officeDocument/2006/relationships/image" Target="../media/image28.wmf"/><Relationship Id="rId7" Type="http://schemas.openxmlformats.org/officeDocument/2006/relationships/hyperlink" Target="http://www.eeppt.com/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image" Target="../media/image35.wmf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22.gi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4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hyperlink" Target="http://www.eeppt.com/" TargetMode="External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1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8240" y="837720"/>
            <a:ext cx="63356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第二十二章  二次函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95440" y="2414520"/>
            <a:ext cx="835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二次函数的意义课件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3"/>
          <p:cNvSpPr/>
          <p:nvPr/>
        </p:nvSpPr>
        <p:spPr>
          <a:xfrm>
            <a:off x="1692360" y="765000"/>
            <a:ext cx="4190760" cy="3733920"/>
          </a:xfrm>
          <a:custGeom>
            <a:avLst/>
            <a:gdLst/>
            <a:ahLst/>
            <a:rect l="l" t="t" r="r" b="b"/>
            <a:pathLst>
              <a:path w="19603" h="4831">
                <a:moveTo>
                  <a:pt x="2398" y="4830"/>
                </a:moveTo>
                <a:cubicBezTo>
                  <a:pt x="4331" y="2109"/>
                  <a:pt x="7462" y="492"/>
                  <a:pt x="10800" y="493"/>
                </a:cubicBezTo>
                <a:cubicBezTo>
                  <a:pt x="14137" y="493"/>
                  <a:pt x="17268" y="2109"/>
                  <a:pt x="19201" y="4830"/>
                </a:cubicBezTo>
                <a:lnTo>
                  <a:pt x="19603" y="4544"/>
                </a:lnTo>
                <a:cubicBezTo>
                  <a:pt x="17578" y="1693"/>
                  <a:pt x="14297" y="-1"/>
                  <a:pt x="10799" y="0"/>
                </a:cubicBezTo>
                <a:cubicBezTo>
                  <a:pt x="7302" y="0"/>
                  <a:pt x="4021" y="1693"/>
                  <a:pt x="1996" y="4544"/>
                </a:cubicBezTo>
                <a:lnTo>
                  <a:pt x="2398" y="483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452880" y="30456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创设情境，导入新课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28656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你们知道：投篮时，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篮球运动的路线是什么曲线？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怎样计算篮球达到最高点时的高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LINE07"/>
          <p:cNvPicPr/>
          <p:nvPr/>
        </p:nvPicPr>
        <p:blipFill>
          <a:blip r:embed="rId1"/>
          <a:stretch/>
        </p:blipFill>
        <p:spPr>
          <a:xfrm>
            <a:off x="685800" y="1295280"/>
            <a:ext cx="4952880" cy="130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-176040" y="213372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你们喜欢打篮球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714600" y="1554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newcastle01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桥拱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喷泉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0" y="3500280"/>
            <a:ext cx="2916360" cy="335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tsh4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724360" y="3500280"/>
            <a:ext cx="3419640" cy="3357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3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2987640" y="3500280"/>
            <a:ext cx="2736720" cy="335772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0" y="0"/>
            <a:ext cx="4495680" cy="3505320"/>
            <a:chOff x="0" y="0"/>
            <a:chExt cx="4495680" cy="3505320"/>
          </a:xfrm>
        </p:grpSpPr>
        <p:pic>
          <p:nvPicPr>
            <p:cNvPr id="90" name="Picture 8" descr="newcastle01"/>
            <p:cNvPicPr/>
            <p:nvPr/>
          </p:nvPicPr>
          <p:blipFill>
            <a:blip r:embed="rId6">
              <a:lum bright="30000"/>
            </a:blip>
            <a:stretch/>
          </p:blipFill>
          <p:spPr>
            <a:xfrm>
              <a:off x="0" y="0"/>
              <a:ext cx="4495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9"/>
            <p:cNvSpPr/>
            <p:nvPr/>
          </p:nvSpPr>
          <p:spPr>
            <a:xfrm>
              <a:off x="636840" y="545040"/>
              <a:ext cx="2547720" cy="2882160"/>
            </a:xfrm>
            <a:custGeom>
              <a:avLst/>
              <a:gdLst/>
              <a:ahLst/>
              <a:rect l="l" t="t" r="r" b="b"/>
              <a:pathLst>
                <a:path w="19567" h="4841">
                  <a:moveTo>
                    <a:pt x="2514" y="4840"/>
                  </a:moveTo>
                  <a:cubicBezTo>
                    <a:pt x="4432" y="2174"/>
                    <a:pt x="7515" y="593"/>
                    <a:pt x="10800" y="594"/>
                  </a:cubicBezTo>
                  <a:cubicBezTo>
                    <a:pt x="14084" y="594"/>
                    <a:pt x="17167" y="2174"/>
                    <a:pt x="19085" y="4840"/>
                  </a:cubicBezTo>
                  <a:lnTo>
                    <a:pt x="19567" y="4493"/>
                  </a:lnTo>
                  <a:cubicBezTo>
                    <a:pt x="17538" y="1672"/>
                    <a:pt x="14275" y="-1"/>
                    <a:pt x="10799" y="0"/>
                  </a:cubicBezTo>
                  <a:cubicBezTo>
                    <a:pt x="7324" y="0"/>
                    <a:pt x="4061" y="1672"/>
                    <a:pt x="2032" y="4493"/>
                  </a:cubicBezTo>
                  <a:lnTo>
                    <a:pt x="2514" y="484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0"/>
          <p:cNvGrpSpPr/>
          <p:nvPr/>
        </p:nvGrpSpPr>
        <p:grpSpPr>
          <a:xfrm>
            <a:off x="4419720" y="0"/>
            <a:ext cx="4572000" cy="3505320"/>
            <a:chOff x="4419720" y="0"/>
            <a:chExt cx="4572000" cy="3505320"/>
          </a:xfrm>
        </p:grpSpPr>
        <p:pic>
          <p:nvPicPr>
            <p:cNvPr id="93" name="Picture 11" descr="桥拱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4419720" y="0"/>
              <a:ext cx="45720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AutoShape 12"/>
            <p:cNvSpPr/>
            <p:nvPr/>
          </p:nvSpPr>
          <p:spPr>
            <a:xfrm>
              <a:off x="5372280" y="1285200"/>
              <a:ext cx="2743200" cy="1908360"/>
            </a:xfrm>
            <a:custGeom>
              <a:avLst/>
              <a:gdLst/>
              <a:ahLst/>
              <a:rect l="l" t="t" r="r" b="b"/>
              <a:pathLst>
                <a:path w="19603" h="4831">
                  <a:moveTo>
                    <a:pt x="2398" y="4830"/>
                  </a:moveTo>
                  <a:cubicBezTo>
                    <a:pt x="4331" y="2109"/>
                    <a:pt x="7462" y="492"/>
                    <a:pt x="10800" y="493"/>
                  </a:cubicBezTo>
                  <a:cubicBezTo>
                    <a:pt x="14137" y="493"/>
                    <a:pt x="17268" y="2109"/>
                    <a:pt x="19201" y="4830"/>
                  </a:cubicBezTo>
                  <a:lnTo>
                    <a:pt x="19603" y="4544"/>
                  </a:lnTo>
                  <a:cubicBezTo>
                    <a:pt x="17578" y="1693"/>
                    <a:pt x="14297" y="-1"/>
                    <a:pt x="10799" y="0"/>
                  </a:cubicBezTo>
                  <a:cubicBezTo>
                    <a:pt x="7302" y="0"/>
                    <a:pt x="4021" y="1693"/>
                    <a:pt x="1996" y="4544"/>
                  </a:cubicBezTo>
                  <a:lnTo>
                    <a:pt x="2398" y="48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0" y="3505320"/>
            <a:ext cx="3048120" cy="4114800"/>
            <a:chOff x="0" y="3505320"/>
            <a:chExt cx="3048120" cy="4114800"/>
          </a:xfrm>
        </p:grpSpPr>
        <p:pic>
          <p:nvPicPr>
            <p:cNvPr id="96" name="Picture 14" descr="喷泉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0" y="3505320"/>
              <a:ext cx="30481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AutoShape 15"/>
            <p:cNvSpPr/>
            <p:nvPr/>
          </p:nvSpPr>
          <p:spPr>
            <a:xfrm>
              <a:off x="583920" y="4648320"/>
              <a:ext cx="1117800" cy="2971800"/>
            </a:xfrm>
            <a:custGeom>
              <a:avLst/>
              <a:gdLst/>
              <a:ahLst/>
              <a:rect l="l" t="t" r="r" b="b"/>
              <a:pathLst>
                <a:path w="16583" h="1882">
                  <a:moveTo>
                    <a:pt x="5144" y="1881"/>
                  </a:moveTo>
                  <a:cubicBezTo>
                    <a:pt x="6835" y="808"/>
                    <a:pt x="8797" y="238"/>
                    <a:pt x="10800" y="239"/>
                  </a:cubicBezTo>
                  <a:cubicBezTo>
                    <a:pt x="12802" y="239"/>
                    <a:pt x="14764" y="808"/>
                    <a:pt x="16455" y="1881"/>
                  </a:cubicBezTo>
                  <a:lnTo>
                    <a:pt x="16583" y="1679"/>
                  </a:lnTo>
                  <a:cubicBezTo>
                    <a:pt x="14854" y="582"/>
                    <a:pt x="12848" y="-1"/>
                    <a:pt x="10799" y="0"/>
                  </a:cubicBezTo>
                  <a:cubicBezTo>
                    <a:pt x="8751" y="0"/>
                    <a:pt x="6745" y="582"/>
                    <a:pt x="5016" y="1679"/>
                  </a:cubicBezTo>
                  <a:lnTo>
                    <a:pt x="5144" y="188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16"/>
          <p:cNvSpPr/>
          <p:nvPr/>
        </p:nvSpPr>
        <p:spPr>
          <a:xfrm>
            <a:off x="2133720" y="2438280"/>
            <a:ext cx="510516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  <a:ea typeface="华文行楷"/>
              </a:rPr>
              <a:t>二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7"/>
          <p:cNvGrpSpPr/>
          <p:nvPr/>
        </p:nvGrpSpPr>
        <p:grpSpPr>
          <a:xfrm>
            <a:off x="3048120" y="3505320"/>
            <a:ext cx="2971800" cy="3352680"/>
            <a:chOff x="3048120" y="3505320"/>
            <a:chExt cx="2971800" cy="3352680"/>
          </a:xfrm>
        </p:grpSpPr>
        <p:pic>
          <p:nvPicPr>
            <p:cNvPr id="100" name="Picture 18" descr="3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3048120" y="3505320"/>
              <a:ext cx="29718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AutoShape 19"/>
            <p:cNvSpPr/>
            <p:nvPr/>
          </p:nvSpPr>
          <p:spPr>
            <a:xfrm>
              <a:off x="3617640" y="3877560"/>
              <a:ext cx="1361880" cy="1825200"/>
            </a:xfrm>
            <a:custGeom>
              <a:avLst/>
              <a:gdLst/>
              <a:ahLst/>
              <a:rect l="l" t="t" r="r" b="b"/>
              <a:pathLst>
                <a:path w="19603" h="4831">
                  <a:moveTo>
                    <a:pt x="2398" y="4830"/>
                  </a:moveTo>
                  <a:cubicBezTo>
                    <a:pt x="4331" y="2109"/>
                    <a:pt x="7462" y="492"/>
                    <a:pt x="10800" y="493"/>
                  </a:cubicBezTo>
                  <a:cubicBezTo>
                    <a:pt x="14137" y="493"/>
                    <a:pt x="17268" y="2109"/>
                    <a:pt x="19201" y="4830"/>
                  </a:cubicBezTo>
                  <a:lnTo>
                    <a:pt x="19603" y="4544"/>
                  </a:lnTo>
                  <a:cubicBezTo>
                    <a:pt x="17578" y="1693"/>
                    <a:pt x="14297" y="-1"/>
                    <a:pt x="10799" y="0"/>
                  </a:cubicBezTo>
                  <a:cubicBezTo>
                    <a:pt x="7302" y="0"/>
                    <a:pt x="4021" y="1693"/>
                    <a:pt x="1996" y="4544"/>
                  </a:cubicBezTo>
                  <a:lnTo>
                    <a:pt x="2398" y="48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0"/>
          <p:cNvGrpSpPr/>
          <p:nvPr/>
        </p:nvGrpSpPr>
        <p:grpSpPr>
          <a:xfrm>
            <a:off x="6019920" y="3505320"/>
            <a:ext cx="3124080" cy="3352680"/>
            <a:chOff x="6019920" y="3505320"/>
            <a:chExt cx="3124080" cy="3352680"/>
          </a:xfrm>
        </p:grpSpPr>
        <p:pic>
          <p:nvPicPr>
            <p:cNvPr id="103" name="Picture 21" descr="tsh4">
              <a:hlinkClick r:id="" action="ppaction://hlinkshowjump?jump=nextslide"/>
            </p:cNvPr>
            <p:cNvPicPr/>
            <p:nvPr/>
          </p:nvPicPr>
          <p:blipFill>
            <a:blip r:embed="rId10"/>
            <a:stretch/>
          </p:blipFill>
          <p:spPr>
            <a:xfrm>
              <a:off x="6019920" y="3505320"/>
              <a:ext cx="31240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AutoShape 22"/>
            <p:cNvSpPr/>
            <p:nvPr/>
          </p:nvSpPr>
          <p:spPr>
            <a:xfrm>
              <a:off x="7191360" y="3952080"/>
              <a:ext cx="1119240" cy="1676160"/>
            </a:xfrm>
            <a:custGeom>
              <a:avLst/>
              <a:gdLst/>
              <a:ahLst/>
              <a:rect l="l" t="t" r="r" b="b"/>
              <a:pathLst>
                <a:path w="19159" h="4271">
                  <a:moveTo>
                    <a:pt x="2818" y="4270"/>
                  </a:moveTo>
                  <a:cubicBezTo>
                    <a:pt x="4777" y="1876"/>
                    <a:pt x="7706" y="487"/>
                    <a:pt x="10800" y="488"/>
                  </a:cubicBezTo>
                  <a:cubicBezTo>
                    <a:pt x="13893" y="488"/>
                    <a:pt x="16822" y="1876"/>
                    <a:pt x="18781" y="4270"/>
                  </a:cubicBezTo>
                  <a:lnTo>
                    <a:pt x="19159" y="3961"/>
                  </a:lnTo>
                  <a:cubicBezTo>
                    <a:pt x="17107" y="1454"/>
                    <a:pt x="14039" y="-1"/>
                    <a:pt x="10799" y="0"/>
                  </a:cubicBezTo>
                  <a:cubicBezTo>
                    <a:pt x="7560" y="0"/>
                    <a:pt x="4492" y="1454"/>
                    <a:pt x="2440" y="3961"/>
                  </a:cubicBezTo>
                  <a:lnTo>
                    <a:pt x="2818" y="427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76320" y="-7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讨论与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正方体的六个面是全等的正方形，设正方体的棱长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表面积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显然对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每一个值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都有一个对应值，即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函数，他们的具体关系是可以表示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2286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多边形的对角线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边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4267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某工厂一种产品现在的年产量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件，计划今后两年增加产量。如果每年都比上一年的产量增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倍，那么两年后这种产品的产量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随计划所定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值而确定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间的关系应怎样表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103560" y="248292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878200" y="1676520"/>
            <a:ext cx="157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y=6x</a:t>
            </a:r>
            <a:r>
              <a:rPr b="1" lang="zh-CN" sz="40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8"/>
          <p:cNvGrpSpPr/>
          <p:nvPr/>
        </p:nvGrpSpPr>
        <p:grpSpPr>
          <a:xfrm>
            <a:off x="2357640" y="2727360"/>
            <a:ext cx="2192400" cy="779760"/>
            <a:chOff x="2357640" y="2727360"/>
            <a:chExt cx="2192400" cy="779760"/>
          </a:xfrm>
        </p:grpSpPr>
        <p:sp>
          <p:nvSpPr>
            <p:cNvPr id="112" name="Text Box 9"/>
            <p:cNvSpPr/>
            <p:nvPr/>
          </p:nvSpPr>
          <p:spPr>
            <a:xfrm>
              <a:off x="2357640" y="286380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d=   n(n-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10"/>
            <p:cNvGrpSpPr/>
            <p:nvPr/>
          </p:nvGrpSpPr>
          <p:grpSpPr>
            <a:xfrm>
              <a:off x="2961720" y="2727360"/>
              <a:ext cx="333000" cy="779760"/>
              <a:chOff x="2961720" y="2727360"/>
              <a:chExt cx="333000" cy="779760"/>
            </a:xfrm>
          </p:grpSpPr>
          <p:sp>
            <p:nvSpPr>
              <p:cNvPr id="114" name="Text Box 11"/>
              <p:cNvSpPr/>
              <p:nvPr/>
            </p:nvSpPr>
            <p:spPr>
              <a:xfrm>
                <a:off x="2961720" y="27273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2"/>
              <p:cNvSpPr/>
              <p:nvPr/>
            </p:nvSpPr>
            <p:spPr>
              <a:xfrm>
                <a:off x="2961720" y="3108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2971800" y="3132000"/>
                <a:ext cx="304920" cy="360"/>
                <a:chOff x="2971800" y="3132000"/>
                <a:chExt cx="304920" cy="360"/>
              </a:xfrm>
            </p:grpSpPr>
            <p:sp>
              <p:nvSpPr>
                <p:cNvPr id="117" name="Line 13"/>
                <p:cNvSpPr/>
                <p:nvPr/>
              </p:nvSpPr>
              <p:spPr>
                <a:xfrm>
                  <a:off x="2971800" y="3132000"/>
                  <a:ext cx="30492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 txBox="1"/>
                <p:nvPr/>
              </p:nvSpPr>
              <p:spPr>
                <a:xfrm>
                  <a:off x="2971800" y="313200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" name="Group 14"/>
          <p:cNvGrpSpPr/>
          <p:nvPr/>
        </p:nvGrpSpPr>
        <p:grpSpPr>
          <a:xfrm>
            <a:off x="2355840" y="3489480"/>
            <a:ext cx="2298960" cy="779400"/>
            <a:chOff x="2355840" y="3489480"/>
            <a:chExt cx="2298960" cy="779400"/>
          </a:xfrm>
        </p:grpSpPr>
        <p:sp>
          <p:nvSpPr>
            <p:cNvPr id="120" name="Text Box 15"/>
            <p:cNvSpPr/>
            <p:nvPr/>
          </p:nvSpPr>
          <p:spPr>
            <a:xfrm>
              <a:off x="2355840" y="362556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d=   n</a:t>
              </a:r>
              <a:r>
                <a:rPr b="1" lang="zh-CN" sz="2400" spc="-1" strike="noStrike" baseline="30000">
                  <a:solidFill>
                    <a:srgbClr val="0000ff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-  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6"/>
            <p:cNvGrpSpPr/>
            <p:nvPr/>
          </p:nvGrpSpPr>
          <p:grpSpPr>
            <a:xfrm>
              <a:off x="3030120" y="3489480"/>
              <a:ext cx="333000" cy="779400"/>
              <a:chOff x="3030120" y="3489480"/>
              <a:chExt cx="333000" cy="779400"/>
            </a:xfrm>
          </p:grpSpPr>
          <p:sp>
            <p:nvSpPr>
              <p:cNvPr id="122" name="Text Box 17"/>
              <p:cNvSpPr/>
              <p:nvPr/>
            </p:nvSpPr>
            <p:spPr>
              <a:xfrm>
                <a:off x="3030120" y="34894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18"/>
              <p:cNvSpPr/>
              <p:nvPr/>
            </p:nvSpPr>
            <p:spPr>
              <a:xfrm>
                <a:off x="3030120" y="38700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3040200" y="3893760"/>
                <a:ext cx="304560" cy="360"/>
                <a:chOff x="3040200" y="3893760"/>
                <a:chExt cx="304560" cy="360"/>
              </a:xfrm>
            </p:grpSpPr>
            <p:sp>
              <p:nvSpPr>
                <p:cNvPr id="125" name="Line 19"/>
                <p:cNvSpPr/>
                <p:nvPr/>
              </p:nvSpPr>
              <p:spPr>
                <a:xfrm>
                  <a:off x="3040200" y="3893760"/>
                  <a:ext cx="30456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 txBox="1"/>
                <p:nvPr/>
              </p:nvSpPr>
              <p:spPr>
                <a:xfrm>
                  <a:off x="3040200" y="389376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20"/>
            <p:cNvGrpSpPr/>
            <p:nvPr/>
          </p:nvGrpSpPr>
          <p:grpSpPr>
            <a:xfrm>
              <a:off x="3876120" y="3489480"/>
              <a:ext cx="333000" cy="779400"/>
              <a:chOff x="3876120" y="3489480"/>
              <a:chExt cx="333000" cy="779400"/>
            </a:xfrm>
          </p:grpSpPr>
          <p:sp>
            <p:nvSpPr>
              <p:cNvPr id="128" name="Text Box 21"/>
              <p:cNvSpPr/>
              <p:nvPr/>
            </p:nvSpPr>
            <p:spPr>
              <a:xfrm>
                <a:off x="3876120" y="34894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22"/>
              <p:cNvSpPr/>
              <p:nvPr/>
            </p:nvSpPr>
            <p:spPr>
              <a:xfrm>
                <a:off x="3876120" y="38700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3886200" y="3893760"/>
                <a:ext cx="304920" cy="360"/>
                <a:chOff x="3886200" y="3893760"/>
                <a:chExt cx="304920" cy="360"/>
              </a:xfrm>
            </p:grpSpPr>
            <p:sp>
              <p:nvSpPr>
                <p:cNvPr id="131" name="Line 23"/>
                <p:cNvSpPr/>
                <p:nvPr/>
              </p:nvSpPr>
              <p:spPr>
                <a:xfrm>
                  <a:off x="3886200" y="3893760"/>
                  <a:ext cx="30492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 txBox="1"/>
                <p:nvPr/>
              </p:nvSpPr>
              <p:spPr>
                <a:xfrm>
                  <a:off x="3886200" y="389376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" name="Text Box 24"/>
          <p:cNvSpPr/>
          <p:nvPr/>
        </p:nvSpPr>
        <p:spPr>
          <a:xfrm>
            <a:off x="1968480" y="364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460960" y="548640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y=20(1+x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1968480" y="601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2417760" y="601992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y=20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+40x+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8" descr="1"/>
          <p:cNvPicPr/>
          <p:nvPr/>
        </p:nvPicPr>
        <p:blipFill>
          <a:blip r:embed="rId1"/>
          <a:stretch/>
        </p:blipFill>
        <p:spPr>
          <a:xfrm>
            <a:off x="5943600" y="1371600"/>
            <a:ext cx="3200400" cy="1566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9"/>
          <p:cNvSpPr/>
          <p:nvPr/>
        </p:nvSpPr>
        <p:spPr>
          <a:xfrm>
            <a:off x="6561000" y="182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512640" y="2362320"/>
            <a:ext cx="4897800" cy="3048120"/>
            <a:chOff x="512640" y="2362320"/>
            <a:chExt cx="4897800" cy="3048120"/>
          </a:xfrm>
        </p:grpSpPr>
        <p:sp>
          <p:nvSpPr>
            <p:cNvPr id="140" name="Text Box 3"/>
            <p:cNvSpPr/>
            <p:nvPr/>
          </p:nvSpPr>
          <p:spPr>
            <a:xfrm>
              <a:off x="628200" y="312408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6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527040" y="3809880"/>
              <a:ext cx="2298960" cy="779400"/>
              <a:chOff x="527040" y="3809880"/>
              <a:chExt cx="2298960" cy="779400"/>
            </a:xfrm>
          </p:grpSpPr>
          <p:sp>
            <p:nvSpPr>
              <p:cNvPr id="142" name="Text Box 5"/>
              <p:cNvSpPr/>
              <p:nvPr/>
            </p:nvSpPr>
            <p:spPr>
              <a:xfrm>
                <a:off x="527040" y="3945960"/>
                <a:ext cx="229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d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=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n</a:t>
                </a:r>
                <a:r>
                  <a:rPr b="1" lang="zh-CN" sz="24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-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Group 6"/>
              <p:cNvGrpSpPr/>
              <p:nvPr/>
            </p:nvGrpSpPr>
            <p:grpSpPr>
              <a:xfrm>
                <a:off x="1201320" y="3809880"/>
                <a:ext cx="333000" cy="779400"/>
                <a:chOff x="1201320" y="3809880"/>
                <a:chExt cx="333000" cy="779400"/>
              </a:xfrm>
            </p:grpSpPr>
            <p:sp>
              <p:nvSpPr>
                <p:cNvPr id="144" name="Text Box 7"/>
                <p:cNvSpPr/>
                <p:nvPr/>
              </p:nvSpPr>
              <p:spPr>
                <a:xfrm>
                  <a:off x="1201320" y="38098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Text Box 8"/>
                <p:cNvSpPr/>
                <p:nvPr/>
              </p:nvSpPr>
              <p:spPr>
                <a:xfrm>
                  <a:off x="1201320" y="419040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" name=""/>
                <p:cNvGrpSpPr/>
                <p:nvPr/>
              </p:nvGrpSpPr>
              <p:grpSpPr>
                <a:xfrm>
                  <a:off x="1211400" y="4213800"/>
                  <a:ext cx="304560" cy="360"/>
                  <a:chOff x="1211400" y="4213800"/>
                  <a:chExt cx="304560" cy="360"/>
                </a:xfrm>
              </p:grpSpPr>
              <p:sp>
                <p:nvSpPr>
                  <p:cNvPr id="147" name="Line 9"/>
                  <p:cNvSpPr/>
                  <p:nvPr/>
                </p:nvSpPr>
                <p:spPr>
                  <a:xfrm>
                    <a:off x="1211400" y="4213800"/>
                    <a:ext cx="304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 txBox="1"/>
                  <p:nvPr/>
                </p:nvSpPr>
                <p:spPr>
                  <a:xfrm>
                    <a:off x="1211400" y="4213800"/>
                    <a:ext cx="304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" name="Group 10"/>
              <p:cNvGrpSpPr/>
              <p:nvPr/>
            </p:nvGrpSpPr>
            <p:grpSpPr>
              <a:xfrm>
                <a:off x="2047320" y="3809880"/>
                <a:ext cx="333000" cy="779400"/>
                <a:chOff x="2047320" y="3809880"/>
                <a:chExt cx="333000" cy="779400"/>
              </a:xfrm>
            </p:grpSpPr>
            <p:sp>
              <p:nvSpPr>
                <p:cNvPr id="150" name="Text Box 11"/>
                <p:cNvSpPr/>
                <p:nvPr/>
              </p:nvSpPr>
              <p:spPr>
                <a:xfrm>
                  <a:off x="2047320" y="38098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Text Box 12"/>
                <p:cNvSpPr/>
                <p:nvPr/>
              </p:nvSpPr>
              <p:spPr>
                <a:xfrm>
                  <a:off x="2047320" y="419040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2057400" y="4213800"/>
                  <a:ext cx="304920" cy="360"/>
                  <a:chOff x="2057400" y="4213800"/>
                  <a:chExt cx="304920" cy="360"/>
                </a:xfrm>
              </p:grpSpPr>
              <p:sp>
                <p:nvSpPr>
                  <p:cNvPr id="153" name="Line 13"/>
                  <p:cNvSpPr/>
                  <p:nvPr/>
                </p:nvSpPr>
                <p:spPr>
                  <a:xfrm>
                    <a:off x="2057400" y="4213800"/>
                    <a:ext cx="304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 txBox="1"/>
                  <p:nvPr/>
                </p:nvSpPr>
                <p:spPr>
                  <a:xfrm>
                    <a:off x="2057400" y="4213800"/>
                    <a:ext cx="304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5" name="Text Box 14"/>
            <p:cNvSpPr/>
            <p:nvPr/>
          </p:nvSpPr>
          <p:spPr>
            <a:xfrm>
              <a:off x="512640" y="4724280"/>
              <a:ext cx="24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20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40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3232440" y="2438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变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16"/>
            <p:cNvGrpSpPr/>
            <p:nvPr/>
          </p:nvGrpSpPr>
          <p:grpSpPr>
            <a:xfrm>
              <a:off x="609480" y="2362320"/>
              <a:ext cx="4800960" cy="3048120"/>
              <a:chOff x="609480" y="2362320"/>
              <a:chExt cx="4800960" cy="304812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609480" y="2971440"/>
                <a:ext cx="4800600" cy="360"/>
                <a:chOff x="609480" y="2971440"/>
                <a:chExt cx="4800600" cy="360"/>
              </a:xfrm>
            </p:grpSpPr>
            <p:sp>
              <p:nvSpPr>
                <p:cNvPr id="159" name="Line 17"/>
                <p:cNvSpPr/>
                <p:nvPr/>
              </p:nvSpPr>
              <p:spPr>
                <a:xfrm>
                  <a:off x="609480" y="2971440"/>
                  <a:ext cx="480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 txBox="1"/>
                <p:nvPr/>
              </p:nvSpPr>
              <p:spPr>
                <a:xfrm>
                  <a:off x="609480" y="2971440"/>
                  <a:ext cx="4800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09480" y="3809880"/>
                <a:ext cx="4800600" cy="360"/>
                <a:chOff x="609480" y="3809880"/>
                <a:chExt cx="4800600" cy="360"/>
              </a:xfrm>
            </p:grpSpPr>
            <p:sp>
              <p:nvSpPr>
                <p:cNvPr id="162" name="Line 18"/>
                <p:cNvSpPr/>
                <p:nvPr/>
              </p:nvSpPr>
              <p:spPr>
                <a:xfrm>
                  <a:off x="609480" y="3809880"/>
                  <a:ext cx="480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 txBox="1"/>
                <p:nvPr/>
              </p:nvSpPr>
              <p:spPr>
                <a:xfrm>
                  <a:off x="609480" y="3809880"/>
                  <a:ext cx="4800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609480" y="4571640"/>
                <a:ext cx="4800600" cy="360"/>
                <a:chOff x="609480" y="4571640"/>
                <a:chExt cx="4800600" cy="360"/>
              </a:xfrm>
            </p:grpSpPr>
            <p:sp>
              <p:nvSpPr>
                <p:cNvPr id="165" name="Line 19"/>
                <p:cNvSpPr/>
                <p:nvPr/>
              </p:nvSpPr>
              <p:spPr>
                <a:xfrm>
                  <a:off x="609480" y="4571640"/>
                  <a:ext cx="480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 txBox="1"/>
                <p:nvPr/>
              </p:nvSpPr>
              <p:spPr>
                <a:xfrm>
                  <a:off x="609480" y="4571640"/>
                  <a:ext cx="4800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09480" y="5410080"/>
                <a:ext cx="4800600" cy="360"/>
                <a:chOff x="609480" y="5410080"/>
                <a:chExt cx="4800600" cy="360"/>
              </a:xfrm>
            </p:grpSpPr>
            <p:sp>
              <p:nvSpPr>
                <p:cNvPr id="168" name="Line 20"/>
                <p:cNvSpPr/>
                <p:nvPr/>
              </p:nvSpPr>
              <p:spPr>
                <a:xfrm>
                  <a:off x="609480" y="5410080"/>
                  <a:ext cx="480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 txBox="1"/>
                <p:nvPr/>
              </p:nvSpPr>
              <p:spPr>
                <a:xfrm>
                  <a:off x="609480" y="5410080"/>
                  <a:ext cx="4800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09480" y="2362320"/>
                <a:ext cx="360" cy="3047760"/>
                <a:chOff x="609480" y="2362320"/>
                <a:chExt cx="360" cy="3047760"/>
              </a:xfrm>
            </p:grpSpPr>
            <p:sp>
              <p:nvSpPr>
                <p:cNvPr id="171" name="Line 21"/>
                <p:cNvSpPr/>
                <p:nvPr/>
              </p:nvSpPr>
              <p:spPr>
                <a:xfrm>
                  <a:off x="609480" y="2362320"/>
                  <a:ext cx="0" cy="3047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 txBox="1"/>
                <p:nvPr/>
              </p:nvSpPr>
              <p:spPr>
                <a:xfrm>
                  <a:off x="609480" y="2362320"/>
                  <a:ext cx="360" cy="30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971800" y="2362320"/>
                <a:ext cx="360" cy="3047760"/>
                <a:chOff x="2971800" y="2362320"/>
                <a:chExt cx="360" cy="3047760"/>
              </a:xfrm>
            </p:grpSpPr>
            <p:sp>
              <p:nvSpPr>
                <p:cNvPr id="174" name="Line 22"/>
                <p:cNvSpPr/>
                <p:nvPr/>
              </p:nvSpPr>
              <p:spPr>
                <a:xfrm>
                  <a:off x="2971800" y="2362320"/>
                  <a:ext cx="0" cy="3047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 txBox="1"/>
                <p:nvPr/>
              </p:nvSpPr>
              <p:spPr>
                <a:xfrm>
                  <a:off x="2971800" y="2362320"/>
                  <a:ext cx="360" cy="30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190760" y="2362320"/>
                <a:ext cx="360" cy="3047760"/>
                <a:chOff x="4190760" y="2362320"/>
                <a:chExt cx="360" cy="3047760"/>
              </a:xfrm>
            </p:grpSpPr>
            <p:sp>
              <p:nvSpPr>
                <p:cNvPr id="177" name="Line 23"/>
                <p:cNvSpPr/>
                <p:nvPr/>
              </p:nvSpPr>
              <p:spPr>
                <a:xfrm>
                  <a:off x="4190760" y="2362320"/>
                  <a:ext cx="0" cy="3047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 txBox="1"/>
                <p:nvPr/>
              </p:nvSpPr>
              <p:spPr>
                <a:xfrm>
                  <a:off x="4190760" y="2362320"/>
                  <a:ext cx="360" cy="30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410080" y="2362320"/>
                <a:ext cx="360" cy="3047760"/>
                <a:chOff x="5410080" y="2362320"/>
                <a:chExt cx="360" cy="3047760"/>
              </a:xfrm>
            </p:grpSpPr>
            <p:sp>
              <p:nvSpPr>
                <p:cNvPr id="180" name="Line 24"/>
                <p:cNvSpPr/>
                <p:nvPr/>
              </p:nvSpPr>
              <p:spPr>
                <a:xfrm>
                  <a:off x="5410080" y="2362320"/>
                  <a:ext cx="0" cy="3047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 txBox="1"/>
                <p:nvPr/>
              </p:nvSpPr>
              <p:spPr>
                <a:xfrm>
                  <a:off x="5410080" y="2362320"/>
                  <a:ext cx="360" cy="30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09480" y="2362320"/>
                <a:ext cx="4800600" cy="360"/>
                <a:chOff x="609480" y="2362320"/>
                <a:chExt cx="4800600" cy="360"/>
              </a:xfrm>
            </p:grpSpPr>
            <p:sp>
              <p:nvSpPr>
                <p:cNvPr id="183" name="Line 25"/>
                <p:cNvSpPr/>
                <p:nvPr/>
              </p:nvSpPr>
              <p:spPr>
                <a:xfrm>
                  <a:off x="609480" y="2362320"/>
                  <a:ext cx="480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 txBox="1"/>
                <p:nvPr/>
              </p:nvSpPr>
              <p:spPr>
                <a:xfrm>
                  <a:off x="609480" y="2362320"/>
                  <a:ext cx="4800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" name="Text Box 26"/>
            <p:cNvSpPr/>
            <p:nvPr/>
          </p:nvSpPr>
          <p:spPr>
            <a:xfrm>
              <a:off x="4466880" y="2438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函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7"/>
            <p:cNvSpPr/>
            <p:nvPr/>
          </p:nvSpPr>
          <p:spPr>
            <a:xfrm>
              <a:off x="1296720" y="2438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函数解析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8"/>
          <p:cNvSpPr/>
          <p:nvPr/>
        </p:nvSpPr>
        <p:spPr>
          <a:xfrm>
            <a:off x="4559400" y="304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9"/>
          <p:cNvSpPr/>
          <p:nvPr/>
        </p:nvSpPr>
        <p:spPr>
          <a:xfrm>
            <a:off x="4559400" y="464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4525920" y="3886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3340080" y="304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33526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3"/>
          <p:cNvSpPr/>
          <p:nvPr/>
        </p:nvSpPr>
        <p:spPr>
          <a:xfrm>
            <a:off x="3340080" y="3886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34"/>
          <p:cNvSpPr txBox="1"/>
          <p:nvPr/>
        </p:nvSpPr>
        <p:spPr>
          <a:xfrm>
            <a:off x="0" y="152280"/>
            <a:ext cx="324000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观察与发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4" name="Text Box 35"/>
          <p:cNvSpPr/>
          <p:nvPr/>
        </p:nvSpPr>
        <p:spPr>
          <a:xfrm>
            <a:off x="539640" y="112536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认真观察以上出现的三个函数解析式，分别说出哪些是常数、自变量和函数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6"/>
          <p:cNvSpPr/>
          <p:nvPr/>
        </p:nvSpPr>
        <p:spPr>
          <a:xfrm>
            <a:off x="6323040" y="2421000"/>
            <a:ext cx="2592360" cy="1150920"/>
          </a:xfrm>
          <a:prstGeom prst="wedgeRoundRectCallout">
            <a:avLst>
              <a:gd name="adj1" fmla="val -33893"/>
              <a:gd name="adj2" fmla="val 7496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这些函数有什么共同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7"/>
          <p:cNvSpPr/>
          <p:nvPr/>
        </p:nvSpPr>
        <p:spPr>
          <a:xfrm>
            <a:off x="6324480" y="39625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这些函数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自变量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的最高次项都是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二次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523880" y="6095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次函数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范围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3"/>
          <p:cNvSpPr txBox="1"/>
          <p:nvPr/>
        </p:nvSpPr>
        <p:spPr>
          <a:xfrm rot="5340000">
            <a:off x="200160" y="3381840"/>
            <a:ext cx="1828800" cy="855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注意：</a:t>
            </a:r>
            <a:endParaRPr b="0" i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676520" y="29718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变量的最高次数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600200" y="3505320"/>
            <a:ext cx="68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次项的系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≠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可以没有一次项和常数项，但不能没有二次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600200" y="4343400"/>
            <a:ext cx="57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次函数解析式必须是整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4800600" y="6019920"/>
            <a:ext cx="222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切实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035080" y="4876920"/>
            <a:ext cx="611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中，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自变量，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ax</a:t>
            </a:r>
            <a:r>
              <a:rPr b="0" lang="zh-CN" sz="24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二次项，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次向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b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一次项，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一次项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常数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1143000" y="1828800"/>
            <a:ext cx="7696080" cy="1015920"/>
            <a:chOff x="1143000" y="1828800"/>
            <a:chExt cx="7696080" cy="1015920"/>
          </a:xfrm>
        </p:grpSpPr>
        <p:sp>
          <p:nvSpPr>
            <p:cNvPr id="205" name="Text Box 10"/>
            <p:cNvSpPr/>
            <p:nvPr/>
          </p:nvSpPr>
          <p:spPr>
            <a:xfrm>
              <a:off x="1143000" y="1828800"/>
              <a:ext cx="7696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般地，形如 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y=ax</a:t>
              </a:r>
              <a:r>
                <a:rPr b="1" lang="zh-CN" sz="2400" spc="-1" strike="noStrike" baseline="30000">
                  <a:solidFill>
                    <a:srgbClr val="0000ff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+bx+c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,b,c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是常数，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  0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函数，叫做二次函数。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1"/>
            <p:cNvSpPr/>
            <p:nvPr/>
          </p:nvSpPr>
          <p:spPr>
            <a:xfrm>
              <a:off x="7810560" y="190512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WordArt 12"/>
          <p:cNvSpPr txBox="1"/>
          <p:nvPr/>
        </p:nvSpPr>
        <p:spPr>
          <a:xfrm>
            <a:off x="-71280" y="0"/>
            <a:ext cx="25873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归纳与总结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914400" y="914400"/>
            <a:ext cx="548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二次函数的定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566720" y="1066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次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415160" y="1981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正比例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31544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次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3009960" y="3886200"/>
            <a:ext cx="5105520" cy="459720"/>
            <a:chOff x="3009960" y="3886200"/>
            <a:chExt cx="5105520" cy="459720"/>
          </a:xfrm>
        </p:grpSpPr>
        <p:sp>
          <p:nvSpPr>
            <p:cNvPr id="213" name="Text Box 6"/>
            <p:cNvSpPr/>
            <p:nvPr/>
          </p:nvSpPr>
          <p:spPr>
            <a:xfrm>
              <a:off x="3009960" y="388620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y=ax</a:t>
              </a:r>
              <a:r>
                <a:rPr b="1" lang="zh-CN" sz="2400" spc="-1" strike="noStrike" baseline="30000">
                  <a:solidFill>
                    <a:srgbClr val="0000ff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+bx+c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,b,c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是常数，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  0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7086600" y="396252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3009960" y="1981080"/>
            <a:ext cx="3581280" cy="459720"/>
            <a:chOff x="3009960" y="1981080"/>
            <a:chExt cx="3581280" cy="459720"/>
          </a:xfrm>
        </p:grpSpPr>
        <p:sp>
          <p:nvSpPr>
            <p:cNvPr id="216" name="Text Box 9"/>
            <p:cNvSpPr/>
            <p:nvPr/>
          </p:nvSpPr>
          <p:spPr>
            <a:xfrm>
              <a:off x="3009960" y="198108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y=kx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k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是常数，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k  0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5638680" y="205740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009960" y="1066680"/>
            <a:ext cx="4114800" cy="459720"/>
            <a:chOff x="3009960" y="1066680"/>
            <a:chExt cx="4114800" cy="459720"/>
          </a:xfrm>
        </p:grpSpPr>
        <p:sp>
          <p:nvSpPr>
            <p:cNvPr id="219" name="Text Box 12"/>
            <p:cNvSpPr/>
            <p:nvPr/>
          </p:nvSpPr>
          <p:spPr>
            <a:xfrm>
              <a:off x="3009960" y="10666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y=kx+b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k,b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是常数，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k  0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6248520" y="114300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421520" y="49528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些函数的名称都反映了函数表达式与自变量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380880" y="990720"/>
            <a:ext cx="860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函数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哪些是二次函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0" y="1916280"/>
            <a:ext cx="4495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(1)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y=3(x-1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²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27082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(3) s=3-2t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357336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(5)y=(x+3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²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-x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643280" y="3716280"/>
            <a:ext cx="3353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(6)v=10π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Object 7" descr=""/>
          <p:cNvPicPr/>
          <p:nvPr/>
        </p:nvPicPr>
        <p:blipFill>
          <a:blip r:embed="rId1"/>
          <a:stretch/>
        </p:blipFill>
        <p:spPr>
          <a:xfrm>
            <a:off x="4876920" y="2708280"/>
            <a:ext cx="2479680" cy="1068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3348000" y="1916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ahoma"/>
                <a:ea typeface="黑体"/>
              </a:rPr>
              <a:t>（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7451640" y="191628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黑体"/>
              </a:rPr>
              <a:t>（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348000" y="2781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ahoma"/>
                <a:ea typeface="黑体"/>
              </a:rPr>
              <a:t>（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7524720" y="2924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黑体"/>
              </a:rPr>
              <a:t>（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492360" y="36450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黑体"/>
              </a:rPr>
              <a:t>（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7524720" y="3789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ahoma"/>
                <a:ea typeface="黑体"/>
              </a:rPr>
              <a:t>（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2422440" y="45878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179280" y="436572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(7) y=x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²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+x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³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+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4932360" y="4365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(8)y=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²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+2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3564000" y="4365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黑体"/>
              </a:rPr>
              <a:t>（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7524720" y="4365720"/>
            <a:ext cx="14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黑体"/>
              </a:rPr>
              <a:t>（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9"/>
          <p:cNvGrpSpPr/>
          <p:nvPr/>
        </p:nvGrpSpPr>
        <p:grpSpPr>
          <a:xfrm>
            <a:off x="4651920" y="1557360"/>
            <a:ext cx="3048840" cy="1355760"/>
            <a:chOff x="4651920" y="1557360"/>
            <a:chExt cx="3048840" cy="1355760"/>
          </a:xfrm>
        </p:grpSpPr>
        <p:pic>
          <p:nvPicPr>
            <p:cNvPr id="240" name="Object 20" descr=""/>
            <p:cNvPicPr/>
            <p:nvPr/>
          </p:nvPicPr>
          <p:blipFill>
            <a:blip r:embed="rId2"/>
            <a:stretch/>
          </p:blipFill>
          <p:spPr>
            <a:xfrm>
              <a:off x="5429160" y="1557360"/>
              <a:ext cx="22716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21"/>
            <p:cNvSpPr/>
            <p:nvPr/>
          </p:nvSpPr>
          <p:spPr>
            <a:xfrm>
              <a:off x="4651920" y="19162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(2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257480" y="137160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列函数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是二次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752480" y="457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抓住机遇  展示自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Object 4" descr=""/>
          <p:cNvPicPr/>
          <p:nvPr/>
        </p:nvPicPr>
        <p:blipFill>
          <a:blip r:embed="rId1"/>
          <a:stretch/>
        </p:blipFill>
        <p:spPr>
          <a:xfrm>
            <a:off x="2030400" y="2165400"/>
            <a:ext cx="3008160" cy="28764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5919840" y="20192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848200" y="28843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5992920" y="36036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919840" y="4518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9" descr="LINE24"/>
          <p:cNvPicPr/>
          <p:nvPr/>
        </p:nvPicPr>
        <p:blipFill>
          <a:blip r:embed="rId2"/>
          <a:stretch/>
        </p:blipFill>
        <p:spPr>
          <a:xfrm>
            <a:off x="1600200" y="990720"/>
            <a:ext cx="2212920" cy="7596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0"/>
          <p:cNvSpPr/>
          <p:nvPr/>
        </p:nvSpPr>
        <p:spPr>
          <a:xfrm flipH="1">
            <a:off x="2590920" y="5346720"/>
            <a:ext cx="3633840" cy="5814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先化简后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684360" y="47628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２、下列函数中，哪些是二次函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971640" y="4653000"/>
            <a:ext cx="4392360" cy="5572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2017800" cy="930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3"/>
          <a:stretch/>
        </p:blipFill>
        <p:spPr>
          <a:xfrm>
            <a:off x="971640" y="3716280"/>
            <a:ext cx="2911320" cy="6336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4037760" y="355392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"/>
          <p:cNvPicPr/>
          <p:nvPr/>
        </p:nvPicPr>
        <p:blipFill>
          <a:blip r:embed="rId4"/>
          <a:stretch/>
        </p:blipFill>
        <p:spPr>
          <a:xfrm>
            <a:off x="1042920" y="1268280"/>
            <a:ext cx="2087640" cy="5526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0"/>
          <p:cNvSpPr/>
          <p:nvPr/>
        </p:nvSpPr>
        <p:spPr>
          <a:xfrm>
            <a:off x="5724000" y="1125360"/>
            <a:ext cx="9151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5651640" y="4797360"/>
            <a:ext cx="2089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558000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5766480" y="4797360"/>
            <a:ext cx="6300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5867280" y="1197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796000" y="2133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5867280" y="3860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5651640" y="378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8" descr="pic"/>
          <p:cNvPicPr/>
          <p:nvPr/>
        </p:nvPicPr>
        <p:blipFill>
          <a:blip r:embed="rId5"/>
          <a:stretch/>
        </p:blipFill>
        <p:spPr>
          <a:xfrm>
            <a:off x="6211800" y="5013360"/>
            <a:ext cx="2932200" cy="1616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9" descr=""/>
          <p:cNvPicPr/>
          <p:nvPr/>
        </p:nvPicPr>
        <p:blipFill>
          <a:blip r:embed="rId6"/>
          <a:stretch/>
        </p:blipFill>
        <p:spPr>
          <a:xfrm>
            <a:off x="971640" y="2997360"/>
            <a:ext cx="3024000" cy="4982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20"/>
          <p:cNvSpPr/>
          <p:nvPr/>
        </p:nvSpPr>
        <p:spPr>
          <a:xfrm>
            <a:off x="5796000" y="299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1"/>
          <p:cNvSpPr/>
          <p:nvPr/>
        </p:nvSpPr>
        <p:spPr>
          <a:xfrm>
            <a:off x="5580000" y="2133720"/>
            <a:ext cx="2089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8200"/>
          <p:cNvSpPr/>
          <p:nvPr/>
        </p:nvSpPr>
        <p:spPr>
          <a:xfrm>
            <a:off x="2154240" y="141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4880" y="333000"/>
            <a:ext cx="61675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温故知新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什么叫函数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5036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某变化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的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两个变量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当变量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某个范围内取一个确定的值，另一个变量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总有唯一的值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它对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这样的两个变量之间的关系我们把它叫做函数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于上述变量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我们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叫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函数。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叫自变量，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叫因变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971640" y="5229360"/>
            <a:ext cx="7416720" cy="52056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目前，我们已经学习了那几种类型的函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669960" y="588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143000" y="457200"/>
            <a:ext cx="2879640" cy="719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cc"/>
                </a:solidFill>
                <a:latin typeface="Times New Roman"/>
                <a:ea typeface="华文行楷"/>
              </a:rPr>
              <a:t>知识运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4479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762120" y="1295280"/>
            <a:ext cx="81309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３、下列函数中，哪些是二次函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1)y=3x-1                    (2)y=3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3)y=3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+2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2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4)y=2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-2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5)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-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+x                   (6)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-x(1+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52280" y="228600"/>
            <a:ext cx="8458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判断：下列函数是否为二次函数，如果是，指出其中常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.b.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值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1) y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-          (2)y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x(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)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3)y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 baseline="26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－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4) y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x(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x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＋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x</a:t>
            </a:r>
            <a:r>
              <a:rPr b="1" lang="zh-CN" sz="3600" spc="-1" strike="noStrike" baseline="26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5)y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6) y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7)y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 baseline="26000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x</a:t>
            </a:r>
            <a:r>
              <a:rPr b="1" lang="zh-CN" sz="3600" spc="-1" strike="noStrike" baseline="26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  (8)y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x</a:t>
            </a:r>
            <a:r>
              <a:rPr b="1" lang="zh-CN" sz="3600" spc="-1" strike="noStrike" baseline="26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Object 3" descr=""/>
          <p:cNvPicPr/>
          <p:nvPr/>
        </p:nvPicPr>
        <p:blipFill>
          <a:blip r:embed="rId1"/>
          <a:stretch/>
        </p:blipFill>
        <p:spPr>
          <a:xfrm>
            <a:off x="4514760" y="3327480"/>
            <a:ext cx="114480" cy="203040"/>
          </a:xfrm>
          <a:prstGeom prst="rect">
            <a:avLst/>
          </a:prstGeom>
          <a:ln w="0">
            <a:noFill/>
          </a:ln>
        </p:spPr>
      </p:pic>
      <p:pic>
        <p:nvPicPr>
          <p:cNvPr id="279" name="Object 4" descr=""/>
          <p:cNvPicPr/>
          <p:nvPr/>
        </p:nvPicPr>
        <p:blipFill>
          <a:blip r:embed="rId2"/>
          <a:stretch/>
        </p:blipFill>
        <p:spPr>
          <a:xfrm>
            <a:off x="4514760" y="3327480"/>
            <a:ext cx="114480" cy="203040"/>
          </a:xfrm>
          <a:prstGeom prst="rect">
            <a:avLst/>
          </a:prstGeom>
          <a:ln w="0">
            <a:noFill/>
          </a:ln>
        </p:spPr>
      </p:pic>
      <p:pic>
        <p:nvPicPr>
          <p:cNvPr id="280" name="Object 5" descr=""/>
          <p:cNvPicPr/>
          <p:nvPr/>
        </p:nvPicPr>
        <p:blipFill>
          <a:blip r:embed="rId3"/>
          <a:stretch/>
        </p:blipFill>
        <p:spPr>
          <a:xfrm>
            <a:off x="4514760" y="3327480"/>
            <a:ext cx="114480" cy="203040"/>
          </a:xfrm>
          <a:prstGeom prst="rect">
            <a:avLst/>
          </a:prstGeom>
          <a:ln w="0">
            <a:noFill/>
          </a:ln>
        </p:spPr>
      </p:pic>
      <p:pic>
        <p:nvPicPr>
          <p:cNvPr id="281" name="Object 6" descr=""/>
          <p:cNvPicPr/>
          <p:nvPr/>
        </p:nvPicPr>
        <p:blipFill>
          <a:blip r:embed="rId4"/>
          <a:stretch/>
        </p:blipFill>
        <p:spPr>
          <a:xfrm>
            <a:off x="4514760" y="3327480"/>
            <a:ext cx="114480" cy="203040"/>
          </a:xfrm>
          <a:prstGeom prst="rect">
            <a:avLst/>
          </a:prstGeom>
          <a:ln w="0">
            <a:noFill/>
          </a:ln>
        </p:spPr>
      </p:pic>
      <p:pic>
        <p:nvPicPr>
          <p:cNvPr id="282" name="Object 7" descr=""/>
          <p:cNvPicPr/>
          <p:nvPr/>
        </p:nvPicPr>
        <p:blipFill>
          <a:blip r:embed="rId5"/>
          <a:stretch/>
        </p:blipFill>
        <p:spPr>
          <a:xfrm>
            <a:off x="4521240" y="3333600"/>
            <a:ext cx="101520" cy="190800"/>
          </a:xfrm>
          <a:prstGeom prst="rect">
            <a:avLst/>
          </a:prstGeom>
          <a:ln w="0">
            <a:noFill/>
          </a:ln>
        </p:spPr>
      </p:pic>
      <p:pic>
        <p:nvPicPr>
          <p:cNvPr id="283" name="Object 8" descr=""/>
          <p:cNvPicPr/>
          <p:nvPr/>
        </p:nvPicPr>
        <p:blipFill>
          <a:blip r:embed="rId6"/>
          <a:stretch/>
        </p:blipFill>
        <p:spPr>
          <a:xfrm>
            <a:off x="4527720" y="3333600"/>
            <a:ext cx="88560" cy="190800"/>
          </a:xfrm>
          <a:prstGeom prst="rect">
            <a:avLst/>
          </a:prstGeom>
          <a:ln w="0">
            <a:noFill/>
          </a:ln>
        </p:spPr>
      </p:pic>
      <p:pic>
        <p:nvPicPr>
          <p:cNvPr id="284" name="Object 9" descr=""/>
          <p:cNvPicPr/>
          <p:nvPr/>
        </p:nvPicPr>
        <p:blipFill>
          <a:blip r:embed="rId7"/>
          <a:stretch/>
        </p:blipFill>
        <p:spPr>
          <a:xfrm>
            <a:off x="2340000" y="1268280"/>
            <a:ext cx="857160" cy="914400"/>
          </a:xfrm>
          <a:prstGeom prst="rect">
            <a:avLst/>
          </a:prstGeom>
          <a:ln w="0">
            <a:noFill/>
          </a:ln>
        </p:spPr>
      </p:pic>
      <p:pic>
        <p:nvPicPr>
          <p:cNvPr id="285" name="Object 10" descr=""/>
          <p:cNvPicPr/>
          <p:nvPr/>
        </p:nvPicPr>
        <p:blipFill>
          <a:blip r:embed="rId8"/>
          <a:stretch/>
        </p:blipFill>
        <p:spPr>
          <a:xfrm>
            <a:off x="1781280" y="1828800"/>
            <a:ext cx="490320" cy="990720"/>
          </a:xfrm>
          <a:prstGeom prst="rect">
            <a:avLst/>
          </a:prstGeom>
          <a:ln w="0">
            <a:noFill/>
          </a:ln>
        </p:spPr>
      </p:pic>
      <p:pic>
        <p:nvPicPr>
          <p:cNvPr id="286" name="Object 11" descr=""/>
          <p:cNvPicPr/>
          <p:nvPr/>
        </p:nvPicPr>
        <p:blipFill>
          <a:blip r:embed="rId9"/>
          <a:stretch/>
        </p:blipFill>
        <p:spPr>
          <a:xfrm>
            <a:off x="3276720" y="1689120"/>
            <a:ext cx="399960" cy="1054080"/>
          </a:xfrm>
          <a:prstGeom prst="rect">
            <a:avLst/>
          </a:prstGeom>
          <a:ln w="0">
            <a:noFill/>
          </a:ln>
        </p:spPr>
      </p:pic>
      <p:pic>
        <p:nvPicPr>
          <p:cNvPr id="287" name="Object 12" descr=""/>
          <p:cNvPicPr/>
          <p:nvPr/>
        </p:nvPicPr>
        <p:blipFill>
          <a:blip r:embed="rId10"/>
          <a:stretch/>
        </p:blipFill>
        <p:spPr>
          <a:xfrm>
            <a:off x="1676520" y="3746520"/>
            <a:ext cx="1523880" cy="1244520"/>
          </a:xfrm>
          <a:prstGeom prst="rect">
            <a:avLst/>
          </a:prstGeom>
          <a:ln w="0">
            <a:noFill/>
          </a:ln>
        </p:spPr>
      </p:pic>
      <p:pic>
        <p:nvPicPr>
          <p:cNvPr id="288" name="Object 13" descr=""/>
          <p:cNvPicPr/>
          <p:nvPr/>
        </p:nvPicPr>
        <p:blipFill>
          <a:blip r:embed="rId11"/>
          <a:stretch/>
        </p:blipFill>
        <p:spPr>
          <a:xfrm>
            <a:off x="5029200" y="4038480"/>
            <a:ext cx="266688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380880" y="8254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684360" y="69228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: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关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函数                           是二次函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3564000" y="549360"/>
            <a:ext cx="2663640" cy="6681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5"/>
          <p:cNvSpPr/>
          <p:nvPr/>
        </p:nvSpPr>
        <p:spPr>
          <a:xfrm>
            <a:off x="900000" y="184464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题意可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1655640" cy="10220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4465440" cy="9316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8"/>
          <p:cNvSpPr/>
          <p:nvPr/>
        </p:nvSpPr>
        <p:spPr>
          <a:xfrm>
            <a:off x="1116000" y="4581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次函数的二次项系数不能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6781680" y="4495680"/>
            <a:ext cx="2362320" cy="1835280"/>
            <a:chOff x="6781680" y="4495680"/>
            <a:chExt cx="2362320" cy="1835280"/>
          </a:xfrm>
        </p:grpSpPr>
        <p:pic>
          <p:nvPicPr>
            <p:cNvPr id="297" name="Picture 3" descr="20"/>
            <p:cNvPicPr/>
            <p:nvPr/>
          </p:nvPicPr>
          <p:blipFill>
            <a:blip r:embed="rId1"/>
            <a:stretch/>
          </p:blipFill>
          <p:spPr>
            <a:xfrm>
              <a:off x="6781680" y="449568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4"/>
            <p:cNvSpPr/>
            <p:nvPr/>
          </p:nvSpPr>
          <p:spPr>
            <a:xfrm>
              <a:off x="7238880" y="522576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Picture 5" descr="右开门箭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408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左开门箭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7"/>
          <p:cNvSpPr/>
          <p:nvPr/>
        </p:nvSpPr>
        <p:spPr>
          <a:xfrm>
            <a:off x="0" y="210816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练习１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取何值时，函数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y= (m+1)x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+(m-3)x+m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是二次函数？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8" descr=""/>
          <p:cNvPicPr/>
          <p:nvPr/>
        </p:nvPicPr>
        <p:blipFill>
          <a:blip r:embed="rId4"/>
          <a:stretch/>
        </p:blipFill>
        <p:spPr>
          <a:xfrm>
            <a:off x="7093080" y="1736640"/>
            <a:ext cx="1800000" cy="7416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9"/>
          <p:cNvSpPr/>
          <p:nvPr/>
        </p:nvSpPr>
        <p:spPr>
          <a:xfrm>
            <a:off x="1143000" y="457200"/>
            <a:ext cx="2879640" cy="719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cc"/>
                </a:solidFill>
                <a:latin typeface="Times New Roman"/>
                <a:ea typeface="华文行楷"/>
              </a:rPr>
              <a:t>知识运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未标题-2"/>
          <p:cNvPicPr/>
          <p:nvPr/>
        </p:nvPicPr>
        <p:blipFill>
          <a:blip r:embed="rId1"/>
          <a:stretch/>
        </p:blipFill>
        <p:spPr>
          <a:xfrm>
            <a:off x="5867280" y="4572000"/>
            <a:ext cx="2743200" cy="159552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3"/>
          <p:cNvSpPr/>
          <p:nvPr/>
        </p:nvSpPr>
        <p:spPr>
          <a:xfrm>
            <a:off x="914400" y="1447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请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符合以下条件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二次函数的例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"/>
          <p:cNvGrpSpPr/>
          <p:nvPr/>
        </p:nvGrpSpPr>
        <p:grpSpPr>
          <a:xfrm>
            <a:off x="1143000" y="457200"/>
            <a:ext cx="2590920" cy="587520"/>
            <a:chOff x="1143000" y="457200"/>
            <a:chExt cx="2590920" cy="587520"/>
          </a:xfrm>
        </p:grpSpPr>
        <p:sp>
          <p:nvSpPr>
            <p:cNvPr id="307" name="Text Box 5"/>
            <p:cNvSpPr/>
            <p:nvPr/>
          </p:nvSpPr>
          <p:spPr>
            <a:xfrm>
              <a:off x="1600200" y="45720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练一练</a:t>
              </a:r>
              <a:r>
                <a:rPr b="1" lang="zh-CN" sz="28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Picture 6" descr="LINE07"/>
            <p:cNvPicPr/>
            <p:nvPr/>
          </p:nvPicPr>
          <p:blipFill>
            <a:blip r:embed="rId2"/>
            <a:stretch/>
          </p:blipFill>
          <p:spPr>
            <a:xfrm>
              <a:off x="1143000" y="914400"/>
              <a:ext cx="2590920" cy="13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Text Box 7"/>
          <p:cNvSpPr/>
          <p:nvPr/>
        </p:nvSpPr>
        <p:spPr>
          <a:xfrm>
            <a:off x="1219320" y="26668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二次项系数是一次项系数的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倍，            常数项为任意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1295280" y="39625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二次项系数为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一次项系数为常数项的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2205360" y="1519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展示才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若函数           为二次函数，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40147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Object 5" descr=""/>
          <p:cNvPicPr/>
          <p:nvPr/>
        </p:nvPicPr>
        <p:blipFill>
          <a:blip r:embed="rId1"/>
          <a:stretch/>
        </p:blipFill>
        <p:spPr>
          <a:xfrm>
            <a:off x="2971800" y="1282680"/>
            <a:ext cx="2395440" cy="635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LINE24"/>
          <p:cNvPicPr/>
          <p:nvPr/>
        </p:nvPicPr>
        <p:blipFill>
          <a:blip r:embed="rId2"/>
          <a:stretch/>
        </p:blipFill>
        <p:spPr>
          <a:xfrm>
            <a:off x="1600200" y="990720"/>
            <a:ext cx="3809880" cy="1317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7"/>
          <p:cNvSpPr/>
          <p:nvPr/>
        </p:nvSpPr>
        <p:spPr>
          <a:xfrm>
            <a:off x="623880" y="258768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解：因为该函数为二次函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Object 8" descr=""/>
          <p:cNvPicPr/>
          <p:nvPr/>
        </p:nvPicPr>
        <p:blipFill>
          <a:blip r:embed="rId3"/>
          <a:stretch/>
        </p:blipFill>
        <p:spPr>
          <a:xfrm>
            <a:off x="2266920" y="3205080"/>
            <a:ext cx="2914560" cy="976320"/>
          </a:xfrm>
          <a:prstGeom prst="rect">
            <a:avLst/>
          </a:prstGeom>
          <a:ln w="0">
            <a:noFill/>
          </a:ln>
        </p:spPr>
      </p:pic>
      <p:pic>
        <p:nvPicPr>
          <p:cNvPr id="318" name="Object 9" descr=""/>
          <p:cNvPicPr/>
          <p:nvPr/>
        </p:nvPicPr>
        <p:blipFill>
          <a:blip r:embed="rId4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0"/>
          <p:cNvSpPr/>
          <p:nvPr/>
        </p:nvSpPr>
        <p:spPr>
          <a:xfrm>
            <a:off x="495360" y="42847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解（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得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m=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228600" y="4844880"/>
            <a:ext cx="40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解（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Object 12" descr=""/>
          <p:cNvPicPr/>
          <p:nvPr/>
        </p:nvPicPr>
        <p:blipFill>
          <a:blip r:embed="rId5"/>
          <a:stretch/>
        </p:blipFill>
        <p:spPr>
          <a:xfrm>
            <a:off x="3505320" y="4757760"/>
            <a:ext cx="2514600" cy="65556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3"/>
          <p:cNvSpPr/>
          <p:nvPr/>
        </p:nvSpPr>
        <p:spPr>
          <a:xfrm>
            <a:off x="804960" y="5424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所以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m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Object 2" descr=""/>
          <p:cNvPicPr/>
          <p:nvPr/>
        </p:nvPicPr>
        <p:blipFill>
          <a:blip r:embed="rId1"/>
          <a:stretch/>
        </p:blipFill>
        <p:spPr>
          <a:xfrm>
            <a:off x="549360" y="1019160"/>
            <a:ext cx="6689520" cy="961920"/>
          </a:xfrm>
          <a:prstGeom prst="rect">
            <a:avLst/>
          </a:prstGeom>
          <a:ln w="0">
            <a:noFill/>
          </a:ln>
        </p:spPr>
      </p:pic>
      <p:pic>
        <p:nvPicPr>
          <p:cNvPr id="324" name="Object 3" descr=""/>
          <p:cNvPicPr/>
          <p:nvPr/>
        </p:nvPicPr>
        <p:blipFill>
          <a:blip r:embed="rId2"/>
          <a:stretch/>
        </p:blipFill>
        <p:spPr>
          <a:xfrm>
            <a:off x="808200" y="3638520"/>
            <a:ext cx="3108240" cy="636480"/>
          </a:xfrm>
          <a:prstGeom prst="rect">
            <a:avLst/>
          </a:prstGeom>
          <a:ln w="0">
            <a:noFill/>
          </a:ln>
        </p:spPr>
      </p:pic>
      <p:pic>
        <p:nvPicPr>
          <p:cNvPr id="325" name="Object 4" descr=""/>
          <p:cNvPicPr/>
          <p:nvPr/>
        </p:nvPicPr>
        <p:blipFill>
          <a:blip r:embed="rId3"/>
          <a:stretch/>
        </p:blipFill>
        <p:spPr>
          <a:xfrm>
            <a:off x="2041560" y="4275000"/>
            <a:ext cx="2606760" cy="621000"/>
          </a:xfrm>
          <a:prstGeom prst="rect">
            <a:avLst/>
          </a:prstGeom>
          <a:ln w="0">
            <a:noFill/>
          </a:ln>
        </p:spPr>
      </p:pic>
      <p:pic>
        <p:nvPicPr>
          <p:cNvPr id="326" name="Object 5" descr=""/>
          <p:cNvPicPr/>
          <p:nvPr/>
        </p:nvPicPr>
        <p:blipFill>
          <a:blip r:embed="rId4"/>
          <a:stretch/>
        </p:blipFill>
        <p:spPr>
          <a:xfrm>
            <a:off x="2041560" y="4924440"/>
            <a:ext cx="3825720" cy="654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qz_1rejo[1]"/>
          <p:cNvPicPr/>
          <p:nvPr/>
        </p:nvPicPr>
        <p:blipFill>
          <a:blip r:embed="rId5"/>
          <a:stretch/>
        </p:blipFill>
        <p:spPr>
          <a:xfrm>
            <a:off x="5580000" y="4653000"/>
            <a:ext cx="3276720" cy="20350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685800" y="2500200"/>
            <a:ext cx="36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是一次函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80880" y="29718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685800" y="2971800"/>
            <a:ext cx="46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是正比例函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685800" y="1981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是二次函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11"/>
          <p:cNvGrpSpPr/>
          <p:nvPr/>
        </p:nvGrpSpPr>
        <p:grpSpPr>
          <a:xfrm>
            <a:off x="685800" y="372960"/>
            <a:ext cx="3352680" cy="625320"/>
            <a:chOff x="685800" y="372960"/>
            <a:chExt cx="3352680" cy="625320"/>
          </a:xfrm>
        </p:grpSpPr>
        <p:sp>
          <p:nvSpPr>
            <p:cNvPr id="333" name="Text Box 12"/>
            <p:cNvSpPr/>
            <p:nvPr/>
          </p:nvSpPr>
          <p:spPr>
            <a:xfrm>
              <a:off x="914400" y="372960"/>
              <a:ext cx="2879640" cy="457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ffcc"/>
                  </a:solidFill>
                  <a:latin typeface="Times New Roman"/>
                  <a:ea typeface="华文行楷"/>
                </a:rPr>
                <a:t>超级链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Picture 13" descr="LINE07"/>
            <p:cNvPicPr/>
            <p:nvPr/>
          </p:nvPicPr>
          <p:blipFill>
            <a:blip r:embed="rId6"/>
            <a:stretch/>
          </p:blipFill>
          <p:spPr>
            <a:xfrm>
              <a:off x="685800" y="830160"/>
              <a:ext cx="3352680" cy="16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3429000"/>
            <a:ext cx="9144000" cy="1940040"/>
            <a:chOff x="0" y="3429000"/>
            <a:chExt cx="9144000" cy="1940040"/>
          </a:xfrm>
        </p:grpSpPr>
        <p:sp>
          <p:nvSpPr>
            <p:cNvPr id="336" name="Rectangle 3"/>
            <p:cNvSpPr/>
            <p:nvPr/>
          </p:nvSpPr>
          <p:spPr>
            <a:xfrm>
              <a:off x="0" y="3629160"/>
              <a:ext cx="9144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如果函数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y=(k-3)         +kx+1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是二次函数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则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k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的值一定是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______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Object 4" descr=""/>
            <p:cNvPicPr/>
            <p:nvPr/>
          </p:nvPicPr>
          <p:blipFill>
            <a:blip r:embed="rId1"/>
            <a:stretch/>
          </p:blipFill>
          <p:spPr>
            <a:xfrm>
              <a:off x="3830760" y="3429000"/>
              <a:ext cx="20937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437920" y="8229600"/>
            <a:ext cx="304812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9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title"/>
          </p:nvPr>
        </p:nvSpPr>
        <p:spPr>
          <a:xfrm>
            <a:off x="250920" y="259920"/>
            <a:ext cx="367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黑体"/>
              </a:rPr>
              <a:t>敢于创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4227480" y="4221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9"/>
          <p:cNvGrpSpPr/>
          <p:nvPr/>
        </p:nvGrpSpPr>
        <p:grpSpPr>
          <a:xfrm>
            <a:off x="228600" y="1628640"/>
            <a:ext cx="8915400" cy="2564640"/>
            <a:chOff x="228600" y="1628640"/>
            <a:chExt cx="8915400" cy="2564640"/>
          </a:xfrm>
        </p:grpSpPr>
        <p:sp>
          <p:nvSpPr>
            <p:cNvPr id="343" name="Text Box 10"/>
            <p:cNvSpPr/>
            <p:nvPr/>
          </p:nvSpPr>
          <p:spPr>
            <a:xfrm>
              <a:off x="228600" y="190476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如果函数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y=         +kx+1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是二次函数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则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k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的值一定是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______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4" name="Object 11" descr=""/>
            <p:cNvPicPr/>
            <p:nvPr/>
          </p:nvPicPr>
          <p:blipFill>
            <a:blip r:embed="rId2"/>
            <a:stretch/>
          </p:blipFill>
          <p:spPr>
            <a:xfrm>
              <a:off x="2916360" y="1628640"/>
              <a:ext cx="20937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Text Box 12"/>
          <p:cNvSpPr/>
          <p:nvPr/>
        </p:nvSpPr>
        <p:spPr>
          <a:xfrm>
            <a:off x="3600000" y="242100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0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知识的升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Object 3" descr=""/>
          <p:cNvPicPr/>
          <p:nvPr/>
        </p:nvPicPr>
        <p:blipFill>
          <a:blip r:embed="rId1"/>
          <a:stretch/>
        </p:blipFill>
        <p:spPr>
          <a:xfrm flipH="1">
            <a:off x="3162240" y="7475400"/>
            <a:ext cx="152640" cy="176688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4"/>
          <p:cNvSpPr/>
          <p:nvPr/>
        </p:nvSpPr>
        <p:spPr>
          <a:xfrm>
            <a:off x="179280" y="12114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已知函数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(1) k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为何值时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的一次函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(2) k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为何值时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的二次函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6"/>
          <p:cNvGrpSpPr/>
          <p:nvPr/>
        </p:nvGrpSpPr>
        <p:grpSpPr>
          <a:xfrm>
            <a:off x="-1184400" y="2997360"/>
            <a:ext cx="7634160" cy="2052360"/>
            <a:chOff x="-1184400" y="2997360"/>
            <a:chExt cx="7634160" cy="2052360"/>
          </a:xfrm>
        </p:grpSpPr>
        <p:sp>
          <p:nvSpPr>
            <p:cNvPr id="350" name="Text Box 7"/>
            <p:cNvSpPr/>
            <p:nvPr/>
          </p:nvSpPr>
          <p:spPr>
            <a:xfrm>
              <a:off x="1455480" y="3246120"/>
              <a:ext cx="183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Object 8" descr=""/>
            <p:cNvPicPr/>
            <p:nvPr/>
          </p:nvPicPr>
          <p:blipFill>
            <a:blip r:embed="rId2"/>
            <a:stretch/>
          </p:blipFill>
          <p:spPr>
            <a:xfrm>
              <a:off x="4168080" y="3371760"/>
              <a:ext cx="88560" cy="1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Object 9" descr=""/>
            <p:cNvPicPr/>
            <p:nvPr/>
          </p:nvPicPr>
          <p:blipFill>
            <a:blip r:embed="rId3"/>
            <a:stretch/>
          </p:blipFill>
          <p:spPr>
            <a:xfrm>
              <a:off x="4441320" y="2997360"/>
              <a:ext cx="11376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10"/>
            <p:cNvSpPr/>
            <p:nvPr/>
          </p:nvSpPr>
          <p:spPr>
            <a:xfrm>
              <a:off x="-1184400" y="3309840"/>
              <a:ext cx="7631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3" marL="1371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解（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根据题意得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∴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k=1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时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,y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是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x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的一次函数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Object 11" descr=""/>
            <p:cNvPicPr/>
            <p:nvPr/>
          </p:nvPicPr>
          <p:blipFill>
            <a:blip r:embed="rId4"/>
            <a:stretch/>
          </p:blipFill>
          <p:spPr>
            <a:xfrm>
              <a:off x="4215960" y="3109680"/>
              <a:ext cx="2233800" cy="147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Object 12" descr=""/>
          <p:cNvPicPr/>
          <p:nvPr/>
        </p:nvPicPr>
        <p:blipFill>
          <a:blip r:embed="rId5"/>
          <a:stretch/>
        </p:blipFill>
        <p:spPr>
          <a:xfrm>
            <a:off x="2124000" y="1052640"/>
            <a:ext cx="5327640" cy="877680"/>
          </a:xfrm>
          <a:prstGeom prst="rect">
            <a:avLst/>
          </a:prstGeom>
          <a:ln w="0">
            <a:noFill/>
          </a:ln>
        </p:spPr>
      </p:pic>
      <p:pic>
        <p:nvPicPr>
          <p:cNvPr id="356" name="Object 13" descr=""/>
          <p:cNvPicPr/>
          <p:nvPr/>
        </p:nvPicPr>
        <p:blipFill>
          <a:blip r:embed="rId6"/>
          <a:stretch/>
        </p:blipFill>
        <p:spPr>
          <a:xfrm>
            <a:off x="179280" y="5157720"/>
            <a:ext cx="7201080" cy="1481040"/>
          </a:xfrm>
          <a:prstGeom prst="rect">
            <a:avLst/>
          </a:prstGeom>
          <a:ln w="0">
            <a:noFill/>
          </a:ln>
        </p:spPr>
      </p:pic>
      <p:sp>
        <p:nvSpPr>
          <p:cNvPr id="357" name="文本框 8200"/>
          <p:cNvSpPr/>
          <p:nvPr/>
        </p:nvSpPr>
        <p:spPr>
          <a:xfrm>
            <a:off x="1386000" y="8762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228600" y="6858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324000" y="2602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当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为何值时，函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(m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2)x</a:t>
            </a:r>
            <a:r>
              <a:rPr b="1" lang="zh-CN" sz="54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1" lang="zh-CN" sz="4000" spc="-1" strike="noStrike" baseline="70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 baseline="28000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1" lang="zh-CN" sz="5400" spc="-1" strike="noStrike" baseline="28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4x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的二次函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684360" y="2997360"/>
            <a:ext cx="784836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m-2≠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4800" spc="-1" strike="noStrike" baseline="8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-2=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m≠2       m=±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∴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124080" y="4952880"/>
            <a:ext cx="2743200" cy="82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二次函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684360" y="333360"/>
            <a:ext cx="2735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函数知多少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50" name="Picture 4" descr="Q_011"/>
          <p:cNvPicPr/>
          <p:nvPr/>
        </p:nvPicPr>
        <p:blipFill>
          <a:blip r:embed="rId1"/>
          <a:stretch/>
        </p:blipFill>
        <p:spPr>
          <a:xfrm>
            <a:off x="3780000" y="476280"/>
            <a:ext cx="450720" cy="5256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-506160" y="1523880"/>
            <a:ext cx="5776560" cy="3809880"/>
            <a:chOff x="-506160" y="1523880"/>
            <a:chExt cx="5776560" cy="3809880"/>
          </a:xfrm>
        </p:grpSpPr>
        <p:sp>
          <p:nvSpPr>
            <p:cNvPr id="52" name="Text Box 6"/>
            <p:cNvSpPr/>
            <p:nvPr/>
          </p:nvSpPr>
          <p:spPr>
            <a:xfrm>
              <a:off x="-506160" y="1523880"/>
              <a:ext cx="1277640" cy="3352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变量之间的关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776160" y="3200400"/>
              <a:ext cx="51912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795600" y="2895480"/>
              <a:ext cx="1277640" cy="1066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9"/>
            <p:cNvSpPr/>
            <p:nvPr/>
          </p:nvSpPr>
          <p:spPr>
            <a:xfrm>
              <a:off x="2101680" y="3200400"/>
              <a:ext cx="48888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0"/>
            <p:cNvSpPr/>
            <p:nvPr/>
          </p:nvSpPr>
          <p:spPr>
            <a:xfrm>
              <a:off x="2514600" y="1676160"/>
              <a:ext cx="631800" cy="3657600"/>
            </a:xfrm>
            <a:custGeom>
              <a:avLst/>
              <a:gdLst>
                <a:gd name="textAreaLeft" fmla="*/ 403560 w 631800"/>
                <a:gd name="textAreaRight" fmla="*/ 632160 w 63180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60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1"/>
            <p:cNvSpPr/>
            <p:nvPr/>
          </p:nvSpPr>
          <p:spPr>
            <a:xfrm>
              <a:off x="3124080" y="1523880"/>
              <a:ext cx="1969920" cy="581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一次函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2"/>
            <p:cNvSpPr/>
            <p:nvPr/>
          </p:nvSpPr>
          <p:spPr>
            <a:xfrm>
              <a:off x="2895480" y="3200400"/>
              <a:ext cx="2374920" cy="581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反比例函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AutoShape 13"/>
          <p:cNvSpPr/>
          <p:nvPr/>
        </p:nvSpPr>
        <p:spPr>
          <a:xfrm>
            <a:off x="5105520" y="1219320"/>
            <a:ext cx="533160" cy="11430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5638680" y="762120"/>
            <a:ext cx="3276720" cy="642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=kx+b (k≠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5638680" y="1752480"/>
            <a:ext cx="266724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比例函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=kx (k≠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228600" y="685800"/>
            <a:ext cx="868680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练习：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y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＝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(m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＋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3)x</a:t>
            </a:r>
            <a:r>
              <a:rPr b="1" lang="zh-CN" sz="6000" spc="-1" strike="noStrike" baseline="30000">
                <a:solidFill>
                  <a:srgbClr val="ff00ff"/>
                </a:solidFill>
                <a:latin typeface="黑体"/>
                <a:ea typeface="黑体"/>
              </a:rPr>
              <a:t>m</a:t>
            </a:r>
            <a:r>
              <a:rPr b="1" lang="zh-CN" sz="6000" spc="-1" strike="noStrike" baseline="44000">
                <a:solidFill>
                  <a:srgbClr val="ff00ff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 baseline="30000">
                <a:solidFill>
                  <a:srgbClr val="ff00ff"/>
                </a:solidFill>
                <a:latin typeface="黑体"/>
                <a:ea typeface="黑体"/>
              </a:rPr>
              <a:t>＋</a:t>
            </a:r>
            <a:r>
              <a:rPr b="1" lang="zh-CN" sz="6000" spc="-1" strike="noStrike" baseline="30000">
                <a:solidFill>
                  <a:srgbClr val="ff00ff"/>
                </a:solidFill>
                <a:latin typeface="黑体"/>
                <a:ea typeface="黑体"/>
              </a:rPr>
              <a:t>m</a:t>
            </a:r>
            <a:r>
              <a:rPr b="1" lang="zh-CN" sz="6000" spc="-1" strike="noStrike" baseline="30000">
                <a:solidFill>
                  <a:srgbClr val="ff00ff"/>
                </a:solidFill>
                <a:latin typeface="黑体"/>
                <a:ea typeface="黑体"/>
              </a:rPr>
              <a:t>－</a:t>
            </a:r>
            <a:r>
              <a:rPr b="1" lang="zh-CN" sz="6000" spc="-1" strike="noStrike" baseline="30000">
                <a:solidFill>
                  <a:srgbClr val="ff00ff"/>
                </a:solidFill>
                <a:latin typeface="黑体"/>
                <a:ea typeface="黑体"/>
              </a:rPr>
              <a:t>4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＋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(m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＋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2)x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＋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3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，当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m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为何值时，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y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是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x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的二次函数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843280" y="4508640"/>
            <a:ext cx="468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m=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468360" y="404640"/>
            <a:ext cx="27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小结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0" y="133344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定义：一般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形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y=a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²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+bx+c(a,b,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常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a≠0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函数叫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二次函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y=a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²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+bx+c(a,b,c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是常数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,a≠0)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的几种不同表示形式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(1)y=a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²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(a≠0,b=0,c=0,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(2)y=a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²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+c(a≠0,b=0,c≠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(3)y=a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²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+bx(a≠0,b≠0,c=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定义的实质是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²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+bx+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整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自变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最高次数是二次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自变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取值范围是全体实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9324-D680-4B90-B752-24C24E56C0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097_b"/>
          <p:cNvPicPr/>
          <p:nvPr/>
        </p:nvPicPr>
        <p:blipFill>
          <a:blip r:embed="rId1"/>
          <a:stretch/>
        </p:blipFill>
        <p:spPr>
          <a:xfrm>
            <a:off x="6054840" y="1557360"/>
            <a:ext cx="3089160" cy="5300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Img213265142"/>
          <p:cNvPicPr/>
          <p:nvPr/>
        </p:nvPicPr>
        <p:blipFill>
          <a:blip r:embed="rId2"/>
          <a:stretch/>
        </p:blipFill>
        <p:spPr>
          <a:xfrm>
            <a:off x="0" y="3213000"/>
            <a:ext cx="2414520" cy="3645000"/>
          </a:xfrm>
          <a:prstGeom prst="rect">
            <a:avLst/>
          </a:prstGeom>
          <a:ln w="0">
            <a:noFill/>
          </a:ln>
        </p:spPr>
      </p:pic>
      <p:sp>
        <p:nvSpPr>
          <p:cNvPr id="64" name="Arc 4"/>
          <p:cNvSpPr/>
          <p:nvPr/>
        </p:nvSpPr>
        <p:spPr>
          <a:xfrm rot="18109800">
            <a:off x="2553120" y="1551960"/>
            <a:ext cx="3323880" cy="2997360"/>
          </a:xfrm>
          <a:custGeom>
            <a:avLst/>
            <a:gdLst/>
            <a:ahLst/>
            <a:rect l="l" t="t" r="r" b="b"/>
            <a:pathLst>
              <a:path fill="none" w="24877" h="28761">
                <a:moveTo>
                  <a:pt x="0" y="250"/>
                </a:moveTo>
                <a:cubicBezTo>
                  <a:pt x="1084" y="83"/>
                  <a:pt x="2179" y="-1"/>
                  <a:pt x="3277" y="0"/>
                </a:cubicBezTo>
                <a:cubicBezTo>
                  <a:pt x="15206" y="0"/>
                  <a:pt x="24877" y="9670"/>
                  <a:pt x="24877" y="21600"/>
                </a:cubicBezTo>
                <a:cubicBezTo>
                  <a:pt x="24877" y="24038"/>
                  <a:pt x="24463" y="26460"/>
                  <a:pt x="23655" y="28761"/>
                </a:cubicBezTo>
              </a:path>
              <a:path stroke="0" w="24877" h="28761">
                <a:moveTo>
                  <a:pt x="0" y="250"/>
                </a:moveTo>
                <a:cubicBezTo>
                  <a:pt x="1084" y="83"/>
                  <a:pt x="2179" y="-1"/>
                  <a:pt x="3277" y="0"/>
                </a:cubicBezTo>
                <a:cubicBezTo>
                  <a:pt x="15206" y="0"/>
                  <a:pt x="24877" y="9670"/>
                  <a:pt x="24877" y="21600"/>
                </a:cubicBezTo>
                <a:cubicBezTo>
                  <a:pt x="24877" y="24038"/>
                  <a:pt x="24463" y="26460"/>
                  <a:pt x="23655" y="28761"/>
                </a:cubicBezTo>
                <a:lnTo>
                  <a:pt x="3277" y="21600"/>
                </a:lnTo>
                <a:lnTo>
                  <a:pt x="0" y="25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1124158998"/>
          <p:cNvPicPr/>
          <p:nvPr/>
        </p:nvPicPr>
        <p:blipFill>
          <a:blip r:embed="rId3"/>
          <a:stretch/>
        </p:blipFill>
        <p:spPr>
          <a:xfrm>
            <a:off x="5867280" y="2060640"/>
            <a:ext cx="7905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720" y="620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喷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4"/>
          <p:cNvPicPr/>
          <p:nvPr/>
        </p:nvPicPr>
        <p:blipFill>
          <a:blip r:embed="rId1"/>
          <a:stretch/>
        </p:blipFill>
        <p:spPr>
          <a:xfrm>
            <a:off x="-318960" y="0"/>
            <a:ext cx="975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newcastle01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3"/>
          <p:cNvSpPr/>
          <p:nvPr/>
        </p:nvSpPr>
        <p:spPr>
          <a:xfrm>
            <a:off x="1295280" y="1066680"/>
            <a:ext cx="5181840" cy="5639040"/>
          </a:xfrm>
          <a:custGeom>
            <a:avLst/>
            <a:gdLst/>
            <a:ahLst/>
            <a:rect l="l" t="t" r="r" b="b"/>
            <a:pathLst>
              <a:path w="19567" h="4841">
                <a:moveTo>
                  <a:pt x="2514" y="4840"/>
                </a:moveTo>
                <a:cubicBezTo>
                  <a:pt x="4432" y="2174"/>
                  <a:pt x="7515" y="593"/>
                  <a:pt x="10800" y="594"/>
                </a:cubicBezTo>
                <a:cubicBezTo>
                  <a:pt x="14084" y="594"/>
                  <a:pt x="17167" y="2174"/>
                  <a:pt x="19085" y="4840"/>
                </a:cubicBezTo>
                <a:lnTo>
                  <a:pt x="19567" y="4493"/>
                </a:lnTo>
                <a:cubicBezTo>
                  <a:pt x="17538" y="1672"/>
                  <a:pt x="14275" y="-1"/>
                  <a:pt x="10799" y="0"/>
                </a:cubicBezTo>
                <a:cubicBezTo>
                  <a:pt x="7324" y="0"/>
                  <a:pt x="4061" y="1672"/>
                  <a:pt x="2032" y="4493"/>
                </a:cubicBezTo>
                <a:lnTo>
                  <a:pt x="2514" y="48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桥拱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3"/>
          <p:cNvSpPr/>
          <p:nvPr/>
        </p:nvSpPr>
        <p:spPr>
          <a:xfrm>
            <a:off x="1905120" y="2514600"/>
            <a:ext cx="5486400" cy="3733920"/>
          </a:xfrm>
          <a:custGeom>
            <a:avLst/>
            <a:gdLst/>
            <a:ahLst/>
            <a:rect l="l" t="t" r="r" b="b"/>
            <a:pathLst>
              <a:path w="19603" h="4831">
                <a:moveTo>
                  <a:pt x="2398" y="4830"/>
                </a:moveTo>
                <a:cubicBezTo>
                  <a:pt x="4331" y="2109"/>
                  <a:pt x="7462" y="492"/>
                  <a:pt x="10800" y="493"/>
                </a:cubicBezTo>
                <a:cubicBezTo>
                  <a:pt x="14137" y="493"/>
                  <a:pt x="17268" y="2109"/>
                  <a:pt x="19201" y="4830"/>
                </a:cubicBezTo>
                <a:lnTo>
                  <a:pt x="19603" y="4544"/>
                </a:lnTo>
                <a:cubicBezTo>
                  <a:pt x="17578" y="1693"/>
                  <a:pt x="14297" y="-1"/>
                  <a:pt x="10799" y="0"/>
                </a:cubicBezTo>
                <a:cubicBezTo>
                  <a:pt x="7302" y="0"/>
                  <a:pt x="4021" y="1693"/>
                  <a:pt x="1996" y="4544"/>
                </a:cubicBezTo>
                <a:lnTo>
                  <a:pt x="2398" y="483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喷泉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3"/>
          <p:cNvSpPr/>
          <p:nvPr/>
        </p:nvSpPr>
        <p:spPr>
          <a:xfrm>
            <a:off x="1752480" y="2286000"/>
            <a:ext cx="3353040" cy="5943600"/>
          </a:xfrm>
          <a:custGeom>
            <a:avLst/>
            <a:gdLst/>
            <a:ahLst/>
            <a:rect l="l" t="t" r="r" b="b"/>
            <a:pathLst>
              <a:path w="16583" h="1882">
                <a:moveTo>
                  <a:pt x="5144" y="1881"/>
                </a:moveTo>
                <a:cubicBezTo>
                  <a:pt x="6835" y="808"/>
                  <a:pt x="8797" y="238"/>
                  <a:pt x="10800" y="239"/>
                </a:cubicBezTo>
                <a:cubicBezTo>
                  <a:pt x="12802" y="239"/>
                  <a:pt x="14764" y="808"/>
                  <a:pt x="16455" y="1881"/>
                </a:cubicBezTo>
                <a:lnTo>
                  <a:pt x="16583" y="1679"/>
                </a:lnTo>
                <a:cubicBezTo>
                  <a:pt x="14854" y="582"/>
                  <a:pt x="12848" y="-1"/>
                  <a:pt x="10799" y="0"/>
                </a:cubicBezTo>
                <a:cubicBezTo>
                  <a:pt x="8751" y="0"/>
                  <a:pt x="6745" y="582"/>
                  <a:pt x="5016" y="1679"/>
                </a:cubicBezTo>
                <a:lnTo>
                  <a:pt x="5144" y="188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tsh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3"/>
          <p:cNvSpPr/>
          <p:nvPr/>
        </p:nvSpPr>
        <p:spPr>
          <a:xfrm>
            <a:off x="3276720" y="838080"/>
            <a:ext cx="4647960" cy="3429000"/>
          </a:xfrm>
          <a:custGeom>
            <a:avLst/>
            <a:gdLst/>
            <a:ahLst/>
            <a:rect l="l" t="t" r="r" b="b"/>
            <a:pathLst>
              <a:path w="19159" h="4271">
                <a:moveTo>
                  <a:pt x="2818" y="4270"/>
                </a:moveTo>
                <a:cubicBezTo>
                  <a:pt x="4777" y="1876"/>
                  <a:pt x="7706" y="487"/>
                  <a:pt x="10800" y="488"/>
                </a:cubicBezTo>
                <a:cubicBezTo>
                  <a:pt x="13893" y="488"/>
                  <a:pt x="16822" y="1876"/>
                  <a:pt x="18781" y="4270"/>
                </a:cubicBezTo>
                <a:lnTo>
                  <a:pt x="19159" y="3961"/>
                </a:lnTo>
                <a:cubicBezTo>
                  <a:pt x="17107" y="1454"/>
                  <a:pt x="14039" y="-1"/>
                  <a:pt x="10799" y="0"/>
                </a:cubicBezTo>
                <a:cubicBezTo>
                  <a:pt x="7560" y="0"/>
                  <a:pt x="4492" y="1454"/>
                  <a:pt x="2440" y="3961"/>
                </a:cubicBezTo>
                <a:lnTo>
                  <a:pt x="2818" y="427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2T09:04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39:04Z</dcterms:modified>
  <cp:revision>2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