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jpeg" ContentType="image/jpeg"/>
  <Override PartName="/ppt/media/image1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CE67-7761-4622-B7BD-EADAF458F0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DC80-67FC-4320-A220-727D8DC57C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C4E-5139-432C-A116-E13EFC8B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3B0D-16F8-4B3F-8CCA-51DB3FE0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1AE48-6009-4856-8688-B00637FD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4A0F5-75DF-4158-95C3-CC3B7BCD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2F8D5-34EA-4A44-BEC1-15B7D8CD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37B6C-BC9B-46DA-8079-E8D99AAC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F4776-B485-430D-9996-390061BE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D54EF-367C-4BE5-97CD-07BA28C2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15B48-7030-4772-B4FE-71199B10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167C4-BA75-4736-AF34-252EFF5C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E9A5C-09EE-466C-8A31-32715B16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ED2FD-9DEF-4533-979C-D0CD5A25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396-9A71-4535-8A0A-05E9C34E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14F6C-C78C-4D60-BC5F-B620A02A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C7D85-AB1E-4AAF-86C0-439AE992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032BB-014A-48D7-878C-D3A2AEFE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9EB48-81FD-49AE-8F76-028E5A7D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EEDFE-CA0A-4F14-A016-DB2FE112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9B412-53FA-4826-9293-1CEC2779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EE3CA-8A0C-428F-A576-95135FD0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6D85F-1C24-42D3-BFF0-EE92A1EF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D29DE-E55F-4A47-96FE-4405EEBC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0331B-A58F-483C-8FA2-4BF21262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CAB-F297-4F3A-A54C-880D1A93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1A814-9E2E-4D8E-BFD1-F3B2BE0F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7EEEE-7348-4543-A602-FEAE3E6C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EC2E7-36AD-43E8-BB17-165ED66F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AA23A-AD7A-40BE-A0B9-199FBD1C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5A9D5-4AE5-4726-9352-94489E35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05EE9-537A-4572-B7EE-04D08622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81AAC-A848-4E4E-BED8-56E1FBAC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F904B-DE25-4DC8-9EB7-ED9A47C5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906E5-23E4-4A76-A76B-560514DD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6289E-15FF-4207-9645-27D76BD2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E874-5B8E-4AD9-98B4-C935D914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DE2DA-B9F2-4CD4-B2C3-8ECB9C46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96A70-0999-46F4-8C05-EDC8F271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9A142-4467-4919-BB55-15B9590B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D152E-9CF3-41DC-83A8-3C23F25C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1ABF8-CBF9-46B7-905C-BFC490A5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79491-8936-47A0-8F17-A49740AC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72C66-CC46-4E15-B397-29721A20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D91E3-E797-4F4E-A6A1-4C13EA29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E999B-BA0F-4E44-885E-2B0DC677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E5ECE-2023-4996-B81F-F9792F3D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C480-0700-4C87-BCB9-84676447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73E1A-0FD2-4CDF-8DC7-4684B550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ECD6D-B817-4C74-A801-ECD972B2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A11C7-98E2-493E-884E-DE90B172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C9B50-B2AC-4519-8504-9097C40F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91E4F-5C90-4C8E-B15C-84DFA7BC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CE9C-8632-4E37-BB12-C1BE8126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C9A1-1FD4-491F-A840-A2EA717F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3749-C111-404D-9B33-545F987A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7A04-A912-40AD-81B5-D5946B0F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C039-38E7-4BFA-BB76-9DEF9A88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9FD-D3BE-40C8-BB08-30D66B80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2A51-3777-4C36-8E15-27504067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E7FF-E988-42F8-AFF3-FA41FD4C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2FAF-C1E9-475A-AAE4-F42E2FD8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7D38-BA81-4240-B9EF-020A2B57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7F51-1DDD-4462-9014-709DD5F9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109BA-DD9B-4AEB-A319-0CD4E392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6D0D0-CEA4-4D91-827E-6BDD28D5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968F5-512C-40AE-A050-A792EF56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330E5-D783-4F68-979C-BC5A47B1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0DD9B-CC3B-4088-921A-2F7BE7C4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F4F9-0DDD-4807-ACF6-9118F858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ECC28-2E68-4491-998E-28CB9C6F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79073-4358-4523-B7EF-9672A869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39379-2C75-4360-AFBC-CBC307E8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B539F-F600-448C-8FF5-CB305D9D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BFCC5-3E29-4C41-A9AB-5A5728E8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49370-6B99-442E-B737-8CFD8A6D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70DBE-AED7-4920-B6B6-94C41C0A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BEF3C-BF0B-4859-94A0-01756DAF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E6BAF-3570-4A18-8B65-EF9759D9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06DDF-F4D1-42CF-A674-493C3730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291F-9CFD-4343-B179-5B4483E6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FA25A-EBF2-4B5A-8572-B6DE1BFD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166D3-A1D7-4E6F-9F42-5452FCEA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A8F82-28FA-42A3-8D21-310782D8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66D46-0357-4F11-824C-8844F4F7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B454E-8AF2-4D9B-9BC7-B36548A0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FF0BA-3669-4FC5-9495-FE78D54F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84227-84C5-4A4B-9A94-2382E048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10AF5-CE59-4FA2-A5C4-79668871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4277C-7033-41B2-96EA-CE7A0756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BFE01-54E9-415E-A1D5-2B3BB53E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415-45B2-4864-87F9-A247450E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B708F-08DD-471D-ADF5-6AC4184D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E05DF-6D70-4F65-AFE2-E47126D2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F2222-9479-47DE-86DA-9952785F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FFD91-40D3-484D-BF3E-B0E13408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B10E0-1114-486D-B98C-7BAE6E06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AD5F2-6126-42C6-A362-487B71F2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F17FA-2A4A-4358-B92B-858ED2C5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F6656-FD33-4C1F-9AC7-3928FDB7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5F851-6567-4033-BA80-BD23C2EF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BC039-AA21-44FB-A38A-6FB21638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317A-974E-41D6-9BE6-71592B34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457EA-6D01-4ADC-998B-3246F4E2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51247-008E-4970-BB79-8C6A1BF9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4643D-6409-4394-91E5-E5101C34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E893B-71E7-42C8-A24A-682887C8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43D10-9305-4729-AA2B-AE1A4A29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54404-FB10-4A92-BB23-214C3606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F3E51-2BAF-478D-B604-417186B5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3EC74-D4DA-42E4-B8F9-A315E7C3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09007-5FCC-47F9-B651-F40D6C7D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E59E1-3F37-4578-981F-020B810B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F74-8B6B-4A23-AB32-7CB0142E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BD12F-4460-4F4B-ACFC-E4855695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13A12-3854-4F8D-B4FA-127DEFB3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32FC1-4B15-41F2-93D4-5114424E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4EFBE-1C98-49A5-A754-3F84BFDE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C365A-C1FF-4261-BFEA-9D0685F4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5FCA8-1683-452F-9B8F-0EF7A08F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1BA63-35D5-453A-8C69-AD19BF2E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30969-7A91-45F2-84B6-C382C8F8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30126-F74A-453F-A89A-E27CF348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C0145-4FDB-474E-9857-43D831F7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12F-B5B9-4B03-8B37-6BB365CA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2C014-CC67-4AEB-807A-89141C49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CD2EE-2B19-4731-9D17-E17DB1F4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BC37C-551B-4B00-A696-4BAC75B0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7783D-9ED9-4525-BD07-183D512B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99BDE-7745-4A05-9386-70C82556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F8BA5-48AD-4FB3-B588-D0E2FFE8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23A31-5476-4138-8539-8C6F0801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26A2D-F284-4FBE-AD8D-3262DF89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5244F-8755-4A64-A267-5D39A2AE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CD073-402F-4815-9E47-8E7066FE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A76-7313-440D-808D-4B5EC3C8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912E6-A8A7-42FF-A433-CE7AFF31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567FF-23B4-480F-AED9-06D628FD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C2A99-1B19-4AF2-BC64-A3CA0706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84236-42EF-4FA5-B352-1C0FA768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A0DF2-D7AF-4C03-B013-381B920F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2C900-3F13-42FD-92FA-95C73BE0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E8C53-9F8E-4AE6-929D-87326B32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67C8E-4313-494D-BF69-BAF1DBB9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38E96-EAF1-4C4D-BB9A-E4DF2DFA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79FCA-C641-435A-99B9-A4A36194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CBF5-1EB0-41B1-9C78-0A77E747E6C3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6A6E-9761-4422-90D6-6B3B4F60D317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500E-C5FE-43A0-A108-9C82770C8C6E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24B0-7E69-45A0-BE75-22C90C464DD1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4A16-3EBF-457D-8C30-3DD4765651EB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ED14-19F5-4839-B1DF-58F2DCE1685D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7616-DC12-4E7A-B1A2-A0AE86A25D36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34AA-531B-42E2-8A6D-F5B7F02D0126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28AC-1626-49B7-9CC4-06079D930AF3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9830-119D-4709-ADD6-87422BBCE705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C61D-AEEA-4846-8CA2-3F2830B29815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9B59-7613-436D-91C6-5D104717C478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WordArt 4"/>
          <p:cNvSpPr txBox="1"/>
          <p:nvPr/>
        </p:nvSpPr>
        <p:spPr>
          <a:xfrm>
            <a:off x="1284120" y="1989000"/>
            <a:ext cx="66978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微软雅黑"/>
              </a:rPr>
              <a:t>放大镜下的晶体</a:t>
            </a:r>
            <a:endParaRPr b="1" lang="en-US" sz="4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187280" y="7603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教科版六年级下册第一单元第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5"/>
          <p:cNvSpPr/>
          <p:nvPr/>
        </p:nvSpPr>
        <p:spPr>
          <a:xfrm>
            <a:off x="2136960" y="60674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图片 6" descr=""/>
          <p:cNvPicPr/>
          <p:nvPr/>
        </p:nvPicPr>
        <p:blipFill>
          <a:blip r:embed="rId2"/>
          <a:stretch/>
        </p:blipFill>
        <p:spPr>
          <a:xfrm>
            <a:off x="952560" y="3716280"/>
            <a:ext cx="3456000" cy="215424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7" descr=""/>
          <p:cNvPicPr/>
          <p:nvPr/>
        </p:nvPicPr>
        <p:blipFill>
          <a:blip r:embed="rId3"/>
          <a:stretch/>
        </p:blipFill>
        <p:spPr>
          <a:xfrm>
            <a:off x="4716360" y="3716280"/>
            <a:ext cx="3463920" cy="21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孔雀石"/>
          <p:cNvPicPr/>
          <p:nvPr/>
        </p:nvPicPr>
        <p:blipFill>
          <a:blip r:embed="rId2"/>
          <a:stretch/>
        </p:blipFill>
        <p:spPr>
          <a:xfrm>
            <a:off x="755640" y="260280"/>
            <a:ext cx="7201080" cy="5550120"/>
          </a:xfrm>
          <a:prstGeom prst="rect">
            <a:avLst/>
          </a:prstGeom>
          <a:ln w="0">
            <a:noFill/>
          </a:ln>
        </p:spPr>
      </p:pic>
      <p:sp>
        <p:nvSpPr>
          <p:cNvPr id="552" name="WordArt 3"/>
          <p:cNvSpPr txBox="1"/>
          <p:nvPr/>
        </p:nvSpPr>
        <p:spPr>
          <a:xfrm>
            <a:off x="1979640" y="5877000"/>
            <a:ext cx="51847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9900"/>
                  </a:outerShdw>
                </a:effectLst>
                <a:latin typeface="华文新魏"/>
              </a:rPr>
              <a:t>孔雀石——皮壳状、结核状等</a:t>
            </a:r>
            <a:endParaRPr b="0" lang="en-US" sz="2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990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電氣石"/>
          <p:cNvPicPr/>
          <p:nvPr/>
        </p:nvPicPr>
        <p:blipFill>
          <a:blip r:embed="rId2"/>
          <a:stretch/>
        </p:blipFill>
        <p:spPr>
          <a:xfrm>
            <a:off x="1042920" y="330120"/>
            <a:ext cx="6769080" cy="5181840"/>
          </a:xfrm>
          <a:prstGeom prst="rect">
            <a:avLst/>
          </a:prstGeom>
          <a:ln w="0">
            <a:noFill/>
          </a:ln>
        </p:spPr>
      </p:pic>
      <p:sp>
        <p:nvSpPr>
          <p:cNvPr id="554" name="WordArt 3"/>
          <p:cNvSpPr txBox="1"/>
          <p:nvPr/>
        </p:nvSpPr>
        <p:spPr>
          <a:xfrm>
            <a:off x="2340000" y="5805360"/>
            <a:ext cx="431964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9900"/>
                  </a:outerShdw>
                </a:effectLst>
                <a:latin typeface="华文新魏"/>
              </a:rPr>
              <a:t>电气石——柱状、三方柱等</a:t>
            </a:r>
            <a:endParaRPr b="0" lang="en-US" sz="2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990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鉻酸鉛礦"/>
          <p:cNvPicPr/>
          <p:nvPr/>
        </p:nvPicPr>
        <p:blipFill>
          <a:blip r:embed="rId2"/>
          <a:stretch/>
        </p:blipFill>
        <p:spPr>
          <a:xfrm>
            <a:off x="1224000" y="284040"/>
            <a:ext cx="6769080" cy="5399280"/>
          </a:xfrm>
          <a:prstGeom prst="rect">
            <a:avLst/>
          </a:prstGeom>
          <a:ln w="0">
            <a:noFill/>
          </a:ln>
        </p:spPr>
      </p:pic>
      <p:sp>
        <p:nvSpPr>
          <p:cNvPr id="556" name="WordArt 3"/>
          <p:cNvSpPr txBox="1"/>
          <p:nvPr/>
        </p:nvSpPr>
        <p:spPr>
          <a:xfrm>
            <a:off x="2411280" y="5877000"/>
            <a:ext cx="424836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9900"/>
                  </a:outerShdw>
                </a:effectLst>
                <a:latin typeface="华文新魏"/>
              </a:rPr>
              <a:t>铬酸铅矿——柱状</a:t>
            </a:r>
            <a:endParaRPr b="0" lang="en-US" sz="2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990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468360" y="1557360"/>
            <a:ext cx="83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下各种物质，你认为哪些是晶体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玻璃、冰、珍珠、雪花、食盐、白糖、味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3700080" y="620640"/>
            <a:ext cx="506880" cy="520560"/>
          </a:xfrm>
          <a:prstGeom prst="rect">
            <a:avLst/>
          </a:prstGeom>
          <a:solidFill>
            <a:srgbClr val="918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晶体的基本特征：有规则、几何外形、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1626480" y="36946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698040" y="36946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2467080" y="37123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3549600" y="369180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4664880" y="36946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5672880" y="36946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0"/>
          <p:cNvSpPr/>
          <p:nvPr/>
        </p:nvSpPr>
        <p:spPr>
          <a:xfrm>
            <a:off x="6752520" y="36946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YDXLZGW9D7ZEH{%)6WGIJ9R"/>
          <p:cNvPicPr/>
          <p:nvPr/>
        </p:nvPicPr>
        <p:blipFill>
          <a:blip r:embed="rId2"/>
          <a:stretch/>
        </p:blipFill>
        <p:spPr>
          <a:xfrm>
            <a:off x="324000" y="1413000"/>
            <a:ext cx="3995640" cy="38034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N}_1CN{1]YEI~OZ(K(S6}VX"/>
          <p:cNvPicPr/>
          <p:nvPr/>
        </p:nvPicPr>
        <p:blipFill>
          <a:blip r:embed="rId3"/>
          <a:stretch/>
        </p:blipFill>
        <p:spPr>
          <a:xfrm>
            <a:off x="324000" y="333360"/>
            <a:ext cx="3419280" cy="76536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4"/>
          <p:cNvSpPr/>
          <p:nvPr/>
        </p:nvSpPr>
        <p:spPr>
          <a:xfrm>
            <a:off x="1644480" y="55886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冰：六角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7" descr="[NRC)_OT6M4DR864ACXVE9U"/>
          <p:cNvPicPr/>
          <p:nvPr/>
        </p:nvPicPr>
        <p:blipFill>
          <a:blip r:embed="rId4"/>
          <a:stretch/>
        </p:blipFill>
        <p:spPr>
          <a:xfrm>
            <a:off x="5148360" y="3789360"/>
            <a:ext cx="3024000" cy="270828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9"/>
          <p:cNvSpPr/>
          <p:nvPr/>
        </p:nvSpPr>
        <p:spPr>
          <a:xfrm>
            <a:off x="5880960" y="3211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雪花：六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图片 1" descr=""/>
          <p:cNvPicPr/>
          <p:nvPr/>
        </p:nvPicPr>
        <p:blipFill>
          <a:blip r:embed="rId5"/>
          <a:stretch/>
        </p:blipFill>
        <p:spPr>
          <a:xfrm>
            <a:off x="5111640" y="260280"/>
            <a:ext cx="3095640" cy="284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图片 4" descr=""/>
          <p:cNvPicPr/>
          <p:nvPr/>
        </p:nvPicPr>
        <p:blipFill>
          <a:blip r:embed="rId2"/>
          <a:stretch/>
        </p:blipFill>
        <p:spPr>
          <a:xfrm>
            <a:off x="6975360" y="4680"/>
            <a:ext cx="2194200" cy="1700280"/>
          </a:xfrm>
          <a:prstGeom prst="rect">
            <a:avLst/>
          </a:prstGeom>
          <a:ln w="0">
            <a:noFill/>
          </a:ln>
        </p:spPr>
      </p:pic>
      <p:pic>
        <p:nvPicPr>
          <p:cNvPr id="573" name="图片 3" descr=""/>
          <p:cNvPicPr/>
          <p:nvPr/>
        </p:nvPicPr>
        <p:blipFill>
          <a:blip r:embed="rId3"/>
          <a:stretch/>
        </p:blipFill>
        <p:spPr>
          <a:xfrm>
            <a:off x="4508640" y="0"/>
            <a:ext cx="2340000" cy="1697040"/>
          </a:xfrm>
          <a:prstGeom prst="rect">
            <a:avLst/>
          </a:prstGeom>
          <a:ln w="0">
            <a:noFill/>
          </a:ln>
        </p:spPr>
      </p:pic>
      <p:pic>
        <p:nvPicPr>
          <p:cNvPr id="574" name="图片 2" descr=""/>
          <p:cNvPicPr/>
          <p:nvPr/>
        </p:nvPicPr>
        <p:blipFill>
          <a:blip r:embed="rId4"/>
          <a:stretch/>
        </p:blipFill>
        <p:spPr>
          <a:xfrm>
            <a:off x="2195640" y="4680"/>
            <a:ext cx="2228760" cy="1700280"/>
          </a:xfrm>
          <a:prstGeom prst="rect">
            <a:avLst/>
          </a:prstGeom>
          <a:ln w="0">
            <a:noFill/>
          </a:ln>
        </p:spPr>
      </p:pic>
      <p:pic>
        <p:nvPicPr>
          <p:cNvPr id="575" name="图片 1" descr=""/>
          <p:cNvPicPr/>
          <p:nvPr/>
        </p:nvPicPr>
        <p:blipFill>
          <a:blip r:embed="rId5"/>
          <a:stretch/>
        </p:blipFill>
        <p:spPr>
          <a:xfrm>
            <a:off x="-20520" y="0"/>
            <a:ext cx="2128680" cy="170028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125280" y="0"/>
            <a:ext cx="546480" cy="459720"/>
          </a:xfrm>
          <a:prstGeom prst="rect">
            <a:avLst/>
          </a:prstGeom>
          <a:solidFill>
            <a:srgbClr val="918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2320560" y="0"/>
            <a:ext cx="546480" cy="459720"/>
          </a:xfrm>
          <a:prstGeom prst="rect">
            <a:avLst/>
          </a:prstGeom>
          <a:solidFill>
            <a:srgbClr val="918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白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6136920" y="0"/>
            <a:ext cx="546480" cy="459720"/>
          </a:xfrm>
          <a:prstGeom prst="rect">
            <a:avLst/>
          </a:prstGeom>
          <a:solidFill>
            <a:srgbClr val="918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味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1"/>
          <p:cNvSpPr/>
          <p:nvPr/>
        </p:nvSpPr>
        <p:spPr>
          <a:xfrm>
            <a:off x="8472240" y="0"/>
            <a:ext cx="546480" cy="459720"/>
          </a:xfrm>
          <a:prstGeom prst="rect">
            <a:avLst/>
          </a:prstGeom>
          <a:solidFill>
            <a:srgbClr val="918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碱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395280" y="1916280"/>
          <a:ext cx="8148600" cy="4638600"/>
        </p:xfrm>
        <a:graphic>
          <a:graphicData uri="http://schemas.openxmlformats.org/drawingml/2006/table">
            <a:tbl>
              <a:tblPr/>
              <a:tblGrid>
                <a:gridCol w="1438200"/>
                <a:gridCol w="2232000"/>
                <a:gridCol w="2160720"/>
                <a:gridCol w="2317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d5d5"/>
                          </a:solidFill>
                          <a:latin typeface="Arial"/>
                          <a:ea typeface="宋体"/>
                        </a:rPr>
                        <a:t>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d5d5"/>
                          </a:solidFill>
                          <a:latin typeface="Arial"/>
                          <a:ea typeface="宋体"/>
                        </a:rPr>
                        <a:t>肉眼观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d5d5"/>
                          </a:solidFill>
                          <a:latin typeface="Arial"/>
                          <a:ea typeface="宋体"/>
                        </a:rPr>
                        <a:t>放大镜观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d5d5"/>
                          </a:solidFill>
                          <a:latin typeface="Arial"/>
                          <a:ea typeface="宋体"/>
                        </a:rPr>
                        <a:t>结晶后再观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1" name="Rectangle 75"/>
          <p:cNvSpPr/>
          <p:nvPr/>
        </p:nvSpPr>
        <p:spPr>
          <a:xfrm>
            <a:off x="796320" y="2708280"/>
            <a:ext cx="607320" cy="520560"/>
          </a:xfrm>
          <a:prstGeom prst="rect">
            <a:avLst/>
          </a:prstGeom>
          <a:solidFill>
            <a:srgbClr val="00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食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6"/>
          <p:cNvSpPr/>
          <p:nvPr/>
        </p:nvSpPr>
        <p:spPr>
          <a:xfrm>
            <a:off x="796320" y="3716280"/>
            <a:ext cx="607320" cy="520560"/>
          </a:xfrm>
          <a:prstGeom prst="rect">
            <a:avLst/>
          </a:prstGeom>
          <a:solidFill>
            <a:srgbClr val="00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白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7"/>
          <p:cNvSpPr/>
          <p:nvPr/>
        </p:nvSpPr>
        <p:spPr>
          <a:xfrm>
            <a:off x="796320" y="4724280"/>
            <a:ext cx="607320" cy="520560"/>
          </a:xfrm>
          <a:prstGeom prst="rect">
            <a:avLst/>
          </a:prstGeom>
          <a:solidFill>
            <a:srgbClr val="00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味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8"/>
          <p:cNvSpPr/>
          <p:nvPr/>
        </p:nvSpPr>
        <p:spPr>
          <a:xfrm>
            <a:off x="755280" y="5734080"/>
            <a:ext cx="607320" cy="520560"/>
          </a:xfrm>
          <a:prstGeom prst="rect">
            <a:avLst/>
          </a:prstGeom>
          <a:solidFill>
            <a:srgbClr val="00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碱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9"/>
          <p:cNvSpPr/>
          <p:nvPr/>
        </p:nvSpPr>
        <p:spPr>
          <a:xfrm>
            <a:off x="2483280" y="270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颗粒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82"/>
          <p:cNvSpPr/>
          <p:nvPr/>
        </p:nvSpPr>
        <p:spPr>
          <a:xfrm>
            <a:off x="2410560" y="3716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颗粒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84"/>
          <p:cNvSpPr/>
          <p:nvPr/>
        </p:nvSpPr>
        <p:spPr>
          <a:xfrm>
            <a:off x="2483280" y="580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5"/>
          <p:cNvSpPr/>
          <p:nvPr/>
        </p:nvSpPr>
        <p:spPr>
          <a:xfrm>
            <a:off x="2336760" y="4724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长颗粒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93" descr="`P}MVA4([JSQH}KK%TM8@GX"/>
          <p:cNvPicPr/>
          <p:nvPr/>
        </p:nvPicPr>
        <p:blipFill>
          <a:blip r:embed="rId6"/>
          <a:stretch/>
        </p:blipFill>
        <p:spPr>
          <a:xfrm>
            <a:off x="4716360" y="2492280"/>
            <a:ext cx="857520" cy="9050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94" descr="8[L}6`[J@)62OEDIK13O~69"/>
          <p:cNvPicPr/>
          <p:nvPr/>
        </p:nvPicPr>
        <p:blipFill>
          <a:blip r:embed="rId7"/>
          <a:stretch/>
        </p:blipFill>
        <p:spPr>
          <a:xfrm>
            <a:off x="4427640" y="3573360"/>
            <a:ext cx="1295280" cy="773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95" descr="Z3_HR_]S@SANLC4HR%(RL%U"/>
          <p:cNvPicPr/>
          <p:nvPr/>
        </p:nvPicPr>
        <p:blipFill>
          <a:blip r:embed="rId8"/>
          <a:stretch/>
        </p:blipFill>
        <p:spPr>
          <a:xfrm>
            <a:off x="4140360" y="4797360"/>
            <a:ext cx="2016000" cy="5428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97"/>
          <p:cNvSpPr/>
          <p:nvPr/>
        </p:nvSpPr>
        <p:spPr>
          <a:xfrm>
            <a:off x="4642560" y="573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01"/>
          <p:cNvSpPr/>
          <p:nvPr/>
        </p:nvSpPr>
        <p:spPr>
          <a:xfrm>
            <a:off x="6443640" y="2421000"/>
            <a:ext cx="192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2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2" descr=""/>
          <p:cNvPicPr/>
          <p:nvPr/>
        </p:nvPicPr>
        <p:blipFill>
          <a:blip r:embed="rId2"/>
          <a:stretch/>
        </p:blipFill>
        <p:spPr>
          <a:xfrm>
            <a:off x="3473280" y="4030560"/>
            <a:ext cx="3316320" cy="285444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1" descr=""/>
          <p:cNvPicPr/>
          <p:nvPr/>
        </p:nvPicPr>
        <p:blipFill>
          <a:blip r:embed="rId3"/>
          <a:stretch/>
        </p:blipFill>
        <p:spPr>
          <a:xfrm>
            <a:off x="3473280" y="936720"/>
            <a:ext cx="3313440" cy="29350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3" descr="AA_~{SPLU6K(LKVBF}4L~)J"/>
          <p:cNvPicPr/>
          <p:nvPr/>
        </p:nvPicPr>
        <p:blipFill>
          <a:blip r:embed="rId4"/>
          <a:stretch/>
        </p:blipFill>
        <p:spPr>
          <a:xfrm>
            <a:off x="0" y="4005360"/>
            <a:ext cx="3348000" cy="28526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" descr="3X$%Q%@$4R]S~7W5BSFZTX9"/>
          <p:cNvPicPr/>
          <p:nvPr/>
        </p:nvPicPr>
        <p:blipFill>
          <a:blip r:embed="rId5"/>
          <a:stretch/>
        </p:blipFill>
        <p:spPr>
          <a:xfrm>
            <a:off x="0" y="936720"/>
            <a:ext cx="3348000" cy="293508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6"/>
          <p:cNvSpPr/>
          <p:nvPr/>
        </p:nvSpPr>
        <p:spPr>
          <a:xfrm>
            <a:off x="357120" y="936720"/>
            <a:ext cx="1247400" cy="520560"/>
          </a:xfrm>
          <a:prstGeom prst="rect">
            <a:avLst/>
          </a:prstGeom>
          <a:solidFill>
            <a:srgbClr val="00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食盐的结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3830760" y="936720"/>
            <a:ext cx="1247400" cy="520560"/>
          </a:xfrm>
          <a:prstGeom prst="rect">
            <a:avLst/>
          </a:prstGeom>
          <a:solidFill>
            <a:srgbClr val="00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白糖的结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1743120" y="6365880"/>
            <a:ext cx="1247400" cy="520560"/>
          </a:xfrm>
          <a:prstGeom prst="rect">
            <a:avLst/>
          </a:prstGeom>
          <a:solidFill>
            <a:srgbClr val="00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味精的结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5145120" y="6294600"/>
            <a:ext cx="1247400" cy="520560"/>
          </a:xfrm>
          <a:prstGeom prst="rect">
            <a:avLst/>
          </a:prstGeom>
          <a:solidFill>
            <a:srgbClr val="00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碱面的结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4"/>
          <p:cNvSpPr/>
          <p:nvPr/>
        </p:nvSpPr>
        <p:spPr>
          <a:xfrm>
            <a:off x="36360" y="44280"/>
            <a:ext cx="66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制作一些浓的食盐、白糖、味精、碱的溶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待水分自然蒸发，用放大镜观察留下的痕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5"/>
          <p:cNvSpPr/>
          <p:nvPr/>
        </p:nvSpPr>
        <p:spPr>
          <a:xfrm>
            <a:off x="6877080" y="907920"/>
            <a:ext cx="201600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界中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的晶体从溶液中诞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如海水蒸发得到盐的结晶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的晶体是在一定的压强和温度下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，如火山喷发岩浆冷却后形成矿物的晶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BW]D8F}X3TSDZHPGL0S9$9M"/>
          <p:cNvPicPr/>
          <p:nvPr/>
        </p:nvPicPr>
        <p:blipFill>
          <a:blip r:embed="rId2"/>
          <a:stretch/>
        </p:blipFill>
        <p:spPr>
          <a:xfrm>
            <a:off x="2340000" y="549360"/>
            <a:ext cx="4321080" cy="72396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4"/>
          <p:cNvSpPr/>
          <p:nvPr/>
        </p:nvSpPr>
        <p:spPr>
          <a:xfrm>
            <a:off x="177840" y="1484280"/>
            <a:ext cx="468144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一个大的玻璃杯，制作一杯浓食盐水溶液。将这杯溶液过滤，注入一个清洁的玻璃杯内。在杯中悬吊一根细线，细线下端拴上一小块食盐晶体，并浸泡在溶液中，静置数天。在玻璃杯底会首先出现第一批晶体，滤去溶液中残留的晶体，继续把悬在细线上的晶体浸入过滤后的溶液中， 晶体会缓慢地生长。如果在杯中继续倒入食盐溶液，则晶体的增长会持续几周甚至几个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1" descr=""/>
          <p:cNvPicPr/>
          <p:nvPr/>
        </p:nvPicPr>
        <p:blipFill>
          <a:blip r:embed="rId3"/>
          <a:stretch/>
        </p:blipFill>
        <p:spPr>
          <a:xfrm>
            <a:off x="5003640" y="1484280"/>
            <a:ext cx="3989520" cy="453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MS(_2Q$])0TC89FP3V~`5YI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357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EXV@8QRM5WJ@@[$KYM3B9AW"/>
          <p:cNvPicPr/>
          <p:nvPr/>
        </p:nvPicPr>
        <p:blipFill>
          <a:blip r:embed="rId3"/>
          <a:stretch/>
        </p:blipFill>
        <p:spPr>
          <a:xfrm>
            <a:off x="4867200" y="3386160"/>
            <a:ext cx="4284720" cy="34624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`Y{W}DDN~H6XM29IUYL741G"/>
          <p:cNvPicPr/>
          <p:nvPr/>
        </p:nvPicPr>
        <p:blipFill>
          <a:blip r:embed="rId4"/>
          <a:stretch/>
        </p:blipFill>
        <p:spPr>
          <a:xfrm>
            <a:off x="250920" y="3141720"/>
            <a:ext cx="4066920" cy="354168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6"/>
          <p:cNvSpPr/>
          <p:nvPr/>
        </p:nvSpPr>
        <p:spPr>
          <a:xfrm>
            <a:off x="1108080" y="2492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拓展活动：制作结晶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7" descr="http://xxkx.cersp.com/wssky/UploadFiles_8985/200802/20080226084455437.jpg"/>
          <p:cNvPicPr/>
          <p:nvPr/>
        </p:nvPicPr>
        <p:blipFill>
          <a:blip r:embed="rId5"/>
          <a:stretch/>
        </p:blipFill>
        <p:spPr>
          <a:xfrm>
            <a:off x="1332000" y="404640"/>
            <a:ext cx="2089080" cy="172908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2556000" y="549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放大镜下的晶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250920" y="1557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要点回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395280" y="2349360"/>
            <a:ext cx="82090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d5d5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d5d5"/>
                </a:solidFill>
                <a:latin typeface="Tahoma"/>
              </a:rPr>
              <a:t>晶体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些固体物质的内部有一定的结构，如果构成这些物质的微粒按一定的空间次序排列，形成了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有规则的几何外形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这就是晶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自然界中大部分固体物质都是晶体或由晶体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晶体的制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常见的几种晶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611280" y="2060640"/>
            <a:ext cx="77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然界中的大部分固体物质都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晶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由晶体组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定规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几何外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固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叫晶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晶体的形状多种多样，但都很有规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的是立方体，有的像金字塔，有的像一簇簇的针⋯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79280" y="141300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、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（        ）、（       ）、（      ）、（         ）的颗粒都是有规则（              ）的固体，人们把这样的固体物质叫做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自然界中的大部分固体物质都是（       ）或由（       ）组合而成。晶体的形状多种多样，但都很有（       ）。有的是（            ），有的像（           ），的像一簇簇的（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1187280" y="2147760"/>
            <a:ext cx="11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d5d5"/>
                </a:solidFill>
                <a:latin typeface="Tahoma"/>
              </a:rPr>
              <a:t>食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2700360" y="40464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放大镜下的晶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3060720" y="2147760"/>
            <a:ext cx="10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d5d5"/>
                </a:solidFill>
                <a:latin typeface="Tahoma"/>
              </a:rPr>
              <a:t>白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6659640" y="2147760"/>
            <a:ext cx="86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d5d5"/>
                </a:solidFill>
                <a:latin typeface="Tahoma"/>
              </a:rPr>
              <a:t>味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4788000" y="2147760"/>
            <a:ext cx="115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d5d5"/>
                </a:solidFill>
                <a:latin typeface="Tahoma"/>
              </a:rPr>
              <a:t>碱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6156360" y="3948120"/>
            <a:ext cx="84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d5d5"/>
                </a:solidFill>
                <a:latin typeface="Tahoma"/>
              </a:rPr>
              <a:t>晶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675000" y="515772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d5d5"/>
                </a:solidFill>
                <a:latin typeface="Tahoma"/>
              </a:rPr>
              <a:t>规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2608920" y="27082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d5d5"/>
                </a:solidFill>
                <a:latin typeface="Tahoma"/>
              </a:rPr>
              <a:t>几何外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746640" y="45813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d5d5"/>
                </a:solidFill>
                <a:latin typeface="Tahoma"/>
              </a:rPr>
              <a:t>晶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3837600" y="515772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d5d5"/>
                </a:solidFill>
                <a:latin typeface="Tahoma"/>
              </a:rPr>
              <a:t>立方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4"/>
          <p:cNvSpPr/>
          <p:nvPr/>
        </p:nvSpPr>
        <p:spPr>
          <a:xfrm>
            <a:off x="7150680" y="515772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d5d5"/>
                </a:solidFill>
                <a:latin typeface="Tahoma"/>
              </a:rPr>
              <a:t>金字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5"/>
          <p:cNvSpPr/>
          <p:nvPr/>
        </p:nvSpPr>
        <p:spPr>
          <a:xfrm>
            <a:off x="2916360" y="573408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d5d5"/>
                </a:solidFill>
                <a:latin typeface="Tahoma"/>
              </a:rPr>
              <a:t>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6"/>
          <p:cNvSpPr/>
          <p:nvPr/>
        </p:nvSpPr>
        <p:spPr>
          <a:xfrm>
            <a:off x="1754640" y="33735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d5d5"/>
                </a:solidFill>
                <a:latin typeface="Tahoma"/>
              </a:rPr>
              <a:t>晶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179280" y="1916280"/>
            <a:ext cx="89647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许多岩石是由（               ）集合而成。在显微镜下花岗岩由（        ）、（        ）、（         ）等矿物晶体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晶体的形状多种多样，但都很有（         ）。制造晶体的方法有（               ）、（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2700360" y="83664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放大镜下的晶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6227640" y="387684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d5d5"/>
                </a:solidFill>
                <a:latin typeface="Tahoma"/>
              </a:rPr>
              <a:t>规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2411280" y="445284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d5d5"/>
                </a:solidFill>
                <a:latin typeface="Tahoma"/>
              </a:rPr>
              <a:t>减少水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5075280" y="4452840"/>
            <a:ext cx="187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d5d5"/>
                </a:solidFill>
                <a:latin typeface="Tahoma"/>
              </a:rPr>
              <a:t>降低温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3688560" y="206064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d5d5"/>
                </a:solidFill>
                <a:latin typeface="Tahoma"/>
              </a:rPr>
              <a:t>矿物晶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2050920" y="2652840"/>
            <a:ext cx="84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d5d5"/>
                </a:solidFill>
                <a:latin typeface="Tahoma"/>
              </a:rPr>
              <a:t>长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9"/>
          <p:cNvSpPr/>
          <p:nvPr/>
        </p:nvSpPr>
        <p:spPr>
          <a:xfrm>
            <a:off x="4059720" y="265284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d5d5"/>
                </a:solidFill>
                <a:latin typeface="Tahoma"/>
              </a:rPr>
              <a:t>云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0"/>
          <p:cNvSpPr/>
          <p:nvPr/>
        </p:nvSpPr>
        <p:spPr>
          <a:xfrm>
            <a:off x="6075720" y="265284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d5d5"/>
                </a:solidFill>
                <a:latin typeface="Tahoma"/>
              </a:rPr>
              <a:t>石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1"/>
          <p:cNvSpPr/>
          <p:nvPr/>
        </p:nvSpPr>
        <p:spPr>
          <a:xfrm>
            <a:off x="880920" y="5624640"/>
            <a:ext cx="626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324000" y="1197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判  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179280" y="1989000"/>
            <a:ext cx="896472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自然界中大部分固体物质都是晶体或由晶体组成。    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玻璃、琥珀和珍珠都是晶体。                                   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自然界中的晶体都是有一定的规则。                         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有的晶体很大，有的晶体很小。                                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花岗岩中的晶体有长石、云母、石英三种 。              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只有借助放大镜、显微镜，我们才能看到晶体。        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4"/>
          <p:cNvSpPr/>
          <p:nvPr/>
        </p:nvSpPr>
        <p:spPr>
          <a:xfrm>
            <a:off x="8260560" y="4508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d5d5"/>
                </a:solidFill>
                <a:latin typeface="Tahoma"/>
                <a:ea typeface="黑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8242200" y="19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d5d5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8242200" y="2995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d5d5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824220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d5d5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2700360" y="40464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放大镜下的晶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3"/>
          <p:cNvSpPr/>
          <p:nvPr/>
        </p:nvSpPr>
        <p:spPr>
          <a:xfrm>
            <a:off x="8260560" y="2492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d5d5"/>
                </a:solidFill>
                <a:latin typeface="Tahoma"/>
                <a:ea typeface="黑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4"/>
          <p:cNvSpPr/>
          <p:nvPr/>
        </p:nvSpPr>
        <p:spPr>
          <a:xfrm>
            <a:off x="8242200" y="40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d5d5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Franklin Gothic Book"/>
              </a:rPr>
              <a:t> </a:t>
            </a:r>
            <a:r>
              <a:rPr b="0" lang="zh-CN" sz="1400" spc="-1" strike="noStrike" u="sng">
                <a:solidFill>
                  <a:srgbClr val="00d5d5"/>
                </a:solidFill>
                <a:uFillTx/>
                <a:latin typeface="Franklin Gothic Book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d5d5"/>
                </a:solidFill>
                <a:uFillTx/>
                <a:latin typeface="Franklin Gothic Book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Franklin Gothic Book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Franklin Gothic Book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Franklin Gothic Book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Franklin Gothic Book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Franklin Gothic Book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Franklin Gothic Book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Franklin Gothic Book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Franklin Gothic Book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Franklin Gothic Book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Franklin Gothic Book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Franklin Gothic Book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Franklin Gothic Book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Franklin Gothic Book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5B15-2D26-450D-9A2C-71C4BFF272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權杖水晶"/>
          <p:cNvPicPr/>
          <p:nvPr/>
        </p:nvPicPr>
        <p:blipFill>
          <a:blip r:embed="rId2"/>
          <a:stretch/>
        </p:blipFill>
        <p:spPr>
          <a:xfrm>
            <a:off x="755640" y="401760"/>
            <a:ext cx="7704000" cy="5024160"/>
          </a:xfrm>
          <a:prstGeom prst="rect">
            <a:avLst/>
          </a:prstGeom>
          <a:ln w="0">
            <a:noFill/>
          </a:ln>
        </p:spPr>
      </p:pic>
      <p:sp>
        <p:nvSpPr>
          <p:cNvPr id="538" name="WordArt 3"/>
          <p:cNvSpPr txBox="1"/>
          <p:nvPr/>
        </p:nvSpPr>
        <p:spPr>
          <a:xfrm>
            <a:off x="2484360" y="5661000"/>
            <a:ext cx="417672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9900"/>
                  </a:outerShdw>
                </a:effectLst>
                <a:latin typeface="华文新魏"/>
              </a:rPr>
              <a:t>水晶</a:t>
            </a:r>
            <a:r>
              <a:rPr b="0" lang="en-US" sz="20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9900"/>
                  </a:outerShdw>
                </a:effectLst>
                <a:latin typeface="华文新魏"/>
              </a:rPr>
              <a:t>­——</a:t>
            </a:r>
            <a:r>
              <a:rPr b="0" lang="zh-CN" sz="20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9900"/>
                  </a:outerShdw>
                </a:effectLst>
                <a:latin typeface="华文新魏"/>
              </a:rPr>
              <a:t>六方锥体</a:t>
            </a:r>
            <a:endParaRPr b="0" lang="en-US" sz="20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9990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紫色螢石"/>
          <p:cNvPicPr/>
          <p:nvPr/>
        </p:nvPicPr>
        <p:blipFill>
          <a:blip r:embed="rId2"/>
          <a:stretch/>
        </p:blipFill>
        <p:spPr>
          <a:xfrm>
            <a:off x="900000" y="0"/>
            <a:ext cx="7632720" cy="5832360"/>
          </a:xfrm>
          <a:prstGeom prst="rect">
            <a:avLst/>
          </a:prstGeom>
          <a:ln w="0">
            <a:noFill/>
          </a:ln>
        </p:spPr>
      </p:pic>
      <p:sp>
        <p:nvSpPr>
          <p:cNvPr id="540" name="WordArt 3"/>
          <p:cNvSpPr txBox="1"/>
          <p:nvPr/>
        </p:nvSpPr>
        <p:spPr>
          <a:xfrm>
            <a:off x="2771640" y="5950080"/>
            <a:ext cx="381636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9900"/>
                  </a:outerShdw>
                </a:effectLst>
                <a:latin typeface="华文新魏"/>
              </a:rPr>
              <a:t>紫色萤石——正方体</a:t>
            </a:r>
            <a:endParaRPr b="0" lang="en-US" sz="2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990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祖母綠"/>
          <p:cNvPicPr/>
          <p:nvPr/>
        </p:nvPicPr>
        <p:blipFill>
          <a:blip r:embed="rId2"/>
          <a:stretch/>
        </p:blipFill>
        <p:spPr>
          <a:xfrm>
            <a:off x="1079640" y="284040"/>
            <a:ext cx="7129440" cy="4967280"/>
          </a:xfrm>
          <a:prstGeom prst="rect">
            <a:avLst/>
          </a:prstGeom>
          <a:ln w="0">
            <a:noFill/>
          </a:ln>
        </p:spPr>
      </p:pic>
      <p:sp>
        <p:nvSpPr>
          <p:cNvPr id="542" name="WordArt 3"/>
          <p:cNvSpPr txBox="1"/>
          <p:nvPr/>
        </p:nvSpPr>
        <p:spPr>
          <a:xfrm>
            <a:off x="2484360" y="5661000"/>
            <a:ext cx="417672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9900"/>
                  </a:outerShdw>
                </a:effectLst>
                <a:latin typeface="华文新魏"/>
              </a:rPr>
              <a:t>祖母绿——六方柱体</a:t>
            </a:r>
            <a:endParaRPr b="0" lang="en-US" sz="2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990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B~O}6EV2K`A7R$5}ZEYKJCK"/>
          <p:cNvPicPr/>
          <p:nvPr/>
        </p:nvPicPr>
        <p:blipFill>
          <a:blip r:embed="rId2"/>
          <a:stretch/>
        </p:blipFill>
        <p:spPr>
          <a:xfrm>
            <a:off x="1187280" y="260280"/>
            <a:ext cx="6840720" cy="5259600"/>
          </a:xfrm>
          <a:prstGeom prst="rect">
            <a:avLst/>
          </a:prstGeom>
          <a:ln w="0">
            <a:noFill/>
          </a:ln>
        </p:spPr>
      </p:pic>
      <p:sp>
        <p:nvSpPr>
          <p:cNvPr id="544" name="WordArt 7"/>
          <p:cNvSpPr txBox="1"/>
          <p:nvPr/>
        </p:nvSpPr>
        <p:spPr>
          <a:xfrm>
            <a:off x="2340000" y="5661000"/>
            <a:ext cx="475128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9900"/>
                  </a:outerShdw>
                </a:effectLst>
                <a:latin typeface="华文新魏"/>
              </a:rPr>
              <a:t>黄铁矿——八面体或立方体</a:t>
            </a:r>
            <a:endParaRPr b="0" lang="en-US" sz="2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990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辰砂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46" name="WordArt 3"/>
          <p:cNvSpPr txBox="1"/>
          <p:nvPr/>
        </p:nvSpPr>
        <p:spPr>
          <a:xfrm>
            <a:off x="2268360" y="5950080"/>
            <a:ext cx="5183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9900"/>
                  </a:outerShdw>
                </a:effectLst>
                <a:latin typeface="华文新魏"/>
              </a:rPr>
              <a:t>朱砂——厚板状或菱面体</a:t>
            </a:r>
            <a:endParaRPr b="0" lang="en-US" sz="2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990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赤銅礦"/>
          <p:cNvPicPr/>
          <p:nvPr/>
        </p:nvPicPr>
        <p:blipFill>
          <a:blip r:embed="rId2"/>
          <a:stretch/>
        </p:blipFill>
        <p:spPr>
          <a:xfrm>
            <a:off x="611280" y="189000"/>
            <a:ext cx="7848360" cy="5292720"/>
          </a:xfrm>
          <a:prstGeom prst="rect">
            <a:avLst/>
          </a:prstGeom>
          <a:ln w="0">
            <a:noFill/>
          </a:ln>
        </p:spPr>
      </p:pic>
      <p:sp>
        <p:nvSpPr>
          <p:cNvPr id="548" name="WordArt 3"/>
          <p:cNvSpPr txBox="1"/>
          <p:nvPr/>
        </p:nvSpPr>
        <p:spPr>
          <a:xfrm>
            <a:off x="2700360" y="5661000"/>
            <a:ext cx="403236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9900"/>
                  </a:outerShdw>
                </a:effectLst>
                <a:latin typeface="华文新魏"/>
              </a:rPr>
              <a:t>赤铜矿——八面体</a:t>
            </a:r>
            <a:endParaRPr b="0" lang="en-US" sz="2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990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方解石"/>
          <p:cNvPicPr/>
          <p:nvPr/>
        </p:nvPicPr>
        <p:blipFill>
          <a:blip r:embed="rId2"/>
          <a:stretch/>
        </p:blipFill>
        <p:spPr>
          <a:xfrm>
            <a:off x="2340000" y="476280"/>
            <a:ext cx="4224240" cy="4751280"/>
          </a:xfrm>
          <a:prstGeom prst="rect">
            <a:avLst/>
          </a:prstGeom>
          <a:ln w="0">
            <a:noFill/>
          </a:ln>
        </p:spPr>
      </p:pic>
      <p:sp>
        <p:nvSpPr>
          <p:cNvPr id="550" name="WordArt 3"/>
          <p:cNvSpPr txBox="1"/>
          <p:nvPr/>
        </p:nvSpPr>
        <p:spPr>
          <a:xfrm>
            <a:off x="1763640" y="5516640"/>
            <a:ext cx="5545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9900"/>
                  </a:outerShdw>
                </a:effectLst>
                <a:latin typeface="华文新魏"/>
              </a:rPr>
              <a:t>方解石——纤维状、钟乳状等</a:t>
            </a:r>
            <a:endParaRPr b="0" lang="en-US" sz="2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990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0:35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3:42Z</dcterms:modified>
  <cp:revision>7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