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7200-EF9A-4983-84D1-6343B9872A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3A6C-D147-4388-B6ED-F5B1C2CDDD7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066-CDFE-4F99-AE07-72D6C87D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B21-5417-4E2B-BB2D-69360B27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090-4E8F-4FDE-B943-EE1579EE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F2D-E104-4493-A182-F15F5EFE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28E8-AF7D-494A-B0C6-0B693D0B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A31B-DD90-4FED-81A8-59382BB3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75E3-FE38-4928-8F74-A68A615E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0B3F-CBEF-4F2E-8640-8543D6F4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2126-9521-4C03-8A02-2E667E1B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3C49-A21F-4AB2-8C62-8ED6851E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E940-ECA2-4E6D-B38A-80FCAA63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ED8-4062-456A-B5C1-35497202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C0E7-4AD1-4D58-BB69-6211C26F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1FB2-16C8-4548-8F14-60BB265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F018-C8E9-43DA-A10B-37728FC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F695-DF57-4D4F-B9DC-1A0A8B98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7A1C-3559-45FA-BB6A-EC951CB1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8A2-62E7-413A-A8BB-D869305C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3A7-C3B2-4BCC-8D34-4C374CB8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51F-930A-4446-99C7-B129171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8EF-6825-4B16-8D61-7F1AE43C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7AA-D898-4441-8277-B7597B81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886-6BF8-4C57-83C4-B2662A2C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2AB-F5EB-4C66-B0F3-ECEFD398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C90-7A84-4F71-AE10-154A1E94B27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EBE2-A4F8-40A3-8DBE-83A21A292C8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2305080" y="1989000"/>
            <a:ext cx="4313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500" spc="-1" strike="noStrike">
                <a:solidFill>
                  <a:srgbClr val="ff0000"/>
                </a:solidFill>
                <a:latin typeface="华文中宋"/>
                <a:ea typeface="华文中宋"/>
              </a:rPr>
              <a:t>浮  力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174480" y="10461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科版五年级科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237024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7FFA-1DA1-4A15-AA4E-8FAFE76A2C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暴风截屏20100228200302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900000" y="53114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把小船和泡沫塑料块往水中压，手能感受到水对小船和泡沫塑料块有一个向上的力，这个力我们称它为水的浮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暴风截屏20100228195616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4810680" y="895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宋体"/>
              </a:rPr>
              <a:t>浮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808880" y="3559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Arial"/>
                <a:ea typeface="宋体"/>
              </a:rPr>
              <a:t>重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暴风截屏20100228195036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暴风截屏20100228200834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4284720" y="2565360"/>
            <a:ext cx="144360" cy="2230560"/>
          </a:xfrm>
          <a:prstGeom prst="upArrow">
            <a:avLst>
              <a:gd name="adj1" fmla="val 50000"/>
              <a:gd name="adj2" fmla="val 386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4427640" y="4797360"/>
            <a:ext cx="144360" cy="1871640"/>
          </a:xfrm>
          <a:prstGeom prst="downArrow">
            <a:avLst>
              <a:gd name="adj1" fmla="val 50000"/>
              <a:gd name="adj2" fmla="val 3240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4211640" y="4797360"/>
            <a:ext cx="144360" cy="1871640"/>
          </a:xfrm>
          <a:prstGeom prst="downArrow">
            <a:avLst>
              <a:gd name="adj1" fmla="val 50000"/>
              <a:gd name="adj2" fmla="val 3240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676400" y="24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浮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381120" y="623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重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749480" y="616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106000" y="1773360"/>
            <a:ext cx="456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重力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拉力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浮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944720" y="3573360"/>
            <a:ext cx="52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把拉力加上泡沫塑料块受到的重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就是泡沫塑料块在水中所受到的浮力大小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89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·········································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704960" y="108756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实验：测量大小不同的泡沫塑料块受到的浮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993040" y="1881360"/>
            <a:ext cx="317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实验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准备三块大小不同的泡沫塑料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参照前一个活动的测量方法测量三块塑料块受到的浮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229120" y="3436920"/>
            <a:ext cx="49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注意：塑料块要完全浸人水中才能读出拉力的大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71360" y="458136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实验结论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浸人水中的体积越大，物体受到的浮力就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浸人水中的体积越小，物体受到的浮力就越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4251240" y="1341360"/>
            <a:ext cx="82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把泡沫塑料块压入水里，一松手，为什么它会上浮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320920" y="335772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浮力大于重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371600" y="5140440"/>
            <a:ext cx="67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谢谢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5:56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1:11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