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png" ContentType="image/png"/>
  <Override PartName="/ppt/media/image8.png" ContentType="image/png"/>
  <Override PartName="/ppt/media/image7.jpeg" ContentType="image/jpeg"/>
  <Override PartName="/ppt/media/image15.gif" ContentType="image/gif"/>
  <Override PartName="/ppt/media/image6.png" ContentType="image/png"/>
  <Override PartName="/ppt/media/image11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0.png" ContentType="image/png"/>
  <Override PartName="/ppt/media/image20.gif" ContentType="image/gif"/>
  <Override PartName="/ppt/media/image18.gif" ContentType="image/gif"/>
  <Override PartName="/ppt/media/image4.jpeg" ContentType="image/jpeg"/>
  <Override PartName="/ppt/media/image17.png" ContentType="image/png"/>
  <Override PartName="/ppt/media/image14.gif" ContentType="image/gif"/>
  <Override PartName="/ppt/media/image2.jpeg" ContentType="image/jpeg"/>
  <Override PartName="/ppt/media/image13.gif" ContentType="image/gif"/>
  <Override PartName="/ppt/media/image16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4FE-EFFB-41E6-A1DE-F880721E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C71-13AB-4649-BE99-9296566F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F5B9-0BEA-45B6-97EF-62CAEFAF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7C38-51C6-44CF-9903-36CA1D8B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0C52-9B65-4960-AC23-9160AF89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F142-A379-4B7F-9F38-A3B306B5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7FC-62E7-4CC7-B203-43FD1AE0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20E-4348-4E3F-A421-695D8768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F32-643C-4F2E-BC0A-7E410393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A399-7CF5-4591-80E7-32CEDFC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4D4-CB66-4426-BEC1-E8D866B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9A2-4E74-43D4-87AD-5E2CCA2E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DB24-6687-4D9F-846A-79BCE072BF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news2.yzren.com/1031/2004-06-01/20040601-64943-1031.htm" TargetMode="External"/><Relationship Id="rId17" Type="http://schemas.openxmlformats.org/officeDocument/2006/relationships/image" Target="../media/image4.jpeg"/><Relationship Id="rId18" Type="http://schemas.openxmlformats.org/officeDocument/2006/relationships/hyperlink" Target="http://image.baidu.com/i?ct=503316480&amp;z=378791002&amp;tn=baiduimagedetail&amp;word=&#20889;&#20449;" TargetMode="External"/><Relationship Id="rId19" Type="http://schemas.openxmlformats.org/officeDocument/2006/relationships/image" Target="../media/image5.jpe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2195640" y="5950080"/>
            <a:ext cx="47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58920" y="763560"/>
            <a:ext cx="623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傅雷家书两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图片 4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2590920" cy="36244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2"/>
          <a:stretch/>
        </p:blipFill>
        <p:spPr>
          <a:xfrm>
            <a:off x="988920" y="2889360"/>
            <a:ext cx="326880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04920" y="53352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两封家书，分别是针对儿子什么境遇而写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IF-239"/>
          <p:cNvPicPr/>
          <p:nvPr/>
        </p:nvPicPr>
        <p:blipFill>
          <a:blip r:embed="rId1"/>
          <a:stretch/>
        </p:blipFill>
        <p:spPr>
          <a:xfrm>
            <a:off x="457200" y="380880"/>
            <a:ext cx="9493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25909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黑体"/>
              </a:rPr>
              <a:t>第一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57200" y="4267080"/>
            <a:ext cx="303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黑体"/>
              </a:rPr>
              <a:t>第二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048120" y="259092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消沉苦闷之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048120" y="426708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欣喜成功之时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0" descr="GIF033"/>
          <p:cNvPicPr/>
          <p:nvPr/>
        </p:nvPicPr>
        <p:blipFill>
          <a:blip r:embed="rId2"/>
          <a:stretch/>
        </p:blipFill>
        <p:spPr>
          <a:xfrm>
            <a:off x="7597800" y="6175440"/>
            <a:ext cx="15462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04920" y="38088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作者写这两封家书的目的分别是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GIF-240"/>
          <p:cNvPicPr/>
          <p:nvPr/>
        </p:nvPicPr>
        <p:blipFill>
          <a:blip r:embed="rId1"/>
          <a:stretch/>
        </p:blipFill>
        <p:spPr>
          <a:xfrm>
            <a:off x="380880" y="304920"/>
            <a:ext cx="99396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533520" y="2514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04920" y="243828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  <a:ea typeface="黑体"/>
              </a:rPr>
              <a:t>第一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04920" y="4343400"/>
            <a:ext cx="325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6600"/>
                </a:solidFill>
                <a:latin typeface="Times New Roman"/>
                <a:ea typeface="黑体"/>
              </a:rPr>
              <a:t>第二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2895480" y="2209680"/>
            <a:ext cx="57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劝慰儿子如何面对感情的创伤，学会泰然处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895480" y="41911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提醒儿子要保持谦卑、不惧孤独，勇于攀登艺术的至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9" descr="GIF033"/>
          <p:cNvPicPr/>
          <p:nvPr/>
        </p:nvPicPr>
        <p:blipFill>
          <a:blip r:embed="rId2"/>
          <a:stretch/>
        </p:blipFill>
        <p:spPr>
          <a:xfrm>
            <a:off x="7315200" y="6175440"/>
            <a:ext cx="182880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0" y="304920"/>
            <a:ext cx="891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两封家书，作者分别以什么样的风格展现出对儿子的舐犊之情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GIF-241"/>
          <p:cNvPicPr/>
          <p:nvPr/>
        </p:nvPicPr>
        <p:blipFill>
          <a:blip r:embed="rId1"/>
          <a:stretch/>
        </p:blipFill>
        <p:spPr>
          <a:xfrm>
            <a:off x="304920" y="228600"/>
            <a:ext cx="92556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0" y="243828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黑体"/>
              </a:rPr>
              <a:t>第一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44956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00"/>
                </a:solidFill>
                <a:latin typeface="Times New Roman"/>
                <a:ea typeface="黑体"/>
              </a:rPr>
              <a:t>第二封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971800" y="22860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如和风细雨、款款相慰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鼓励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895480" y="4267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满怀欣喜、激情洋溢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勉励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0"/>
          <p:cNvSpPr/>
          <p:nvPr/>
        </p:nvSpPr>
        <p:spPr>
          <a:xfrm>
            <a:off x="6937920" y="304920"/>
            <a:ext cx="2009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第二课时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20890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文中找出能贯穿两封信主旋律的一个词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GIF-207"/>
          <p:cNvPicPr/>
          <p:nvPr/>
        </p:nvPicPr>
        <p:blipFill>
          <a:blip r:embed="rId1"/>
          <a:stretch/>
        </p:blipFill>
        <p:spPr>
          <a:xfrm>
            <a:off x="755640" y="1916280"/>
            <a:ext cx="84600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981080" y="451008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坚  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GIF006"/>
          <p:cNvPicPr/>
          <p:nvPr/>
        </p:nvPicPr>
        <p:blipFill>
          <a:blip r:embed="rId2"/>
          <a:stretch/>
        </p:blipFill>
        <p:spPr>
          <a:xfrm>
            <a:off x="7924680" y="5761080"/>
            <a:ext cx="960480" cy="1096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260000" y="5796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38080" y="53352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请你说说傅雷希望儿子成为怎样的一个人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85840" y="2362320"/>
            <a:ext cx="807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希望儿子做一个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坚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人，无论遭受怎样的起伏跌宕、矛盾孤独，都要保持对艺术的不懈追求，对生活的赤子之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GIF006"/>
          <p:cNvPicPr/>
          <p:nvPr/>
        </p:nvPicPr>
        <p:blipFill>
          <a:blip r:embed="rId1"/>
          <a:stretch/>
        </p:blipFill>
        <p:spPr>
          <a:xfrm>
            <a:off x="7924680" y="5761080"/>
            <a:ext cx="960480" cy="1096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GIF-208"/>
          <p:cNvPicPr/>
          <p:nvPr/>
        </p:nvPicPr>
        <p:blipFill>
          <a:blip r:embed="rId2"/>
          <a:stretch/>
        </p:blipFill>
        <p:spPr>
          <a:xfrm>
            <a:off x="685800" y="609480"/>
            <a:ext cx="892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83808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坚强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一词在词典里的含义是：强固有力，不可动摇或摧毁。文章却赋予它更多的意义。你认为该词如何理解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685800" y="281952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胜不骄、败不馁，宠辱不惊，得失泰然。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“坚强”的最高境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能够保持心灵的纯洁，能够无惧孤独，才是人性中最可贵的无坚不摧的坚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GIF-219"/>
          <p:cNvPicPr/>
          <p:nvPr/>
        </p:nvPicPr>
        <p:blipFill>
          <a:blip r:embed="rId1"/>
          <a:stretch/>
        </p:blipFill>
        <p:spPr>
          <a:xfrm>
            <a:off x="228600" y="228600"/>
            <a:ext cx="6858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8080" y="228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对于情绪的高低起伏，傅雷给儿子提出了那些忠告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2819520"/>
            <a:ext cx="9144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、泰然处之，保持心理的平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、正视错误，冷静对待挫折，引以为诫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GIF-219"/>
          <p:cNvPicPr/>
          <p:nvPr/>
        </p:nvPicPr>
        <p:blipFill>
          <a:blip r:embed="rId1"/>
          <a:stretch/>
        </p:blipFill>
        <p:spPr>
          <a:xfrm>
            <a:off x="228600" y="228600"/>
            <a:ext cx="6858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0" y="907920"/>
            <a:ext cx="93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能否从文中找出运用了比喻修辞手法的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子？并分析这样写的好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30686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太阳太强烈，会把五谷晒焦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雨水太猛，也会淹死庄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生动形象地说明了做任何事都要掌握分寸。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212760" y="32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018160" y="141120"/>
            <a:ext cx="511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阅读第二封信，当儿子成功之时，做父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的一定非常高兴激动，那么父亲究竟都为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么而感到高兴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89080" y="1981080"/>
            <a:ext cx="88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孩子赢得了成功而高兴；为孩子能替祖国争光而高兴；为孩子演奏的音乐能使更多人快乐而高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36440" y="3886200"/>
            <a:ext cx="915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遇到挫折、消沉时要坚强，为什么成功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还要坚强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12760" y="5299200"/>
            <a:ext cx="89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不为胜利冲昏了头脑，更是坚强的表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3"/>
          <p:cNvSpPr/>
          <p:nvPr/>
        </p:nvSpPr>
        <p:spPr>
          <a:xfrm>
            <a:off x="2411280" y="117000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1143000" y="3789360"/>
            <a:ext cx="681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信封的填写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左上方填写邮编及收信人地址；信封中间居中写收信人姓名，加上称呼（一般是写信人对收信人的称呼。收信人后面没有称呼是不礼貌的，属于格式上的错误。）信封右下方为寄信人地址及邮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1031_01_11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124000" y="189000"/>
            <a:ext cx="5616720" cy="3627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u=2184865101,1006348330&amp;gp=2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0" y="1700280"/>
            <a:ext cx="1979640" cy="191592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4572000" y="189000"/>
            <a:ext cx="2448000" cy="981000"/>
          </a:xfrm>
          <a:prstGeom prst="wedgeEllipseCallout">
            <a:avLst>
              <a:gd name="adj1" fmla="val -50583"/>
              <a:gd name="adj2" fmla="val 51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这里写收信人地址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637080" y="-46080"/>
            <a:ext cx="5490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/>
          <p:cNvSpPr/>
          <p:nvPr/>
        </p:nvSpPr>
        <p:spPr>
          <a:xfrm rot="12102000">
            <a:off x="712800" y="256320"/>
            <a:ext cx="1076400" cy="1071720"/>
          </a:xfrm>
          <a:prstGeom prst="wedgeEllipseCallout">
            <a:avLst>
              <a:gd name="adj1" fmla="val -80990"/>
              <a:gd name="adj2" fmla="val 33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邮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9"/>
          <p:cNvSpPr/>
          <p:nvPr/>
        </p:nvSpPr>
        <p:spPr>
          <a:xfrm rot="5150400">
            <a:off x="4580280" y="1832760"/>
            <a:ext cx="419400" cy="871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556720" y="19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收信人姓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"/>
          <p:cNvSpPr/>
          <p:nvPr/>
        </p:nvSpPr>
        <p:spPr>
          <a:xfrm rot="4531200">
            <a:off x="7299000" y="2049120"/>
            <a:ext cx="1233360" cy="2347920"/>
          </a:xfrm>
          <a:prstGeom prst="cloudCallout">
            <a:avLst>
              <a:gd name="adj1" fmla="val -67412"/>
              <a:gd name="adj2" fmla="val 83236"/>
            </a:avLst>
          </a:prstGeom>
          <a:solidFill>
            <a:srgbClr val="ffffff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寄信人地址在这里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026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27"/>
          <p:cNvSpPr/>
          <p:nvPr/>
        </p:nvSpPr>
        <p:spPr>
          <a:xfrm>
            <a:off x="0" y="609480"/>
            <a:ext cx="87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赤子孤独了，会创造一个世界，创造许多心灵的朋友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。请举例加深理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028"/>
          <p:cNvSpPr/>
          <p:nvPr/>
        </p:nvSpPr>
        <p:spPr>
          <a:xfrm>
            <a:off x="228600" y="22096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贝多芬、梵高、托尔斯泰、陶渊明……赤子的现实生活也许境遇不佳、缺少知音，身边的世界让他孤独；但人类最纯洁最美好的感情和思想，是相通而永存的，普天下都将成为他的知音和朋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09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如何理解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有矛盾正是生机蓬勃的明证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28600" y="22096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鼓励儿子不惧矛盾，勇敢面对，在解决矛盾的过程中趋向完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BEE8-C365-453E-ADF3-3B903FEE61F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52280" y="228600"/>
            <a:ext cx="899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正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称呼：顶格，有的还可以加上一定的限定、修饰词，如亲爱的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问候语：如写“你好”、“近来身体是否安康”等。独立成段，不可直接接下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正文。这是信的主体，可以分为若干段来书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祝颂语。以最一般的“此致”、“敬礼”为例。“此致”可以有两种正确的位置来进行书写，一是紧接着主体正文之后，不另起段，不加标点；二是在正文之下另起一行空两格书写。“敬礼”写在“此致”的下一行，顶格书写。后应该加上一个惊叹号，以表示祝颂的诚意和强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228600" y="99072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5. </a:t>
            </a: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具名和日期。写信人的姓名或名字，写在祝颂语下方空一至二行的右侧。最好还要在写信人姓名之前写上与收信人的关系，如儿</a:t>
            </a: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×××</a:t>
            </a: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、父</a:t>
            </a: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×××</a:t>
            </a: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、你的朋友</a:t>
            </a: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×××</a:t>
            </a: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等。再下一行写日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20200"/>
                </a:solidFill>
                <a:latin typeface="Comic Sans MS"/>
              </a:rPr>
              <a:t>如果忘了写某事，则可以在日期下空一行、再空两格写上“又附”，再另起行书写未尽事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228600" y="5226120"/>
            <a:ext cx="74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5029200" y="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傅雷，我国著名文学翻译家。毕生翻译巴尔扎克、罗曼罗兰、伏尔泰等作家的文学名著，翻译作品达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4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部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26" descr="1"/>
          <p:cNvPicPr/>
          <p:nvPr/>
        </p:nvPicPr>
        <p:blipFill>
          <a:blip r:embed="rId1"/>
          <a:stretch/>
        </p:blipFill>
        <p:spPr>
          <a:xfrm>
            <a:off x="4572000" y="762120"/>
            <a:ext cx="4572000" cy="5790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27"/>
          <p:cNvSpPr/>
          <p:nvPr/>
        </p:nvSpPr>
        <p:spPr>
          <a:xfrm>
            <a:off x="228600" y="179280"/>
            <a:ext cx="419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傅聪——早于六十年代已被《时代杂志》赞誉为“中国当今最伟大的音乐家之一”，是华人音乐家扬名国际乐坛的典范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WordArt 3" descr=""/>
          <p:cNvPicPr/>
          <p:nvPr/>
        </p:nvPicPr>
        <p:blipFill>
          <a:blip r:embed="rId2"/>
          <a:stretch/>
        </p:blipFill>
        <p:spPr>
          <a:xfrm>
            <a:off x="6172200" y="374760"/>
            <a:ext cx="144792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5029200" y="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傅雷及夫人写给傅聪、傅敏的家信摘编，写信时间为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4-196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六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部充满着父爱的苦心孤诣，呕心沥血的教子篇。也是现代中国影响最大的家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u=2337429994,3500165968&amp;gp=1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812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、熟悉课文，给兰色字正音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9140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庸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碌</a:t>
            </a: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谀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词    扶</a:t>
            </a: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掖     枘  凿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相</a:t>
            </a: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契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廓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无累          灰</a:t>
            </a: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涕泗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横流          </a:t>
            </a:r>
            <a:r>
              <a:rPr b="1" lang="zh-CN" sz="4800" spc="-1" strike="noStrike">
                <a:solidFill>
                  <a:srgbClr val="3333cc"/>
                </a:solidFill>
                <a:latin typeface="华文楷体"/>
                <a:ea typeface="华文楷体"/>
              </a:rPr>
              <a:t>羲</a:t>
            </a: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皇上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828800" y="16002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ō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716360" y="177336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308720" y="1773360"/>
            <a:ext cx="92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5"/>
          <p:cNvGrpSpPr/>
          <p:nvPr/>
        </p:nvGrpSpPr>
        <p:grpSpPr>
          <a:xfrm>
            <a:off x="2124000" y="2565360"/>
            <a:ext cx="2070000" cy="764280"/>
            <a:chOff x="2124000" y="2565360"/>
            <a:chExt cx="2070000" cy="764280"/>
          </a:xfrm>
        </p:grpSpPr>
        <p:sp>
          <p:nvSpPr>
            <p:cNvPr id="80" name="Text Box 7"/>
            <p:cNvSpPr/>
            <p:nvPr/>
          </p:nvSpPr>
          <p:spPr>
            <a:xfrm>
              <a:off x="2124000" y="256536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ruì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8"/>
            <p:cNvSpPr/>
            <p:nvPr/>
          </p:nvSpPr>
          <p:spPr>
            <a:xfrm>
              <a:off x="3203640" y="2565360"/>
              <a:ext cx="99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záo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9"/>
          <p:cNvSpPr/>
          <p:nvPr/>
        </p:nvSpPr>
        <p:spPr>
          <a:xfrm>
            <a:off x="6948360" y="25653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843280" y="35002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u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843280" y="44370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ì  s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8028000" y="4221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x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020000" y="33577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ì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4" descr="GIF011"/>
          <p:cNvPicPr/>
          <p:nvPr/>
        </p:nvPicPr>
        <p:blipFill>
          <a:blip r:embed="rId1"/>
          <a:stretch/>
        </p:blipFill>
        <p:spPr>
          <a:xfrm>
            <a:off x="7075440" y="6297480"/>
            <a:ext cx="206856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4:35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41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