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64E-AFE9-4DEA-8FA2-FCACF959A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89E2-E94A-48D8-8162-003A5BE248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B63-388C-46AD-AD88-9BB5E3E7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363-58FF-46BF-A8C9-9781333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388-B8D7-4752-9F4C-86D7E2C7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915-A15E-46DB-99CE-D8D31B7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42D4-5123-48A3-B001-789B9A65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C3C-D23C-4848-81B4-CCC6219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F912-206F-423E-94D0-77843C1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F7E6-6134-4CB0-A2A2-16C27CA7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B3C-5E64-4D73-8664-9E02C83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2D6-C583-436B-901A-921400B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BA3-9E75-4E48-8AC3-CC14E44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7D6-1E4C-4FB3-93DA-CE71186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A013-1242-4C6B-A168-68770DB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0B79-FD73-48A0-BD2C-A4AC593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A25-DDA3-4FF3-931A-E948FBE2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19EF-E536-41E9-B03D-F65396FE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7B9F-42F2-40B8-8378-F74E9911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F22B-9A98-4913-AED8-BE2A2B4A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1EC3-A3BD-45EB-850C-E8A3D0C5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1C8E-8286-4667-9D6A-985891A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A6EA-A3FC-4708-A287-70C3E684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A64E-A897-42F0-9416-9FD5C651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A9B-40B7-4CE5-951E-E4423A8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F975-67B2-4DD1-888D-9591166E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C24C-F9BF-43C3-B7B3-14E20A1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D2DE-DCE4-429E-88D1-5922942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BA13-6967-4632-966E-54032C89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2C03-93B4-484B-A116-75D52E8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268A-B620-4AB1-8799-59522B75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E06C-05F7-4473-BD71-75E888C0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CC1A-F586-4BBF-90A7-B137ACD6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A090-9CA6-479F-9AED-6BE032BC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902A-8B83-46E7-9DDA-ADECC15A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0AC-9F73-4AB6-9EC0-0BE65F1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F89F-0B01-4A4C-82E0-80C8708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F225-DC14-425E-B057-86F8DFF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5C3D-68FD-4DFE-B666-B35F23D8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3B38-8FF8-47D5-867C-3C969CE0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EE2D-C79A-44A3-AF46-D49130F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0D9B-5492-4E9D-8E4E-E5F74A9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843F-4723-475B-8DC2-F32991BA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59FB-2040-4A7A-BAEA-41CBB693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25F7-9346-4F98-857D-DE3F74D8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7C92C-9642-4EAE-9C33-3BD2F077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6C9-89B1-4EC1-AD63-04DF50CD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6FA87-8CD1-4F6D-810D-A0E8293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48A4B5-2727-4A3F-862E-648648C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D0FAE-37E9-47EF-ACD2-91816F6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B8F2E-068B-4D28-8476-B4C2C0F6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A07D7-DD96-4198-8793-E5540F1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32F2E-45B0-431B-80B8-1F52CA8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06BFC-5104-4642-803D-45FF5CEC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7555D-7E7F-4A13-B92E-F68BBB4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C1791-68A2-4353-8017-DB67B1B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5C93D-8DD1-411A-B648-403F871B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B88-2E04-4CEB-BBD7-271E61A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20148-3A9F-4C56-8AA4-AEE4D4F9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BD8-BECD-40BD-9F2A-C7C4BBA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073-2E06-4A09-BAC1-720333CF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773-E94D-40D6-BA1F-9B012486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CC6E-DDA2-49D6-B281-574110961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4FB-1117-43BC-9317-E4CA6B620B5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3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F96-534C-4DF7-B381-76CCDF99E3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20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20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59CC-4520-4386-9B99-C6B07C79E322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869B-5B13-4E86-8C58-5B431588B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4"/>
          <p:cNvSpPr/>
          <p:nvPr/>
        </p:nvSpPr>
        <p:spPr>
          <a:xfrm>
            <a:off x="473040" y="5991120"/>
            <a:ext cx="9159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84360" y="1341360"/>
            <a:ext cx="450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故 乡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8fcf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357080" y="11253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多子、饥荒、苛税、兵、匪、官、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097440" y="1773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社会落后愚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920120" y="2492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帝国主义侵略、封建社会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2268360" y="333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闰土变化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9"/>
          <p:cNvSpPr/>
          <p:nvPr/>
        </p:nvSpPr>
        <p:spPr>
          <a:xfrm>
            <a:off x="1476360" y="1197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0" y="1413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表面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0" y="26370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深层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539640" y="378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闰土的遭遇正是当时广大受压迫、受剥削农民的具体写照。作者塑造这一形象的目的，也就在于揭示帝国主义、封建社会双重压迫给中国人民带来的灾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6" descr="j0229389"/>
          <p:cNvPicPr/>
          <p:nvPr/>
        </p:nvPicPr>
        <p:blipFill>
          <a:blip r:embed="rId1"/>
          <a:stretch/>
        </p:blipFill>
        <p:spPr>
          <a:xfrm>
            <a:off x="324000" y="914400"/>
            <a:ext cx="8424720" cy="55404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景物描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86160" y="1197000"/>
            <a:ext cx="70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 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629280" y="2276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619200" y="3284640"/>
            <a:ext cx="79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611280" y="4581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景物描写有力地渲染了气氛，烘托出了人物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2484360" y="1474920"/>
            <a:ext cx="49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060720" y="1268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农村的衰败和悲凉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124000" y="234936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明丽、五彩缤纷的图画和明朗愉快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3708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静谧的气氛，情景交融的意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24000" y="2509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写作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0" y="3068640"/>
            <a:ext cx="125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258920" y="836640"/>
            <a:ext cx="7632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少年闰土和成年闰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农民命运的日益悲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封建等级的鸿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杨二嫂前后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黑暗社会已病入膏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故乡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每况愈下的中国农村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与宏儿水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对未来生活的向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684360" y="1125360"/>
            <a:ext cx="368280" cy="5256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21"/>
                </a:lnTo>
                <a:cubicBezTo>
                  <a:pt x="10800" y="10021"/>
                  <a:pt x="5400" y="10920"/>
                  <a:pt x="0" y="10920"/>
                </a:cubicBezTo>
                <a:cubicBezTo>
                  <a:pt x="5400" y="10920"/>
                  <a:pt x="10800" y="11820"/>
                  <a:pt x="10800" y="1271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5" descr="看戏河埠"/>
          <p:cNvPicPr/>
          <p:nvPr/>
        </p:nvPicPr>
        <p:blipFill>
          <a:blip r:embed="rId2"/>
          <a:stretch/>
        </p:blipFill>
        <p:spPr>
          <a:xfrm>
            <a:off x="5364000" y="3068640"/>
            <a:ext cx="3240360" cy="2136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图像-32"/>
          <p:cNvPicPr/>
          <p:nvPr/>
        </p:nvPicPr>
        <p:blipFill>
          <a:blip r:embed="rId3"/>
          <a:stretch/>
        </p:blipFill>
        <p:spPr>
          <a:xfrm>
            <a:off x="5292720" y="569880"/>
            <a:ext cx="3382920" cy="218772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1"/>
          <p:cNvSpPr/>
          <p:nvPr/>
        </p:nvSpPr>
        <p:spPr>
          <a:xfrm>
            <a:off x="324000" y="6381720"/>
            <a:ext cx="62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6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6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俯首甘为儒子牛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2117160" y="1125360"/>
            <a:ext cx="5301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望是本无所谓有，无所谓无的。这正如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上的路，其实地上本没有路，走的人多了，也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成了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95280" y="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品味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只空有希望而不去奋斗、追求，希望便“无所谓有”；有了希望并始终不渝地斗争、实践，希望便“无所谓无”。人们都满怀希望奋斗，就会迎来新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页脚占位符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16TBC41"/>
          <p:cNvPicPr/>
          <p:nvPr/>
        </p:nvPicPr>
        <p:blipFill>
          <a:blip r:embed="rId1"/>
          <a:stretch/>
        </p:blipFill>
        <p:spPr>
          <a:xfrm>
            <a:off x="2771640" y="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读书图"/>
          <p:cNvPicPr/>
          <p:nvPr/>
        </p:nvPicPr>
        <p:blipFill>
          <a:blip r:embed="rId2"/>
          <a:stretch/>
        </p:blipFill>
        <p:spPr>
          <a:xfrm>
            <a:off x="1042920" y="3716280"/>
            <a:ext cx="3529080" cy="31417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9"/>
          <p:cNvSpPr/>
          <p:nvPr/>
        </p:nvSpPr>
        <p:spPr>
          <a:xfrm>
            <a:off x="46836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琥珀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826920" y="1125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作者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故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中描写了三个“故乡”你知道是那几个吗？作者重点写了那一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258920" y="270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文中的“水生”“宏儿”起到了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4716360" y="314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这篇小说的主题，有以下几种理解你赞同哪一种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4572000" y="44370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人的生命和活力被扼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纯真的人性被扭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愚味、落后、贫穷的轮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渴望理想的人与人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2454480" y="1992240"/>
            <a:ext cx="49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回忆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现实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理想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A719-3220-4CF6-B4AC-9D438EEA81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2509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小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619280" y="76500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0" y="2205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小说分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161928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908000" y="17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90800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908000" y="270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3059280" y="198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34800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5364000" y="2276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（小小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0" y="34909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小说三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95640" y="350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0" y="42210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人物塑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2662200" y="4221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0" y="50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故事情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1763640" y="508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开端、发展、高潮、结局。 （序幕、尾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5950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环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2"/>
          <p:cNvSpPr/>
          <p:nvPr/>
        </p:nvSpPr>
        <p:spPr>
          <a:xfrm>
            <a:off x="1476360" y="587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1763640" y="565632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6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鲁迅像2"/>
          <p:cNvPicPr/>
          <p:nvPr/>
        </p:nvPicPr>
        <p:blipFill>
          <a:blip r:embed="rId16"/>
          <a:stretch/>
        </p:blipFill>
        <p:spPr>
          <a:xfrm>
            <a:off x="0" y="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3851280" y="476280"/>
            <a:ext cx="507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81—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于浙江绍兴，原名周树人，字豫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文学家、思想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革命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狂人日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鲁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笔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250920" y="328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朝花夕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华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24000" y="4292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0" y="4724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从百草园到三味书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4920" y="51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3492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阿长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4920" y="61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鲁迅自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354560" y="472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4354560" y="5229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356000" y="57340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356000" y="623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集外集拾遗补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作品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95280" y="133524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   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故乡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运用了第一人称的叙述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通过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故乡景色和人物前后变化的描写反映了当时旧中国的社会现实。作者深切地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触到故乡的衰败，并以此作为小说的情节基础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描写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以闰土为代表的旧中国农民的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惨生活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表达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我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贫苦农民的深切同情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反映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村经济的日益破产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揭示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民日益贫困的社会根源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抒发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热切向往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生活的愿望</a:t>
            </a:r>
            <a:r>
              <a:rPr b="1" lang="zh-CN" sz="36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0" y="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结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611280" y="9079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段：  写“我”渐近故乡时的悲凉心情和眼前故乡破败萧条的景象，交代了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时间和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11280" y="2997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段：叙述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见闻、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684360" y="458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段：写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离开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心情、感想，表达了“我”对新生活的向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826920" y="2205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开头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1042920" y="3573360"/>
            <a:ext cx="68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1835280" y="5516640"/>
            <a:ext cx="65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结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226836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1619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3995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234000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907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小说以“我”的行踪（回故乡、在故乡、离故乡）为经，以“我”的见闻、感受为纬，逐步展开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故事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1042920" y="220500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回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1-5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70036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1042920" y="4005360"/>
            <a:ext cx="1368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在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6-77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4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到家那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6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116000" y="558972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离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7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船上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”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母子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杨二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了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动身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严寒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卖屋、搬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0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萧索、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2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3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4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5092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人物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50920" y="14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闰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798560" y="119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勤劳善良，质朴老实，痛苦麻木，但不觉悟的农民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2509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杨二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1763640" y="314172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贪婪、尖刻、鄙俗，自私庸俗的小市民典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25092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619280" y="501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对现实不满正在追求进步的知识分子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1908000" y="2060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哀其不幸，怒其不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1908000" y="371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既可恨、可鄙又可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692360" y="544500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寄希望于未来，却又对前途感到渺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835280" y="2565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揭示帝国主义、封建社会给中国人民带来的灾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1619280" y="429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三座大山压榨下乡镇小市民也逃不了日益贫困的厄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1763640" y="5877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串联全文。（故乡及故乡人的变化都是通过“我”的观察与感受表现出来的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0" y="2133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0" y="3789360"/>
            <a:ext cx="205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0" y="54450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0" y="263700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0" y="43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0" y="5950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155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1155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少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6"/>
          <p:cNvSpPr/>
          <p:nvPr/>
        </p:nvSpPr>
        <p:spPr>
          <a:xfrm>
            <a:off x="496728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十一二岁  紫色圆脸   毡帽、银项圈   红活圆实的手 健康壮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4788000" y="2924280"/>
            <a:ext cx="43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活泼刚健  动作利落  有智有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语言朴质生动    热情纯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507672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友好热情   纯真平等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5148360" y="5661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热爱生活 生活知识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天真活泼   无忧无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3492360" y="17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492360" y="3141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305928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916360" y="5805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521964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少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6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6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6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6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6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中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457200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643280" y="2852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话吞吞吐吐    只是摇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谦恭又含糊     迟钝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5148360" y="4508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恭恭敬敬    呼“我”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5364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悲哀痛苦    寄托神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3203640" y="162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3203640" y="306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2700360" y="450864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2556000" y="57340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5292720" y="260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中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6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6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6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6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6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6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37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45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