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2.gif" ContentType="image/gif"/>
  <Override PartName="/ppt/media/image8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4BE3-BA9C-49FD-B4C7-41A6AF53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197-383F-47D6-940E-5006D2B2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3D5-C1BF-405A-BB65-2D65C26D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D8F-4C4B-4AD7-B544-F006CC69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4C42-7C1F-48E2-821B-10DF7867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E378-3B4E-460D-B6D0-55365F91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EC4D-21CD-413B-B834-CE1F065D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C320-572C-4F69-8120-66495E1D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FC76-DE14-4E64-BB74-A5200657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7AE0-1C3F-4581-8655-259A708B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BAC6-07F7-4C92-B8E4-EF0CA967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4FF-D58D-485E-A5E1-AD693B13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4B84-926D-4619-B2F4-44D683F9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E18F-D077-4282-8948-3FAF418F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7204-D5B9-4C51-BA21-13AF7CAB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019B-0CE1-45F9-A40E-2C03FF19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32AC-8CA2-4358-B9A6-CA3A365B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8A8-F1ED-4ED5-B93C-FCFC4E7D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3D6-FB58-48E6-9D5F-C28E739C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08A-884B-492E-918F-0D5BBE37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2A5-172E-43A9-8B64-47B44586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455A-556B-4A1E-A841-889E7188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29B-525A-4BE5-8A45-1EAC6B83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BC30-1189-44B0-8B4E-E8559363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0C69-8CE2-4670-9C77-46BE3032F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B5EF-DFF2-4B7F-AB1C-3D5237352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gifbj058"/>
          <p:cNvPicPr/>
          <p:nvPr/>
        </p:nvPicPr>
        <p:blipFill>
          <a:blip r:embed="rId1"/>
          <a:stretch/>
        </p:blipFill>
        <p:spPr>
          <a:xfrm>
            <a:off x="7467480" y="-15228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gifbj058"/>
          <p:cNvPicPr/>
          <p:nvPr/>
        </p:nvPicPr>
        <p:blipFill>
          <a:blip r:embed="rId2"/>
          <a:stretch/>
        </p:blipFill>
        <p:spPr>
          <a:xfrm>
            <a:off x="3352680" y="464832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gifbj058"/>
          <p:cNvPicPr/>
          <p:nvPr/>
        </p:nvPicPr>
        <p:blipFill>
          <a:blip r:embed="rId3"/>
          <a:stretch/>
        </p:blipFill>
        <p:spPr>
          <a:xfrm>
            <a:off x="0" y="-15228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2004821594445"/>
          <p:cNvPicPr/>
          <p:nvPr/>
        </p:nvPicPr>
        <p:blipFill>
          <a:blip r:embed="rId4"/>
          <a:stretch/>
        </p:blipFill>
        <p:spPr>
          <a:xfrm>
            <a:off x="1828800" y="711360"/>
            <a:ext cx="5410080" cy="3632040"/>
          </a:xfrm>
          <a:prstGeom prst="rect">
            <a:avLst/>
          </a:prstGeom>
          <a:ln w="0">
            <a:noFill/>
          </a:ln>
        </p:spPr>
      </p:pic>
      <p:sp>
        <p:nvSpPr>
          <p:cNvPr id="86" name="WordArt 24"/>
          <p:cNvSpPr txBox="1"/>
          <p:nvPr/>
        </p:nvSpPr>
        <p:spPr>
          <a:xfrm>
            <a:off x="1905120" y="1905120"/>
            <a:ext cx="5867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55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欢庆</a:t>
            </a:r>
            <a:endParaRPr b="0" lang="en-US" sz="2400" spc="1" strike="noStrike">
              <a:ln w="2556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-86040" y="61628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133720" y="762120"/>
          <a:ext cx="6019560" cy="5410080"/>
        </p:xfrm>
        <a:graphic>
          <a:graphicData uri="http://schemas.openxmlformats.org/drawingml/2006/table">
            <a:tbl>
              <a:tblPr/>
              <a:tblGrid>
                <a:gridCol w="3009600"/>
                <a:gridCol w="3009960"/>
              </a:tblGrid>
              <a:tr h="2720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689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13"/>
          <p:cNvSpPr/>
          <p:nvPr/>
        </p:nvSpPr>
        <p:spPr>
          <a:xfrm>
            <a:off x="3475800" y="7632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亿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3994200" y="-152280"/>
            <a:ext cx="246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十三亿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1044720" y="212760"/>
            <a:ext cx="5616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我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十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亿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人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口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国情5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国情6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国情7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国情8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0" name="Line 6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国情4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2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1680">
            <a:solidFill>
              <a:srgbClr val="ffff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国情1"/>
          <p:cNvPicPr/>
          <p:nvPr/>
        </p:nvPicPr>
        <p:blipFill>
          <a:blip r:embed="rId6"/>
          <a:stretch/>
        </p:blipFill>
        <p:spPr>
          <a:xfrm>
            <a:off x="0" y="0"/>
            <a:ext cx="4572000" cy="3409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国情2"/>
          <p:cNvPicPr/>
          <p:nvPr/>
        </p:nvPicPr>
        <p:blipFill>
          <a:blip r:embed="rId7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31680">
            <a:solidFill>
              <a:srgbClr val="ffff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3" descr="国情3"/>
          <p:cNvPicPr/>
          <p:nvPr/>
        </p:nvPicPr>
        <p:blipFill>
          <a:blip r:embed="rId8"/>
          <a:stretch/>
        </p:blipFill>
        <p:spPr>
          <a:xfrm>
            <a:off x="0" y="342900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gifbj044"/>
          <p:cNvPicPr/>
          <p:nvPr/>
        </p:nvPicPr>
        <p:blipFill>
          <a:blip r:embed="rId9"/>
          <a:stretch/>
        </p:blipFill>
        <p:spPr>
          <a:xfrm>
            <a:off x="1143000" y="1828800"/>
            <a:ext cx="165096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gifbj044"/>
          <p:cNvPicPr/>
          <p:nvPr/>
        </p:nvPicPr>
        <p:blipFill>
          <a:blip r:embed="rId10"/>
          <a:stretch/>
        </p:blipFill>
        <p:spPr>
          <a:xfrm>
            <a:off x="3778200" y="1905120"/>
            <a:ext cx="158760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gifbj044"/>
          <p:cNvPicPr/>
          <p:nvPr/>
        </p:nvPicPr>
        <p:blipFill>
          <a:blip r:embed="rId11"/>
          <a:stretch/>
        </p:blipFill>
        <p:spPr>
          <a:xfrm>
            <a:off x="6172200" y="2133720"/>
            <a:ext cx="1460520" cy="236196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8"/>
          <p:cNvSpPr txBox="1"/>
          <p:nvPr/>
        </p:nvSpPr>
        <p:spPr>
          <a:xfrm>
            <a:off x="-685800" y="1676520"/>
            <a:ext cx="9677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 </a:t>
            </a:r>
            <a:r>
              <a:rPr b="1" lang="zh-CN" sz="24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举国欢庆</a:t>
            </a:r>
            <a:endParaRPr b="1" lang="en-US" sz="2400" spc="1" strike="noStrike">
              <a:ln w="1908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41" name="Picture 19" descr="01"/>
          <p:cNvPicPr/>
          <p:nvPr/>
        </p:nvPicPr>
        <p:blipFill>
          <a:blip r:embed="rId12"/>
          <a:stretch/>
        </p:blipFill>
        <p:spPr>
          <a:xfrm>
            <a:off x="3581280" y="0"/>
            <a:ext cx="1333800" cy="1600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01"/>
          <p:cNvPicPr/>
          <p:nvPr/>
        </p:nvPicPr>
        <p:blipFill>
          <a:blip r:embed="rId13"/>
          <a:stretch/>
        </p:blipFill>
        <p:spPr>
          <a:xfrm>
            <a:off x="6095880" y="520056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01"/>
          <p:cNvPicPr/>
          <p:nvPr/>
        </p:nvPicPr>
        <p:blipFill>
          <a:blip r:embed="rId14"/>
          <a:stretch/>
        </p:blipFill>
        <p:spPr>
          <a:xfrm>
            <a:off x="0" y="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01"/>
          <p:cNvPicPr/>
          <p:nvPr/>
        </p:nvPicPr>
        <p:blipFill>
          <a:blip r:embed="rId15"/>
          <a:stretch/>
        </p:blipFill>
        <p:spPr>
          <a:xfrm>
            <a:off x="7772400" y="520056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01"/>
          <p:cNvPicPr/>
          <p:nvPr/>
        </p:nvPicPr>
        <p:blipFill>
          <a:blip r:embed="rId16"/>
          <a:stretch/>
        </p:blipFill>
        <p:spPr>
          <a:xfrm>
            <a:off x="3886200" y="520056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4" descr="01"/>
          <p:cNvPicPr/>
          <p:nvPr/>
        </p:nvPicPr>
        <p:blipFill>
          <a:blip r:embed="rId17"/>
          <a:stretch/>
        </p:blipFill>
        <p:spPr>
          <a:xfrm>
            <a:off x="1981080" y="520056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5" descr="01"/>
          <p:cNvPicPr/>
          <p:nvPr/>
        </p:nvPicPr>
        <p:blipFill>
          <a:blip r:embed="rId18"/>
          <a:stretch/>
        </p:blipFill>
        <p:spPr>
          <a:xfrm>
            <a:off x="0" y="520056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01"/>
          <p:cNvPicPr/>
          <p:nvPr/>
        </p:nvPicPr>
        <p:blipFill>
          <a:blip r:embed="rId19"/>
          <a:stretch/>
        </p:blipFill>
        <p:spPr>
          <a:xfrm>
            <a:off x="7772400" y="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7" descr="01"/>
          <p:cNvPicPr/>
          <p:nvPr/>
        </p:nvPicPr>
        <p:blipFill>
          <a:blip r:embed="rId20"/>
          <a:stretch/>
        </p:blipFill>
        <p:spPr>
          <a:xfrm>
            <a:off x="5791320" y="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8" descr="01"/>
          <p:cNvPicPr/>
          <p:nvPr/>
        </p:nvPicPr>
        <p:blipFill>
          <a:blip r:embed="rId21"/>
          <a:stretch/>
        </p:blipFill>
        <p:spPr>
          <a:xfrm>
            <a:off x="2057400" y="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9" descr="01"/>
          <p:cNvPicPr/>
          <p:nvPr/>
        </p:nvPicPr>
        <p:blipFill>
          <a:blip r:embed="rId22"/>
          <a:stretch/>
        </p:blipFill>
        <p:spPr>
          <a:xfrm>
            <a:off x="0" y="2600280"/>
            <a:ext cx="1371600" cy="165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0" descr="01"/>
          <p:cNvPicPr/>
          <p:nvPr/>
        </p:nvPicPr>
        <p:blipFill>
          <a:blip r:embed="rId23"/>
          <a:stretch/>
        </p:blipFill>
        <p:spPr>
          <a:xfrm>
            <a:off x="7772400" y="2600280"/>
            <a:ext cx="13716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dur="indefinite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dur="indefinite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dur="indefinite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dur="indefinite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500"/>
                            </p:stCondLst>
                            <p:childTnLst>
                              <p:par>
                                <p:cTn id="130" dur="indefinite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5BA4-CEB3-44E8-AFAF-E5C8CEDA29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3564000" y="3068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02"/>
          <p:cNvPicPr/>
          <p:nvPr/>
        </p:nvPicPr>
        <p:blipFill>
          <a:blip r:embed="rId16"/>
          <a:stretch/>
        </p:blipFill>
        <p:spPr>
          <a:xfrm>
            <a:off x="990720" y="1752480"/>
            <a:ext cx="7162560" cy="51055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0" y="152280"/>
            <a:ext cx="91440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en-US" sz="55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949</a:t>
            </a:r>
            <a:r>
              <a:rPr b="1" lang="zh-CN" sz="55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</a:t>
            </a:r>
            <a:r>
              <a:rPr b="1" lang="en-US" sz="55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0</a:t>
            </a:r>
            <a:r>
              <a:rPr b="1" lang="zh-CN" sz="55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月</a:t>
            </a:r>
            <a:r>
              <a:rPr b="1" lang="en-US" sz="55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55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日，</a:t>
            </a:r>
            <a:r>
              <a:rPr b="1" lang="zh-CN" sz="55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55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中华人民共和国</a:t>
            </a:r>
            <a:r>
              <a:rPr b="1" lang="zh-CN" sz="55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1" lang="zh-CN" sz="55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成立了！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1235160" y="5981760"/>
            <a:ext cx="77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200492221417696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1676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457200" y="4419720"/>
            <a:ext cx="77119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5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奏 曲 亿</a:t>
            </a: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" y="1828800"/>
            <a:ext cx="8686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5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庆 献 帜 洁</a:t>
            </a: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225440" y="1447920"/>
            <a:ext cx="626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qìng     xiàn      zhì       ji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47640" y="3809880"/>
            <a:ext cx="55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zòu      qǔ        y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" descr="01"/>
          <p:cNvPicPr/>
          <p:nvPr/>
        </p:nvPicPr>
        <p:blipFill>
          <a:blip r:embed="rId2"/>
          <a:stretch/>
        </p:blipFill>
        <p:spPr>
          <a:xfrm>
            <a:off x="380880" y="22860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057400" y="762120"/>
          <a:ext cx="6019920" cy="563868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2836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801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77"/>
          <p:cNvSpPr/>
          <p:nvPr/>
        </p:nvSpPr>
        <p:spPr>
          <a:xfrm>
            <a:off x="3353760" y="22860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庆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7"/>
          <p:cNvSpPr/>
          <p:nvPr/>
        </p:nvSpPr>
        <p:spPr>
          <a:xfrm>
            <a:off x="3865680" y="-228600"/>
            <a:ext cx="246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庆 祝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8"/>
          <p:cNvSpPr/>
          <p:nvPr/>
        </p:nvSpPr>
        <p:spPr>
          <a:xfrm>
            <a:off x="954720" y="-73080"/>
            <a:ext cx="74448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我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们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在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起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庆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祝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六、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儿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童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节！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057400" y="762120"/>
          <a:ext cx="6019920" cy="563868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2836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801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3"/>
          <p:cNvSpPr/>
          <p:nvPr/>
        </p:nvSpPr>
        <p:spPr>
          <a:xfrm>
            <a:off x="3277440" y="30492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献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3492360" y="-228600"/>
            <a:ext cx="3594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献 上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022760" y="30240"/>
            <a:ext cx="6883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981080" y="762120"/>
          <a:ext cx="6095880" cy="55623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2796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765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3"/>
          <p:cNvSpPr/>
          <p:nvPr/>
        </p:nvSpPr>
        <p:spPr>
          <a:xfrm>
            <a:off x="3201120" y="21276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帜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3789360" y="-228600"/>
            <a:ext cx="246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旗 帜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897840" y="-76320"/>
            <a:ext cx="70632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广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场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飘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着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五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颜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六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的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旗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帜</a:t>
            </a: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133720" y="762120"/>
          <a:ext cx="6019560" cy="5486400"/>
        </p:xfrm>
        <a:graphic>
          <a:graphicData uri="http://schemas.openxmlformats.org/drawingml/2006/table">
            <a:tbl>
              <a:tblPr/>
              <a:tblGrid>
                <a:gridCol w="3009600"/>
                <a:gridCol w="3009960"/>
              </a:tblGrid>
              <a:tr h="2759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727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3"/>
          <p:cNvSpPr/>
          <p:nvPr/>
        </p:nvSpPr>
        <p:spPr>
          <a:xfrm>
            <a:off x="3429720" y="7632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洁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3942000" y="-228600"/>
            <a:ext cx="246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洁 白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1015920" y="-76320"/>
            <a:ext cx="47016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洁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白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的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花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从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飘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落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来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209680" y="762120"/>
          <a:ext cx="5867280" cy="541008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2720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689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13"/>
          <p:cNvSpPr/>
          <p:nvPr/>
        </p:nvSpPr>
        <p:spPr>
          <a:xfrm>
            <a:off x="3780720" y="22860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奏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017960" y="-228600"/>
            <a:ext cx="246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弹 奏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822240" y="0"/>
            <a:ext cx="14637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209680" y="762120"/>
          <a:ext cx="6019920" cy="548640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2759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727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13"/>
          <p:cNvSpPr/>
          <p:nvPr/>
        </p:nvSpPr>
        <p:spPr>
          <a:xfrm>
            <a:off x="3621960" y="-7632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曲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4017960" y="-228600"/>
            <a:ext cx="246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歌 曲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966240" y="593640"/>
            <a:ext cx="870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我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歌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曲</a:t>
            </a:r>
            <a:r>
              <a:rPr b="1" lang="zh-CN" sz="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6:41:02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59:52Z</dcterms:modified>
  <cp:revision>22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