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1B7-4717-49AF-BBCB-D8D695C3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248-279C-4394-BEB5-EC567F45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461-4E8D-4D11-BAF5-E8E81D80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532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88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532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88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1A4-2811-4DE1-AE97-C032EA9A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DD48-F305-4EB7-8D39-7DF147A4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660-1835-48B7-8C9C-3097A9B7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BE0E-A3D9-4DC3-840B-B6222F0C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CC9B-3CF2-4CFD-BCC3-1EFD79CC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A586-3C9F-467C-9C59-8E5F48A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6477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8F47-B345-43EE-9BF1-B876852C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EA8E-E43D-4EDD-B14F-E07C1570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CE2-670C-4E02-9289-FCAFCA54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1513-8B54-4E83-97EA-27F667A0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4C3C-F11C-4B7C-97B0-6E68BE5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79BF-069C-4BAA-9148-CFEEE61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E98C-A05A-45CD-94C5-5D3C3FCC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840-C35F-4C9D-80E6-E02C4DAA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3271-01C0-4094-9F7E-B0D83865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104F-02A5-4CCC-83B2-D7E70DF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14ED-A584-4F10-BA38-C6AD4CE9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C311-7C11-4C3C-882A-E73D3922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D519-0D56-40B1-9011-A453623E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FEA-31CB-4191-B0C5-0D0A7108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6477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170D-C801-4B33-A350-4C676DA1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E544-92CC-4F7E-9049-9CC93F6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250A-A14A-4D2A-9260-5CE10CA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FDDF-32CA-4E85-B6FB-2C4D86A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43C7-AACF-434D-B018-27B9890E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C72E-D385-463F-8D17-E77A1B7A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1532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888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176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1532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888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9B2F-9E08-44A7-A7DB-79C38168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C48A-84A2-478B-AF9E-C0A7BC74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6A8C-7E4E-432D-BF8B-3666397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78C7-16D9-45F2-A9D8-76AA29BD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925-91DF-4385-8062-F24CAD6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A684-E0C0-4549-B2AA-AC8A168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2F4C-4BA7-4C37-8B2A-004918D1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6477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B4D0-AFBF-4049-A698-0B60CE0A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F2FD-EF2C-4B31-A439-3894D03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5B55-F844-4A2A-B9A2-68F8024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2223F-5275-40A6-8F2D-426FE09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5638-CE98-4009-ADF1-3BB1F496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F7B1-1967-4848-A712-21382FEB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1532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68880" y="25146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6176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1532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68880" y="43855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CB36-7876-4CCB-937F-3EBE5A01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8FF-EBEB-4A3E-86D8-44E1B263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6477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9C0-2EC1-47E4-B519-77EE27B1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CF4-21F1-4A83-9601-D1C65A43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3320" y="43855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E71-888B-4835-B718-80F07F7A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25146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3855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2BF-B870-4FC4-A18F-4C93407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6629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9A3-D9EE-414E-9004-27B5D7399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inance-11-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231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3B09-1EB4-44C7-BC90-BCA316893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6629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8C69-29A0-47FB-83F4-7BD76B3DF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finance-11-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231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61760" y="25146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6D3E-8361-498C-8795-88A2A8523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7"/>
          <p:cNvSpPr txBox="1"/>
          <p:nvPr/>
        </p:nvSpPr>
        <p:spPr>
          <a:xfrm>
            <a:off x="755640" y="922320"/>
            <a:ext cx="316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d7a"/>
                  </a:outerShdw>
                </a:effectLst>
                <a:latin typeface="宋体"/>
              </a:rPr>
              <a:t>第一章 有理数 </a:t>
            </a:r>
            <a:endParaRPr b="0" lang="en-US" sz="1800" spc="-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d7a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195640" y="2492280"/>
            <a:ext cx="475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微软雅黑"/>
              </a:rPr>
              <a:t>绝对值</a:t>
            </a:r>
            <a:endParaRPr b="1" lang="en-US" sz="7200" spc="1" strike="noStrike">
              <a:ln w="19080">
                <a:solidFill>
                  <a:srgbClr val="00ff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2476440" y="6102360"/>
            <a:ext cx="583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4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755640" y="260280"/>
            <a:ext cx="2303640" cy="936720"/>
          </a:xfrm>
          <a:custGeom>
            <a:avLst/>
            <a:gdLst>
              <a:gd name="textAreaLeft" fmla="*/ 576000 w 2303640"/>
              <a:gd name="textAreaRight" fmla="*/ 1728000 w 230364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5"/>
          <p:cNvSpPr txBox="1"/>
          <p:nvPr/>
        </p:nvSpPr>
        <p:spPr>
          <a:xfrm>
            <a:off x="1403280" y="2602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ff0000">
                    <a:alpha val="97000"/>
                  </a:srgbClr>
                </a:solidFill>
                <a:latin typeface="宋体"/>
              </a:rPr>
              <a:t>小结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solidFill>
                <a:srgbClr val="ff0000">
                  <a:alpha val="97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476360" y="1557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你获得那些知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00000" y="20304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般地数轴上表示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点与原点的距离叫做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绝对值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ute valu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6300720" y="2637000"/>
            <a:ext cx="2160720" cy="1081080"/>
          </a:xfrm>
          <a:prstGeom prst="wedgeRectCallout">
            <a:avLst>
              <a:gd name="adj1" fmla="val -89824"/>
              <a:gd name="adj2" fmla="val -65125"/>
            </a:avLst>
          </a:prstGeom>
          <a:solidFill>
            <a:srgbClr val="333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Arial"/>
                <a:ea typeface="宋体"/>
              </a:rPr>
              <a:t>这里的数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66ff33"/>
                </a:solidFill>
                <a:latin typeface="Arial"/>
                <a:ea typeface="宋体"/>
              </a:rPr>
              <a:t>可以是正数、负数和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258920" y="407664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个正数的绝对值是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它本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 一个负数的绝对值是它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反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绝对值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92360" y="4653000"/>
            <a:ext cx="4321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正数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负数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4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2"/>
          <p:cNvSpPr txBox="1"/>
          <p:nvPr/>
        </p:nvSpPr>
        <p:spPr>
          <a:xfrm>
            <a:off x="2268360" y="1989000"/>
            <a:ext cx="475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300720" y="6021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7231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47231"/>
              </a:solidFill>
              <a:latin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A23E-E45A-4011-9B6A-C809DE8406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1474920" y="3573360"/>
            <a:ext cx="5903280" cy="0"/>
            <a:chOff x="1474920" y="3573360"/>
            <a:chExt cx="5903280" cy="0"/>
          </a:xfrm>
        </p:grpSpPr>
        <p:sp>
          <p:nvSpPr>
            <p:cNvPr id="171" name="Line 15"/>
            <p:cNvSpPr/>
            <p:nvPr/>
          </p:nvSpPr>
          <p:spPr>
            <a:xfrm>
              <a:off x="1474920" y="3573360"/>
              <a:ext cx="29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4427280" y="3573360"/>
              <a:ext cx="295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2" descr="j0212957"/>
          <p:cNvPicPr/>
          <p:nvPr/>
        </p:nvPicPr>
        <p:blipFill>
          <a:blip r:embed="rId1"/>
          <a:stretch/>
        </p:blipFill>
        <p:spPr>
          <a:xfrm>
            <a:off x="3564000" y="2852640"/>
            <a:ext cx="865080" cy="542880"/>
          </a:xfrm>
          <a:prstGeom prst="rect">
            <a:avLst/>
          </a:prstGeom>
          <a:ln w="0">
            <a:noFill/>
          </a:ln>
        </p:spPr>
      </p:pic>
      <p:sp>
        <p:nvSpPr>
          <p:cNvPr id="174" name="Line 3"/>
          <p:cNvSpPr/>
          <p:nvPr/>
        </p:nvSpPr>
        <p:spPr>
          <a:xfrm>
            <a:off x="755640" y="357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4276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738036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147492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j0212957"/>
          <p:cNvPicPr/>
          <p:nvPr/>
        </p:nvPicPr>
        <p:blipFill>
          <a:blip r:embed="rId2"/>
          <a:stretch/>
        </p:blipFill>
        <p:spPr>
          <a:xfrm flipH="1">
            <a:off x="4427280" y="2852640"/>
            <a:ext cx="863640" cy="5428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9"/>
          <p:cNvSpPr txBox="1"/>
          <p:nvPr/>
        </p:nvSpPr>
        <p:spPr>
          <a:xfrm>
            <a:off x="1042920" y="836640"/>
            <a:ext cx="144000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观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971640" y="148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两辆汽车从同一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出发，分别向东、西方向行驶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，到达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两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39640" y="422100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思考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、它们行驶的路线相同吗？它们行驶路程的远近相同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971640" y="4653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路线不相同，因为方向不同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971640" y="5084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远近相同，如图示，即线段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的长度等于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OB</a:t>
            </a: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的长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4213080" y="270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1332000" y="2852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7164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284720" y="37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7164360" y="37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187280" y="37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4500720" y="34290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1547640" y="3429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72436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2484360" y="3141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116000" y="573408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如果汽车每公里耗油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0.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升，计算两辆车到达终点共耗油多少升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62428E-007 L 0.32292 4.62428E-007 E">
                                      <p:cBhvr>
                                        <p:cTn id="62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428E-007 L -0.32292 4.62428E-007 E">
                                      <p:cBhvr>
                                        <p:cTn id="64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4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79280" y="9079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说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实际生活中有些问题只关注量的具体值，而与相反意义无关，即与正负性无关。例如，汽车的耗油量我们只关心汽车行驶的距离和汽油的价格，而与行驶的方向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684360" y="3500280"/>
            <a:ext cx="5943600" cy="1273680"/>
            <a:chOff x="684360" y="3500280"/>
            <a:chExt cx="5943600" cy="1273680"/>
          </a:xfrm>
        </p:grpSpPr>
        <p:pic>
          <p:nvPicPr>
            <p:cNvPr id="198" name="Object 6" descr=""/>
            <p:cNvPicPr/>
            <p:nvPr/>
          </p:nvPicPr>
          <p:blipFill>
            <a:blip r:embed="rId1"/>
            <a:stretch/>
          </p:blipFill>
          <p:spPr>
            <a:xfrm>
              <a:off x="2508480" y="3500280"/>
              <a:ext cx="460080" cy="7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7"/>
            <p:cNvGrpSpPr/>
            <p:nvPr/>
          </p:nvGrpSpPr>
          <p:grpSpPr>
            <a:xfrm>
              <a:off x="684360" y="4143240"/>
              <a:ext cx="5943600" cy="630720"/>
              <a:chOff x="684360" y="4143240"/>
              <a:chExt cx="5943600" cy="630720"/>
            </a:xfrm>
          </p:grpSpPr>
          <p:sp>
            <p:nvSpPr>
              <p:cNvPr id="200" name="Line 8"/>
              <p:cNvSpPr/>
              <p:nvPr/>
            </p:nvSpPr>
            <p:spPr>
              <a:xfrm>
                <a:off x="684360" y="4287960"/>
                <a:ext cx="583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Group 9"/>
              <p:cNvGrpSpPr/>
              <p:nvPr/>
            </p:nvGrpSpPr>
            <p:grpSpPr>
              <a:xfrm>
                <a:off x="3516480" y="4143240"/>
                <a:ext cx="792000" cy="611640"/>
                <a:chOff x="3516480" y="4143240"/>
                <a:chExt cx="792000" cy="611640"/>
              </a:xfrm>
            </p:grpSpPr>
            <p:sp>
              <p:nvSpPr>
                <p:cNvPr id="202" name="Line 10"/>
                <p:cNvSpPr/>
                <p:nvPr/>
              </p:nvSpPr>
              <p:spPr>
                <a:xfrm>
                  <a:off x="3659400" y="414324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11"/>
                <p:cNvSpPr/>
                <p:nvPr/>
              </p:nvSpPr>
              <p:spPr>
                <a:xfrm>
                  <a:off x="3516480" y="4356000"/>
                  <a:ext cx="79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Line 12"/>
              <p:cNvSpPr/>
              <p:nvPr/>
            </p:nvSpPr>
            <p:spPr>
              <a:xfrm>
                <a:off x="6483600" y="4287960"/>
                <a:ext cx="14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3"/>
              <p:cNvSpPr/>
              <p:nvPr/>
            </p:nvSpPr>
            <p:spPr>
              <a:xfrm>
                <a:off x="4235400" y="414324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4"/>
              <p:cNvSpPr/>
              <p:nvPr/>
            </p:nvSpPr>
            <p:spPr>
              <a:xfrm>
                <a:off x="4811760" y="414324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5"/>
              <p:cNvSpPr/>
              <p:nvPr/>
            </p:nvSpPr>
            <p:spPr>
              <a:xfrm>
                <a:off x="3049560" y="414324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6"/>
              <p:cNvSpPr/>
              <p:nvPr/>
            </p:nvSpPr>
            <p:spPr>
              <a:xfrm>
                <a:off x="5388120" y="414324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7"/>
              <p:cNvSpPr/>
              <p:nvPr/>
            </p:nvSpPr>
            <p:spPr>
              <a:xfrm>
                <a:off x="2435400" y="414324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8"/>
              <p:cNvSpPr/>
              <p:nvPr/>
            </p:nvSpPr>
            <p:spPr>
              <a:xfrm>
                <a:off x="1859040" y="414324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19"/>
              <p:cNvSpPr/>
              <p:nvPr/>
            </p:nvSpPr>
            <p:spPr>
              <a:xfrm>
                <a:off x="4091040" y="4375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20"/>
              <p:cNvSpPr/>
              <p:nvPr/>
            </p:nvSpPr>
            <p:spPr>
              <a:xfrm>
                <a:off x="4672080" y="435600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21"/>
              <p:cNvSpPr/>
              <p:nvPr/>
            </p:nvSpPr>
            <p:spPr>
              <a:xfrm>
                <a:off x="5243760" y="435924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22"/>
              <p:cNvSpPr/>
              <p:nvPr/>
            </p:nvSpPr>
            <p:spPr>
              <a:xfrm>
                <a:off x="2781360" y="436104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3"/>
              <p:cNvSpPr/>
              <p:nvPr/>
            </p:nvSpPr>
            <p:spPr>
              <a:xfrm>
                <a:off x="2113200" y="4361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4"/>
              <p:cNvSpPr/>
              <p:nvPr/>
            </p:nvSpPr>
            <p:spPr>
              <a:xfrm>
                <a:off x="1500120" y="4356000"/>
                <a:ext cx="79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25"/>
              <p:cNvSpPr/>
              <p:nvPr/>
            </p:nvSpPr>
            <p:spPr>
              <a:xfrm>
                <a:off x="2722680" y="4233960"/>
                <a:ext cx="73080" cy="73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6"/>
              <p:cNvSpPr/>
              <p:nvPr/>
            </p:nvSpPr>
            <p:spPr>
              <a:xfrm>
                <a:off x="5964480" y="414324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27"/>
              <p:cNvSpPr/>
              <p:nvPr/>
            </p:nvSpPr>
            <p:spPr>
              <a:xfrm>
                <a:off x="5819760" y="437508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28"/>
              <p:cNvSpPr/>
              <p:nvPr/>
            </p:nvSpPr>
            <p:spPr>
              <a:xfrm>
                <a:off x="1303560" y="4162320"/>
                <a:ext cx="0" cy="1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9"/>
              <p:cNvSpPr/>
              <p:nvPr/>
            </p:nvSpPr>
            <p:spPr>
              <a:xfrm>
                <a:off x="962280" y="435456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30"/>
              <p:cNvSpPr/>
              <p:nvPr/>
            </p:nvSpPr>
            <p:spPr>
              <a:xfrm>
                <a:off x="5641920" y="4233960"/>
                <a:ext cx="73080" cy="73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31"/>
            <p:cNvSpPr/>
            <p:nvPr/>
          </p:nvSpPr>
          <p:spPr>
            <a:xfrm>
              <a:off x="5426280" y="38559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33"/>
          <p:cNvSpPr/>
          <p:nvPr/>
        </p:nvSpPr>
        <p:spPr>
          <a:xfrm>
            <a:off x="250920" y="4941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归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数轴上表示的点到原点的距离与这个点离开原点的长度有关，而与它表示的数的正负性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2"/>
          <p:cNvSpPr txBox="1"/>
          <p:nvPr/>
        </p:nvSpPr>
        <p:spPr>
          <a:xfrm>
            <a:off x="539640" y="260280"/>
            <a:ext cx="18003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概念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90000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地数轴上表示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点与原点的距离叫做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绝对值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ute valu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6920" y="4581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例如，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点分别表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和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它们与原点的距离都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个单位的长度，所以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和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绝对值都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即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|10|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|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显然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|0|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372360" y="2492280"/>
            <a:ext cx="2160360" cy="865440"/>
          </a:xfrm>
          <a:prstGeom prst="wedgeRectCallout">
            <a:avLst>
              <a:gd name="adj1" fmla="val -93129"/>
              <a:gd name="adj2" fmla="val -52203"/>
            </a:avLst>
          </a:prstGeom>
          <a:solidFill>
            <a:srgbClr val="333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Arial"/>
              </a:rPr>
              <a:t>这里的数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66ff33"/>
                </a:solidFill>
                <a:latin typeface="Arial"/>
              </a:rPr>
              <a:t>可以是正数、负数和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9"/>
          <p:cNvGrpSpPr/>
          <p:nvPr/>
        </p:nvGrpSpPr>
        <p:grpSpPr>
          <a:xfrm>
            <a:off x="900000" y="3573360"/>
            <a:ext cx="7632720" cy="728640"/>
            <a:chOff x="900000" y="3573360"/>
            <a:chExt cx="7632720" cy="728640"/>
          </a:xfrm>
        </p:grpSpPr>
        <p:grpSp>
          <p:nvGrpSpPr>
            <p:cNvPr id="231" name="Group 6"/>
            <p:cNvGrpSpPr/>
            <p:nvPr/>
          </p:nvGrpSpPr>
          <p:grpSpPr>
            <a:xfrm>
              <a:off x="1619280" y="3789360"/>
              <a:ext cx="5904000" cy="0"/>
              <a:chOff x="1619280" y="3789360"/>
              <a:chExt cx="5904000" cy="0"/>
            </a:xfrm>
          </p:grpSpPr>
          <p:sp>
            <p:nvSpPr>
              <p:cNvPr id="232" name="Line 7"/>
              <p:cNvSpPr/>
              <p:nvPr/>
            </p:nvSpPr>
            <p:spPr>
              <a:xfrm>
                <a:off x="1619280" y="3789360"/>
                <a:ext cx="29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8"/>
              <p:cNvSpPr/>
              <p:nvPr/>
            </p:nvSpPr>
            <p:spPr>
              <a:xfrm>
                <a:off x="4572000" y="3789360"/>
                <a:ext cx="295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9"/>
            <p:cNvSpPr/>
            <p:nvPr/>
          </p:nvSpPr>
          <p:spPr>
            <a:xfrm>
              <a:off x="900000" y="3789360"/>
              <a:ext cx="763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>
              <a:off x="4572000" y="357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7524720" y="357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1619280" y="357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4429080" y="393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7308720" y="39322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1258920" y="3933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9"/>
          <p:cNvGrpSpPr/>
          <p:nvPr/>
        </p:nvGrpSpPr>
        <p:grpSpPr>
          <a:xfrm>
            <a:off x="900000" y="2276640"/>
            <a:ext cx="7416720" cy="866520"/>
            <a:chOff x="900000" y="2276640"/>
            <a:chExt cx="7416720" cy="866520"/>
          </a:xfrm>
        </p:grpSpPr>
        <p:sp>
          <p:nvSpPr>
            <p:cNvPr id="243" name="Text Box 4"/>
            <p:cNvSpPr/>
            <p:nvPr/>
          </p:nvSpPr>
          <p:spPr>
            <a:xfrm>
              <a:off x="900000" y="2492280"/>
              <a:ext cx="74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，    －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，     －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.9                                 100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，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Object 5" descr=""/>
            <p:cNvPicPr/>
            <p:nvPr/>
          </p:nvPicPr>
          <p:blipFill>
            <a:blip r:embed="rId1"/>
            <a:stretch/>
          </p:blipFill>
          <p:spPr>
            <a:xfrm>
              <a:off x="4078440" y="2276640"/>
              <a:ext cx="3517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bject 6" descr=""/>
            <p:cNvPicPr/>
            <p:nvPr/>
          </p:nvPicPr>
          <p:blipFill>
            <a:blip r:embed="rId2"/>
            <a:stretch/>
          </p:blipFill>
          <p:spPr>
            <a:xfrm>
              <a:off x="5137920" y="2349360"/>
              <a:ext cx="64584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Text Box 14"/>
          <p:cNvSpPr/>
          <p:nvPr/>
        </p:nvSpPr>
        <p:spPr>
          <a:xfrm>
            <a:off x="539640" y="1268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写出下列各数的绝对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1403280" y="35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|6|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3132000" y="3573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|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|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5219640" y="35733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|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0.9|=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Object 28" descr=""/>
          <p:cNvPicPr/>
          <p:nvPr/>
        </p:nvPicPr>
        <p:blipFill>
          <a:blip r:embed="rId3"/>
          <a:stretch/>
        </p:blipFill>
        <p:spPr>
          <a:xfrm>
            <a:off x="1332000" y="4437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51" name="Object 30" descr=""/>
          <p:cNvPicPr/>
          <p:nvPr/>
        </p:nvPicPr>
        <p:blipFill>
          <a:blip r:embed="rId4"/>
          <a:stretch/>
        </p:blipFill>
        <p:spPr>
          <a:xfrm>
            <a:off x="3059280" y="4581360"/>
            <a:ext cx="1296720" cy="8859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3"/>
          <p:cNvSpPr/>
          <p:nvPr/>
        </p:nvSpPr>
        <p:spPr>
          <a:xfrm>
            <a:off x="5003640" y="486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|100|=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4"/>
          <p:cNvSpPr/>
          <p:nvPr/>
        </p:nvSpPr>
        <p:spPr>
          <a:xfrm>
            <a:off x="7093080" y="4832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|0|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5" descr="BD21313_"/>
          <p:cNvPicPr/>
          <p:nvPr/>
        </p:nvPicPr>
        <p:blipFill>
          <a:blip r:embed="rId5"/>
          <a:stretch/>
        </p:blipFill>
        <p:spPr>
          <a:xfrm>
            <a:off x="0" y="6524640"/>
            <a:ext cx="9144000" cy="3524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7"/>
          <p:cNvSpPr/>
          <p:nvPr/>
        </p:nvSpPr>
        <p:spPr>
          <a:xfrm>
            <a:off x="25092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38"/>
          <p:cNvSpPr txBox="1"/>
          <p:nvPr/>
        </p:nvSpPr>
        <p:spPr>
          <a:xfrm>
            <a:off x="395280" y="333360"/>
            <a:ext cx="180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395280" y="333360"/>
            <a:ext cx="20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1403280" y="2852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|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|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2484360" y="2852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|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|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3781440" y="2852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|0|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4716360" y="2852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|2|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5724360" y="285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|5|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539640" y="393372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填一填，一个正数的绝对值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一个负数的绝对值是它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绝对值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826920" y="4724280"/>
            <a:ext cx="76345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正数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负数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可以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些具体数值检验你填写的结果是否正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49"/>
          <p:cNvGrpSpPr/>
          <p:nvPr/>
        </p:nvGrpSpPr>
        <p:grpSpPr>
          <a:xfrm>
            <a:off x="611280" y="987480"/>
            <a:ext cx="5759280" cy="1582200"/>
            <a:chOff x="611280" y="987480"/>
            <a:chExt cx="5759280" cy="1582200"/>
          </a:xfrm>
        </p:grpSpPr>
        <p:sp>
          <p:nvSpPr>
            <p:cNvPr id="267" name="Text Box 5"/>
            <p:cNvSpPr/>
            <p:nvPr/>
          </p:nvSpPr>
          <p:spPr>
            <a:xfrm>
              <a:off x="611280" y="987480"/>
              <a:ext cx="575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观察数轴上点所对应的数，请你说出它们的绝对值是多少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6"/>
            <p:cNvGrpSpPr/>
            <p:nvPr/>
          </p:nvGrpSpPr>
          <p:grpSpPr>
            <a:xfrm>
              <a:off x="1936800" y="2146320"/>
              <a:ext cx="3672000" cy="0"/>
              <a:chOff x="1936800" y="2146320"/>
              <a:chExt cx="3672000" cy="0"/>
            </a:xfrm>
          </p:grpSpPr>
          <p:sp>
            <p:nvSpPr>
              <p:cNvPr id="269" name="Line 7"/>
              <p:cNvSpPr/>
              <p:nvPr/>
            </p:nvSpPr>
            <p:spPr>
              <a:xfrm>
                <a:off x="1936800" y="214632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"/>
              <p:cNvSpPr/>
              <p:nvPr/>
            </p:nvSpPr>
            <p:spPr>
              <a:xfrm>
                <a:off x="3808440" y="2146320"/>
                <a:ext cx="18003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9"/>
            <p:cNvSpPr/>
            <p:nvPr/>
          </p:nvSpPr>
          <p:spPr>
            <a:xfrm>
              <a:off x="1476360" y="2146320"/>
              <a:ext cx="4824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780000" y="2001600"/>
              <a:ext cx="0" cy="14436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V="1">
              <a:off x="4356000" y="2001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V="1">
              <a:off x="5075280" y="2001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V="1">
              <a:off x="3203640" y="2001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 flipV="1">
              <a:off x="2455920" y="2001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3564000" y="21398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4213080" y="214632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4902120" y="21398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8"/>
            <p:cNvSpPr/>
            <p:nvPr/>
          </p:nvSpPr>
          <p:spPr>
            <a:xfrm>
              <a:off x="2916360" y="213984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9"/>
            <p:cNvSpPr/>
            <p:nvPr/>
          </p:nvSpPr>
          <p:spPr>
            <a:xfrm>
              <a:off x="2211480" y="2139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5580000" y="2001960"/>
              <a:ext cx="0" cy="14436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 flipV="1">
              <a:off x="1979640" y="2001600"/>
              <a:ext cx="0" cy="14436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5435640" y="2108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1690560" y="21099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－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780000" y="21463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34"/>
            <p:cNvSpPr/>
            <p:nvPr/>
          </p:nvSpPr>
          <p:spPr>
            <a:xfrm>
              <a:off x="1835280" y="16351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5"/>
            <p:cNvSpPr/>
            <p:nvPr/>
          </p:nvSpPr>
          <p:spPr>
            <a:xfrm>
              <a:off x="2268360" y="163512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6"/>
            <p:cNvSpPr/>
            <p:nvPr/>
          </p:nvSpPr>
          <p:spPr>
            <a:xfrm>
              <a:off x="3059280" y="16351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37"/>
            <p:cNvSpPr/>
            <p:nvPr/>
          </p:nvSpPr>
          <p:spPr>
            <a:xfrm>
              <a:off x="3635280" y="16351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8"/>
            <p:cNvSpPr/>
            <p:nvPr/>
          </p:nvSpPr>
          <p:spPr>
            <a:xfrm>
              <a:off x="4211640" y="162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9"/>
            <p:cNvSpPr/>
            <p:nvPr/>
          </p:nvSpPr>
          <p:spPr>
            <a:xfrm>
              <a:off x="4932360" y="16351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5435640" y="16351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42"/>
          <p:cNvSpPr/>
          <p:nvPr/>
        </p:nvSpPr>
        <p:spPr>
          <a:xfrm>
            <a:off x="4140360" y="38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它本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3"/>
          <p:cNvSpPr/>
          <p:nvPr/>
        </p:nvSpPr>
        <p:spPr>
          <a:xfrm>
            <a:off x="1547640" y="414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相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4"/>
          <p:cNvSpPr/>
          <p:nvPr/>
        </p:nvSpPr>
        <p:spPr>
          <a:xfrm>
            <a:off x="5581800" y="4149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5"/>
          <p:cNvSpPr/>
          <p:nvPr/>
        </p:nvSpPr>
        <p:spPr>
          <a:xfrm>
            <a:off x="4140360" y="465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6"/>
          <p:cNvSpPr/>
          <p:nvPr/>
        </p:nvSpPr>
        <p:spPr>
          <a:xfrm>
            <a:off x="4044960" y="51577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－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7"/>
          <p:cNvSpPr/>
          <p:nvPr/>
        </p:nvSpPr>
        <p:spPr>
          <a:xfrm>
            <a:off x="3924360" y="5734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2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250920" y="1197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）如果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的绝对值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可能是正数吗？可能是零吗？可能是负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6360" y="249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</a:t>
            </a:r>
            <a:r>
              <a:rPr b="1" lang="zh-CN" sz="3200" spc="-1" strike="noStrike">
                <a:solidFill>
                  <a:srgbClr val="3008f8"/>
                </a:solidFill>
                <a:latin typeface="Times New Roman"/>
                <a:ea typeface="新宋体"/>
              </a:rPr>
              <a:t>解：</a:t>
            </a:r>
            <a:r>
              <a:rPr b="1" lang="en-US" sz="3200" spc="-1" strike="noStrike">
                <a:solidFill>
                  <a:srgbClr val="3008f8"/>
                </a:solidFill>
                <a:latin typeface="Times New Roman"/>
                <a:ea typeface="新宋体"/>
              </a:rPr>
              <a:t>a</a:t>
            </a:r>
            <a:r>
              <a:rPr b="1" lang="zh-CN" sz="3200" spc="-1" strike="noStrike">
                <a:solidFill>
                  <a:srgbClr val="3008f8"/>
                </a:solidFill>
                <a:latin typeface="Times New Roman"/>
                <a:ea typeface="新宋体"/>
              </a:rPr>
              <a:t>可能是正数，可能是零，不可能是负数</a:t>
            </a:r>
            <a:r>
              <a:rPr b="1" lang="en-US" sz="3200" spc="-1" strike="noStrike">
                <a:solidFill>
                  <a:srgbClr val="3008f8"/>
                </a:solidFill>
                <a:latin typeface="Times New Roman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95280" y="3213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）如果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的绝对值大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，那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可能是正数吗？可能是零吗？可能是负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24000" y="42926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   </a:t>
            </a:r>
            <a:r>
              <a:rPr b="1" lang="zh-CN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解：</a:t>
            </a:r>
            <a:r>
              <a:rPr b="1" lang="en-US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a </a:t>
            </a:r>
            <a:r>
              <a:rPr b="1" lang="zh-CN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不可能是正数，不可能是零，一定是负数</a:t>
            </a:r>
            <a:r>
              <a:rPr b="1" lang="en-US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250920" y="50846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）一个数 的绝对值可能小于  它本身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609480" y="5715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解：一个数的绝对值</a:t>
            </a:r>
            <a:r>
              <a:rPr b="1" lang="zh-CN" sz="2800" spc="-1" strike="noStrike">
                <a:solidFill>
                  <a:srgbClr val="f40c38"/>
                </a:solidFill>
                <a:latin typeface="Times New Roman"/>
                <a:ea typeface="新宋体"/>
              </a:rPr>
              <a:t>不可能</a:t>
            </a:r>
            <a:r>
              <a:rPr b="1" lang="zh-CN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小于它本身</a:t>
            </a:r>
            <a:r>
              <a:rPr b="1" lang="en-US" sz="2800" spc="-1" strike="noStrike">
                <a:solidFill>
                  <a:srgbClr val="3008f8"/>
                </a:solidFill>
                <a:latin typeface="Times New Roman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4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6920" y="13413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判断下列说法是否正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84360" y="2637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符号相反的数互为相反数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684360" y="3284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符号相反且绝对值相等的数互为相反数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84360" y="393372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一个数的绝对值越大，表示它的点在数轴上越靠右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684360" y="4653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一个数的绝对值越大，表示它的点在数轴上离原点越远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500720" y="263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5940360" y="328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7236000" y="3933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7740720" y="4653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1030320" y="5506920"/>
            <a:ext cx="56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页脚占位符 2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79280" y="765000"/>
            <a:ext cx="83883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判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一个数的绝对值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 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则这个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. |5|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. |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3|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0.3|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　　　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. |3|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)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理数的绝对值一定是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)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b|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)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b|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　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)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必为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必为负数　　　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)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互为相反数的两个数的绝对值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59500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宋体"/>
              </a:rPr>
              <a:t>若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|a+2|+|b-1|=0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宋体"/>
              </a:rPr>
              <a:t>，求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1:42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03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