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5DFE-1F94-4E9E-B593-6F1D191F154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3F81-F8A7-4C1B-B334-5A470D1DB5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346040" y="871560"/>
            <a:ext cx="3643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运算定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755640" y="204804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加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法结合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900000" y="94788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886920" y="609300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7"/>
          <p:cNvGrpSpPr/>
          <p:nvPr/>
        </p:nvGrpSpPr>
        <p:grpSpPr>
          <a:xfrm>
            <a:off x="1212840" y="2352600"/>
            <a:ext cx="4792680" cy="2552760"/>
            <a:chOff x="1212840" y="2352600"/>
            <a:chExt cx="4792680" cy="2552760"/>
          </a:xfrm>
        </p:grpSpPr>
        <p:pic>
          <p:nvPicPr>
            <p:cNvPr id="172" name="Picture 100" descr=""/>
            <p:cNvPicPr/>
            <p:nvPr/>
          </p:nvPicPr>
          <p:blipFill>
            <a:blip r:embed="rId1"/>
            <a:stretch/>
          </p:blipFill>
          <p:spPr>
            <a:xfrm>
              <a:off x="1212840" y="2352600"/>
              <a:ext cx="4792680" cy="255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组合 16"/>
            <p:cNvGrpSpPr/>
            <p:nvPr/>
          </p:nvGrpSpPr>
          <p:grpSpPr>
            <a:xfrm>
              <a:off x="1317240" y="2420280"/>
              <a:ext cx="4583880" cy="2460240"/>
              <a:chOff x="1317240" y="2420280"/>
              <a:chExt cx="4583880" cy="2460240"/>
            </a:xfrm>
          </p:grpSpPr>
          <p:sp>
            <p:nvSpPr>
              <p:cNvPr id="174" name="Text Box 5"/>
              <p:cNvSpPr/>
              <p:nvPr/>
            </p:nvSpPr>
            <p:spPr>
              <a:xfrm>
                <a:off x="2250720" y="242028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3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5" name="Text Box 5"/>
              <p:cNvSpPr/>
              <p:nvPr/>
            </p:nvSpPr>
            <p:spPr>
              <a:xfrm>
                <a:off x="3203640" y="242028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7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6" name="Text Box 5"/>
              <p:cNvSpPr/>
              <p:nvPr/>
            </p:nvSpPr>
            <p:spPr>
              <a:xfrm>
                <a:off x="4156200" y="242028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13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7" name="Text Box 5"/>
              <p:cNvSpPr/>
              <p:nvPr/>
            </p:nvSpPr>
            <p:spPr>
              <a:xfrm>
                <a:off x="5109120" y="242028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29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8" name="Text Box 5"/>
              <p:cNvSpPr/>
              <p:nvPr/>
            </p:nvSpPr>
            <p:spPr>
              <a:xfrm>
                <a:off x="1317240" y="242028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f329e"/>
                    </a:solidFill>
                    <a:latin typeface="Arial"/>
                  </a:rPr>
                  <a:t>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9" name="Text Box 5"/>
              <p:cNvSpPr/>
              <p:nvPr/>
            </p:nvSpPr>
            <p:spPr>
              <a:xfrm>
                <a:off x="1317240" y="341100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7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0" name="Text Box 5"/>
              <p:cNvSpPr/>
              <p:nvPr/>
            </p:nvSpPr>
            <p:spPr>
              <a:xfrm>
                <a:off x="1317240" y="39254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13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1" name="Text Box 5"/>
              <p:cNvSpPr/>
              <p:nvPr/>
            </p:nvSpPr>
            <p:spPr>
              <a:xfrm>
                <a:off x="1317240" y="442080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29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2" name="Text Box 5"/>
              <p:cNvSpPr/>
              <p:nvPr/>
            </p:nvSpPr>
            <p:spPr>
              <a:xfrm>
                <a:off x="1317240" y="29156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f329e"/>
                    </a:solidFill>
                    <a:latin typeface="Arial"/>
                  </a:rPr>
                  <a:t>3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1085760" y="5006880"/>
            <a:ext cx="7921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观察一下，表中的数有什么特点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有些利用加法交换律，可以不用计算，直接写答案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216240" y="290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148280" y="290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106960" y="290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148280" y="34146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106960" y="34146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106960" y="38955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16240" y="38955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1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309760" y="2906640"/>
            <a:ext cx="6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57560" y="3414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257560" y="3895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257560" y="4403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216240" y="34146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16240" y="44038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7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48280" y="3895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8280" y="44038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3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106960" y="44038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9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826920" y="1498680"/>
            <a:ext cx="4249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计算，再填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57200" y="385920"/>
            <a:ext cx="634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2" descr="125副本"/>
          <p:cNvPicPr/>
          <p:nvPr/>
        </p:nvPicPr>
        <p:blipFill>
          <a:blip r:embed="rId1"/>
          <a:stretch/>
        </p:blipFill>
        <p:spPr>
          <a:xfrm>
            <a:off x="1135080" y="2674800"/>
            <a:ext cx="7467480" cy="19242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7327800" y="317484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3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7327800" y="363528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4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327800" y="407988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826920" y="1498680"/>
            <a:ext cx="6929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新风商场第一季度电器销售情况统计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457200" y="385920"/>
            <a:ext cx="634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457200" y="38592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971640" y="2506680"/>
            <a:ext cx="6624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五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4D89-DB04-4DB6-8E93-8F82AE02A9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2050920" y="350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8800"/>
            <a:ext cx="6562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导入新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05040" y="4189320"/>
            <a:ext cx="7386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李叔叔今天一共骑了多少千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414440" y="5113440"/>
            <a:ext cx="39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列式计算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05000" y="5600880"/>
            <a:ext cx="396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什么用加法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632480" y="5113440"/>
            <a:ext cx="424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932040" y="1724040"/>
            <a:ext cx="7332480" cy="24001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304920" y="6330960"/>
            <a:ext cx="61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417600"/>
            <a:ext cx="84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加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717560" y="2637000"/>
            <a:ext cx="67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两种列式都对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076480" y="3429000"/>
            <a:ext cx="38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两个算式相等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12720" y="1584360"/>
            <a:ext cx="568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一）尝试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9" name="Object 6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12720" y="158436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枚举中验证规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717560" y="2581200"/>
            <a:ext cx="71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还能举出像这样的等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学生举例，老师写在黑板上，大约四组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417600"/>
            <a:ext cx="84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加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717560" y="2205000"/>
            <a:ext cx="475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像这样的算式你写的完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4921200" y="3295800"/>
            <a:ext cx="139680" cy="266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612720" y="158436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三）在比较中概括规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4551480"/>
            <a:ext cx="61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用自己喜欢的方式表示加法交换律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展示大家的表示方法，让学生自己进行比较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5240" y="306864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些算式有什么共同的特点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789280" y="3860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加法交换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5977080" y="24084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写不完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768760" y="346536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两个数相加，交换加数的位置，和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457200" y="417600"/>
            <a:ext cx="84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二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加法交换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417600"/>
            <a:ext cx="84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加法结合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612720" y="1584360"/>
            <a:ext cx="518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一）尝试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774800" y="4579920"/>
            <a:ext cx="5461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解决李叔叔提出的问题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32240" y="508464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方法一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5437080" y="508320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方法二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5437080" y="5587920"/>
            <a:ext cx="302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8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8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8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532240" y="5587920"/>
            <a:ext cx="252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8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8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1" name="Picture 14" descr="C:\Users\ViVi\AppData\Local\Temp\SNAGHTML71fa67.PNG"/>
          <p:cNvPicPr/>
          <p:nvPr/>
        </p:nvPicPr>
        <p:blipFill>
          <a:blip r:embed="rId1"/>
          <a:stretch/>
        </p:blipFill>
        <p:spPr>
          <a:xfrm>
            <a:off x="1808280" y="2190600"/>
            <a:ext cx="5451480" cy="244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68580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12720" y="1584360"/>
            <a:ext cx="705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（二）迁移学习经验，概括规律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760400" y="2263680"/>
            <a:ext cx="73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还能举出像这样的等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学生举例，老师写在黑板上，大约四组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50960" y="3125880"/>
            <a:ext cx="64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整体观察，为什么这些算式都相等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都是相同的三个数求和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552760" y="394488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些算式有什么共同的特点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三个数相加，先把前两个数相加，或者先把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后两个数相加，和不变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550960" y="5584680"/>
            <a:ext cx="64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用自己喜欢的方式表示加法结合律吗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展示大家的表示方法，让学生自己进行比较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803680" y="507996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这叫做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加法结合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457200" y="417600"/>
            <a:ext cx="8435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在情境中初步感知加法结合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57200" y="385920"/>
            <a:ext cx="634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26920" y="149868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应用加法交换律，用线连一连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066680" y="2781360"/>
            <a:ext cx="172908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979720" y="2781360"/>
            <a:ext cx="172728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890960" y="2781360"/>
            <a:ext cx="172908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＋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69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804000" y="2781360"/>
            <a:ext cx="1728720" cy="647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4890960" y="4581360"/>
            <a:ext cx="172908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804000" y="4581360"/>
            <a:ext cx="172872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1066680" y="4581360"/>
            <a:ext cx="172908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＋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۞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9720" y="4581360"/>
            <a:ext cx="1727280" cy="64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ar-SA" sz="2800" spc="-1" strike="noStrike">
                <a:solidFill>
                  <a:srgbClr val="000000"/>
                </a:solidFill>
                <a:latin typeface="楷体_GB2312"/>
                <a:cs typeface="Arial"/>
              </a:rPr>
              <a:t>۞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1930320" y="3573360"/>
            <a:ext cx="3826080" cy="935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3843360" y="3573360"/>
            <a:ext cx="3824280" cy="935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Line 14"/>
          <p:cNvSpPr/>
          <p:nvPr/>
        </p:nvSpPr>
        <p:spPr>
          <a:xfrm flipH="1">
            <a:off x="1930320" y="3573360"/>
            <a:ext cx="3826080" cy="100800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3843000" y="3573360"/>
            <a:ext cx="3824280" cy="9352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5148360" y="24908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187280" y="3056040"/>
            <a:ext cx="29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26920" y="1498680"/>
            <a:ext cx="4249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根据加法交换律填空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351240" y="249552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908000" y="30542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206880" y="3054240"/>
            <a:ext cx="5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202280" y="4519440"/>
            <a:ext cx="1830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6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384800" y="5132520"/>
            <a:ext cx="1830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70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926400" y="3035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1187280" y="24908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3397320" y="288432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4932360" y="24908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5153040" y="288432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1908000" y="34304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3640" y="34304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4932360" y="3056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6846840" y="34304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1" name="组合 3"/>
          <p:cNvGrpSpPr/>
          <p:nvPr/>
        </p:nvGrpSpPr>
        <p:grpSpPr>
          <a:xfrm>
            <a:off x="836640" y="3763800"/>
            <a:ext cx="5535720" cy="1925280"/>
            <a:chOff x="836640" y="3763800"/>
            <a:chExt cx="5535720" cy="1925280"/>
          </a:xfrm>
        </p:grpSpPr>
        <p:sp>
          <p:nvSpPr>
            <p:cNvPr id="162" name="Line 42"/>
            <p:cNvSpPr/>
            <p:nvPr/>
          </p:nvSpPr>
          <p:spPr>
            <a:xfrm>
              <a:off x="5377680" y="562788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Line 43"/>
            <p:cNvSpPr/>
            <p:nvPr/>
          </p:nvSpPr>
          <p:spPr>
            <a:xfrm>
              <a:off x="4370760" y="562788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>
              <a:off x="4205880" y="501336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5" name="Line 44"/>
            <p:cNvSpPr/>
            <p:nvPr/>
          </p:nvSpPr>
          <p:spPr>
            <a:xfrm>
              <a:off x="5031360" y="501336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6" name="组合 2"/>
            <p:cNvGrpSpPr/>
            <p:nvPr/>
          </p:nvGrpSpPr>
          <p:grpSpPr>
            <a:xfrm>
              <a:off x="836640" y="3763800"/>
              <a:ext cx="5535720" cy="1925280"/>
              <a:chOff x="836640" y="3763800"/>
              <a:chExt cx="5535720" cy="1925280"/>
            </a:xfrm>
          </p:grpSpPr>
          <p:sp>
            <p:nvSpPr>
              <p:cNvPr id="167" name="Text Box 31"/>
              <p:cNvSpPr/>
              <p:nvPr/>
            </p:nvSpPr>
            <p:spPr>
              <a:xfrm>
                <a:off x="1186920" y="5229360"/>
                <a:ext cx="51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）＝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    ）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8" name="Text Box 30"/>
              <p:cNvSpPr/>
              <p:nvPr/>
            </p:nvSpPr>
            <p:spPr>
              <a:xfrm>
                <a:off x="1186920" y="4627440"/>
                <a:ext cx="48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8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）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＋（    ＋    ）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Rectangle 2"/>
              <p:cNvSpPr/>
              <p:nvPr/>
            </p:nvSpPr>
            <p:spPr>
              <a:xfrm>
                <a:off x="836640" y="3763800"/>
                <a:ext cx="4249800" cy="8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</a:rPr>
                  <a:t>根据加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楷体_GB2312"/>
                  </a:rPr>
                  <a:t>结合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</a:rPr>
                  <a:t>律填空。</a:t>
                </a:r>
                <a:endParaRPr b="1" lang="en-US" sz="24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70" name="Rectangle 2"/>
          <p:cNvSpPr/>
          <p:nvPr/>
        </p:nvSpPr>
        <p:spPr>
          <a:xfrm>
            <a:off x="457200" y="385920"/>
            <a:ext cx="6346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巩固练习，提升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7:05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3:04Z</dcterms:modified>
  <cp:revision>10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