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B78-FE64-4FDC-AAFF-9A181DC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D708-FCA3-4742-AD5E-117A7F40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5B7-2228-49C0-BCCA-AAFAA7764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D35-006A-4A39-9771-D67A037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AF18-4C2A-4B2B-81E3-9CCC32311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928C-26E3-4CA6-AD21-5D343153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41EA4-BB02-4A3A-80CB-43A880B0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ECCB-BABA-48E0-AD65-58D27FD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181-CC19-4861-8775-6788CBFC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80F4-2491-4ABA-A088-48FBFFF2A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2044-A518-4CAB-BAC5-26C30C8B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96A-F4C7-41C4-867F-0A3DA3A5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828A-F20F-420C-B681-74FAAC75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717-198A-4FA9-AF38-8E3DA8D6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E0E2-79D0-42C0-A0B1-F30B8D19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A086B-531C-49FB-8906-CA53D28F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215D-EB7E-43DE-8A15-273E75A5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937B-1C22-4561-8BD0-4C12A0CD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EA26-759C-41AD-8563-2443CEEC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6A3-0EB9-4074-B392-8AAA3C2E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4F97-D4DA-4893-B7CA-8A6EC07E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FCC-E40A-4330-A8DF-0643E3A5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E29-C574-48BB-A6B1-70AE606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F11F-4EAE-49BF-8399-175AEF7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9"/>
          <p:cNvSpPr/>
          <p:nvPr/>
        </p:nvSpPr>
        <p:spPr>
          <a:xfrm>
            <a:off x="0" y="6172200"/>
            <a:ext cx="9144000" cy="685800"/>
          </a:xfrm>
          <a:prstGeom prst="flowChartProcess">
            <a:avLst/>
          </a:prstGeom>
          <a:blipFill rotWithShape="0">
            <a:blip r:embed="rId2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8"/>
          <p:cNvSpPr/>
          <p:nvPr/>
        </p:nvSpPr>
        <p:spPr>
          <a:xfrm>
            <a:off x="0" y="0"/>
            <a:ext cx="3352680" cy="1447920"/>
          </a:xfrm>
          <a:prstGeom prst="flowChartProcess">
            <a:avLst/>
          </a:prstGeom>
          <a:blipFill rotWithShape="0">
            <a:blip r:embed="rId3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7"/>
          <p:cNvSpPr/>
          <p:nvPr/>
        </p:nvSpPr>
        <p:spPr>
          <a:xfrm>
            <a:off x="1371600" y="0"/>
            <a:ext cx="7772400" cy="1447920"/>
          </a:xfrm>
          <a:prstGeom prst="flowChartProcess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991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9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99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9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99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99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990-0AAA-4695-9B18-6E51DE58D3A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1"/>
          <p:cNvSpPr/>
          <p:nvPr/>
        </p:nvSpPr>
        <p:spPr>
          <a:xfrm>
            <a:off x="468360" y="6308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  <a:ea typeface="宋体"/>
              </a:rPr>
              <a:t>Aben Stu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8"/>
          <p:cNvSpPr/>
          <p:nvPr/>
        </p:nvSpPr>
        <p:spPr>
          <a:xfrm>
            <a:off x="0" y="6172200"/>
            <a:ext cx="9144000" cy="685800"/>
          </a:xfrm>
          <a:prstGeom prst="flowChartProcess">
            <a:avLst/>
          </a:prstGeom>
          <a:blipFill rotWithShape="0">
            <a:blip r:embed="rId2">
              <a:alphaModFix amt="4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1371600" y="0"/>
            <a:ext cx="7772400" cy="990720"/>
          </a:xfrm>
          <a:prstGeom prst="flowChartProcess">
            <a:avLst/>
          </a:prstGeom>
          <a:solidFill>
            <a:srgbClr val="99cc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0" y="0"/>
            <a:ext cx="3352680" cy="990720"/>
          </a:xfrm>
          <a:prstGeom prst="flowChartProcess">
            <a:avLst/>
          </a:prstGeom>
          <a:blipFill rotWithShape="0">
            <a:blip r:embed="rId3">
              <a:alphaModFix amt="5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991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9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199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199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1991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1991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991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1280" y="5444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C224-E1B5-466B-B731-82A056E6D9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1596960" y="350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1200" y="579240"/>
            <a:ext cx="762012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19917"/>
                </a:solidFill>
                <a:latin typeface="楷体_GB2312"/>
                <a:ea typeface="楷体_GB2312"/>
              </a:rPr>
              <a:t>济 南 的 冬 天</a:t>
            </a:r>
            <a:r>
              <a:rPr b="1" lang="zh-CN" sz="7200" spc="-1" strike="noStrike">
                <a:solidFill>
                  <a:srgbClr val="019917"/>
                </a:solidFill>
                <a:latin typeface="Arial"/>
                <a:ea typeface="宋体"/>
              </a:rPr>
              <a:t> </a:t>
            </a:r>
            <a:endParaRPr b="0" lang="en-US" sz="7200" spc="-1" strike="noStrike">
              <a:solidFill>
                <a:srgbClr val="019917"/>
              </a:solidFill>
              <a:latin typeface="Arial"/>
            </a:endParaRPr>
          </a:p>
        </p:txBody>
      </p:sp>
      <p:grpSp>
        <p:nvGrpSpPr>
          <p:cNvPr id="91" name="Group 8"/>
          <p:cNvGrpSpPr/>
          <p:nvPr/>
        </p:nvGrpSpPr>
        <p:grpSpPr>
          <a:xfrm>
            <a:off x="900000" y="1916280"/>
            <a:ext cx="5502240" cy="4032000"/>
            <a:chOff x="900000" y="1916280"/>
            <a:chExt cx="5502240" cy="4032000"/>
          </a:xfrm>
        </p:grpSpPr>
        <p:pic>
          <p:nvPicPr>
            <p:cNvPr id="92" name="Picture 6" descr="001"/>
            <p:cNvPicPr/>
            <p:nvPr/>
          </p:nvPicPr>
          <p:blipFill>
            <a:blip r:embed="rId1"/>
            <a:stretch/>
          </p:blipFill>
          <p:spPr>
            <a:xfrm>
              <a:off x="900000" y="1916280"/>
              <a:ext cx="302112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4025880" y="1916280"/>
              <a:ext cx="237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808080"/>
                  </a:solidFill>
                  <a:latin typeface="Arial"/>
                  <a:ea typeface="宋体"/>
                </a:rPr>
                <a:t>济南的“市树”（柳）和“市花”（荷花）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12"/>
          <p:cNvSpPr/>
          <p:nvPr/>
        </p:nvSpPr>
        <p:spPr>
          <a:xfrm>
            <a:off x="212652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作者的描写手法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温情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阳光下的小山（或阳光下济南全景）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小雪后的小山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济南冬天的水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从第二段开始展开对济南冬天景物的描写。具体方法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26920" y="5229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用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“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设若单单是有阳光，那也不算出奇</a:t>
            </a:r>
            <a:r>
              <a:rPr b="0" lang="zh-CN" sz="2800" spc="-1" strike="noStrike">
                <a:solidFill>
                  <a:srgbClr val="000099"/>
                </a:solidFill>
                <a:latin typeface="宋体"/>
                <a:ea typeface="宋体"/>
              </a:rPr>
              <a:t>”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宋体"/>
              </a:rPr>
              <a:t>这个重要的过度句，转到对冬天山、水的描写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800" spc="-1" strike="noStrike">
                <a:solidFill>
                  <a:srgbClr val="019917"/>
                </a:solidFill>
                <a:latin typeface="Arial"/>
                <a:ea typeface="宋体"/>
              </a:rPr>
              <a:t>知识讲解</a:t>
            </a:r>
            <a:r>
              <a:rPr b="0" lang="en-US" sz="4800" spc="-1" strike="noStrike">
                <a:solidFill>
                  <a:srgbClr val="019917"/>
                </a:solidFill>
                <a:latin typeface="Arial"/>
                <a:ea typeface="宋体"/>
              </a:rPr>
              <a:t>(1)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全文分为两大部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一部分（第一自然段）通过对比突出济南的冬天的特点。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二部分（第二至第五自然段）具体描绘济南冬天的美景。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第一部分（第一自然段）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11280" y="1483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写了什么？怎样写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抒了什么情？怎样抒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用对比有什么作用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对比来自哪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258920" y="206064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济南的天气。对比写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258920" y="3357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赞美济南是个宝地。直抒胸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1403280" y="4581360"/>
            <a:ext cx="74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突出济南冬天特点：温晴以</a:t>
            </a:r>
            <a:r>
              <a:rPr b="0" lang="zh-CN" sz="2800" spc="-1" strike="noStrike">
                <a:solidFill>
                  <a:srgbClr val="990113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奇迹</a:t>
            </a:r>
            <a:r>
              <a:rPr b="0" lang="zh-CN" sz="2800" spc="-1" strike="noStrike">
                <a:solidFill>
                  <a:srgbClr val="990113"/>
                </a:solidFill>
                <a:latin typeface="宋体"/>
                <a:ea typeface="楷体_GB2312"/>
              </a:rPr>
              <a:t>”“</a:t>
            </a: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怪事</a:t>
            </a:r>
            <a:r>
              <a:rPr b="0" lang="zh-CN" sz="2800" spc="-1" strike="noStrike">
                <a:solidFill>
                  <a:srgbClr val="990113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引出</a:t>
            </a:r>
            <a:r>
              <a:rPr b="0" lang="zh-CN" sz="2800" spc="-1" strike="noStrike">
                <a:solidFill>
                  <a:srgbClr val="990113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宝地</a:t>
            </a:r>
            <a:r>
              <a:rPr b="0" lang="zh-CN" sz="2800" spc="-1" strike="noStrike">
                <a:solidFill>
                  <a:srgbClr val="990113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403280" y="633888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Times New Roman"/>
                <a:ea typeface="楷体_GB2312"/>
              </a:rPr>
              <a:t>作者的亲身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对比手法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者运用了三组对比：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济南的冬天与北平的冬天比较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济南的冬天与伦敦的冬天比较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济南的冬天与热带地方比较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比较的结果是：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42920" y="306864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900000" y="25653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北平的冬天搅天风雪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l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而济南的冬天没有风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900000" y="3645000"/>
            <a:ext cx="7777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伦敦的冬天云遮雾笼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l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而济南的冬天温暖响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826920" y="472428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热带地方的冬天日光永远火毒响亮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l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－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&gt;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而济南的冬天温晴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800" spc="-1" strike="noStrike">
                <a:solidFill>
                  <a:srgbClr val="019917"/>
                </a:solidFill>
                <a:latin typeface="Arial"/>
                <a:ea typeface="宋体"/>
              </a:rPr>
              <a:t>知识讲解</a:t>
            </a:r>
            <a:r>
              <a:rPr b="0" lang="en-US" sz="4800" spc="-1" strike="noStrike">
                <a:solidFill>
                  <a:srgbClr val="019917"/>
                </a:solidFill>
                <a:latin typeface="Arial"/>
                <a:ea typeface="宋体"/>
              </a:rPr>
              <a:t>(3)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朗读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然段，想想，文章怎样转入写阳光朗照下的山景。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济南的这些小山有什么地理特征？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作者怎样写出阳光朗照下的小山特别可爱？</a:t>
            </a:r>
            <a:r>
              <a:rPr b="0" lang="zh-CN" sz="3200" spc="-1" strike="noStrike">
                <a:solidFill>
                  <a:srgbClr val="019917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403280" y="400536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 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小山把整个济南围了个圈儿，只有北边缺着点口儿，写出济南小山围城的地理环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332000" y="242100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用过渡句“设若单单是有阳光，那也算不了出奇”，转到写冬天的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47640" y="6020640"/>
            <a:ext cx="70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用比喻、拟人手法及从人们的感受三个方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800" spc="-1" strike="noStrike">
                <a:solidFill>
                  <a:srgbClr val="019917"/>
                </a:solidFill>
                <a:latin typeface="Arial"/>
                <a:ea typeface="宋体"/>
              </a:rPr>
              <a:t>知识讲解</a:t>
            </a:r>
            <a:r>
              <a:rPr b="0" lang="en-US" sz="4800" spc="-1" strike="noStrike">
                <a:solidFill>
                  <a:srgbClr val="019917"/>
                </a:solidFill>
                <a:latin typeface="Arial"/>
                <a:ea typeface="宋体"/>
              </a:rPr>
              <a:t>(4)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自然段，文章按怎样的顺序描写雪后的山景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最妙的是下点小雪呀”雪后山景“妙”在何处？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这段文字用什么修辞手法写雪后的山景？</a:t>
            </a:r>
            <a:r>
              <a:rPr b="0" lang="zh-CN" sz="3200" spc="-1" strike="noStrike">
                <a:solidFill>
                  <a:srgbClr val="019917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55640" y="30654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按照空间顺序，从山上、山尖至山坡、山腰，有层次地写出秀美的山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84360" y="436032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l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）妙在雪光、雪色；（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）妙在雪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826920" y="558396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l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）比喻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    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）拟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800" spc="-1" strike="noStrike">
                <a:solidFill>
                  <a:srgbClr val="019917"/>
                </a:solidFill>
                <a:latin typeface="Arial"/>
                <a:ea typeface="宋体"/>
              </a:rPr>
              <a:t>知识讲解</a:t>
            </a:r>
            <a:r>
              <a:rPr b="0" lang="en-US" sz="4800" spc="-1" strike="noStrike">
                <a:solidFill>
                  <a:srgbClr val="019917"/>
                </a:solidFill>
                <a:latin typeface="Arial"/>
                <a:ea typeface="宋体"/>
              </a:rPr>
              <a:t>(5)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然段：怎样写城外的远山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自然段：写济南冬天的水有什么特点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258920" y="2205000"/>
            <a:ext cx="5184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狭窄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↔ </a:t>
            </a:r>
            <a:r>
              <a:rPr b="0" lang="en-US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宽敞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卧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水墨画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71640" y="472428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  </a:t>
            </a:r>
            <a:r>
              <a:rPr b="0" lang="zh-CN" sz="2800" spc="-1" strike="noStrike">
                <a:solidFill>
                  <a:srgbClr val="990113"/>
                </a:solidFill>
                <a:latin typeface="Arial"/>
                <a:ea typeface="楷体_GB2312"/>
              </a:rPr>
              <a:t> </a:t>
            </a:r>
            <a:r>
              <a:rPr b="0" lang="zh-CN" sz="32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水的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113"/>
                </a:solidFill>
                <a:latin typeface="Arial"/>
                <a:ea typeface="楷体_GB2312"/>
              </a:rPr>
              <a:t>  </a:t>
            </a:r>
            <a:r>
              <a:rPr b="0" lang="zh-CN" sz="3200" spc="-1" strike="noStrike">
                <a:solidFill>
                  <a:srgbClr val="990113"/>
                </a:solidFill>
                <a:latin typeface="楷体_GB2312"/>
                <a:ea typeface="楷体_GB2312"/>
              </a:rPr>
              <a:t>水的清、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本讲小节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24000" y="1617480"/>
            <a:ext cx="860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布局谋篇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层次井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标题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济南的冬天” 表明所写时间、地点的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先写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济南冬天的天气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三组对比 主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再写：济南冬天的山景和水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结束语：这就是冬天的济南 呼应点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比喻和拟人的写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情景交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词语的选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0" y="609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济南的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5"/>
          <p:cNvGrpSpPr/>
          <p:nvPr/>
        </p:nvGrpSpPr>
        <p:grpSpPr>
          <a:xfrm>
            <a:off x="2411280" y="0"/>
            <a:ext cx="3313080" cy="1572120"/>
            <a:chOff x="2411280" y="0"/>
            <a:chExt cx="3313080" cy="1572120"/>
          </a:xfrm>
        </p:grpSpPr>
        <p:sp>
          <p:nvSpPr>
            <p:cNvPr id="156" name="AutoShape 4"/>
            <p:cNvSpPr/>
            <p:nvPr/>
          </p:nvSpPr>
          <p:spPr>
            <a:xfrm>
              <a:off x="2411280" y="333360"/>
              <a:ext cx="76320" cy="10666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"/>
            <p:cNvSpPr/>
            <p:nvPr/>
          </p:nvSpPr>
          <p:spPr>
            <a:xfrm>
              <a:off x="2590920" y="0"/>
              <a:ext cx="31334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无风（与北平比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响晴（与伦敦比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温晴（与热带比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1"/>
          <p:cNvGrpSpPr/>
          <p:nvPr/>
        </p:nvGrpSpPr>
        <p:grpSpPr>
          <a:xfrm>
            <a:off x="5867280" y="333360"/>
            <a:ext cx="2952720" cy="990720"/>
            <a:chOff x="5867280" y="333360"/>
            <a:chExt cx="2952720" cy="990720"/>
          </a:xfrm>
        </p:grpSpPr>
        <p:sp>
          <p:nvSpPr>
            <p:cNvPr id="159" name="AutoShape 6"/>
            <p:cNvSpPr/>
            <p:nvPr/>
          </p:nvSpPr>
          <p:spPr>
            <a:xfrm>
              <a:off x="5867280" y="333360"/>
              <a:ext cx="304920" cy="9907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7"/>
            <p:cNvSpPr/>
            <p:nvPr/>
          </p:nvSpPr>
          <p:spPr>
            <a:xfrm>
              <a:off x="6094440" y="620640"/>
              <a:ext cx="27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宝地（暖和安适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8"/>
          <p:cNvSpPr/>
          <p:nvPr/>
        </p:nvSpPr>
        <p:spPr>
          <a:xfrm>
            <a:off x="0" y="3284640"/>
            <a:ext cx="53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分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4"/>
          <p:cNvGrpSpPr/>
          <p:nvPr/>
        </p:nvGrpSpPr>
        <p:grpSpPr>
          <a:xfrm>
            <a:off x="533520" y="1557360"/>
            <a:ext cx="5484600" cy="4995720"/>
            <a:chOff x="533520" y="1557360"/>
            <a:chExt cx="5484600" cy="4995720"/>
          </a:xfrm>
        </p:grpSpPr>
        <p:sp>
          <p:nvSpPr>
            <p:cNvPr id="163" name="Text Box 10"/>
            <p:cNvSpPr/>
            <p:nvPr/>
          </p:nvSpPr>
          <p:spPr>
            <a:xfrm>
              <a:off x="684360" y="1557360"/>
              <a:ext cx="53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地形（小山、围、圈儿、摇篮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3"/>
            <p:cNvGrpSpPr/>
            <p:nvPr/>
          </p:nvGrpSpPr>
          <p:grpSpPr>
            <a:xfrm>
              <a:off x="533520" y="1676520"/>
              <a:ext cx="915840" cy="4876560"/>
              <a:chOff x="533520" y="1676520"/>
              <a:chExt cx="915840" cy="4876560"/>
            </a:xfrm>
          </p:grpSpPr>
          <p:sp>
            <p:nvSpPr>
              <p:cNvPr id="165" name="AutoShape 9"/>
              <p:cNvSpPr/>
              <p:nvPr/>
            </p:nvSpPr>
            <p:spPr>
              <a:xfrm>
                <a:off x="533520" y="1676520"/>
                <a:ext cx="75960" cy="4876560"/>
              </a:xfrm>
              <a:custGeom>
                <a:avLst/>
                <a:gdLst>
                  <a:gd name="textAreaLeft" fmla="*/ 48600 w 75960"/>
                  <a:gd name="textAreaRight" fmla="*/ 76320 w 75960"/>
                  <a:gd name="textAreaTop" fmla="*/ 127080 h 4876560"/>
                  <a:gd name="textAreaBottom" fmla="*/ 4749480 h 487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1"/>
              <p:cNvSpPr/>
              <p:nvPr/>
            </p:nvSpPr>
            <p:spPr>
              <a:xfrm>
                <a:off x="611280" y="378936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景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36"/>
          <p:cNvGrpSpPr/>
          <p:nvPr/>
        </p:nvGrpSpPr>
        <p:grpSpPr>
          <a:xfrm>
            <a:off x="1403280" y="2133720"/>
            <a:ext cx="844560" cy="4419360"/>
            <a:chOff x="1403280" y="2133720"/>
            <a:chExt cx="844560" cy="4419360"/>
          </a:xfrm>
        </p:grpSpPr>
        <p:sp>
          <p:nvSpPr>
            <p:cNvPr id="168" name="AutoShape 12"/>
            <p:cNvSpPr/>
            <p:nvPr/>
          </p:nvSpPr>
          <p:spPr>
            <a:xfrm>
              <a:off x="1403280" y="2133720"/>
              <a:ext cx="152280" cy="4419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15200 h 4419360"/>
                <a:gd name="textAreaBottom" fmla="*/ 4304160 h 44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1790640" y="2781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1784160" y="4038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1708200" y="5562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37"/>
          <p:cNvGrpSpPr/>
          <p:nvPr/>
        </p:nvGrpSpPr>
        <p:grpSpPr>
          <a:xfrm>
            <a:off x="2484360" y="2349360"/>
            <a:ext cx="1371600" cy="1069200"/>
            <a:chOff x="2484360" y="2349360"/>
            <a:chExt cx="1371600" cy="1069200"/>
          </a:xfrm>
        </p:grpSpPr>
        <p:sp>
          <p:nvSpPr>
            <p:cNvPr id="173" name="AutoShape 16"/>
            <p:cNvSpPr/>
            <p:nvPr/>
          </p:nvSpPr>
          <p:spPr>
            <a:xfrm>
              <a:off x="2484360" y="2349360"/>
              <a:ext cx="76320" cy="10666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7"/>
            <p:cNvSpPr/>
            <p:nvPr/>
          </p:nvSpPr>
          <p:spPr>
            <a:xfrm>
              <a:off x="2712960" y="23493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雪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8"/>
            <p:cNvSpPr/>
            <p:nvPr/>
          </p:nvSpPr>
          <p:spPr>
            <a:xfrm>
              <a:off x="2712960" y="29588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阳光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8"/>
          <p:cNvGrpSpPr/>
          <p:nvPr/>
        </p:nvGrpSpPr>
        <p:grpSpPr>
          <a:xfrm>
            <a:off x="3995640" y="2421000"/>
            <a:ext cx="1295280" cy="838080"/>
            <a:chOff x="3995640" y="2421000"/>
            <a:chExt cx="1295280" cy="838080"/>
          </a:xfrm>
        </p:grpSpPr>
        <p:sp>
          <p:nvSpPr>
            <p:cNvPr id="177" name="AutoShape 19"/>
            <p:cNvSpPr/>
            <p:nvPr/>
          </p:nvSpPr>
          <p:spPr>
            <a:xfrm>
              <a:off x="3995640" y="242100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0"/>
            <p:cNvSpPr/>
            <p:nvPr/>
          </p:nvSpPr>
          <p:spPr>
            <a:xfrm>
              <a:off x="4376520" y="249696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秀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2438280" y="3733920"/>
            <a:ext cx="2438640" cy="1015920"/>
            <a:chOff x="2438280" y="3733920"/>
            <a:chExt cx="2438640" cy="1015920"/>
          </a:xfrm>
        </p:grpSpPr>
        <p:sp>
          <p:nvSpPr>
            <p:cNvPr id="180" name="AutoShape 21"/>
            <p:cNvSpPr/>
            <p:nvPr/>
          </p:nvSpPr>
          <p:spPr>
            <a:xfrm>
              <a:off x="2438280" y="3886200"/>
              <a:ext cx="76320" cy="762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2"/>
            <p:cNvSpPr/>
            <p:nvPr/>
          </p:nvSpPr>
          <p:spPr>
            <a:xfrm>
              <a:off x="2666880" y="3733920"/>
              <a:ext cx="22100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在山坡上卧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屋顶上卧着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40"/>
          <p:cNvGrpSpPr/>
          <p:nvPr/>
        </p:nvGrpSpPr>
        <p:grpSpPr>
          <a:xfrm>
            <a:off x="4876920" y="3809880"/>
            <a:ext cx="2286000" cy="838440"/>
            <a:chOff x="4876920" y="3809880"/>
            <a:chExt cx="2286000" cy="838440"/>
          </a:xfrm>
        </p:grpSpPr>
        <p:sp>
          <p:nvSpPr>
            <p:cNvPr id="183" name="AutoShape 23"/>
            <p:cNvSpPr/>
            <p:nvPr/>
          </p:nvSpPr>
          <p:spPr>
            <a:xfrm>
              <a:off x="4876920" y="3809880"/>
              <a:ext cx="75960" cy="83844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21600 h 838440"/>
                <a:gd name="textAreaBottom" fmla="*/ 81684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4"/>
            <p:cNvSpPr/>
            <p:nvPr/>
          </p:nvSpPr>
          <p:spPr>
            <a:xfrm>
              <a:off x="5181480" y="4114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小水墨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41"/>
          <p:cNvGrpSpPr/>
          <p:nvPr/>
        </p:nvGrpSpPr>
        <p:grpSpPr>
          <a:xfrm>
            <a:off x="2411280" y="4757760"/>
            <a:ext cx="1703520" cy="2128320"/>
            <a:chOff x="2411280" y="4757760"/>
            <a:chExt cx="1703520" cy="2128320"/>
          </a:xfrm>
        </p:grpSpPr>
        <p:sp>
          <p:nvSpPr>
            <p:cNvPr id="186" name="AutoShape 25"/>
            <p:cNvSpPr/>
            <p:nvPr/>
          </p:nvSpPr>
          <p:spPr>
            <a:xfrm>
              <a:off x="2411280" y="4952880"/>
              <a:ext cx="76320" cy="190512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49320 h 1905120"/>
                <a:gd name="textAreaBottom" fmla="*/ 185580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6"/>
            <p:cNvSpPr/>
            <p:nvPr/>
          </p:nvSpPr>
          <p:spPr>
            <a:xfrm>
              <a:off x="2666880" y="4757760"/>
              <a:ext cx="14479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不结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冒热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水藻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柳照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2"/>
          <p:cNvGrpSpPr/>
          <p:nvPr/>
        </p:nvGrpSpPr>
        <p:grpSpPr>
          <a:xfrm>
            <a:off x="4038480" y="4876920"/>
            <a:ext cx="2819520" cy="1981080"/>
            <a:chOff x="4038480" y="4876920"/>
            <a:chExt cx="2819520" cy="1981080"/>
          </a:xfrm>
        </p:grpSpPr>
        <p:sp>
          <p:nvSpPr>
            <p:cNvPr id="189" name="AutoShape 27"/>
            <p:cNvSpPr/>
            <p:nvPr/>
          </p:nvSpPr>
          <p:spPr>
            <a:xfrm>
              <a:off x="4038480" y="4876920"/>
              <a:ext cx="152640" cy="19810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4267080" y="55627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空灵的蓝水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43"/>
          <p:cNvGrpSpPr/>
          <p:nvPr/>
        </p:nvGrpSpPr>
        <p:grpSpPr>
          <a:xfrm>
            <a:off x="7315200" y="1295280"/>
            <a:ext cx="1219320" cy="5257800"/>
            <a:chOff x="7315200" y="1295280"/>
            <a:chExt cx="1219320" cy="5257800"/>
          </a:xfrm>
        </p:grpSpPr>
        <p:sp>
          <p:nvSpPr>
            <p:cNvPr id="192" name="AutoShape 29"/>
            <p:cNvSpPr/>
            <p:nvPr/>
          </p:nvSpPr>
          <p:spPr>
            <a:xfrm>
              <a:off x="7315200" y="1295280"/>
              <a:ext cx="152280" cy="52578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136800 h 5257800"/>
                <a:gd name="textAreaBottom" fmla="*/ 5121000 h 52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0"/>
            <p:cNvSpPr/>
            <p:nvPr/>
          </p:nvSpPr>
          <p:spPr>
            <a:xfrm>
              <a:off x="7848720" y="297180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冬天的济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Arial"/>
                <a:ea typeface="宋体"/>
              </a:rPr>
              <a:t>课后作业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755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课后练习第一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，第二大题。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找出自己最喜欢的语句或段，摘抄到日记本上，最好能对自己喜欢的语句做点点评。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口头作文：你到没到过一个与众不同的地方，是否有一些特别的感受？说出来让大家与你共享。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仿照课文，写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校园的冬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冬天是什么样？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pic>
        <p:nvPicPr>
          <p:cNvPr id="96" name="Picture 11" descr="008"/>
          <p:cNvPicPr/>
          <p:nvPr/>
        </p:nvPicPr>
        <p:blipFill>
          <a:blip r:embed="rId1"/>
          <a:stretch/>
        </p:blipFill>
        <p:spPr>
          <a:xfrm>
            <a:off x="4859280" y="4076640"/>
            <a:ext cx="3457800" cy="241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016"/>
          <p:cNvPicPr/>
          <p:nvPr/>
        </p:nvPicPr>
        <p:blipFill>
          <a:blip r:embed="rId2"/>
          <a:stretch/>
        </p:blipFill>
        <p:spPr>
          <a:xfrm>
            <a:off x="900000" y="4076640"/>
            <a:ext cx="3240360" cy="2270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014"/>
          <p:cNvPicPr/>
          <p:nvPr/>
        </p:nvPicPr>
        <p:blipFill>
          <a:blip r:embed="rId3"/>
          <a:stretch/>
        </p:blipFill>
        <p:spPr>
          <a:xfrm>
            <a:off x="900000" y="1413000"/>
            <a:ext cx="3240360" cy="2435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017"/>
          <p:cNvPicPr/>
          <p:nvPr/>
        </p:nvPicPr>
        <p:blipFill>
          <a:blip r:embed="rId4"/>
          <a:stretch/>
        </p:blipFill>
        <p:spPr>
          <a:xfrm>
            <a:off x="4859280" y="1413000"/>
            <a:ext cx="3456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71280" y="2133720"/>
            <a:ext cx="62658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66"/>
                </a:solidFill>
                <a:latin typeface="Arial"/>
                <a:ea typeface="楷体_GB2312"/>
              </a:rPr>
              <a:t>谢谢！</a:t>
            </a:r>
            <a:endParaRPr b="0" lang="en-US" sz="8000" spc="-1" strike="noStrike">
              <a:solidFill>
                <a:srgbClr val="019917"/>
              </a:solidFill>
              <a:latin typeface="Arial"/>
            </a:endParaRPr>
          </a:p>
        </p:txBody>
      </p:sp>
      <p:pic>
        <p:nvPicPr>
          <p:cNvPr id="197" name="Picture 11" descr="013"/>
          <p:cNvPicPr/>
          <p:nvPr/>
        </p:nvPicPr>
        <p:blipFill>
          <a:blip r:embed="rId1"/>
          <a:stretch/>
        </p:blipFill>
        <p:spPr>
          <a:xfrm>
            <a:off x="4572000" y="3429000"/>
            <a:ext cx="4392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5D9B-994C-47A5-9DE3-93716C09ADC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内容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　学习目标及要求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　背景知识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   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知识讲解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　课堂练习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　本讲小结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　课后作业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236520" y="6126120"/>
            <a:ext cx="64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800" spc="-1" strike="noStrike">
                <a:solidFill>
                  <a:srgbClr val="019917"/>
                </a:solidFill>
                <a:latin typeface="Arial"/>
                <a:ea typeface="宋体"/>
              </a:rPr>
              <a:t>学习目标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掌握写景抒情散文的阅读方法</a:t>
            </a: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掌握景物描写的方法</a:t>
            </a: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学习要求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学习本文抓住济南的冬天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温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的特点来写景的方法，领会文章融情于景，情景交融的写作特色。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通过朗读，揣摩，体会文章准确生动、清新朴实的写景语言，体会作者对济南冬天对大自然的赞美之情。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课文预习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请结合注释和自己查阅的资料介绍济南、老舍及作品。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给下列加点字注音：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落    贮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 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清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  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 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     水</a:t>
            </a:r>
            <a:r>
              <a:rPr b="0" lang="zh-CN" sz="3200" spc="-1" strike="noStrike">
                <a:solidFill>
                  <a:srgbClr val="9900ff"/>
                </a:solidFill>
                <a:latin typeface="Arial"/>
                <a:ea typeface="宋体"/>
              </a:rPr>
              <a:t>藻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解词 ：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响晴                   澄清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空灵                   贮蓄</a:t>
            </a:r>
            <a:br>
              <a:rPr sz="3200"/>
            </a:b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</a:t>
            </a:r>
            <a:r>
              <a:rPr b="0" lang="zh-CN" sz="4400" spc="-1" strike="noStrike">
                <a:solidFill>
                  <a:srgbClr val="019917"/>
                </a:solidFill>
                <a:latin typeface="宋体"/>
                <a:ea typeface="宋体"/>
              </a:rPr>
              <a:t>阅读方法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写景抒情散文的阅读方法</a:t>
            </a: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  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问”：</a:t>
            </a:r>
            <a:endParaRPr b="0" lang="en-US" sz="4000" spc="-1" strike="noStrike">
              <a:solidFill>
                <a:srgbClr val="01991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写什么景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抒什么情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怎样写景抒情？</a:t>
            </a:r>
            <a:endParaRPr b="0" lang="en-US" sz="36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19917"/>
                </a:solidFill>
                <a:latin typeface="楷体_GB2312"/>
                <a:ea typeface="楷体_GB2312"/>
              </a:rPr>
              <a:t>背景知识</a:t>
            </a:r>
            <a:endParaRPr b="0" lang="en-US" sz="48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2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济南市简介</a:t>
            </a:r>
            <a:endParaRPr b="0" lang="en-US" sz="2800" spc="-1" strike="noStrike">
              <a:solidFill>
                <a:srgbClr val="01991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济南市是山东省省，会位于中国东部沿海，属于暖温带大陆性季风气候区，四季分明，日照充分</a:t>
            </a:r>
            <a:endParaRPr b="0" lang="en-US" sz="2800" spc="-1" strike="noStrike">
              <a:solidFill>
                <a:srgbClr val="01991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作者简介</a:t>
            </a:r>
            <a:endParaRPr b="0" lang="en-US" sz="2800" spc="-1" strike="noStrike">
              <a:solidFill>
                <a:srgbClr val="01991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舍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99-196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现代著名作家，人民艺术家。原名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舒庆春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字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舍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满族人。生于北京一个城市贫民家庭。代表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骆驼祥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话剧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茶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，他的作品收集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《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老舍文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。本文约写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930—193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间，是作者在济南齐鲁大学任教时写的。</a:t>
            </a:r>
            <a:r>
              <a:rPr b="0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19917"/>
              </a:solidFill>
              <a:latin typeface="Arial"/>
            </a:endParaRPr>
          </a:p>
        </p:txBody>
      </p:sp>
      <p:pic>
        <p:nvPicPr>
          <p:cNvPr id="113" name="Picture 9" descr="005"/>
          <p:cNvPicPr/>
          <p:nvPr/>
        </p:nvPicPr>
        <p:blipFill>
          <a:blip r:embed="rId1"/>
          <a:stretch/>
        </p:blipFill>
        <p:spPr>
          <a:xfrm>
            <a:off x="5435640" y="260280"/>
            <a:ext cx="30970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3"/>
          <p:cNvGrpSpPr/>
          <p:nvPr/>
        </p:nvGrpSpPr>
        <p:grpSpPr>
          <a:xfrm>
            <a:off x="5292720" y="5516640"/>
            <a:ext cx="3568680" cy="1216080"/>
            <a:chOff x="5292720" y="5516640"/>
            <a:chExt cx="3568680" cy="1216080"/>
          </a:xfrm>
        </p:grpSpPr>
        <p:pic>
          <p:nvPicPr>
            <p:cNvPr id="115" name="Picture 7" descr="004"/>
            <p:cNvPicPr/>
            <p:nvPr/>
          </p:nvPicPr>
          <p:blipFill>
            <a:blip r:embed="rId2"/>
            <a:stretch/>
          </p:blipFill>
          <p:spPr>
            <a:xfrm>
              <a:off x="8101080" y="5589720"/>
              <a:ext cx="76032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8" descr="003"/>
            <p:cNvPicPr/>
            <p:nvPr/>
          </p:nvPicPr>
          <p:blipFill>
            <a:blip r:embed="rId3"/>
            <a:stretch/>
          </p:blipFill>
          <p:spPr>
            <a:xfrm>
              <a:off x="7236000" y="5516640"/>
              <a:ext cx="75852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4" descr="002"/>
            <p:cNvPicPr/>
            <p:nvPr/>
          </p:nvPicPr>
          <p:blipFill>
            <a:blip r:embed="rId4"/>
            <a:stretch/>
          </p:blipFill>
          <p:spPr>
            <a:xfrm>
              <a:off x="5292720" y="5516640"/>
              <a:ext cx="7952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12" descr="006"/>
            <p:cNvPicPr/>
            <p:nvPr/>
          </p:nvPicPr>
          <p:blipFill>
            <a:blip r:embed="rId5"/>
            <a:stretch/>
          </p:blipFill>
          <p:spPr>
            <a:xfrm>
              <a:off x="6300720" y="5589720"/>
              <a:ext cx="838440" cy="1143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19917"/>
                </a:solidFill>
                <a:latin typeface="Arial"/>
                <a:ea typeface="宋体"/>
              </a:rPr>
              <a:t>济南的冬天－课文诵读</a:t>
            </a:r>
            <a:endParaRPr b="0" lang="en-US" sz="4400" spc="-1" strike="noStrike">
              <a:solidFill>
                <a:srgbClr val="01991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思考下列问题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济南的冬天总的特点是什么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文中具体描写了哪些景物？可以概括成哪几幅图画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作者是怎样展开对景物描写的？ </a:t>
            </a:r>
            <a:endParaRPr b="0" lang="en-US" sz="3200" spc="-1" strike="noStrike">
              <a:solidFill>
                <a:srgbClr val="01991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4:00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1:08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