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53A0-D7BD-4569-B6E0-A19C57A1D7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2428-8E11-42C0-9A91-49409E11EC1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0B1-3D73-4DF3-8B0F-E2C187DF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DCD-F32B-45C1-950A-E653F05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8D6-C638-4A4E-ABAD-438D6BE3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D1D-A5CD-465A-B813-9614888A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1D5-906A-47E4-A0FA-DB17616C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7C35-0899-4227-8E0B-1FDA4CE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BE32-6D24-4240-A1A9-C56CCCC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01D2-7F6C-4A3D-BAC4-2B2E2F49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1FFC-4F86-4A1A-89DD-4F77E765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355E-A98F-461B-B3F4-F749828B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DB68-FDBD-495C-A929-8F3679E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9D4-B783-45CB-AC21-14A7BB8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9F9E-5617-4354-999C-32FE3DC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712C-A2C5-49FC-85D9-0847D91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6128-DB85-483E-9DF9-E31B4297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4B38-1A1C-4DCC-9620-00701B58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8B3C-C548-403E-B6FF-27C8742A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823-7D63-4A04-B654-1EB45957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427-03C4-4B08-AB1D-DE763679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66C-3804-4BD9-9071-D1B69E0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55C-CF3E-4B27-A856-B3B4D9BE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B0A-F2D9-44F6-A1BD-02F3EBA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890-645D-4CDB-A58B-5861D53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600-8169-4F1D-A3B6-4D3804A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59F7-8CB6-4AE7-90D5-14CC02B7D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B949-2B81-4379-B817-CFD2C280B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42920" y="213372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ff66"/>
                </a:solidFill>
                <a:uFillTx/>
                <a:latin typeface="Arial"/>
              </a:rPr>
              <a:t>看看我们的家乡都有那些物产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3780000" y="3156120"/>
            <a:ext cx="4457520" cy="284292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214488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谷子、高梁等农产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谷子"/>
          <p:cNvPicPr/>
          <p:nvPr/>
        </p:nvPicPr>
        <p:blipFill>
          <a:blip r:embed="rId1"/>
          <a:stretch/>
        </p:blipFill>
        <p:spPr>
          <a:xfrm>
            <a:off x="971640" y="2492280"/>
            <a:ext cx="4309920" cy="4076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高粱"/>
          <p:cNvPicPr/>
          <p:nvPr/>
        </p:nvPicPr>
        <p:blipFill>
          <a:blip r:embed="rId2"/>
          <a:stretch/>
        </p:blipFill>
        <p:spPr>
          <a:xfrm>
            <a:off x="5508720" y="2565360"/>
            <a:ext cx="33940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蔬菜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胡萝卜"/>
          <p:cNvPicPr/>
          <p:nvPr/>
        </p:nvPicPr>
        <p:blipFill>
          <a:blip r:embed="rId1"/>
          <a:stretch/>
        </p:blipFill>
        <p:spPr>
          <a:xfrm>
            <a:off x="2268360" y="1557360"/>
            <a:ext cx="2808360" cy="224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甜椒"/>
          <p:cNvPicPr/>
          <p:nvPr/>
        </p:nvPicPr>
        <p:blipFill>
          <a:blip r:embed="rId2"/>
          <a:stretch/>
        </p:blipFill>
        <p:spPr>
          <a:xfrm>
            <a:off x="5219640" y="1557360"/>
            <a:ext cx="3384720" cy="2303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总和"/>
          <p:cNvPicPr/>
          <p:nvPr/>
        </p:nvPicPr>
        <p:blipFill>
          <a:blip r:embed="rId3"/>
          <a:stretch/>
        </p:blipFill>
        <p:spPr>
          <a:xfrm>
            <a:off x="2411280" y="4005360"/>
            <a:ext cx="6191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蔬菜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丝瓜"/>
          <p:cNvPicPr/>
          <p:nvPr/>
        </p:nvPicPr>
        <p:blipFill>
          <a:blip r:embed="rId1"/>
          <a:stretch/>
        </p:blipFill>
        <p:spPr>
          <a:xfrm>
            <a:off x="2484360" y="1700280"/>
            <a:ext cx="2087640" cy="1627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芦笋"/>
          <p:cNvPicPr/>
          <p:nvPr/>
        </p:nvPicPr>
        <p:blipFill>
          <a:blip r:embed="rId2"/>
          <a:stretch/>
        </p:blipFill>
        <p:spPr>
          <a:xfrm>
            <a:off x="4967280" y="1916280"/>
            <a:ext cx="4176720" cy="453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尖椒"/>
          <p:cNvPicPr/>
          <p:nvPr/>
        </p:nvPicPr>
        <p:blipFill>
          <a:blip r:embed="rId3"/>
          <a:stretch/>
        </p:blipFill>
        <p:spPr>
          <a:xfrm>
            <a:off x="826920" y="3429000"/>
            <a:ext cx="3919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农产品：小麦、玉米、大豆、谷子、高粱等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蔬菜：黄瓜、青菜、大白菜、西红柿、辣椒、茄子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水果：雪梨、苹果、桃子、杏、大枣、草莓、柿子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家乡的物产丰富，你们知道它是怎么来的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u=2228466299,2620457727&amp;fm=51&amp;gp=0"/>
          <p:cNvPicPr/>
          <p:nvPr/>
        </p:nvPicPr>
        <p:blipFill>
          <a:blip r:embed="rId1"/>
          <a:stretch/>
        </p:blipFill>
        <p:spPr>
          <a:xfrm>
            <a:off x="1979640" y="3213000"/>
            <a:ext cx="3816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回答问题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：人民劳动的结果，劳动可以创造物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：我们要热爱劳动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：创造更多的物质，可以促进地方经济的发展，提高人民的生活水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：下面听一首歌曲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的生活充满阳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宋祖英演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：课下再收集一些本地的物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</a:rPr>
              <a:t>谢谢同学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99"/>
                </a:solidFill>
                <a:latin typeface="Arial"/>
              </a:rPr>
              <a:t>再见！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923760" y="551484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BF83-DD74-46B5-A949-6C54D82E70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麦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小麦"/>
          <p:cNvPicPr/>
          <p:nvPr/>
        </p:nvPicPr>
        <p:blipFill>
          <a:blip r:embed="rId1"/>
          <a:stretch/>
        </p:blipFill>
        <p:spPr>
          <a:xfrm>
            <a:off x="2987640" y="1916280"/>
            <a:ext cx="4859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玉米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玉米"/>
          <p:cNvPicPr/>
          <p:nvPr/>
        </p:nvPicPr>
        <p:blipFill>
          <a:blip r:embed="rId1"/>
          <a:stretch/>
        </p:blipFill>
        <p:spPr>
          <a:xfrm>
            <a:off x="2771640" y="2276640"/>
            <a:ext cx="5616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玉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玉米 1"/>
          <p:cNvPicPr/>
          <p:nvPr/>
        </p:nvPicPr>
        <p:blipFill>
          <a:blip r:embed="rId1"/>
          <a:stretch/>
        </p:blipFill>
        <p:spPr>
          <a:xfrm>
            <a:off x="2771640" y="2060640"/>
            <a:ext cx="5400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棉花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棉花"/>
          <p:cNvPicPr/>
          <p:nvPr/>
        </p:nvPicPr>
        <p:blipFill>
          <a:blip r:embed="rId1"/>
          <a:stretch/>
        </p:blipFill>
        <p:spPr>
          <a:xfrm>
            <a:off x="971640" y="2492280"/>
            <a:ext cx="75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棉花地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棉花2"/>
          <p:cNvPicPr/>
          <p:nvPr/>
        </p:nvPicPr>
        <p:blipFill>
          <a:blip r:embed="rId1"/>
          <a:stretch/>
        </p:blipFill>
        <p:spPr>
          <a:xfrm>
            <a:off x="2771640" y="1916280"/>
            <a:ext cx="53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大豆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大豆"/>
          <p:cNvPicPr/>
          <p:nvPr/>
        </p:nvPicPr>
        <p:blipFill>
          <a:blip r:embed="rId1"/>
          <a:stretch/>
        </p:blipFill>
        <p:spPr>
          <a:xfrm>
            <a:off x="2268360" y="2060640"/>
            <a:ext cx="6390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大豆植物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无标题"/>
          <p:cNvPicPr/>
          <p:nvPr/>
        </p:nvPicPr>
        <p:blipFill>
          <a:blip r:embed="rId1"/>
          <a:stretch/>
        </p:blipFill>
        <p:spPr>
          <a:xfrm>
            <a:off x="3059280" y="2060640"/>
            <a:ext cx="573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Black"/>
              </a:rPr>
              <a:t>家乡的物产多又多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花生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花生"/>
          <p:cNvPicPr/>
          <p:nvPr/>
        </p:nvPicPr>
        <p:blipFill>
          <a:blip r:embed="rId1"/>
          <a:stretch/>
        </p:blipFill>
        <p:spPr>
          <a:xfrm>
            <a:off x="992160" y="2565360"/>
            <a:ext cx="81518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7:57Z</dcterms:modified>
  <cp:revision>1</cp:revision>
  <dc:subject/>
  <dc:title>家乡的物产多又多</dc:title>
</cp:coreProperties>
</file>