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FD-8982-416D-9316-1C6675F4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9EA-F609-4964-AFCF-BCED52A8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E6A-7AAA-4EF7-A755-43959581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5A5-6DE6-427D-A12F-A57A3EB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8326-8A41-4E36-A419-B6C57BB4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EC40-D000-42D0-A921-F77C005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B09-439D-43D7-942B-5CEBA08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2046-C6A6-496B-8BC1-C8698480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B6D8-20EB-46E7-8455-E019279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38DF-BACC-4D49-BE16-5FB7E29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54B0-D00A-4E24-9FAB-12B6DBD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7A0-6E9E-42D0-B7AF-FC7C87E3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A32A-E99B-4386-ABE0-2679749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5F8-C08C-4B47-970A-4251952C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3E24-3901-4984-9F55-C36B22E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D81D-CA8F-4125-B7A1-46EFAC8C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300C-578E-43F1-A45C-AFEBFE55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2A2-AE24-4005-B351-3FE5D3A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6A8-64D5-4020-8A15-F7D02B7C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D6A-9C0F-4214-AA9F-E4694CA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4D0-5092-4E6D-94BB-14DF9FCE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BB2-C854-4140-ADD3-F910987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873-B830-4504-9061-FDFA92D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D2A-854E-4FC2-94D6-15F9A04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C5B-74E5-4FFB-BC09-EDE0B8CA6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EF5-96CB-459C-AA47-EC4C60EA2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29600" cy="6141960"/>
          </a:xfrm>
          <a:prstGeom prst="rect">
            <a:avLst/>
          </a:prstGeom>
          <a:ln w="0">
            <a:noFill/>
          </a:ln>
        </p:spPr>
      </p:pic>
      <p:pic>
        <p:nvPicPr>
          <p:cNvPr id="91" name="Text Box 2" descr=""/>
          <p:cNvPicPr/>
          <p:nvPr/>
        </p:nvPicPr>
        <p:blipFill>
          <a:blip r:embed="rId3"/>
          <a:stretch/>
        </p:blipFill>
        <p:spPr>
          <a:xfrm>
            <a:off x="0" y="485640"/>
            <a:ext cx="9144000" cy="2770200"/>
          </a:xfrm>
          <a:prstGeom prst="rect">
            <a:avLst/>
          </a:prstGeom>
          <a:ln w="0">
            <a:noFill/>
          </a:ln>
        </p:spPr>
      </p:pic>
      <p:sp>
        <p:nvSpPr>
          <p:cNvPr id="92" name="矩形 8"/>
          <p:cNvSpPr/>
          <p:nvPr/>
        </p:nvSpPr>
        <p:spPr>
          <a:xfrm>
            <a:off x="2432160" y="6381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de3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efde3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19320" y="762120"/>
            <a:ext cx="66294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为了突破这一重点，我设计以下问题：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同学们，如果说，你们家有个人犯了罪，你的第一态度是什麽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雨果作为一个参与掠夺与侵略的法国的一个公民，他不帮着自己家的人，他是站在谁的立场上的？表现了他什么样情感和性格特征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3581280"/>
            <a:ext cx="7391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学生四人一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宋体"/>
              </a:rPr>
              <a:t>小组讨论问题</a:t>
            </a:r>
            <a:r>
              <a:rPr b="1" lang="en-US" sz="2000" spc="-1" strike="noStrike">
                <a:solidFill>
                  <a:srgbClr val="ff33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，然后由小组派代表回答问题。争取做到人人参与。师生共同对学生回答的问题进行评点。之后作归纳小结。</a:t>
            </a: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宋体"/>
              </a:rPr>
              <a:t>人类的立场上，（这里有说，正义的立场，中国的立场，或者是人民的立场等等。）珍视人类文明成果，尊重人类文明的创造者。</a:t>
            </a: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  <a:ea typeface="宋体"/>
              </a:rPr>
              <a:t>他有清醒的头脑，正直的良知，公正的立场。 我们要学习雨果的博大的胸怀与高尚的品格。</a:t>
            </a: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523880" y="10666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380880"/>
            <a:ext cx="74674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（四）拓展延伸：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当年雨果以一个艺术家对人类文化的珍视，对英法联军的强盗行径给予了毫不留情的斥责，历史的烟云已消散，我们在享受和平生活的今天，是否应该忘记那段屈辱的历史？为了引起学生的思考，我准备补充扩读材料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哭泣的圆明园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这篇扩读材料，写出了如今的圆明园遗址前、废墟上，欢笑嬉闹的人群，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作者发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历史呢？耻辱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呢？血性呢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呐喊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把本文和课文结合起来，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目的是为了引起学生的深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层思考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135" name="Picture 4" descr="yuanyinguan-big"/>
          <p:cNvPicPr/>
          <p:nvPr/>
        </p:nvPicPr>
        <p:blipFill>
          <a:blip r:embed="rId1"/>
          <a:stretch/>
        </p:blipFill>
        <p:spPr>
          <a:xfrm>
            <a:off x="4724280" y="3581280"/>
            <a:ext cx="3810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14400" y="53352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（五）布置作业：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90720" y="1143000"/>
            <a:ext cx="75438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学习了本文后，同学们不仅品味了雨果的精彩语言，而且感受了雨果的博大胸怀，如果要更好的感受他的内心世界，请你也用书信的形式，给他写一封信，谈谈你读了本文后的感想。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（作以下提示）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你如何评价雨果的观点？他的胸怀和品格对你有何启发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就英法联军远征中国这件事，你是怎样看待的？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当年被侵略、被掠夺的根本原因是什么？一个多世纪来中国有了什么进步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结合扩读材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哭泣的圆明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我们应该怎样对待历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为题，写一篇读后感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学生在以上两题中任选一题完成。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990720" y="380880"/>
            <a:ext cx="731520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附：板书设计：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    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就英法联军远征中国致巴特勒上尉的信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雨   果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宋体"/>
              </a:rPr>
              <a:t>赞美圆明园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华文行楷"/>
                <a:ea typeface="宋体"/>
              </a:rPr>
              <a:t>                            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华文行楷"/>
                <a:ea typeface="宋体"/>
              </a:rPr>
              <a:t>清醒的头脑，正直的良知，公正的立场</a:t>
            </a:r>
            <a:endParaRPr b="1" lang="en-US" sz="1800" spc="-1" strike="noStrike">
              <a:solidFill>
                <a:srgbClr val="0000ff"/>
              </a:solidFill>
              <a:latin typeface="华文行楷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华文行楷"/>
                <a:ea typeface="宋体"/>
              </a:rPr>
              <a:t>讽刺侵略者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宋体"/>
              </a:rPr>
              <a:t>   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124080" y="3505320"/>
            <a:ext cx="762120" cy="152280"/>
          </a:xfrm>
          <a:custGeom>
            <a:avLst/>
            <a:gdLst>
              <a:gd name="textAreaLeft" fmla="*/ 95040 w 762120"/>
              <a:gd name="textAreaRight" fmla="*/ 667080 w 7621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831960" y="516420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更多免费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PPT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模板尽在：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http://www.eeppt.com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144" name="WordArt 3" descr=""/>
          <p:cNvPicPr/>
          <p:nvPr/>
        </p:nvPicPr>
        <p:blipFill>
          <a:blip r:embed="rId1"/>
          <a:stretch/>
        </p:blipFill>
        <p:spPr>
          <a:xfrm>
            <a:off x="285840" y="1593720"/>
            <a:ext cx="69530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620-1B32-4667-B396-F9365F49C4C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17524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、教材分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76520" y="25146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二、教学设想与学生情况分析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752480" y="3276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三、教学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828800" y="4114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四、学法指导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828800" y="50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五、教学程序设计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447920" y="5335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说课内容：</a:t>
            </a:r>
            <a:endParaRPr b="1" lang="en-US" sz="4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236520" y="5680080"/>
            <a:ext cx="90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更多免费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PPT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模板尽在：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http://www.eeppt.com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0"/>
          <p:cNvSpPr/>
          <p:nvPr/>
        </p:nvSpPr>
        <p:spPr>
          <a:xfrm>
            <a:off x="6251400" y="692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2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066680" y="380880"/>
            <a:ext cx="54864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一、教材分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58920" y="1143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教学内容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295280" y="18288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教材的地位、作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90720" y="2438280"/>
            <a:ext cx="78483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：教学目标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知识与能力目标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有感情地朗读课文，体会作者的思想感情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行楷"/>
              </a:rPr>
              <a:t>方法与过程目标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比较阅读，体味赞美的语言和反讽语言的细微差别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情感态度目标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珍视人类文明成果，尊重人类文明创造，培养热爱全人类文化的情感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14400" y="4952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pic>
        <p:nvPicPr>
          <p:cNvPr id="108" name="Picture 7" descr="yuanyinguan2-big"/>
          <p:cNvPicPr/>
          <p:nvPr/>
        </p:nvPicPr>
        <p:blipFill>
          <a:blip r:embed="rId1"/>
          <a:stretch/>
        </p:blipFill>
        <p:spPr>
          <a:xfrm>
            <a:off x="5562720" y="457200"/>
            <a:ext cx="270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371600" y="1600200"/>
            <a:ext cx="693432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：教学重点、难点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</a:rPr>
              <a:t>教学重点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掌握本文的语言特色。了解雨果的伟         大情操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</a:rPr>
              <a:t>教学难点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辨别本文中赞美的语言和反讽语言的   细微差别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295280" y="6858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二、教学设想与学生情况分析：</a:t>
            </a: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43000" y="213372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学习这篇文章，不拘泥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整体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局部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阅读模式，可以将文章自然切分为两个独立整体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比较鉴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在比较中感受侵略战争的罪恶，探究雨果的远见卓识。在形成鲜明的感受之后，再进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深层反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关注那段历史，探究被劫掠的根本原因，由此把关注的目光投向艺术、文化、人类及整个世界。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752480" y="76212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三、教学方法</a:t>
            </a: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295280" y="1981080"/>
            <a:ext cx="7086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根据教材及学生的特点，联系学习目标和学习重点，这节课我将采用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质疑法、朗读法、讨论法、探究法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等教学方法，其中以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诵读、讨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为重。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自主学习，探究学习，合作学习等学习方法将贯穿课堂始终，再配以多媒体课件辅助。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752480" y="762120"/>
            <a:ext cx="472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四、学法指导</a:t>
            </a: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447920" y="198108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指导学生从朗读中体味语言特色，体会作者的思想感情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、通过合作学习，让学生既向别人表述自己的观点，又能从别人那得到不同的信息，共同完成一定的目标。懂得与人合作的意义，体验群体合作的成功感。在肯定个性化阅读的同时，告诉学生如何从集体中汲取智慧。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447920" y="68580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五、教学程序设计：</a:t>
            </a: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1932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一）导入新课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14400" y="251460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二）有感情地朗读课文，画出文中对比鲜明、精彩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语句细细体会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出示思考题：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雨果怎样赞美圆明园？语言有什么特点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雨果怎样谴责英法联军的强盗行为？语言有什么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特点？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82880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90720" y="10666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（三）体会作者的思想感情，认识并学习雨果的伟大情操。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（教学重点）</a:t>
            </a: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219320" y="2666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国是被掠夺的，我们中国人谴责强盗，控诉掠夺，那是很自然的。雨果作为一个参与掠夺与侵略的法国的一个公民，在强盗统治的国度里，发表自己的言论，没有一点奴颜媚骨，仗义执言，公理至上，是很有骨气的。这是本课学习的重点。能不能引导学生想到这一点，收获大不一样。</a:t>
            </a:r>
            <a:endParaRPr b="1" lang="en-US" sz="2400" spc="-1" strike="noStrike">
              <a:solidFill>
                <a:srgbClr val="0000ff"/>
              </a:solidFill>
              <a:latin typeface="华文行楷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143000" y="421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07:06:00Z</dcterms:created>
  <dc:creator>绿色圃中小学教育网http://www.lspjy.com</dc:creator>
  <dc:description>第一PPT模板网-WWW.1PPT.COM</dc:description>
  <cp:keywords>绿色圃中小学教育网http://www.lspjy.com</cp:keywords>
  <dc:language>en-US</dc:language>
  <cp:lastModifiedBy>xinxing</cp:lastModifiedBy>
  <dcterms:modified xsi:type="dcterms:W3CDTF">2017-04-16T15:49:56Z</dcterms:modified>
  <cp:revision>12</cp:revision>
  <dc:subject/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