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24.gif" ContentType="image/gif"/>
  <Override PartName="/ppt/media/image17.png" ContentType="image/png"/>
  <Override PartName="/ppt/media/image23.png" ContentType="image/png"/>
  <Override PartName="/ppt/media/image25.png" ContentType="image/png"/>
  <Override PartName="/ppt/media/click.wav" ContentType="audio/x-wav"/>
  <Override PartName="/ppt/media/image7.png" ContentType="image/png"/>
  <Override PartName="/ppt/media/image32.png" ContentType="image/png"/>
  <Override PartName="/ppt/media/image1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image35.jpeg" ContentType="image/jpeg"/>
  <Override PartName="/ppt/media/image30.png" ContentType="image/png"/>
  <Override PartName="/ppt/media/image37.gif" ContentType="image/gif"/>
  <Override PartName="/ppt/media/image9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13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gif" ContentType="image/gi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260-7DDF-453A-BF50-72FAAB13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477-AE5A-4F67-9D01-C66982C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1EF-CB40-4772-BA4D-98EC0DEB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512-C2C4-4368-B4D7-DE655E87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7FF-C54A-4008-86E4-B13F3434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099-4BE0-453C-932D-FF8D985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C35-4B57-455D-959B-7A907EF6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097-1665-45E2-A569-A4ADA2CA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4F6-BD7C-499B-899E-8E78CA2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753-0C46-45E1-A5F1-1199DF1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B83-4BBA-4B52-891D-DFFFF29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ABB-1B70-4DBF-8765-15CC1A3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1E0-641E-41CB-A79B-C89C2151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audio" Target="../media/click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29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audio" Target="../media/click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audio" Target="../media/click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课题"/>
          <p:cNvPicPr/>
          <p:nvPr/>
        </p:nvPicPr>
        <p:blipFill>
          <a:blip r:embed="rId2"/>
          <a:srcRect l="4525" t="7568" r="8125" b="74204"/>
          <a:stretch/>
        </p:blipFill>
        <p:spPr>
          <a:xfrm>
            <a:off x="468360" y="1916280"/>
            <a:ext cx="8280360" cy="129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鱼"/>
          <p:cNvPicPr/>
          <p:nvPr/>
        </p:nvPicPr>
        <p:blipFill>
          <a:blip r:embed="rId3"/>
          <a:stretch/>
        </p:blipFill>
        <p:spPr>
          <a:xfrm>
            <a:off x="250920" y="5516640"/>
            <a:ext cx="238104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27_4200_116_zK59YWcxbCPo"/>
          <p:cNvPicPr/>
          <p:nvPr/>
        </p:nvPicPr>
        <p:blipFill>
          <a:blip r:embed="rId4"/>
          <a:stretch/>
        </p:blipFill>
        <p:spPr>
          <a:xfrm>
            <a:off x="684360" y="3330720"/>
            <a:ext cx="7897680" cy="196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2245680" y="5992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E7A0-B58A-4B1E-9CC8-2AD2705737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9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想一想"/>
          <p:cNvPicPr/>
          <p:nvPr/>
        </p:nvPicPr>
        <p:blipFill>
          <a:blip r:embed="rId1"/>
          <a:stretch/>
        </p:blipFill>
        <p:spPr>
          <a:xfrm>
            <a:off x="179280" y="189000"/>
            <a:ext cx="223200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00000" y="204624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需要把搜集的空气密封吗？如需要怎么密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如何让搜集到的空气受热受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怎样才能清楚的看出空气体积的变化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a_to63"/>
          <p:cNvPicPr/>
          <p:nvPr/>
        </p:nvPicPr>
        <p:blipFill>
          <a:blip r:embed="rId2"/>
          <a:stretch/>
        </p:blipFill>
        <p:spPr>
          <a:xfrm>
            <a:off x="612720" y="219060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a_to61"/>
          <p:cNvPicPr/>
          <p:nvPr/>
        </p:nvPicPr>
        <p:blipFill>
          <a:blip r:embed="rId3"/>
          <a:stretch/>
        </p:blipFill>
        <p:spPr>
          <a:xfrm>
            <a:off x="612720" y="262260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a_to67"/>
          <p:cNvPicPr/>
          <p:nvPr/>
        </p:nvPicPr>
        <p:blipFill>
          <a:blip r:embed="rId4"/>
          <a:stretch/>
        </p:blipFill>
        <p:spPr>
          <a:xfrm>
            <a:off x="612720" y="298296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1139054134"/>
          <p:cNvPicPr/>
          <p:nvPr/>
        </p:nvPicPr>
        <p:blipFill>
          <a:blip r:embed="rId5"/>
          <a:stretch/>
        </p:blipFill>
        <p:spPr>
          <a:xfrm>
            <a:off x="3505320" y="6453360"/>
            <a:ext cx="5638680" cy="19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1139054134"/>
          <p:cNvPicPr/>
          <p:nvPr/>
        </p:nvPicPr>
        <p:blipFill>
          <a:blip r:embed="rId6"/>
          <a:srcRect l="0" t="0" r="0" b="-13233"/>
          <a:stretch/>
        </p:blipFill>
        <p:spPr>
          <a:xfrm>
            <a:off x="324000" y="981000"/>
            <a:ext cx="3671640" cy="2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045751_140209940390_2"/>
          <p:cNvPicPr/>
          <p:nvPr/>
        </p:nvPicPr>
        <p:blipFill>
          <a:blip r:embed="rId7"/>
          <a:stretch/>
        </p:blipFill>
        <p:spPr>
          <a:xfrm>
            <a:off x="6211800" y="5418000"/>
            <a:ext cx="2932200" cy="1440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8" name="click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0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600"/>
                            </p:stCondLst>
                            <p:childTnLst>
                              <p:par>
                                <p:cTn id="5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说一说"/>
          <p:cNvPicPr/>
          <p:nvPr/>
        </p:nvPicPr>
        <p:blipFill>
          <a:blip r:embed="rId1"/>
          <a:stretch/>
        </p:blipFill>
        <p:spPr>
          <a:xfrm>
            <a:off x="179280" y="260280"/>
            <a:ext cx="2936880" cy="115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未命"/>
          <p:cNvPicPr/>
          <p:nvPr/>
        </p:nvPicPr>
        <p:blipFill>
          <a:blip r:embed="rId2"/>
          <a:stretch/>
        </p:blipFill>
        <p:spPr>
          <a:xfrm>
            <a:off x="6156360" y="3573360"/>
            <a:ext cx="2714760" cy="299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ab7a49ef9b4"/>
          <p:cNvPicPr/>
          <p:nvPr/>
        </p:nvPicPr>
        <p:blipFill>
          <a:blip r:embed="rId3"/>
          <a:stretch/>
        </p:blipFill>
        <p:spPr>
          <a:xfrm>
            <a:off x="4211640" y="260280"/>
            <a:ext cx="2917800" cy="41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bei"/>
          <p:cNvPicPr/>
          <p:nvPr/>
        </p:nvPicPr>
        <p:blipFill>
          <a:blip r:embed="rId4"/>
          <a:stretch/>
        </p:blipFill>
        <p:spPr>
          <a:xfrm>
            <a:off x="0" y="2349360"/>
            <a:ext cx="273384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shi"/>
          <p:cNvPicPr/>
          <p:nvPr/>
        </p:nvPicPr>
        <p:blipFill>
          <a:blip r:embed="rId5"/>
          <a:stretch/>
        </p:blipFill>
        <p:spPr>
          <a:xfrm>
            <a:off x="3203640" y="2205000"/>
            <a:ext cx="863640" cy="4383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"/>
          <p:cNvSpPr/>
          <p:nvPr/>
        </p:nvSpPr>
        <p:spPr>
          <a:xfrm>
            <a:off x="611280" y="537372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汉仪娃娃篆简"/>
              </a:rPr>
              <a:t>烧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2771640" y="126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汉仪娃娃篆简"/>
              </a:rPr>
              <a:t>试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6588000" y="28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汉仪娃娃篆简"/>
              </a:rPr>
              <a:t>气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6" name="click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友情提示"/>
          <p:cNvPicPr/>
          <p:nvPr/>
        </p:nvPicPr>
        <p:blipFill>
          <a:blip r:embed="rId1"/>
          <a:stretch/>
        </p:blipFill>
        <p:spPr>
          <a:xfrm>
            <a:off x="3132000" y="189000"/>
            <a:ext cx="2952720" cy="93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332000" y="2060640"/>
            <a:ext cx="727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汉仪娃娃篆简"/>
              </a:rPr>
              <a:t>保持纪律，注意安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汉仪娃娃篆简"/>
              </a:rPr>
              <a:t>分工合作，细心操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ccff"/>
                </a:solidFill>
                <a:latin typeface="Arial"/>
                <a:ea typeface="汉仪娃娃篆简"/>
              </a:rPr>
              <a:t>仔细观察，认真记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5c8dc1649cdb37fbf6365464"/>
          <p:cNvPicPr/>
          <p:nvPr/>
        </p:nvPicPr>
        <p:blipFill>
          <a:blip r:embed="rId2"/>
          <a:stretch/>
        </p:blipFill>
        <p:spPr>
          <a:xfrm>
            <a:off x="2340000" y="907920"/>
            <a:ext cx="470520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lick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39640" y="306864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气受热时，气球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说明空气体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空气受冷时，气球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说明空气体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292720" y="28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鼓起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40812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膨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424120" y="45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凹进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32000" y="5157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康海报体W12(P)"/>
              </a:rPr>
              <a:t>收缩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现象交流"/>
          <p:cNvPicPr/>
          <p:nvPr/>
        </p:nvPicPr>
        <p:blipFill>
          <a:blip r:embed="rId1"/>
          <a:stretch/>
        </p:blipFill>
        <p:spPr>
          <a:xfrm>
            <a:off x="900000" y="549360"/>
            <a:ext cx="288000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5a2c5b0b2b6b3eee63d9865d"/>
          <p:cNvPicPr/>
          <p:nvPr/>
        </p:nvPicPr>
        <p:blipFill>
          <a:blip r:embed="rId2"/>
          <a:stretch/>
        </p:blipFill>
        <p:spPr>
          <a:xfrm>
            <a:off x="468360" y="1197000"/>
            <a:ext cx="3809880" cy="24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4"/>
          <p:cNvPicPr/>
          <p:nvPr/>
        </p:nvPicPr>
        <p:blipFill>
          <a:blip r:embed="rId3"/>
          <a:stretch/>
        </p:blipFill>
        <p:spPr>
          <a:xfrm>
            <a:off x="39528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lick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比一比"/>
          <p:cNvPicPr/>
          <p:nvPr/>
        </p:nvPicPr>
        <p:blipFill>
          <a:blip r:embed="rId1"/>
          <a:stretch/>
        </p:blipFill>
        <p:spPr>
          <a:xfrm>
            <a:off x="324000" y="189000"/>
            <a:ext cx="23050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116000" y="1557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Arial"/>
                <a:ea typeface="金梅落葉美工字體"/>
              </a:rPr>
              <a:t>空气的热胀冷缩和水的热胀冷缩相比有什么区别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411280" y="364500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康海报体W12(P)"/>
              </a:rPr>
              <a:t>空气变化的更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康海报体W12(P)"/>
              </a:rPr>
              <a:t>空气变化的更明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_imgload"/>
          <p:cNvPicPr/>
          <p:nvPr/>
        </p:nvPicPr>
        <p:blipFill>
          <a:blip r:embed="rId2"/>
          <a:stretch/>
        </p:blipFill>
        <p:spPr>
          <a:xfrm>
            <a:off x="0" y="5950080"/>
            <a:ext cx="7273800" cy="75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078c62fa0003ff9e59ee90cd"/>
          <p:cNvPicPr/>
          <p:nvPr/>
        </p:nvPicPr>
        <p:blipFill>
          <a:blip r:embed="rId3"/>
          <a:stretch/>
        </p:blipFill>
        <p:spPr>
          <a:xfrm>
            <a:off x="0" y="1052640"/>
            <a:ext cx="3524400" cy="14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lick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"/>
          <p:cNvPicPr/>
          <p:nvPr/>
        </p:nvPicPr>
        <p:blipFill>
          <a:blip r:embed="rId1"/>
          <a:stretch/>
        </p:blipFill>
        <p:spPr>
          <a:xfrm>
            <a:off x="2195640" y="765000"/>
            <a:ext cx="907920" cy="7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"/>
          <p:cNvPicPr/>
          <p:nvPr/>
        </p:nvPicPr>
        <p:blipFill>
          <a:blip r:embed="rId2"/>
          <a:stretch/>
        </p:blipFill>
        <p:spPr>
          <a:xfrm>
            <a:off x="3708360" y="404640"/>
            <a:ext cx="93672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"/>
          <p:cNvPicPr/>
          <p:nvPr/>
        </p:nvPicPr>
        <p:blipFill>
          <a:blip r:embed="rId3"/>
          <a:stretch/>
        </p:blipFill>
        <p:spPr>
          <a:xfrm>
            <a:off x="1332000" y="2060640"/>
            <a:ext cx="90792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"/>
          <p:cNvPicPr/>
          <p:nvPr/>
        </p:nvPicPr>
        <p:blipFill>
          <a:blip r:embed="rId4"/>
          <a:stretch/>
        </p:blipFill>
        <p:spPr>
          <a:xfrm>
            <a:off x="5435640" y="765000"/>
            <a:ext cx="863640" cy="7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1"/>
          <p:cNvPicPr/>
          <p:nvPr/>
        </p:nvPicPr>
        <p:blipFill>
          <a:blip r:embed="rId5"/>
          <a:stretch/>
        </p:blipFill>
        <p:spPr>
          <a:xfrm>
            <a:off x="6227640" y="2349360"/>
            <a:ext cx="865440" cy="7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"/>
          <p:cNvPicPr/>
          <p:nvPr/>
        </p:nvPicPr>
        <p:blipFill>
          <a:blip r:embed="rId6"/>
          <a:stretch/>
        </p:blipFill>
        <p:spPr>
          <a:xfrm>
            <a:off x="1619280" y="3573360"/>
            <a:ext cx="90792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"/>
          <p:cNvPicPr/>
          <p:nvPr/>
        </p:nvPicPr>
        <p:blipFill>
          <a:blip r:embed="rId7"/>
          <a:stretch/>
        </p:blipFill>
        <p:spPr>
          <a:xfrm>
            <a:off x="3059280" y="4508640"/>
            <a:ext cx="907920" cy="79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8"/>
          <a:stretch/>
        </p:blipFill>
        <p:spPr>
          <a:xfrm>
            <a:off x="3851280" y="249228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"/>
          <p:cNvPicPr/>
          <p:nvPr/>
        </p:nvPicPr>
        <p:blipFill>
          <a:blip r:embed="rId9"/>
          <a:stretch/>
        </p:blipFill>
        <p:spPr>
          <a:xfrm>
            <a:off x="5435640" y="429264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10"/>
          <a:stretch/>
        </p:blipFill>
        <p:spPr>
          <a:xfrm>
            <a:off x="3564000" y="177336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11"/>
          <a:stretch/>
        </p:blipFill>
        <p:spPr>
          <a:xfrm>
            <a:off x="4427640" y="184464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12"/>
          <a:stretch/>
        </p:blipFill>
        <p:spPr>
          <a:xfrm>
            <a:off x="3780000" y="328464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"/>
          <p:cNvPicPr/>
          <p:nvPr/>
        </p:nvPicPr>
        <p:blipFill>
          <a:blip r:embed="rId13"/>
          <a:stretch/>
        </p:blipFill>
        <p:spPr>
          <a:xfrm>
            <a:off x="2987640" y="2997360"/>
            <a:ext cx="69552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"/>
          <p:cNvPicPr/>
          <p:nvPr/>
        </p:nvPicPr>
        <p:blipFill>
          <a:blip r:embed="rId14"/>
          <a:stretch/>
        </p:blipFill>
        <p:spPr>
          <a:xfrm>
            <a:off x="4572000" y="321300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"/>
          <p:cNvPicPr/>
          <p:nvPr/>
        </p:nvPicPr>
        <p:blipFill>
          <a:blip r:embed="rId15"/>
          <a:stretch/>
        </p:blipFill>
        <p:spPr>
          <a:xfrm>
            <a:off x="2987640" y="2349360"/>
            <a:ext cx="67320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"/>
          <p:cNvPicPr/>
          <p:nvPr/>
        </p:nvPicPr>
        <p:blipFill>
          <a:blip r:embed="rId16"/>
          <a:stretch/>
        </p:blipFill>
        <p:spPr>
          <a:xfrm>
            <a:off x="4716360" y="2492280"/>
            <a:ext cx="695520" cy="7207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0"/>
          <p:cNvSpPr/>
          <p:nvPr/>
        </p:nvSpPr>
        <p:spPr>
          <a:xfrm>
            <a:off x="826920" y="5373720"/>
            <a:ext cx="1656000" cy="719280"/>
          </a:xfrm>
          <a:custGeom>
            <a:avLst/>
            <a:gdLst>
              <a:gd name="textAreaLeft" fmla="*/ 46440 w 1656000"/>
              <a:gd name="textAreaRight" fmla="*/ 1609560 w 1656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9716" h="21600">
                <a:moveTo>
                  <a:pt x="0" y="0"/>
                </a:moveTo>
                <a:lnTo>
                  <a:pt x="49716" y="0"/>
                </a:lnTo>
                <a:lnTo>
                  <a:pt x="49716" y="21600"/>
                </a:lnTo>
                <a:lnTo>
                  <a:pt x="0" y="21600"/>
                </a:lnTo>
                <a:close/>
              </a:path>
              <a:path fill="lightenLess" w="49716" h="21600">
                <a:moveTo>
                  <a:pt x="0" y="0"/>
                </a:moveTo>
                <a:lnTo>
                  <a:pt x="49716" y="0"/>
                </a:lnTo>
                <a:lnTo>
                  <a:pt x="48316" y="1400"/>
                </a:lnTo>
                <a:lnTo>
                  <a:pt x="1400" y="1400"/>
                </a:lnTo>
                <a:close/>
              </a:path>
              <a:path fill="darken" w="49716" h="21600">
                <a:moveTo>
                  <a:pt x="49716" y="0"/>
                </a:moveTo>
                <a:lnTo>
                  <a:pt x="49716" y="21600"/>
                </a:lnTo>
                <a:lnTo>
                  <a:pt x="48316" y="20200"/>
                </a:lnTo>
                <a:lnTo>
                  <a:pt x="48316" y="1400"/>
                </a:lnTo>
                <a:close/>
              </a:path>
              <a:path fill="darkenLess" w="49716" h="21600">
                <a:moveTo>
                  <a:pt x="49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16" y="20200"/>
                </a:lnTo>
                <a:close/>
              </a:path>
              <a:path fill="lighten" w="49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康海报体W12(P)"/>
              </a:rPr>
              <a:t>常温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3348000" y="5373720"/>
            <a:ext cx="1655640" cy="719280"/>
          </a:xfrm>
          <a:custGeom>
            <a:avLst/>
            <a:gdLst>
              <a:gd name="textAreaLeft" fmla="*/ 46440 w 1655640"/>
              <a:gd name="textAreaRight" fmla="*/ 1609200 w 165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9705" h="21600">
                <a:moveTo>
                  <a:pt x="0" y="0"/>
                </a:moveTo>
                <a:lnTo>
                  <a:pt x="49705" y="0"/>
                </a:lnTo>
                <a:lnTo>
                  <a:pt x="49705" y="21600"/>
                </a:lnTo>
                <a:lnTo>
                  <a:pt x="0" y="21600"/>
                </a:lnTo>
                <a:close/>
              </a:path>
              <a:path fill="lightenLess" w="49705" h="21600">
                <a:moveTo>
                  <a:pt x="0" y="0"/>
                </a:moveTo>
                <a:lnTo>
                  <a:pt x="49705" y="0"/>
                </a:lnTo>
                <a:lnTo>
                  <a:pt x="48305" y="1400"/>
                </a:lnTo>
                <a:lnTo>
                  <a:pt x="1400" y="1400"/>
                </a:lnTo>
                <a:close/>
              </a:path>
              <a:path fill="darken" w="49705" h="21600">
                <a:moveTo>
                  <a:pt x="49705" y="0"/>
                </a:moveTo>
                <a:lnTo>
                  <a:pt x="49705" y="21600"/>
                </a:lnTo>
                <a:lnTo>
                  <a:pt x="48305" y="20200"/>
                </a:lnTo>
                <a:lnTo>
                  <a:pt x="48305" y="1400"/>
                </a:lnTo>
                <a:close/>
              </a:path>
              <a:path fill="darkenLess" w="49705" h="21600">
                <a:moveTo>
                  <a:pt x="4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05" y="20200"/>
                </a:lnTo>
                <a:close/>
              </a:path>
              <a:path fill="lighten" w="4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康海报体W12(P)"/>
              </a:rPr>
              <a:t>冷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6156360" y="5373720"/>
            <a:ext cx="1655640" cy="719280"/>
          </a:xfrm>
          <a:custGeom>
            <a:avLst/>
            <a:gdLst>
              <a:gd name="textAreaLeft" fmla="*/ 46440 w 1655640"/>
              <a:gd name="textAreaRight" fmla="*/ 1609200 w 165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9705" h="21600">
                <a:moveTo>
                  <a:pt x="0" y="0"/>
                </a:moveTo>
                <a:lnTo>
                  <a:pt x="49705" y="0"/>
                </a:lnTo>
                <a:lnTo>
                  <a:pt x="49705" y="21600"/>
                </a:lnTo>
                <a:lnTo>
                  <a:pt x="0" y="21600"/>
                </a:lnTo>
                <a:close/>
              </a:path>
              <a:path fill="lightenLess" w="49705" h="21600">
                <a:moveTo>
                  <a:pt x="0" y="0"/>
                </a:moveTo>
                <a:lnTo>
                  <a:pt x="49705" y="0"/>
                </a:lnTo>
                <a:lnTo>
                  <a:pt x="48305" y="1400"/>
                </a:lnTo>
                <a:lnTo>
                  <a:pt x="1400" y="1400"/>
                </a:lnTo>
                <a:close/>
              </a:path>
              <a:path fill="darken" w="49705" h="21600">
                <a:moveTo>
                  <a:pt x="49705" y="0"/>
                </a:moveTo>
                <a:lnTo>
                  <a:pt x="49705" y="21600"/>
                </a:lnTo>
                <a:lnTo>
                  <a:pt x="48305" y="20200"/>
                </a:lnTo>
                <a:lnTo>
                  <a:pt x="48305" y="1400"/>
                </a:lnTo>
                <a:close/>
              </a:path>
              <a:path fill="darkenLess" w="49705" h="21600">
                <a:moveTo>
                  <a:pt x="4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05" y="20200"/>
                </a:lnTo>
                <a:close/>
              </a:path>
              <a:path fill="lighten" w="4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华康海报体W12(P)"/>
              </a:rPr>
              <a:t>热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5"/>
          <p:cNvSpPr/>
          <p:nvPr/>
        </p:nvSpPr>
        <p:spPr>
          <a:xfrm>
            <a:off x="2627280" y="1413000"/>
            <a:ext cx="3168720" cy="3168360"/>
          </a:xfrm>
          <a:prstGeom prst="ellipse">
            <a:avLst/>
          </a:prstGeom>
          <a:noFill/>
          <a:ln cap="rnd" w="763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4" descr="QLF]$C~1}3`8$0G7_AJ%S}C"/>
          <p:cNvPicPr/>
          <p:nvPr/>
        </p:nvPicPr>
        <p:blipFill>
          <a:blip r:embed="rId20"/>
          <a:stretch/>
        </p:blipFill>
        <p:spPr>
          <a:xfrm>
            <a:off x="3419640" y="2060640"/>
            <a:ext cx="56196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5" descr="QLF]$C~1}3`8$0G7_AJ%S}C"/>
          <p:cNvPicPr/>
          <p:nvPr/>
        </p:nvPicPr>
        <p:blipFill>
          <a:blip r:embed="rId21"/>
          <a:stretch/>
        </p:blipFill>
        <p:spPr>
          <a:xfrm>
            <a:off x="3780000" y="198900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5" descr="QLF]$C~1}3`8$0G7_AJ%S}C"/>
          <p:cNvPicPr/>
          <p:nvPr/>
        </p:nvPicPr>
        <p:blipFill>
          <a:blip r:embed="rId22"/>
          <a:stretch/>
        </p:blipFill>
        <p:spPr>
          <a:xfrm>
            <a:off x="4140360" y="198900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3" descr="QLF]$C~1}3`8$0G7_AJ%S}C"/>
          <p:cNvPicPr/>
          <p:nvPr/>
        </p:nvPicPr>
        <p:blipFill>
          <a:blip r:embed="rId23"/>
          <a:stretch/>
        </p:blipFill>
        <p:spPr>
          <a:xfrm>
            <a:off x="4356000" y="220500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1" descr="QLF]$C~1}3`8$0G7_AJ%S}C"/>
          <p:cNvPicPr/>
          <p:nvPr/>
        </p:nvPicPr>
        <p:blipFill>
          <a:blip r:embed="rId24"/>
          <a:stretch/>
        </p:blipFill>
        <p:spPr>
          <a:xfrm>
            <a:off x="4211640" y="256536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1" descr="QLF]$C~1}3`8$0G7_AJ%S}C"/>
          <p:cNvPicPr/>
          <p:nvPr/>
        </p:nvPicPr>
        <p:blipFill>
          <a:blip r:embed="rId25"/>
          <a:stretch/>
        </p:blipFill>
        <p:spPr>
          <a:xfrm>
            <a:off x="3924360" y="234936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3" descr="QLF]$C~1}3`8$0G7_AJ%S}C"/>
          <p:cNvPicPr/>
          <p:nvPr/>
        </p:nvPicPr>
        <p:blipFill>
          <a:blip r:embed="rId26"/>
          <a:stretch/>
        </p:blipFill>
        <p:spPr>
          <a:xfrm>
            <a:off x="3708360" y="2492280"/>
            <a:ext cx="56196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5" descr="QLF]$C~1}3`8$0G7_AJ%S}C"/>
          <p:cNvPicPr/>
          <p:nvPr/>
        </p:nvPicPr>
        <p:blipFill>
          <a:blip r:embed="rId27"/>
          <a:stretch/>
        </p:blipFill>
        <p:spPr>
          <a:xfrm>
            <a:off x="3419640" y="2492280"/>
            <a:ext cx="561960" cy="1079640"/>
          </a:xfrm>
          <a:prstGeom prst="rect">
            <a:avLst/>
          </a:prstGeom>
          <a:ln w="0">
            <a:noFill/>
          </a:ln>
        </p:spPr>
      </p:pic>
      <p:sp>
        <p:nvSpPr>
          <p:cNvPr id="105" name="Oval 213"/>
          <p:cNvSpPr/>
          <p:nvPr/>
        </p:nvSpPr>
        <p:spPr>
          <a:xfrm>
            <a:off x="2627280" y="1413000"/>
            <a:ext cx="3168720" cy="3168360"/>
          </a:xfrm>
          <a:prstGeom prst="ellipse">
            <a:avLst/>
          </a:prstGeom>
          <a:noFill/>
          <a:ln cap="rnd" w="7632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8" name="click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042 0.00301 C 0.01927 0.00232 0.02795 0.00209 0.03681 0.00116 C 0.05 -0.00046 0.06424 -0.00856 0.07656 -0.01458 C 0.0809 -0.02291 0.08299 -0.02129 0.08976 -0.0243 C 0.09549 -0.03194 0.10104 -0.03241 0.10747 -0.03796 C 0.1092 -0.04537 0.10816 -0.04213 0.11042 -0.04791 E">
                                      <p:cBhvr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5.55556E-006 C 0.00173 0.00047 0.00937 0.00186 0.0118 0.00394 C 0.02187 0.0132 0.01058 0.00742 0.02065 0.01158 C 0.02864 0.02802 0.06215 0.0389 0.07656 0.04492 C 0.08315 0.04769 0.09027 0.04492 0.09704 0.04492 E">
                                      <p:cBhvr>
                                        <p:cTn id="24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38 -0.00949 C 0.00885 -0.0162 0.00486 -0.01875 0.01024 -0.02523 C 0.01284 -0.02824 0.01892 -0.0331 0.01892 -0.03287 C 0.021 -0.04097 0.02083 -0.04398 0.02638 -0.04884 C 0.02743 -0.05648 0.02899 -0.06296 0.03072 -0.07037 C 0.0302 -0.08217 0.03107 -0.09398 0.02934 -0.10555 C 0.02864 -0.10995 0.02048 -0.11157 0.02048 -0.11134 E">
                                      <p:cBhvr>
                                        <p:cTn id="24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5E-006 -8.67362E-019 C 0.00104 -0.00926 0.00225 -0.01828 0.00434 -0.02731 C 0.00312 -0.04097 0.00121 -0.04953 -0.00452 -0.06065 C -0.00747 -0.07708 -0.00348 -0.06041 -0.01042 -0.07453 C -0.01615 -0.08611 -0.00608 -0.07523 -0.01615 -0.08426 C -0.02309 -0.09791 -0.03837 -0.10185 -0.05 -0.10185 E">
                                      <p:cBhvr>
                                        <p:cTn id="24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2.22222E-006 C -0.02118 -0.01019 -0.04271 -0.01852 -0.06458 -0.02547 C -0.0691 -0.02362 -0.07344 -0.02153 -0.07778 -0.01968 C -0.0842 -0.01412 -0.09149 -0.01343 -0.09705 -0.00602 E">
                                      <p:cBhvr>
                                        <p:cTn id="24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261 0.0044 C -0.00382 0.00486 -0.01337 0.00764 -0.01441 0.00834 C -0.02222 0.01297 -0.02952 0.01922 -0.03785 0.02199 C -0.04167 0.02963 -0.04497 0.02963 -0.05122 0.0338 C -0.05695 0.04537 -0.06163 0.05764 -0.06736 0.06898 C -0.06945 0.07824 -0.07327 0.08519 -0.07327 0.09468 E">
                                      <p:cBhvr>
                                        <p:cTn id="25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-3.7037E-007 C 0.00417 0.03102 -0.00174 -0.01551 0.00295 0.04329 C 0.00399 0.05741 0.01111 0.07222 0.01632 0.08426 C 0.01997 0.09259 0.01944 0.0993 0.02205 0.10787 C 0.02222 0.10856 0.02309 0.10787 0.02361 0.10787 E">
                                      <p:cBhvr>
                                        <p:cTn id="25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94444E-006 2.22222E-006 C -0.00972 -0.00162 -0.01198 -0.00023 -0.02014 0.00486 C -0.02361 0.01134 -0.02621 0.02523 -0.02014 0.03055 C -0.01823 0.03241 -0.01545 0.03171 -0.01319 0.0331 C -0.00989 0.03518 -0.00833 0.03889 -0.00469 0.04051 C -0.00121 0.04004 0.00243 0.04004 0.0059 0.03912 C 0.01042 0.03773 0.01025 0.02754 0.0125 0.02315 C 0.01181 0.01597 0.0132 0.01088 0.00781 0.00856 C 0.00747 0.00741 0.00747 0.00578 0.00677 0.00486 C 0.00417 0.00162 -1.94444E-006 0.00671 -1.94444E-006 2.22222E-006 Z">
                                      <p:cBhvr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4844 -0.18449 C -0.13785 -0.18101 -0.13576 -0.16944 -0.12847 -0.15972 C -0.12691 -0.15347 -0.12135 -0.14259 -0.12135 -0.14259 C -0.11979 -0.13611 -0.11771 -0.13217 -0.11424 -0.12731 C -0.1099 -0.10995 -0.10035 -0.09398 -0.08715 -0.08726 C -0.08299 -0.08194 -0.0783 -0.07638 -0.07274 -0.07407 C -0.06858 -0.06805 -0.06302 -0.06666 -0.05712 -0.06458 C -0.05521 -0.06388 -0.05 -0.06064 -0.05139 -0.0625 C -0.05313 -0.06481 -0.06111 -0.06643 -0.05851 -0.06643 C -0.05365 -0.06643 -0.04913 -0.0625 -0.04427 -0.0625 E">
                                      <p:cBhvr>
                                        <p:cTn id="35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16979 0.00949 C -0.15781 0.01227 -0.14566 0.01621 -0.13402 0.02107 C -0.09843 0.02014 -0.07309 0.02176 -0.04114 0.01343 C -0.03593 0.00602 -0.04062 0.01111 -0.02968 0.00764 C -0.02673 0.00672 -0.02118 0.00394 -0.02118 0.00394 C -0.01614 -0.00069 -0.01857 -1.48148E-006 -0.01406 -1.48148E-006 E">
                                      <p:cBhvr>
                                        <p:cTn id="35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9583 0.16019 C -0.09254 0.15949 -0.08889 0.15973 -0.08576 0.15811 C -0.08385 0.15718 -0.08316 0.15394 -0.08142 0.15255 C -0.07743 0.14931 -0.07274 0.14769 -0.06858 0.14491 C -0.06285 0.13681 -0.05747 0.12824 -0.05156 0.12014 C -0.04983 0.11366 -0.04792 0.10949 -0.04427 0.10486 C -0.04115 0.09167 -0.04549 0.10695 -0.03872 0.09352 C -0.03785 0.0919 -0.03819 0.08936 -0.03715 0.08774 C -0.03611 0.08611 -0.0342 0.08542 -0.03299 0.08403 C -0.03194 0.08287 -0.0309 0.08149 -0.03004 0.0801 C -0.02795 0.07639 -0.02622 0.07246 -0.02431 0.06875 C -0.0224 0.06482 -0.01858 0.05718 -0.01858 0.05718 C -0.01719 0.05162 -0.01493 0.04699 -0.01285 0.0419 C -0.01129 0.03797 -0.00729 0.03056 -0.00729 0.03056 C -0.00521 0.02014 -2.77778E-006 0.01088 -2.77778E-006 -7.40741E-007 E">
                                      <p:cBhvr>
                                        <p:cTn id="35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4704 0.19745 C 0.04652 0.16644 0.04652 0.13519 0.04566 0.10417 C 0.04548 0.09699 0.04236 0.08611 0.03836 0.08125 C 0.03576 0.07222 0.03159 0.06412 0.02708 0.05648 C 0.02534 0.0537 0.02135 0.04884 0.02135 0.04884 E">
                                      <p:cBhvr>
                                        <p:cTn id="35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7274 0.1294 C 0.07101 0.1088 0.06892 0.08426 0.0599 0.06644 C 0.05764 0.05741 0.04879 0.04514 0.04288 0.03982 C 0.03993 0.02847 0.02708 0.01505 0.01858 0.01134 C 0.01493 0.00648 0.01076 0.00371 0.00573 0.00162 C 0.00382 0.00093 -3.33333E-006 -0.00023 -3.33333E-006 -0.00023 E">
                                      <p:cBhvr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592 0.04769 C 0.15 0.04375 0.14427 0.03079 0.1349 0.02685 C 0.13021 0.0206 0.12535 0.01621 0.1191 0.01343 C 0.11545 0.00834 0.11111 0.00718 0.10625 0.00394 C 0.10278 -0.00347 0.10452 -0.00185 0.09775 -0.00555 C 0.09497 -0.00694 0.08924 -0.00949 0.08924 -0.00949 C 0.07292 -0.02986 0.00955 -0.02083 0.00347 -0.02083 E">
                                      <p:cBhvr>
                                        <p:cTn id="3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6041 -0.07569 C 0.15381 -0.075 0.14704 -0.07477 0.14044 -0.07384 C 0.13263 -0.07269 0.12569 -0.06458 0.11753 -0.06227 C 0.1111 -0.05602 0.10833 -0.05694 0.1019 -0.05278 C 0.09756 -0.04977 0.09461 -0.04491 0.09044 -0.04144 C 0.08506 -0.03032 0.09079 -0.03958 0.08333 -0.0338 C 0.07846 -0.03009 0.07951 -0.02685 0.07326 -0.02431 C 0.06978 -0.01713 0.0644 -0.01181 0.05902 -0.00718 C 0.05537 0.00833 0.06093 -0.00972 0.05329 0.00046 C 0.05225 0.00185 0.05277 0.00463 0.0519 0.00625 C 0.05086 0.00856 0.04895 0.00995 0.04756 0.01181 C 0.04392 0.02708 0.0368 0.03194 0.02899 0.04236 E">
                                      <p:cBhvr>
                                        <p:cTn id="36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776 -0.18056 C 0.07326 -0.17685 0.071 -0.17315 0.06614 -0.17107 C 0.06406 -0.16806 0.06059 -0.1669 0.05903 -0.16343 C 0.05746 -0.15995 0.05712 -0.15579 0.05625 -0.15208 C 0.05416 -0.14352 0.05312 -0.14583 0.05052 -0.13866 C 0.04982 -0.13681 0.04965 -0.13472 0.04913 -0.13287 C 0.04826 -0.13032 0.04722 -0.12778 0.04618 -0.12523 C 0.04496 -0.11875 0.04357 -0.1125 0.04184 -0.10625 C 0.04028 -0.08935 0.03541 -0.07176 0.03472 -0.05486 C 0.03437 -0.04607 0.03472 -0.03704 0.03472 -0.02824 E">
                                      <p:cBhvr>
                                        <p:cTn id="36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39640" y="242100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空气的热胀冷缩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微粒的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关，当空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吸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升温后，微粒的运动速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加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微粒之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距离增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空气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膨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；当空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受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后，微粒运动速度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减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微粒之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距离缩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空气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收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2484360" y="404640"/>
            <a:ext cx="338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康海报体W12(P)"/>
              </a:rPr>
              <a:t>我们的假说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康海报体W12(P)"/>
              <a:ea typeface="华康海报体W12(P)"/>
            </a:endParaRPr>
          </a:p>
        </p:txBody>
      </p:sp>
      <p:pic>
        <p:nvPicPr>
          <p:cNvPr id="108" name="Picture 7" descr="2a706be9b8d3d533b90e2d24"/>
          <p:cNvPicPr/>
          <p:nvPr/>
        </p:nvPicPr>
        <p:blipFill>
          <a:blip r:embed="rId1"/>
          <a:stretch/>
        </p:blipFill>
        <p:spPr>
          <a:xfrm>
            <a:off x="2627280" y="1197000"/>
            <a:ext cx="4248360" cy="26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9"/>
          <p:cNvPicPr/>
          <p:nvPr/>
        </p:nvPicPr>
        <p:blipFill>
          <a:blip r:embed="rId2"/>
          <a:stretch/>
        </p:blipFill>
        <p:spPr>
          <a:xfrm>
            <a:off x="8028000" y="6165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lick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下课"/>
          <p:cNvPicPr/>
          <p:nvPr/>
        </p:nvPicPr>
        <p:blipFill>
          <a:blip r:embed="rId2"/>
          <a:stretch/>
        </p:blipFill>
        <p:spPr>
          <a:xfrm>
            <a:off x="0" y="333360"/>
            <a:ext cx="2879640" cy="9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97132b556049adf37d3ca2f"/>
          <p:cNvPicPr/>
          <p:nvPr/>
        </p:nvPicPr>
        <p:blipFill>
          <a:blip r:embed="rId3"/>
          <a:stretch/>
        </p:blipFill>
        <p:spPr>
          <a:xfrm>
            <a:off x="900000" y="5157720"/>
            <a:ext cx="7620120" cy="28584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3301920" y="3108240"/>
            <a:ext cx="62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lick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-0.23628 0.07477 C -0.22517 0.09444 -0.21458 0.11389 -0.2033 0.13379 C -0.19305 0.15185 -0.1776 0.16389 -0.16475 0.17778 C -0.16007 0.18287 -0.15659 0.18958 -0.15191 0.19491 C -0.13645 0.21227 -0.11823 0.2243 -0.10052 0.2368 C -0.08941 0.24467 -0.07864 0.25393 -0.06614 0.25764 C -0.04496 0.26389 -0.02187 0.26412 -0.00052 0.26528 C 0.03872 0.27199 0.07917 0.27592 0.11806 0.26342 C 0.1224 0.26018 0.12674 0.25717 0.13091 0.25393 C 0.13577 0.25023 0.14514 0.24236 0.14514 0.24259 C 0.15625 0.21805 0.1599 0.19259 0.16667 0.1662 C 0.16528 0.14028 0.16528 0.11389 0.16233 0.08819 C 0.16146 0.08032 0.15591 0.07454 0.15382 0.06713 C 0.15278 0.06342 0.15087 0.05393 0.14948 0.05185 C 0.14757 0.04884 0.1349 0.04421 0.13091 0.04236 C 0.11997 0.03171 0.12882 0.03866 0.10816 0.03287 C 0.08733 0.02708 0.06806 0.02315 0.0467 0.02153 C 0.01789 0.01551 -0.00642 0.01643 -0.03628 0.01759 C -0.04288 0.02153 -0.05034 0.02477 -0.05486 0.03287 C -0.06632 0.05301 -0.06892 0.08032 -0.07482 0.10347 C -0.07378 0.11666 -0.0743 0.13032 -0.07187 0.14329 C -0.07135 0.14629 -0.06736 0.14629 -0.06614 0.14907 C -0.05868 0.16504 -0.0559 0.18588 -0.04913 0.20254 C -0.03507 0.23727 -0.05139 0.18912 -0.03906 0.22731 C -0.03541 0.25671 -0.02795 0.2706 -0.0177 0.29954 C 0.01285 0.38541 0.08525 0.45231 0.15243 0.4787 C 0.16389 0.4831 0.17761 0.48426 0.18959 0.48634 C 0.22848 0.48495 0.26476 0.48518 0.30087 0.46528 C 0.30573 0.45879 0.30834 0.45162 0.31233 0.44444 C 0.3158 0.41597 0.31997 0.38565 0.30243 0.3662 C 0.2882 0.35023 0.29358 0.35347 0.28386 0.34907 C 0.27587 0.33912 0.26736 0.34421 0.2566 0.34537 C 0.25174 0.34699 0.24618 0.34791 0.24236 0.35301 C 0.24063 0.35532 0.23993 0.35879 0.23802 0.36065 C 0.23594 0.36273 0.23316 0.36273 0.23091 0.36435 C 0.22448 0.36898 0.22361 0.37037 0.21945 0.37569 C 0.21476 0.40162 0.21493 0.41504 0.21945 0.44815 C 0.2224 0.46967 0.225 0.46204 0.23091 0.47291 C 0.23768 0.48541 0.24306 0.49977 0.25087 0.51111 C 0.25348 0.51481 0.25695 0.5169 0.25955 0.5206 C 0.26806 0.53264 0.26424 0.53379 0.27379 0.54329 C 0.27691 0.54629 0.28073 0.54791 0.28386 0.55092 C 0.30035 0.56759 0.31493 0.58796 0.33386 0.60046 C 0.35782 0.61643 0.38733 0.62199 0.41372 0.62338 C 0.43334 0.6243 0.45278 0.62454 0.4724 0.62523 C 0.48924 0.62384 0.49393 0.62893 0.50243 0.61389 C 0.50764 0.58565 0.49844 0.63264 0.50816 0.59676 C 0.51302 0.57847 0.51302 0.55717 0.51945 0.53958 C 0.52084 0.53148 0.52084 0.52291 0.5224 0.51481 C 0.52379 0.50764 0.52778 0.50185 0.52813 0.49398 C 0.52848 0.48449 0.52813 0.47477 0.52813 0.46528 E">
                                      <p:cBhvr>
                                        <p:cTn id="38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2:39:2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04:55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