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9420-A594-4E6F-8FFE-9ACF4B5B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6AEE-E3B4-4A3E-B606-6BE2DA26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CB739-E6FC-4139-A4A1-9263D0E6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1052C-0EB6-402C-90A6-4887A9DF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0FB6A-8BC6-401B-BCEA-BD143813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32062-844F-457C-9CA7-2F12BD40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DA6FF-4512-4552-89FC-44198DD2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52D72-3602-4A0F-A04C-BDC0F850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74B0D-BC9B-4F5E-B18F-0A80E3A4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9CB30-2C60-4784-9AF5-D1133173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685B7-9867-4CAA-9B8C-B552AAC4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EF7C0-58E0-4F2F-8CED-521EF3AB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EE1-4A0A-49B3-A011-2ABDE25C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19399-280F-45D6-BBB8-75C28DAC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8119B-A6B6-4266-93C4-27B6A968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13857-0878-4B38-BF63-AEFBA698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BD3E9-87B0-4A3E-AF46-A9D8885E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D8881-77E7-4EFB-8A2E-7CD26FA5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33853-05CB-4554-A68F-D046AED5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B8EDE-D182-45B5-AB23-9269C046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20823-925E-4631-8E90-F39B902E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23DCA-7B90-44FB-B121-2E7FC968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3D4A6-DA7F-4485-AAE6-D457F907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F810-42E7-474E-BB9D-7D0A4B95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E75C9-229C-4566-98D8-95387952D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29F89-9618-4B74-867F-039C61C2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A3C55-1EB5-41A5-A1A7-D4269A8B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DDEB0-6790-486C-A4AD-AE9A3408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9D95D-9877-4732-8C00-28DBAF67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0A131-3779-4E01-AF84-ABF8B17C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3C83F-B447-497C-8626-C3741FE7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940A5-0EB9-4BC4-B947-BC94B2F4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24E7A-BB30-4EA0-8A31-B314F95F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01A5B-CA00-4753-B46E-39B7AC62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6B5A-D4A6-4D7A-A5E5-DE8739D2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F464A-DB1B-4ACB-9B4B-FF5ACE75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16C45-B59E-4836-B920-BEA87E10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F8616-8CEF-4BD3-A24B-BB7E35F4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CDD17-A657-4BF7-B81C-9DCAD46C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2855F-6CAA-4741-9DE6-D4A0D19B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D95BF-8E70-4785-AD16-AD92B240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E1729-16EE-47D4-9A6A-BF709EDD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93EEC-76DA-493E-BA10-F822192C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5363B-76BC-4C4F-AB24-1D587C2F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B968C-7422-432F-B438-8590C58B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9530-695A-4429-BC8C-8A22F5E0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A4AC0-B0DC-4482-AD05-A4F74700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0F8CC-2479-4FBD-8D15-D5E51EC2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BFE0E-4F16-4BF5-ADDF-E6BCEB47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86918-AB76-4F84-80B5-B94D753E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E5839-E6F1-484B-9713-B6B1B6C4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6BD0EF-FAC5-4C98-8C82-1821C1EE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DFE810-CDEE-499B-9AA2-EDB25E7F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C69C16-3B43-4CBD-BE3B-C8B892C5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965A66-CBE7-46CC-9C10-65EC9CDC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9759C-5E19-4459-B55E-378CD54D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340E-DFC7-4520-BFF0-E71C72B3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6BEC84-C7F7-4764-BD98-2B91311E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2BA2EA-EE2E-429A-B2A6-593DF93B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6210D6-7CA0-43AA-ACC4-FD302CA1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039E99-81E5-4BDA-BD13-44AE5361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768EEC-D190-4154-8ABE-DD71C804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A98D64-A6B1-4A4B-AC1F-3C354A22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99736E-744B-40D2-A45B-CB916CAF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2E43-A583-42B7-8D49-17D27DF2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EA93-EFF5-4EAE-BD30-4CD18C3D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6C5D-4F14-49D6-852D-EE299CC9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AE94-E254-43E7-9E93-F63CAD1D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CFC6-EA1A-4B46-83D4-41227D4A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EE0F-560F-44E6-AE47-AA7A66EC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FE14-6319-40A1-A0AA-486DE71F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5F20-CED0-4115-B622-D58A2100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5731-226E-4673-8B33-C39981A3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73E8-E779-4112-9217-D1FE024A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525D1-002C-4871-972C-3FCCC5EC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81527-211F-4FBC-8E98-59755F01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38E76-9309-4E51-9464-51E70CCD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7C2F3-56F6-4F62-85F2-BD754A7C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972E3-76EF-456C-9B58-C0317BC4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1130-E7B5-4AA1-910A-90EF381B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A8F47-8259-412C-9507-2A19197E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C9D81-C6CA-4CD6-A9F0-7198AEA6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5295F-C5D6-4F92-A166-7227183D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83999-427E-4A42-89B8-93404D44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76206-BF1B-418A-9A0C-21CEA0A9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B2DB4-3296-4325-AD33-E485088D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7B941-F0BA-4B9E-901F-EBB3B467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70F6C-2F58-4CF1-BB8F-8073F6D9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919BD-2016-4543-AF8B-7CB33399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21695-97FE-4A6E-AEA2-25C7CB09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9CDA-E115-466F-B4AA-3E912042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47EAF-B669-4EFB-80F3-4AE7CA3D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D3F9E-4528-48D4-909C-91EA8C23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B82B9-9867-4701-8337-0B05A604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386D7-D840-4E60-9F60-F6EF4BCA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6D9D3-CAF5-4FC6-A0EF-F7785444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BE2A7-081C-4AA8-A85F-31E7EBA4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D3A89-21A8-4522-A515-232DE006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6CE35-090D-443D-8E81-6667D4A3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4176B-0147-4AB2-A121-E8985BB7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0EFF3-D8B1-4769-9FA1-16581E0A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1B9B-B335-4918-9423-8CE7D85E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39101-4C5F-4F2A-A440-D2FE63F4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1002B-88DE-49DB-BC40-103A7016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7870F-509D-4A45-8D7E-394251E4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F0792-EA45-48BE-8F6E-1C35A984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27913-B03C-4472-B6E1-CA326CD8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C2F4D-DDB7-490A-9807-8274AAD4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26C60-DD24-4B75-B926-0AB3607F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435C2-6A2E-493F-8DAC-7E1B33CF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16143-9FD6-4203-9EDC-73B779EE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B2D66-8C5D-462A-B72F-A86D0F0D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9C50-A37E-4850-9FA5-2E91B8A6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875FE-6CCF-45F2-B23C-E316BA6F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43208-E390-4564-AE6A-31E8735E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C5178-3BD9-4B92-A4EE-361872F2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F817C-0772-4F13-978B-7C7BD844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F1AD2-8553-4478-94EC-55F53EEB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64A70-AE24-48EB-B368-46E22E58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F15A4-CFC9-4724-9F13-77973719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CE1B1-16E8-459B-B555-BD67F6AA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969C3-9316-452D-A37C-D71DA336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28F52-A991-46AF-A7B9-09C78181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C05D-7E8F-45AE-95A9-20DAAADF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8EBE0-19A5-4506-A696-CBF7EF7D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993CB-F767-43C6-9F74-2AB0121C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18E87-7830-4424-B09A-21611FA6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A612F-22AE-4FA4-9ECC-935A9259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E497E-5210-4D2C-91ED-8E70103C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7D093-D4EE-435C-90F3-FE7345C5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F5B48-7B1A-42E6-AC1B-15C17FD5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57DCD-264C-417D-A4C8-A2EE07FE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8D0D5-1FE5-4502-80BF-A0529973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B4A9A-A200-4D4C-82FC-D383CC02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0919-9B8E-4C69-9F67-1506C5E5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7EAE3-BBFA-4D5A-A7A6-30E74AE9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C472A-7172-403B-822F-B760097C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BD75B-CB04-4D0B-96FB-E413E724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F9339-124D-4161-98B9-D63F8873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A44B6-AD7E-4D89-9476-20A0F828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91D58-4DD3-40AD-93CE-FD862842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8283D-01F5-4361-8F67-1AC02A27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0F02C-CE70-471C-ADE1-009C99B6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B26AA-31E5-4B5B-91B4-56E7CFCC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7A025-9DDA-4C00-98D4-63725855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3883-39C4-453E-B1FB-CC5F8363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24E1E-09D0-4627-9A2E-6D3B0D3E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FF296-068D-4C98-B81C-36E652C6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DF71D-E866-4CA3-B0AE-29E7588B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E3BE4-DDDB-40D0-A1A2-448F6C05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4D5AE-226E-44D0-B8E6-78D1B761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E45CD-B706-40B5-9675-09CC05EC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1D8A9-A025-499E-AB34-87BC1DC7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70872-F45F-4C92-93E2-5E55382A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6187F-F028-4E69-96EF-765EF492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57613-FE1B-474F-9DDD-BE9F158E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E8E5-0F06-4624-9376-99E864F0FC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BC34-D63D-4729-A795-F167616EE11C}" type="slidenum">
              <a: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A94C-9AA7-4DF5-862A-2EC787D365B8}" type="slidenum">
              <a: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D335-45CD-4F88-9227-518E28920340}" type="slidenum">
              <a: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D8FE-82C0-457D-94AF-95F4F5825638}" type="slidenum">
              <a: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4F9C-F79F-493A-BEE8-AD58A0EFE41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62EB-CEB6-4831-84A3-2EE067EBE2FC}" type="slidenum">
              <a: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A44A-B8ED-460D-86BD-76D18EFEBED6}" type="slidenum">
              <a: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7865-07F7-4BDA-AFA6-9BEA6C0EDB77}" type="slidenum">
              <a: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70A8-B813-4C9B-A1C9-8530CCA52BD8}" type="slidenum">
              <a: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CF0B-46B6-479A-872A-10BBE7E2850C}" type="slidenum">
              <a: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D086-6978-473A-98C5-84D9FC8DDAAB}" type="slidenum">
              <a: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9B56-45A1-46E7-80CD-FC3BA782ED88}" type="slidenum">
              <a: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2516040" y="168120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</a:rPr>
              <a:t>口算乘法</a:t>
            </a:r>
            <a:endParaRPr b="1" lang="en-US" sz="7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534" name="矩形 5"/>
          <p:cNvSpPr/>
          <p:nvPr/>
        </p:nvSpPr>
        <p:spPr>
          <a:xfrm>
            <a:off x="2590920" y="3933720"/>
            <a:ext cx="403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2ec2"/>
              </a:solidFill>
              <a:latin typeface="楷体_GB2312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3" descr="ds知识拓展"/>
          <p:cNvPicPr/>
          <p:nvPr/>
        </p:nvPicPr>
        <p:blipFill>
          <a:blip r:embed="rId1"/>
          <a:stretch/>
        </p:blipFill>
        <p:spPr>
          <a:xfrm>
            <a:off x="838080" y="1066680"/>
            <a:ext cx="2133720" cy="52560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7"/>
          <p:cNvSpPr/>
          <p:nvPr/>
        </p:nvSpPr>
        <p:spPr>
          <a:xfrm>
            <a:off x="1066680" y="1657440"/>
            <a:ext cx="28958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2ec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002ec2"/>
                </a:solidFill>
                <a:latin typeface="楷体_GB2312"/>
              </a:rPr>
              <a:t>算一算 </a:t>
            </a: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630" name="Rectangle 9"/>
          <p:cNvSpPr/>
          <p:nvPr/>
        </p:nvSpPr>
        <p:spPr>
          <a:xfrm>
            <a:off x="3124080" y="2590920"/>
            <a:ext cx="4343400" cy="22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ec2"/>
                </a:solidFill>
                <a:latin typeface="Arial"/>
                <a:ea typeface="宋体"/>
              </a:rPr>
              <a:t>     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  <a:ea typeface="宋体"/>
              </a:rPr>
              <a:t>9×99</a:t>
            </a:r>
            <a:endParaRPr b="1" lang="en-US" sz="2600" spc="-1" strike="noStrike">
              <a:solidFill>
                <a:srgbClr val="002ec2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Arial"/>
                <a:ea typeface="宋体"/>
              </a:rPr>
              <a:t>＝ </a:t>
            </a:r>
            <a:r>
              <a:rPr b="1" lang="en-US" sz="2600" spc="-1" strike="noStrike">
                <a:solidFill>
                  <a:srgbClr val="002ec2"/>
                </a:solidFill>
                <a:latin typeface="Arial"/>
                <a:ea typeface="宋体"/>
              </a:rPr>
              <a:t>9 × </a:t>
            </a:r>
            <a:r>
              <a:rPr b="1" lang="zh-CN" sz="2600" spc="-1" strike="noStrike">
                <a:solidFill>
                  <a:srgbClr val="002ec2"/>
                </a:solidFill>
                <a:latin typeface="Arial"/>
                <a:ea typeface="宋体"/>
              </a:rPr>
              <a:t>（</a:t>
            </a:r>
            <a:r>
              <a:rPr b="1" lang="en-US" sz="2600" spc="-1" strike="noStrike">
                <a:solidFill>
                  <a:srgbClr val="002ec2"/>
                </a:solidFill>
                <a:latin typeface="Arial"/>
                <a:ea typeface="宋体"/>
              </a:rPr>
              <a:t>100</a:t>
            </a:r>
            <a:r>
              <a:rPr b="1" lang="zh-CN" sz="2600" spc="-1" strike="noStrike">
                <a:solidFill>
                  <a:srgbClr val="002ec2"/>
                </a:solidFill>
                <a:latin typeface="Arial"/>
                <a:ea typeface="宋体"/>
              </a:rPr>
              <a:t>－</a:t>
            </a:r>
            <a:r>
              <a:rPr b="1" lang="en-US" sz="2600" spc="-1" strike="noStrike">
                <a:solidFill>
                  <a:srgbClr val="002ec2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2ec2"/>
                </a:solidFill>
                <a:latin typeface="Arial"/>
                <a:ea typeface="宋体"/>
              </a:rPr>
              <a:t>）</a:t>
            </a:r>
            <a:endParaRPr b="1" lang="en-US" sz="2600" spc="-1" strike="noStrike">
              <a:solidFill>
                <a:srgbClr val="002ec2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Arial"/>
                <a:ea typeface="宋体"/>
              </a:rPr>
              <a:t>＝ </a:t>
            </a:r>
            <a:r>
              <a:rPr b="1" lang="en-US" sz="2600" spc="-1" strike="noStrike">
                <a:solidFill>
                  <a:srgbClr val="002ec2"/>
                </a:solidFill>
                <a:latin typeface="Arial"/>
                <a:ea typeface="宋体"/>
              </a:rPr>
              <a:t>900</a:t>
            </a:r>
            <a:r>
              <a:rPr b="1" lang="zh-CN" sz="2600" spc="-1" strike="noStrike">
                <a:solidFill>
                  <a:srgbClr val="002ec2"/>
                </a:solidFill>
                <a:latin typeface="Arial"/>
                <a:ea typeface="宋体"/>
              </a:rPr>
              <a:t>－</a:t>
            </a:r>
            <a:r>
              <a:rPr b="1" lang="en-US" sz="2600" spc="-1" strike="noStrike">
                <a:solidFill>
                  <a:srgbClr val="002ec2"/>
                </a:solidFill>
                <a:latin typeface="Arial"/>
                <a:ea typeface="宋体"/>
              </a:rPr>
              <a:t>9</a:t>
            </a:r>
            <a:endParaRPr b="1" lang="en-US" sz="2600" spc="-1" strike="noStrike">
              <a:solidFill>
                <a:srgbClr val="002ec2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Arial"/>
                <a:ea typeface="宋体"/>
              </a:rPr>
              <a:t>＝ </a:t>
            </a:r>
            <a:r>
              <a:rPr b="1" lang="en-US" sz="2600" spc="-1" strike="noStrike">
                <a:solidFill>
                  <a:srgbClr val="002ec2"/>
                </a:solidFill>
                <a:latin typeface="Arial"/>
                <a:ea typeface="宋体"/>
              </a:rPr>
              <a:t>891</a:t>
            </a:r>
            <a:endParaRPr b="1" lang="en-US" sz="2600" spc="-1" strike="noStrike">
              <a:solidFill>
                <a:srgbClr val="002ec2"/>
              </a:solidFill>
              <a:latin typeface="楷体_GB2312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矩形 4"/>
          <p:cNvSpPr/>
          <p:nvPr/>
        </p:nvSpPr>
        <p:spPr>
          <a:xfrm>
            <a:off x="1573200" y="4329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1" lang="en-US" sz="1100" spc="-1" strike="noStrike">
              <a:solidFill>
                <a:srgbClr val="002ec2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1" lang="en-US" sz="1100" spc="-1" strike="noStrike">
              <a:solidFill>
                <a:srgbClr val="002ec2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1" lang="en-US" sz="1100" spc="-1" strike="noStrike">
              <a:solidFill>
                <a:srgbClr val="002ec2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1" lang="en-US" sz="1100" spc="-1" strike="noStrike">
              <a:solidFill>
                <a:srgbClr val="002ec2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1" lang="en-US" sz="1100" spc="-1" strike="noStrike">
              <a:solidFill>
                <a:srgbClr val="002ec2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1" lang="en-US" sz="1100" spc="-1" strike="noStrike">
              <a:solidFill>
                <a:srgbClr val="002ec2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1" lang="en-US" sz="1100" spc="-1" strike="noStrike">
              <a:solidFill>
                <a:srgbClr val="002ec2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1" lang="en-US" sz="1100" spc="-1" strike="noStrike">
              <a:solidFill>
                <a:srgbClr val="002ec2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1" lang="en-US" sz="11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632" name="Rectangle 17"/>
          <p:cNvSpPr/>
          <p:nvPr/>
        </p:nvSpPr>
        <p:spPr>
          <a:xfrm>
            <a:off x="0" y="270972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pic>
        <p:nvPicPr>
          <p:cNvPr id="633" name="图片 9" descr=""/>
          <p:cNvPicPr/>
          <p:nvPr/>
        </p:nvPicPr>
        <p:blipFill>
          <a:blip r:embed="rId20"/>
          <a:stretch/>
        </p:blipFill>
        <p:spPr>
          <a:xfrm>
            <a:off x="1652760" y="349200"/>
            <a:ext cx="5581440" cy="1943280"/>
          </a:xfrm>
          <a:prstGeom prst="rect">
            <a:avLst/>
          </a:prstGeom>
          <a:ln w="0">
            <a:noFill/>
          </a:ln>
        </p:spPr>
      </p:pic>
      <p:sp>
        <p:nvSpPr>
          <p:cNvPr id="634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1" lang="en-US" sz="2000" spc="-1" strike="noStrike">
              <a:solidFill>
                <a:srgbClr val="002ec2"/>
              </a:solidFill>
              <a:latin typeface="楷体_GB2312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1" lang="en-US" sz="1200" spc="-1" strike="noStrike">
              <a:solidFill>
                <a:srgbClr val="002ec2"/>
              </a:solidFill>
              <a:latin typeface="楷体_GB2312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1" lang="en-US" sz="1200" spc="-1" strike="noStrike">
              <a:solidFill>
                <a:srgbClr val="002ec2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1" lang="en-US" sz="2000" spc="-1" strike="noStrike">
              <a:solidFill>
                <a:srgbClr val="002ec2"/>
              </a:solidFill>
              <a:latin typeface="楷体_GB2312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1" lang="en-US" sz="1200" spc="-1" strike="noStrike">
              <a:solidFill>
                <a:srgbClr val="002ec2"/>
              </a:solidFill>
              <a:latin typeface="楷体_GB2312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1" lang="en-US" sz="1200" spc="-1" strike="noStrike">
              <a:solidFill>
                <a:srgbClr val="002ec2"/>
              </a:solidFill>
              <a:latin typeface="楷体_GB2312"/>
            </a:endParaRPr>
          </a:p>
        </p:txBody>
      </p:sp>
      <p:pic>
        <p:nvPicPr>
          <p:cNvPr id="636" name="Picture 10" descr="png-0644"/>
          <p:cNvPicPr/>
          <p:nvPr/>
        </p:nvPicPr>
        <p:blipFill>
          <a:blip r:embed="rId21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11" descr="png-0652"/>
          <p:cNvPicPr/>
          <p:nvPr/>
        </p:nvPicPr>
        <p:blipFill>
          <a:blip r:embed="rId22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2ec2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64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3F73-D3B5-40F3-92AB-DB4354C10D3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2ec2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矩形 7"/>
          <p:cNvSpPr/>
          <p:nvPr/>
        </p:nvSpPr>
        <p:spPr>
          <a:xfrm>
            <a:off x="1763640" y="249228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2ec2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2ec2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2ec2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2ec2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2ec2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2ec2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2ec2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2ec2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536" name="Text Box 46"/>
          <p:cNvSpPr/>
          <p:nvPr/>
        </p:nvSpPr>
        <p:spPr>
          <a:xfrm>
            <a:off x="3200400" y="55767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邮递员叔叔送信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  <p:pic>
        <p:nvPicPr>
          <p:cNvPr id="537" name="Picture 47" descr="ds情境创设"/>
          <p:cNvPicPr/>
          <p:nvPr/>
        </p:nvPicPr>
        <p:blipFill>
          <a:blip r:embed="rId1"/>
          <a:stretch/>
        </p:blipFill>
        <p:spPr>
          <a:xfrm>
            <a:off x="685800" y="971640"/>
            <a:ext cx="2327400" cy="7048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1" descr="01"/>
          <p:cNvPicPr/>
          <p:nvPr/>
        </p:nvPicPr>
        <p:blipFill>
          <a:blip r:embed="rId2"/>
          <a:stretch/>
        </p:blipFill>
        <p:spPr>
          <a:xfrm>
            <a:off x="914400" y="1762200"/>
            <a:ext cx="7086600" cy="3647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3" descr="ds情境创设"/>
          <p:cNvPicPr/>
          <p:nvPr/>
        </p:nvPicPr>
        <p:blipFill>
          <a:blip r:embed="rId1"/>
          <a:stretch/>
        </p:blipFill>
        <p:spPr>
          <a:xfrm>
            <a:off x="685800" y="971640"/>
            <a:ext cx="2327400" cy="70488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8"/>
          <p:cNvSpPr/>
          <p:nvPr/>
        </p:nvSpPr>
        <p:spPr>
          <a:xfrm>
            <a:off x="1447920" y="5607000"/>
            <a:ext cx="281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  <a:ea typeface="宋体"/>
              </a:rPr>
              <a:t>10×60</a:t>
            </a:r>
            <a:r>
              <a:rPr b="1" lang="zh-CN" sz="2600" spc="-1" strike="noStrike">
                <a:solidFill>
                  <a:srgbClr val="008000"/>
                </a:solidFill>
                <a:latin typeface="Arial"/>
                <a:ea typeface="宋体"/>
              </a:rPr>
              <a:t>＝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  <a:ea typeface="宋体"/>
              </a:rPr>
              <a:t>600</a:t>
            </a:r>
            <a:endParaRPr b="1" lang="en-US" sz="26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541" name="Text Box 9"/>
          <p:cNvSpPr/>
          <p:nvPr/>
        </p:nvSpPr>
        <p:spPr>
          <a:xfrm>
            <a:off x="5105520" y="5592600"/>
            <a:ext cx="27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  <a:ea typeface="宋体"/>
              </a:rPr>
              <a:t>30×60</a:t>
            </a:r>
            <a:r>
              <a:rPr b="1" lang="zh-CN" sz="2600" spc="-1" strike="noStrike">
                <a:solidFill>
                  <a:srgbClr val="008000"/>
                </a:solidFill>
                <a:latin typeface="Arial"/>
                <a:ea typeface="宋体"/>
              </a:rPr>
              <a:t>＝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  <a:ea typeface="宋体"/>
              </a:rPr>
              <a:t>1800</a:t>
            </a:r>
            <a:endParaRPr b="1" lang="en-US" sz="2600" spc="-1" strike="noStrike">
              <a:solidFill>
                <a:srgbClr val="002ec2"/>
              </a:solidFill>
              <a:latin typeface="楷体_GB2312"/>
            </a:endParaRPr>
          </a:p>
        </p:txBody>
      </p:sp>
      <p:grpSp>
        <p:nvGrpSpPr>
          <p:cNvPr id="542" name="Group 18"/>
          <p:cNvGrpSpPr/>
          <p:nvPr/>
        </p:nvGrpSpPr>
        <p:grpSpPr>
          <a:xfrm>
            <a:off x="1143000" y="1523880"/>
            <a:ext cx="3048120" cy="1404360"/>
            <a:chOff x="1143000" y="1523880"/>
            <a:chExt cx="3048120" cy="1404360"/>
          </a:xfrm>
        </p:grpSpPr>
        <p:sp>
          <p:nvSpPr>
            <p:cNvPr id="543" name="Text Box 2"/>
            <p:cNvSpPr/>
            <p:nvPr/>
          </p:nvSpPr>
          <p:spPr>
            <a:xfrm>
              <a:off x="1143000" y="1523880"/>
              <a:ext cx="3048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邮递员工作</a:t>
              </a:r>
              <a:r>
                <a:rPr b="1" lang="en-US" sz="2800" spc="-1" strike="noStrike">
                  <a:solidFill>
                    <a:srgbClr val="002ec2"/>
                  </a:solidFill>
                  <a:latin typeface="楷体_GB2312"/>
                </a:rPr>
                <a:t>10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天，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要送多少份报纸？ 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544" name="Text Box 7"/>
            <p:cNvSpPr/>
            <p:nvPr/>
          </p:nvSpPr>
          <p:spPr>
            <a:xfrm>
              <a:off x="1219320" y="2438280"/>
              <a:ext cx="1828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  <a:ea typeface="宋体"/>
                </a:rPr>
                <a:t>300×10</a:t>
              </a:r>
              <a:r>
                <a:rPr b="1" lang="zh-CN" sz="2600" spc="-1" strike="noStrike">
                  <a:solidFill>
                    <a:srgbClr val="008000"/>
                  </a:solidFill>
                  <a:latin typeface="Arial"/>
                  <a:ea typeface="宋体"/>
                </a:rPr>
                <a:t>＝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545" name="Line 14"/>
            <p:cNvSpPr/>
            <p:nvPr/>
          </p:nvSpPr>
          <p:spPr>
            <a:xfrm>
              <a:off x="2895480" y="2819520"/>
              <a:ext cx="990720" cy="0"/>
            </a:xfrm>
            <a:prstGeom prst="line">
              <a:avLst/>
            </a:prstGeom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grpSp>
        <p:nvGrpSpPr>
          <p:cNvPr id="546" name="Group 19"/>
          <p:cNvGrpSpPr/>
          <p:nvPr/>
        </p:nvGrpSpPr>
        <p:grpSpPr>
          <a:xfrm>
            <a:off x="4952880" y="1523880"/>
            <a:ext cx="3048120" cy="1404360"/>
            <a:chOff x="4952880" y="1523880"/>
            <a:chExt cx="3048120" cy="1404360"/>
          </a:xfrm>
        </p:grpSpPr>
        <p:sp>
          <p:nvSpPr>
            <p:cNvPr id="547" name="Text Box 4"/>
            <p:cNvSpPr/>
            <p:nvPr/>
          </p:nvSpPr>
          <p:spPr>
            <a:xfrm>
              <a:off x="4952880" y="1523880"/>
              <a:ext cx="3048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工作</a:t>
              </a:r>
              <a:r>
                <a:rPr b="1" lang="en-US" sz="2800" spc="-1" strike="noStrike">
                  <a:solidFill>
                    <a:srgbClr val="002ec2"/>
                  </a:solidFill>
                  <a:latin typeface="楷体_GB2312"/>
                </a:rPr>
                <a:t>30</a:t>
              </a: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天，要送多少份报纸？ 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548" name="Text Box 10"/>
            <p:cNvSpPr/>
            <p:nvPr/>
          </p:nvSpPr>
          <p:spPr>
            <a:xfrm>
              <a:off x="5105520" y="2438280"/>
              <a:ext cx="1828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  <a:ea typeface="宋体"/>
                </a:rPr>
                <a:t>300×30</a:t>
              </a:r>
              <a:r>
                <a:rPr b="1" lang="zh-CN" sz="2600" spc="-1" strike="noStrike">
                  <a:solidFill>
                    <a:srgbClr val="008000"/>
                  </a:solidFill>
                  <a:latin typeface="Arial"/>
                  <a:ea typeface="宋体"/>
                </a:rPr>
                <a:t>＝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549" name="Line 15"/>
            <p:cNvSpPr/>
            <p:nvPr/>
          </p:nvSpPr>
          <p:spPr>
            <a:xfrm>
              <a:off x="6781680" y="2819520"/>
              <a:ext cx="990720" cy="0"/>
            </a:xfrm>
            <a:prstGeom prst="line">
              <a:avLst/>
            </a:prstGeom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grpSp>
        <p:nvGrpSpPr>
          <p:cNvPr id="550" name="Group 20"/>
          <p:cNvGrpSpPr/>
          <p:nvPr/>
        </p:nvGrpSpPr>
        <p:grpSpPr>
          <a:xfrm>
            <a:off x="1295280" y="5119560"/>
            <a:ext cx="3048120" cy="914400"/>
            <a:chOff x="1295280" y="5119560"/>
            <a:chExt cx="3048120" cy="914400"/>
          </a:xfrm>
        </p:grpSpPr>
        <p:sp>
          <p:nvSpPr>
            <p:cNvPr id="551" name="Text Box 5"/>
            <p:cNvSpPr/>
            <p:nvPr/>
          </p:nvSpPr>
          <p:spPr>
            <a:xfrm>
              <a:off x="1295280" y="51195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要送多少封信？ 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552" name="Line 16"/>
            <p:cNvSpPr/>
            <p:nvPr/>
          </p:nvSpPr>
          <p:spPr>
            <a:xfrm>
              <a:off x="1371600" y="6033960"/>
              <a:ext cx="2286000" cy="0"/>
            </a:xfrm>
            <a:prstGeom prst="line">
              <a:avLst/>
            </a:prstGeom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grpSp>
        <p:nvGrpSpPr>
          <p:cNvPr id="553" name="Group 21"/>
          <p:cNvGrpSpPr/>
          <p:nvPr/>
        </p:nvGrpSpPr>
        <p:grpSpPr>
          <a:xfrm>
            <a:off x="5029200" y="5105520"/>
            <a:ext cx="3048120" cy="914400"/>
            <a:chOff x="5029200" y="5105520"/>
            <a:chExt cx="3048120" cy="914400"/>
          </a:xfrm>
        </p:grpSpPr>
        <p:sp>
          <p:nvSpPr>
            <p:cNvPr id="554" name="Text Box 6"/>
            <p:cNvSpPr/>
            <p:nvPr/>
          </p:nvSpPr>
          <p:spPr>
            <a:xfrm>
              <a:off x="5029200" y="51055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楷体_GB2312"/>
                </a:rPr>
                <a:t>要送多少封信？ 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555" name="Line 17"/>
            <p:cNvSpPr/>
            <p:nvPr/>
          </p:nvSpPr>
          <p:spPr>
            <a:xfrm>
              <a:off x="5105520" y="6019920"/>
              <a:ext cx="2286000" cy="0"/>
            </a:xfrm>
            <a:prstGeom prst="line">
              <a:avLst/>
            </a:prstGeom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pic>
        <p:nvPicPr>
          <p:cNvPr id="556" name="Picture 22" descr="02"/>
          <p:cNvPicPr/>
          <p:nvPr/>
        </p:nvPicPr>
        <p:blipFill>
          <a:blip r:embed="rId2"/>
          <a:stretch/>
        </p:blipFill>
        <p:spPr>
          <a:xfrm>
            <a:off x="838080" y="3429000"/>
            <a:ext cx="1225800" cy="17524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3" descr="03"/>
          <p:cNvPicPr/>
          <p:nvPr/>
        </p:nvPicPr>
        <p:blipFill>
          <a:blip r:embed="rId3"/>
          <a:stretch/>
        </p:blipFill>
        <p:spPr>
          <a:xfrm>
            <a:off x="6934320" y="3429000"/>
            <a:ext cx="1423800" cy="1685880"/>
          </a:xfrm>
          <a:prstGeom prst="rect">
            <a:avLst/>
          </a:prstGeom>
          <a:ln w="0">
            <a:noFill/>
          </a:ln>
        </p:spPr>
      </p:pic>
      <p:grpSp>
        <p:nvGrpSpPr>
          <p:cNvPr id="558" name="Group 34"/>
          <p:cNvGrpSpPr/>
          <p:nvPr/>
        </p:nvGrpSpPr>
        <p:grpSpPr>
          <a:xfrm>
            <a:off x="1752480" y="3048120"/>
            <a:ext cx="2590920" cy="1066680"/>
            <a:chOff x="1752480" y="3048120"/>
            <a:chExt cx="2590920" cy="1066680"/>
          </a:xfrm>
        </p:grpSpPr>
        <p:sp>
          <p:nvSpPr>
            <p:cNvPr id="559" name="AutoShape 26"/>
            <p:cNvSpPr/>
            <p:nvPr/>
          </p:nvSpPr>
          <p:spPr>
            <a:xfrm>
              <a:off x="1752480" y="3048120"/>
              <a:ext cx="2590920" cy="1066680"/>
            </a:xfrm>
            <a:prstGeom prst="wedgeEllipseCallout">
              <a:avLst>
                <a:gd name="adj1" fmla="val -51287"/>
                <a:gd name="adj2" fmla="val 58629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buClr>
                  <a:srgbClr val="fff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560" name="Text Box 27"/>
            <p:cNvSpPr/>
            <p:nvPr/>
          </p:nvSpPr>
          <p:spPr>
            <a:xfrm>
              <a:off x="1828800" y="3321000"/>
              <a:ext cx="2514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300×10</a:t>
              </a:r>
              <a:r>
                <a:rPr b="1" lang="zh-CN" sz="2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＝</a:t>
              </a:r>
              <a:r>
                <a:rPr b="1" lang="en-US" sz="2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3000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grpSp>
        <p:nvGrpSpPr>
          <p:cNvPr id="561" name="Group 33"/>
          <p:cNvGrpSpPr/>
          <p:nvPr/>
        </p:nvGrpSpPr>
        <p:grpSpPr>
          <a:xfrm>
            <a:off x="4419720" y="3048120"/>
            <a:ext cx="2743200" cy="1143000"/>
            <a:chOff x="4419720" y="3048120"/>
            <a:chExt cx="2743200" cy="1143000"/>
          </a:xfrm>
        </p:grpSpPr>
        <p:sp>
          <p:nvSpPr>
            <p:cNvPr id="562" name="AutoShape 30"/>
            <p:cNvSpPr/>
            <p:nvPr/>
          </p:nvSpPr>
          <p:spPr>
            <a:xfrm>
              <a:off x="4419720" y="3048120"/>
              <a:ext cx="2743200" cy="1143000"/>
            </a:xfrm>
            <a:prstGeom prst="wedgeEllipseCallout">
              <a:avLst>
                <a:gd name="adj1" fmla="val 59898"/>
                <a:gd name="adj2" fmla="val 36388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buClr>
                  <a:srgbClr val="fff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563" name="Text Box 31"/>
            <p:cNvSpPr/>
            <p:nvPr/>
          </p:nvSpPr>
          <p:spPr>
            <a:xfrm>
              <a:off x="4572000" y="3549600"/>
              <a:ext cx="2514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300×30</a:t>
              </a:r>
              <a:r>
                <a:rPr b="1" lang="zh-CN" sz="2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＝</a:t>
              </a:r>
              <a:r>
                <a:rPr b="1" lang="en-US" sz="2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9000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564" name="Text Box 32"/>
            <p:cNvSpPr/>
            <p:nvPr/>
          </p:nvSpPr>
          <p:spPr>
            <a:xfrm>
              <a:off x="4724280" y="3168720"/>
              <a:ext cx="2210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300×3</a:t>
              </a:r>
              <a:r>
                <a:rPr b="1" lang="zh-CN" sz="2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＝</a:t>
              </a:r>
              <a:r>
                <a:rPr b="1" lang="en-US" sz="2600" spc="-1" strike="noStrike">
                  <a:solidFill>
                    <a:srgbClr val="cc3300"/>
                  </a:solidFill>
                  <a:latin typeface="Arial"/>
                  <a:ea typeface="宋体"/>
                </a:rPr>
                <a:t>900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dur="indefinite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4" descr="ds新知学习"/>
          <p:cNvPicPr/>
          <p:nvPr/>
        </p:nvPicPr>
        <p:blipFill>
          <a:blip r:embed="rId1"/>
          <a:stretch/>
        </p:blipFill>
        <p:spPr>
          <a:xfrm>
            <a:off x="685800" y="990720"/>
            <a:ext cx="2224080" cy="69048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7"/>
          <p:cNvSpPr/>
          <p:nvPr/>
        </p:nvSpPr>
        <p:spPr>
          <a:xfrm>
            <a:off x="1066680" y="1657440"/>
            <a:ext cx="28958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2ec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002ec2"/>
                </a:solidFill>
                <a:latin typeface="楷体_GB2312"/>
              </a:rPr>
              <a:t>做一做 </a:t>
            </a: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567" name="Text Box 17"/>
          <p:cNvSpPr/>
          <p:nvPr/>
        </p:nvSpPr>
        <p:spPr>
          <a:xfrm>
            <a:off x="3276720" y="2482920"/>
            <a:ext cx="76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  <a:ea typeface="宋体"/>
              </a:rPr>
              <a:t>800</a:t>
            </a:r>
            <a:endParaRPr b="1" lang="en-US" sz="26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568" name="Text Box 19"/>
          <p:cNvSpPr/>
          <p:nvPr/>
        </p:nvSpPr>
        <p:spPr>
          <a:xfrm>
            <a:off x="6553080" y="248292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  <a:ea typeface="宋体"/>
              </a:rPr>
              <a:t>1200</a:t>
            </a:r>
            <a:endParaRPr b="1" lang="en-US" sz="26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569" name="Text Box 20"/>
          <p:cNvSpPr/>
          <p:nvPr/>
        </p:nvSpPr>
        <p:spPr>
          <a:xfrm>
            <a:off x="3276720" y="32446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  <a:ea typeface="宋体"/>
              </a:rPr>
              <a:t>2000</a:t>
            </a:r>
            <a:endParaRPr b="1" lang="en-US" sz="26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570" name="Text Box 22"/>
          <p:cNvSpPr/>
          <p:nvPr/>
        </p:nvSpPr>
        <p:spPr>
          <a:xfrm>
            <a:off x="6705720" y="32446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  <a:ea typeface="宋体"/>
              </a:rPr>
              <a:t>14000</a:t>
            </a:r>
            <a:endParaRPr b="1" lang="en-US" sz="2600" spc="-1" strike="noStrike">
              <a:solidFill>
                <a:srgbClr val="002ec2"/>
              </a:solidFill>
              <a:latin typeface="楷体_GB2312"/>
            </a:endParaRPr>
          </a:p>
        </p:txBody>
      </p:sp>
      <p:grpSp>
        <p:nvGrpSpPr>
          <p:cNvPr id="571" name="Group 34"/>
          <p:cNvGrpSpPr/>
          <p:nvPr/>
        </p:nvGrpSpPr>
        <p:grpSpPr>
          <a:xfrm>
            <a:off x="1677960" y="2495520"/>
            <a:ext cx="6246720" cy="2882880"/>
            <a:chOff x="1677960" y="2495520"/>
            <a:chExt cx="6246720" cy="2882880"/>
          </a:xfrm>
        </p:grpSpPr>
        <p:sp>
          <p:nvSpPr>
            <p:cNvPr id="572" name="Text Box 8"/>
            <p:cNvSpPr/>
            <p:nvPr/>
          </p:nvSpPr>
          <p:spPr>
            <a:xfrm>
              <a:off x="1677960" y="2495520"/>
              <a:ext cx="6246720" cy="28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80×10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＝                     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60×20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＝            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50×40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＝                     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700×20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＝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90×90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＝                     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40×80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＝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24×10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＝                     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12×200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＝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573" name="Line 21"/>
            <p:cNvSpPr/>
            <p:nvPr/>
          </p:nvSpPr>
          <p:spPr>
            <a:xfrm>
              <a:off x="3200400" y="3701880"/>
              <a:ext cx="1066680" cy="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574" name="Line 23"/>
            <p:cNvSpPr/>
            <p:nvPr/>
          </p:nvSpPr>
          <p:spPr>
            <a:xfrm>
              <a:off x="6705720" y="3701880"/>
              <a:ext cx="1066680" cy="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575" name="Line 24"/>
            <p:cNvSpPr/>
            <p:nvPr/>
          </p:nvSpPr>
          <p:spPr>
            <a:xfrm>
              <a:off x="3200400" y="2940120"/>
              <a:ext cx="1066680" cy="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576" name="Line 25"/>
            <p:cNvSpPr/>
            <p:nvPr/>
          </p:nvSpPr>
          <p:spPr>
            <a:xfrm>
              <a:off x="6553080" y="2940120"/>
              <a:ext cx="1067040" cy="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577" name="Line 26"/>
            <p:cNvSpPr/>
            <p:nvPr/>
          </p:nvSpPr>
          <p:spPr>
            <a:xfrm>
              <a:off x="3200400" y="4540320"/>
              <a:ext cx="1066680" cy="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578" name="Line 27"/>
            <p:cNvSpPr/>
            <p:nvPr/>
          </p:nvSpPr>
          <p:spPr>
            <a:xfrm>
              <a:off x="6553080" y="4540320"/>
              <a:ext cx="1067040" cy="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579" name="Line 28"/>
            <p:cNvSpPr/>
            <p:nvPr/>
          </p:nvSpPr>
          <p:spPr>
            <a:xfrm>
              <a:off x="3200400" y="5378400"/>
              <a:ext cx="1066680" cy="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580" name="Line 29"/>
            <p:cNvSpPr/>
            <p:nvPr/>
          </p:nvSpPr>
          <p:spPr>
            <a:xfrm>
              <a:off x="6705720" y="5378400"/>
              <a:ext cx="1066680" cy="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sp>
        <p:nvSpPr>
          <p:cNvPr id="581" name="Text Box 30"/>
          <p:cNvSpPr/>
          <p:nvPr/>
        </p:nvSpPr>
        <p:spPr>
          <a:xfrm>
            <a:off x="3200400" y="405144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  <a:ea typeface="宋体"/>
              </a:rPr>
              <a:t>8100</a:t>
            </a:r>
            <a:endParaRPr b="1" lang="en-US" sz="26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582" name="Text Box 31"/>
          <p:cNvSpPr/>
          <p:nvPr/>
        </p:nvSpPr>
        <p:spPr>
          <a:xfrm>
            <a:off x="6629400" y="408312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  <a:ea typeface="宋体"/>
              </a:rPr>
              <a:t>3200</a:t>
            </a:r>
            <a:endParaRPr b="1" lang="en-US" sz="26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583" name="Text Box 32"/>
          <p:cNvSpPr/>
          <p:nvPr/>
        </p:nvSpPr>
        <p:spPr>
          <a:xfrm>
            <a:off x="3352680" y="488952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  <a:ea typeface="宋体"/>
              </a:rPr>
              <a:t>240</a:t>
            </a:r>
            <a:endParaRPr b="1" lang="en-US" sz="26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584" name="Text Box 33"/>
          <p:cNvSpPr/>
          <p:nvPr/>
        </p:nvSpPr>
        <p:spPr>
          <a:xfrm>
            <a:off x="6781680" y="487692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  <a:ea typeface="宋体"/>
              </a:rPr>
              <a:t>2400</a:t>
            </a:r>
            <a:endParaRPr b="1" lang="en-US" sz="26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585" name="文本框 1"/>
          <p:cNvSpPr/>
          <p:nvPr/>
        </p:nvSpPr>
        <p:spPr>
          <a:xfrm>
            <a:off x="387360" y="5619600"/>
            <a:ext cx="951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ec2"/>
                </a:solidFill>
                <a:latin typeface="楷体_GB2312"/>
              </a:rPr>
              <a:t>更多免费</a:t>
            </a:r>
            <a:r>
              <a:rPr b="1" lang="zh-CN" sz="3200" spc="-1" strike="noStrike">
                <a:solidFill>
                  <a:srgbClr val="002ec2"/>
                </a:solidFill>
                <a:latin typeface="楷体_GB2312"/>
              </a:rPr>
              <a:t>PPT</a:t>
            </a:r>
            <a:r>
              <a:rPr b="1" lang="zh-CN" sz="3200" spc="-1" strike="noStrike">
                <a:solidFill>
                  <a:srgbClr val="002ec2"/>
                </a:solidFill>
                <a:latin typeface="楷体_GB2312"/>
              </a:rPr>
              <a:t>模板下载：</a:t>
            </a:r>
            <a:r>
              <a:rPr b="1" lang="zh-CN" sz="3200" spc="-1" strike="noStrike">
                <a:solidFill>
                  <a:srgbClr val="002ec2"/>
                </a:solidFill>
                <a:latin typeface="楷体_GB2312"/>
              </a:rPr>
              <a:t>http://www.eeppt.com</a:t>
            </a: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ds新知学习"/>
          <p:cNvPicPr/>
          <p:nvPr/>
        </p:nvPicPr>
        <p:blipFill>
          <a:blip r:embed="rId1"/>
          <a:stretch/>
        </p:blipFill>
        <p:spPr>
          <a:xfrm>
            <a:off x="685800" y="990720"/>
            <a:ext cx="2224080" cy="6904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2" descr="04"/>
          <p:cNvPicPr/>
          <p:nvPr/>
        </p:nvPicPr>
        <p:blipFill>
          <a:blip r:embed="rId2"/>
          <a:stretch/>
        </p:blipFill>
        <p:spPr>
          <a:xfrm>
            <a:off x="1295280" y="1760400"/>
            <a:ext cx="6477120" cy="418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3" descr="ds新知学习"/>
          <p:cNvPicPr/>
          <p:nvPr/>
        </p:nvPicPr>
        <p:blipFill>
          <a:blip r:embed="rId1"/>
          <a:stretch/>
        </p:blipFill>
        <p:spPr>
          <a:xfrm>
            <a:off x="685800" y="990720"/>
            <a:ext cx="2224080" cy="690480"/>
          </a:xfrm>
          <a:prstGeom prst="rect">
            <a:avLst/>
          </a:prstGeom>
          <a:ln w="0">
            <a:noFill/>
          </a:ln>
        </p:spPr>
      </p:pic>
      <p:grpSp>
        <p:nvGrpSpPr>
          <p:cNvPr id="589" name="Group 26"/>
          <p:cNvGrpSpPr/>
          <p:nvPr/>
        </p:nvGrpSpPr>
        <p:grpSpPr>
          <a:xfrm>
            <a:off x="1981080" y="2890800"/>
            <a:ext cx="5943600" cy="2595600"/>
            <a:chOff x="1981080" y="2890800"/>
            <a:chExt cx="5943600" cy="2595600"/>
          </a:xfrm>
        </p:grpSpPr>
        <p:pic>
          <p:nvPicPr>
            <p:cNvPr id="590" name="Picture 4" descr="05"/>
            <p:cNvPicPr/>
            <p:nvPr/>
          </p:nvPicPr>
          <p:blipFill>
            <a:blip r:embed="rId2"/>
            <a:stretch/>
          </p:blipFill>
          <p:spPr>
            <a:xfrm>
              <a:off x="1981080" y="3652920"/>
              <a:ext cx="1401840" cy="18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5" descr="06"/>
            <p:cNvPicPr/>
            <p:nvPr/>
          </p:nvPicPr>
          <p:blipFill>
            <a:blip r:embed="rId3"/>
            <a:stretch/>
          </p:blipFill>
          <p:spPr>
            <a:xfrm>
              <a:off x="3809880" y="2890800"/>
              <a:ext cx="1325520" cy="20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Picture 6" descr="07"/>
            <p:cNvPicPr/>
            <p:nvPr/>
          </p:nvPicPr>
          <p:blipFill>
            <a:blip r:embed="rId4"/>
            <a:stretch/>
          </p:blipFill>
          <p:spPr>
            <a:xfrm>
              <a:off x="6019920" y="3505320"/>
              <a:ext cx="1904760" cy="190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3" name="Group 22"/>
          <p:cNvGrpSpPr/>
          <p:nvPr/>
        </p:nvGrpSpPr>
        <p:grpSpPr>
          <a:xfrm>
            <a:off x="609480" y="2133720"/>
            <a:ext cx="2667240" cy="1371600"/>
            <a:chOff x="609480" y="2133720"/>
            <a:chExt cx="2667240" cy="1371600"/>
          </a:xfrm>
        </p:grpSpPr>
        <p:sp>
          <p:nvSpPr>
            <p:cNvPr id="594" name="AutoShape 8"/>
            <p:cNvSpPr/>
            <p:nvPr/>
          </p:nvSpPr>
          <p:spPr>
            <a:xfrm>
              <a:off x="609480" y="2133720"/>
              <a:ext cx="2667240" cy="1371600"/>
            </a:xfrm>
            <a:prstGeom prst="wedgeEllipseCallout">
              <a:avLst>
                <a:gd name="adj1" fmla="val 35893"/>
                <a:gd name="adj2" fmla="val 62268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buClr>
                  <a:srgbClr val="fff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595" name="Text Box 9"/>
            <p:cNvSpPr/>
            <p:nvPr/>
          </p:nvSpPr>
          <p:spPr>
            <a:xfrm>
              <a:off x="914400" y="22096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  <a:ea typeface="宋体"/>
                </a:rPr>
                <a:t>    </a:t>
              </a:r>
              <a:r>
                <a:rPr b="1" lang="en-US" sz="2400" spc="-1" strike="noStrike">
                  <a:solidFill>
                    <a:srgbClr val="cc3300"/>
                  </a:solidFill>
                  <a:latin typeface="Arial"/>
                  <a:ea typeface="宋体"/>
                </a:rPr>
                <a:t>18 ≈ 20</a:t>
              </a:r>
              <a:endParaRPr b="1" lang="en-US" sz="24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  <a:ea typeface="宋体"/>
                </a:rPr>
                <a:t>    </a:t>
              </a:r>
              <a:r>
                <a:rPr b="1" lang="en-US" sz="2400" spc="-1" strike="noStrike">
                  <a:solidFill>
                    <a:srgbClr val="cc3300"/>
                  </a:solidFill>
                  <a:latin typeface="Arial"/>
                  <a:ea typeface="宋体"/>
                </a:rPr>
                <a:t>22 ≈ 20</a:t>
              </a:r>
              <a:endParaRPr b="1" lang="en-US" sz="24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  <a:ea typeface="宋体"/>
                </a:rPr>
                <a:t>20 ×20</a:t>
              </a: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宋体"/>
                </a:rPr>
                <a:t>＝</a:t>
              </a:r>
              <a:r>
                <a:rPr b="1" lang="en-US" sz="2400" spc="-1" strike="noStrike">
                  <a:solidFill>
                    <a:srgbClr val="cc3300"/>
                  </a:solidFill>
                  <a:latin typeface="Arial"/>
                  <a:ea typeface="宋体"/>
                </a:rPr>
                <a:t>400</a:t>
              </a:r>
              <a:endParaRPr b="1" lang="en-US" sz="24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grpSp>
        <p:nvGrpSpPr>
          <p:cNvPr id="596" name="Group 16"/>
          <p:cNvGrpSpPr/>
          <p:nvPr/>
        </p:nvGrpSpPr>
        <p:grpSpPr>
          <a:xfrm>
            <a:off x="3352680" y="1523880"/>
            <a:ext cx="2667240" cy="1143000"/>
            <a:chOff x="3352680" y="1523880"/>
            <a:chExt cx="2667240" cy="1143000"/>
          </a:xfrm>
        </p:grpSpPr>
        <p:sp>
          <p:nvSpPr>
            <p:cNvPr id="597" name="AutoShape 14"/>
            <p:cNvSpPr/>
            <p:nvPr/>
          </p:nvSpPr>
          <p:spPr>
            <a:xfrm>
              <a:off x="3352680" y="1523880"/>
              <a:ext cx="2667240" cy="1143000"/>
            </a:xfrm>
            <a:prstGeom prst="wedgeEllipseCallout">
              <a:avLst>
                <a:gd name="adj1" fmla="val -19106"/>
                <a:gd name="adj2" fmla="val 68055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buClr>
                  <a:srgbClr val="fff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598" name="Text Box 15"/>
            <p:cNvSpPr/>
            <p:nvPr/>
          </p:nvSpPr>
          <p:spPr>
            <a:xfrm>
              <a:off x="3657600" y="167616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  <a:ea typeface="宋体"/>
                </a:rPr>
                <a:t>    </a:t>
              </a:r>
              <a:r>
                <a:rPr b="1" lang="en-US" sz="2400" spc="-1" strike="noStrike">
                  <a:solidFill>
                    <a:srgbClr val="cc3300"/>
                  </a:solidFill>
                  <a:latin typeface="Arial"/>
                  <a:ea typeface="宋体"/>
                </a:rPr>
                <a:t>18 ≈ 20</a:t>
              </a:r>
              <a:endParaRPr b="1" lang="en-US" sz="24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  <a:ea typeface="宋体"/>
                </a:rPr>
                <a:t>22 ×20</a:t>
              </a: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宋体"/>
                </a:rPr>
                <a:t>＝</a:t>
              </a:r>
              <a:r>
                <a:rPr b="1" lang="en-US" sz="2400" spc="-1" strike="noStrike">
                  <a:solidFill>
                    <a:srgbClr val="cc3300"/>
                  </a:solidFill>
                  <a:latin typeface="Arial"/>
                  <a:ea typeface="宋体"/>
                </a:rPr>
                <a:t>440</a:t>
              </a:r>
              <a:endParaRPr b="1" lang="en-US" sz="24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grpSp>
        <p:nvGrpSpPr>
          <p:cNvPr id="599" name="Group 21"/>
          <p:cNvGrpSpPr/>
          <p:nvPr/>
        </p:nvGrpSpPr>
        <p:grpSpPr>
          <a:xfrm>
            <a:off x="5867280" y="2133720"/>
            <a:ext cx="2590920" cy="1295280"/>
            <a:chOff x="5867280" y="2133720"/>
            <a:chExt cx="2590920" cy="1295280"/>
          </a:xfrm>
        </p:grpSpPr>
        <p:sp>
          <p:nvSpPr>
            <p:cNvPr id="600" name="AutoShape 18"/>
            <p:cNvSpPr/>
            <p:nvPr/>
          </p:nvSpPr>
          <p:spPr>
            <a:xfrm>
              <a:off x="5867280" y="2133720"/>
              <a:ext cx="2514600" cy="1295280"/>
            </a:xfrm>
            <a:prstGeom prst="wedgeEllipseCallout">
              <a:avLst>
                <a:gd name="adj1" fmla="val -12689"/>
                <a:gd name="adj2" fmla="val 79166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buClr>
                  <a:srgbClr val="fff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601" name="Text Box 19"/>
            <p:cNvSpPr/>
            <p:nvPr/>
          </p:nvSpPr>
          <p:spPr>
            <a:xfrm>
              <a:off x="6172200" y="216540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  <a:ea typeface="宋体"/>
                </a:rPr>
                <a:t>    </a:t>
              </a:r>
              <a:r>
                <a:rPr b="1" lang="en-US" sz="2400" spc="-1" strike="noStrike">
                  <a:solidFill>
                    <a:srgbClr val="cc3300"/>
                  </a:solidFill>
                  <a:latin typeface="Arial"/>
                  <a:ea typeface="宋体"/>
                </a:rPr>
                <a:t>22 ≈ 20</a:t>
              </a:r>
              <a:endParaRPr b="1" lang="en-US" sz="24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  <a:ea typeface="宋体"/>
                </a:rPr>
                <a:t>18 ×20</a:t>
              </a: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宋体"/>
                </a:rPr>
                <a:t>＝</a:t>
              </a:r>
              <a:r>
                <a:rPr b="1" lang="en-US" sz="2400" spc="-1" strike="noStrike">
                  <a:solidFill>
                    <a:srgbClr val="cc3300"/>
                  </a:solidFill>
                  <a:latin typeface="Arial"/>
                  <a:ea typeface="宋体"/>
                </a:rPr>
                <a:t>360</a:t>
              </a:r>
              <a:endParaRPr b="1" lang="en-US" sz="24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</a:rPr>
                <a:t> 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</a:rPr>
                <a:t>能坐下</a:t>
              </a:r>
              <a:endParaRPr b="1" lang="en-US" sz="24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5" descr="ds知识应用"/>
          <p:cNvPicPr/>
          <p:nvPr/>
        </p:nvPicPr>
        <p:blipFill>
          <a:blip r:embed="rId1"/>
          <a:stretch/>
        </p:blipFill>
        <p:spPr>
          <a:xfrm>
            <a:off x="706320" y="990720"/>
            <a:ext cx="2265480" cy="64584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08"/>
          <p:cNvPicPr/>
          <p:nvPr/>
        </p:nvPicPr>
        <p:blipFill>
          <a:blip r:embed="rId2"/>
          <a:stretch/>
        </p:blipFill>
        <p:spPr>
          <a:xfrm>
            <a:off x="2514600" y="2209680"/>
            <a:ext cx="3809880" cy="2256120"/>
          </a:xfrm>
          <a:prstGeom prst="rect">
            <a:avLst/>
          </a:prstGeom>
          <a:ln w="0">
            <a:noFill/>
          </a:ln>
        </p:spPr>
      </p:pic>
      <p:grpSp>
        <p:nvGrpSpPr>
          <p:cNvPr id="604" name="Group 13"/>
          <p:cNvGrpSpPr/>
          <p:nvPr/>
        </p:nvGrpSpPr>
        <p:grpSpPr>
          <a:xfrm>
            <a:off x="1066680" y="1676520"/>
            <a:ext cx="2362320" cy="990360"/>
            <a:chOff x="1066680" y="1676520"/>
            <a:chExt cx="2362320" cy="990360"/>
          </a:xfrm>
        </p:grpSpPr>
        <p:sp>
          <p:nvSpPr>
            <p:cNvPr id="605" name="AutoShape 8"/>
            <p:cNvSpPr/>
            <p:nvPr/>
          </p:nvSpPr>
          <p:spPr>
            <a:xfrm>
              <a:off x="1066680" y="1676520"/>
              <a:ext cx="2286000" cy="990360"/>
            </a:xfrm>
            <a:prstGeom prst="wedgeEllipseCallout">
              <a:avLst>
                <a:gd name="adj1" fmla="val 57708"/>
                <a:gd name="adj2" fmla="val 5737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buClr>
                  <a:srgbClr val="fff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606" name="Text Box 9"/>
            <p:cNvSpPr/>
            <p:nvPr/>
          </p:nvSpPr>
          <p:spPr>
            <a:xfrm>
              <a:off x="1143000" y="190476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Arial"/>
                </a:rPr>
                <a:t>一页有</a:t>
              </a:r>
              <a:r>
                <a:rPr b="1" lang="en-US" sz="2400" spc="-1" strike="noStrike">
                  <a:solidFill>
                    <a:srgbClr val="cc3300"/>
                  </a:solidFill>
                  <a:latin typeface="Arial"/>
                  <a:ea typeface="宋体"/>
                </a:rPr>
                <a:t>23</a:t>
              </a:r>
              <a:r>
                <a:rPr b="1" lang="zh-CN" sz="2800" spc="-1" strike="noStrike">
                  <a:solidFill>
                    <a:srgbClr val="cc3300"/>
                  </a:solidFill>
                  <a:latin typeface="Arial"/>
                </a:rPr>
                <a:t>行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grpSp>
        <p:nvGrpSpPr>
          <p:cNvPr id="607" name="Group 12"/>
          <p:cNvGrpSpPr/>
          <p:nvPr/>
        </p:nvGrpSpPr>
        <p:grpSpPr>
          <a:xfrm>
            <a:off x="5791320" y="1600200"/>
            <a:ext cx="2361960" cy="1066680"/>
            <a:chOff x="5791320" y="1600200"/>
            <a:chExt cx="2361960" cy="1066680"/>
          </a:xfrm>
        </p:grpSpPr>
        <p:sp>
          <p:nvSpPr>
            <p:cNvPr id="608" name="AutoShape 10"/>
            <p:cNvSpPr/>
            <p:nvPr/>
          </p:nvSpPr>
          <p:spPr>
            <a:xfrm>
              <a:off x="5791320" y="1600200"/>
              <a:ext cx="2361960" cy="1066680"/>
            </a:xfrm>
            <a:prstGeom prst="wedgeEllipseCallout">
              <a:avLst>
                <a:gd name="adj1" fmla="val -60282"/>
                <a:gd name="adj2" fmla="val 65773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buClr>
                  <a:srgbClr val="fff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609" name="Text Box 11"/>
            <p:cNvSpPr/>
            <p:nvPr/>
          </p:nvSpPr>
          <p:spPr>
            <a:xfrm>
              <a:off x="6172200" y="1644480"/>
              <a:ext cx="175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Arial"/>
                </a:rPr>
                <a:t>每行约有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cc3300"/>
                  </a:solidFill>
                  <a:latin typeface="Arial"/>
                  <a:ea typeface="宋体"/>
                </a:rPr>
                <a:t>22</a:t>
              </a:r>
              <a:r>
                <a:rPr b="1" lang="zh-CN" sz="2800" spc="-1" strike="noStrike">
                  <a:solidFill>
                    <a:srgbClr val="cc3300"/>
                  </a:solidFill>
                  <a:latin typeface="Arial"/>
                </a:rPr>
                <a:t>个字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sp>
        <p:nvSpPr>
          <p:cNvPr id="610" name="Text Box 15"/>
          <p:cNvSpPr/>
          <p:nvPr/>
        </p:nvSpPr>
        <p:spPr>
          <a:xfrm>
            <a:off x="2590920" y="43434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一页大约有多少个字？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  <p:grpSp>
        <p:nvGrpSpPr>
          <p:cNvPr id="611" name="Group 20"/>
          <p:cNvGrpSpPr/>
          <p:nvPr/>
        </p:nvGrpSpPr>
        <p:grpSpPr>
          <a:xfrm>
            <a:off x="1143000" y="5029200"/>
            <a:ext cx="7316280" cy="1295280"/>
            <a:chOff x="1143000" y="5029200"/>
            <a:chExt cx="7316280" cy="1295280"/>
          </a:xfrm>
        </p:grpSpPr>
        <p:sp>
          <p:nvSpPr>
            <p:cNvPr id="612" name="Rectangle 16"/>
            <p:cNvSpPr/>
            <p:nvPr/>
          </p:nvSpPr>
          <p:spPr>
            <a:xfrm>
              <a:off x="1143000" y="5029200"/>
              <a:ext cx="3414240" cy="1295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2ec2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613" name="Text Box 17"/>
            <p:cNvSpPr/>
            <p:nvPr/>
          </p:nvSpPr>
          <p:spPr>
            <a:xfrm>
              <a:off x="1305360" y="5041800"/>
              <a:ext cx="325188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23 ≈ 20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22 ≈ 20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20×20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＝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400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（</a:t>
              </a: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个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）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614" name="Rectangle 18"/>
            <p:cNvSpPr/>
            <p:nvPr/>
          </p:nvSpPr>
          <p:spPr>
            <a:xfrm>
              <a:off x="5045040" y="5029200"/>
              <a:ext cx="3414240" cy="12952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2ec2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615" name="Text Box 19"/>
            <p:cNvSpPr/>
            <p:nvPr/>
          </p:nvSpPr>
          <p:spPr>
            <a:xfrm>
              <a:off x="5207400" y="5127480"/>
              <a:ext cx="32518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23 ≈ 20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20×22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＝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440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（</a:t>
              </a: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个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）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2"/>
          <p:cNvSpPr/>
          <p:nvPr/>
        </p:nvSpPr>
        <p:spPr>
          <a:xfrm>
            <a:off x="3048120" y="556272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一共要付多少钱？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  <p:pic>
        <p:nvPicPr>
          <p:cNvPr id="617" name="Picture 3" descr="ds知识应用"/>
          <p:cNvPicPr/>
          <p:nvPr/>
        </p:nvPicPr>
        <p:blipFill>
          <a:blip r:embed="rId1"/>
          <a:stretch/>
        </p:blipFill>
        <p:spPr>
          <a:xfrm>
            <a:off x="706320" y="990720"/>
            <a:ext cx="2265480" cy="6458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4" descr="09"/>
          <p:cNvPicPr/>
          <p:nvPr/>
        </p:nvPicPr>
        <p:blipFill>
          <a:blip r:embed="rId2"/>
          <a:stretch/>
        </p:blipFill>
        <p:spPr>
          <a:xfrm>
            <a:off x="914400" y="1552680"/>
            <a:ext cx="7467480" cy="40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1371600" y="1843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一共要付多少钱？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  <p:pic>
        <p:nvPicPr>
          <p:cNvPr id="620" name="Picture 3" descr="ds知识应用"/>
          <p:cNvPicPr/>
          <p:nvPr/>
        </p:nvPicPr>
        <p:blipFill>
          <a:blip r:embed="rId1"/>
          <a:stretch/>
        </p:blipFill>
        <p:spPr>
          <a:xfrm>
            <a:off x="706320" y="990720"/>
            <a:ext cx="2265480" cy="645840"/>
          </a:xfrm>
          <a:prstGeom prst="rect">
            <a:avLst/>
          </a:prstGeom>
          <a:ln w="0">
            <a:noFill/>
          </a:ln>
        </p:spPr>
      </p:pic>
      <p:grpSp>
        <p:nvGrpSpPr>
          <p:cNvPr id="621" name="Group 11"/>
          <p:cNvGrpSpPr/>
          <p:nvPr/>
        </p:nvGrpSpPr>
        <p:grpSpPr>
          <a:xfrm>
            <a:off x="2590920" y="2754360"/>
            <a:ext cx="4572000" cy="2296800"/>
            <a:chOff x="2590920" y="2754360"/>
            <a:chExt cx="4572000" cy="2296800"/>
          </a:xfrm>
        </p:grpSpPr>
        <p:sp>
          <p:nvSpPr>
            <p:cNvPr id="622" name="Rectangle 6"/>
            <p:cNvSpPr/>
            <p:nvPr/>
          </p:nvSpPr>
          <p:spPr>
            <a:xfrm>
              <a:off x="2590920" y="2754360"/>
              <a:ext cx="4572000" cy="22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  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20×8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＝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160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（</a:t>
              </a: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角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）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  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30×6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＝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180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（</a:t>
              </a: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角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）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  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160  +  180  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＝ 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340 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（</a:t>
              </a: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角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）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宋体"/>
                </a:rPr>
                <a:t>20×8</a:t>
              </a:r>
              <a:r>
                <a:rPr b="1" lang="en-US" sz="2400" spc="-1" strike="noStrike">
                  <a:solidFill>
                    <a:srgbClr val="002ec2"/>
                  </a:solidFill>
                  <a:latin typeface="Arial"/>
                  <a:ea typeface="宋体"/>
                </a:rPr>
                <a:t> + 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宋体"/>
                </a:rPr>
                <a:t>30×6</a:t>
              </a:r>
              <a:r>
                <a:rPr b="1" lang="en-US" sz="2400" spc="-1" strike="noStrike">
                  <a:solidFill>
                    <a:srgbClr val="002ec2"/>
                  </a:solidFill>
                  <a:latin typeface="Arial"/>
                  <a:ea typeface="宋体"/>
                </a:rPr>
                <a:t> 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＝ 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340 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（</a:t>
              </a: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角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）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623" name="Line 7"/>
            <p:cNvSpPr/>
            <p:nvPr/>
          </p:nvSpPr>
          <p:spPr>
            <a:xfrm flipV="1">
              <a:off x="2895480" y="4343040"/>
              <a:ext cx="152640" cy="304920"/>
            </a:xfrm>
            <a:prstGeom prst="line">
              <a:avLst/>
            </a:prstGeom>
            <a:ln w="1908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624" name="Line 8"/>
            <p:cNvSpPr/>
            <p:nvPr/>
          </p:nvSpPr>
          <p:spPr>
            <a:xfrm flipH="1" flipV="1">
              <a:off x="3200040" y="4343040"/>
              <a:ext cx="152280" cy="304920"/>
            </a:xfrm>
            <a:prstGeom prst="line">
              <a:avLst/>
            </a:prstGeom>
            <a:ln w="1908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625" name="Line 9"/>
            <p:cNvSpPr/>
            <p:nvPr/>
          </p:nvSpPr>
          <p:spPr>
            <a:xfrm flipV="1">
              <a:off x="4038480" y="4343040"/>
              <a:ext cx="152640" cy="304920"/>
            </a:xfrm>
            <a:prstGeom prst="line">
              <a:avLst/>
            </a:prstGeom>
            <a:ln w="1908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626" name="Line 10"/>
            <p:cNvSpPr/>
            <p:nvPr/>
          </p:nvSpPr>
          <p:spPr>
            <a:xfrm flipH="1" flipV="1">
              <a:off x="4343040" y="4343040"/>
              <a:ext cx="152280" cy="304920"/>
            </a:xfrm>
            <a:prstGeom prst="line">
              <a:avLst/>
            </a:prstGeom>
            <a:ln w="1908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sp>
        <p:nvSpPr>
          <p:cNvPr id="627" name="Text Box 12"/>
          <p:cNvSpPr/>
          <p:nvPr/>
        </p:nvSpPr>
        <p:spPr>
          <a:xfrm>
            <a:off x="4724280" y="5181480"/>
            <a:ext cx="221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Arial"/>
                <a:ea typeface="宋体"/>
              </a:rPr>
              <a:t>＝ </a:t>
            </a:r>
            <a:r>
              <a:rPr b="1" lang="en-US" sz="2600" spc="-1" strike="noStrike">
                <a:solidFill>
                  <a:srgbClr val="002ec2"/>
                </a:solidFill>
                <a:latin typeface="Arial"/>
                <a:ea typeface="宋体"/>
              </a:rPr>
              <a:t>34</a:t>
            </a:r>
            <a:r>
              <a:rPr b="1" lang="zh-CN" sz="2600" spc="-1" strike="noStrike">
                <a:solidFill>
                  <a:srgbClr val="002ec2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002ec2"/>
                </a:solidFill>
                <a:latin typeface="楷体_GB2312"/>
              </a:rPr>
              <a:t>元</a:t>
            </a:r>
            <a:r>
              <a:rPr b="1" lang="zh-CN" sz="2600" spc="-1" strike="noStrike">
                <a:solidFill>
                  <a:srgbClr val="002ec2"/>
                </a:solidFill>
                <a:latin typeface="Arial"/>
                <a:ea typeface="宋体"/>
              </a:rPr>
              <a:t>）</a:t>
            </a:r>
            <a:endParaRPr b="1" lang="en-US" sz="2600" spc="-1" strike="noStrike">
              <a:solidFill>
                <a:srgbClr val="002ec2"/>
              </a:solidFill>
              <a:latin typeface="楷体_GB2312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02:02:1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3:52Z</dcterms:modified>
  <cp:revision>68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