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1A5A-468D-4563-8090-FBDA894F6B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7D58-4688-446D-990D-5A9F3B3E4A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3A2-C361-4BA9-A6AF-B14DD218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D1C-6329-403F-BC15-C4D7D197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0C2-A221-475D-B9BB-A94D451C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0B5-AC8D-40F8-B317-062CADDE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02B-E9BD-4A9E-8C58-33599520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FE1-ED0C-4868-9846-D6A5CF37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A07-6E93-49AF-9B42-A9DDCCB2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B76-3D15-4968-B324-FB16FABC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FAD-071E-49F6-BAB0-159BC962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5BD-7D14-4870-8A72-16D1AA7A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6E5-9FF2-43B4-B11F-3ACBEDD3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B60-BED1-449C-9A90-C9C27A5C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9B45-D1EB-4B7F-9A32-319D4BC1C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-36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新魏"/>
              </a:rPr>
              <a:t>教科版科学六年级下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360" y="140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考察</a:t>
            </a:r>
            <a:r>
              <a:rPr b="1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家乡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</a:t>
            </a:r>
            <a:r>
              <a:rPr b="1" lang="zh-CN" sz="6600" spc="-1" strike="noStrike">
                <a:solidFill>
                  <a:srgbClr val="009999"/>
                </a:solidFill>
                <a:latin typeface="华文新魏"/>
                <a:ea typeface="华文新魏"/>
              </a:rPr>
              <a:t>自然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水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2247480" y="61722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" descr=""/>
          <p:cNvPicPr/>
          <p:nvPr/>
        </p:nvPicPr>
        <p:blipFill>
          <a:blip r:embed="rId1"/>
          <a:srcRect l="0" t="27282" r="0" b="0"/>
          <a:stretch/>
        </p:blipFill>
        <p:spPr>
          <a:xfrm>
            <a:off x="876240" y="2550960"/>
            <a:ext cx="74678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8600" y="990720"/>
          <a:ext cx="8458200" cy="5721120"/>
        </p:xfrm>
        <a:graphic>
          <a:graphicData uri="http://schemas.openxmlformats.org/drawingml/2006/table">
            <a:tbl>
              <a:tblPr/>
              <a:tblGrid>
                <a:gridCol w="4495680"/>
                <a:gridCol w="1600200"/>
                <a:gridCol w="304920"/>
                <a:gridCol w="685800"/>
                <a:gridCol w="1371600"/>
              </a:tblGrid>
              <a:tr h="519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域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地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域周围是什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域周围的污染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域中的水生植物生长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域中的水生动物活动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域的水质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颜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气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是否浑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中杂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人们对水域的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我的建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Text Box 69"/>
          <p:cNvSpPr/>
          <p:nvPr/>
        </p:nvSpPr>
        <p:spPr>
          <a:xfrm>
            <a:off x="2362320" y="228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考察报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04920" y="0"/>
          <a:ext cx="8661240" cy="7943760"/>
        </p:xfrm>
        <a:graphic>
          <a:graphicData uri="http://schemas.openxmlformats.org/drawingml/2006/table">
            <a:tbl>
              <a:tblPr/>
              <a:tblGrid>
                <a:gridCol w="4470480"/>
                <a:gridCol w="2057400"/>
                <a:gridCol w="182520"/>
                <a:gridCol w="731880"/>
                <a:gridCol w="1218960"/>
              </a:tblGrid>
              <a:tr h="1031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域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火炉山水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地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两头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域周围是什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有树木、农田、村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域周围的污染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生活垃圾、农业污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域中的水生植物生长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苔藓、浮萍、水花生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域中的水生动物活动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鱼、虾、螺丝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域的水质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颜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深蓝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气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是否浑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中杂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有塑料袋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人们对水域的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质污染比较严重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我的建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加强治理力度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新魏"/>
              </a:rPr>
              <a:t>比较水样与自来水和生活污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280" y="1295280"/>
          <a:ext cx="8839080" cy="5105520"/>
        </p:xfrm>
        <a:graphic>
          <a:graphicData uri="http://schemas.openxmlformats.org/drawingml/2006/table">
            <a:tbl>
              <a:tblPr/>
              <a:tblGrid>
                <a:gridCol w="1473120"/>
                <a:gridCol w="1473120"/>
                <a:gridCol w="1473480"/>
                <a:gridCol w="1473120"/>
                <a:gridCol w="1473120"/>
                <a:gridCol w="1473120"/>
              </a:tblGrid>
              <a:tr h="1276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沉淀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微生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样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自来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生活污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Text Box 43"/>
          <p:cNvSpPr/>
          <p:nvPr/>
        </p:nvSpPr>
        <p:spPr>
          <a:xfrm>
            <a:off x="1840680" y="285768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华文新魏"/>
              </a:rPr>
              <a:t>较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1987920" y="4068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华文新魏"/>
              </a:rPr>
              <a:t>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1987920" y="537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华文新魏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6"/>
          <p:cNvSpPr/>
          <p:nvPr/>
        </p:nvSpPr>
        <p:spPr>
          <a:xfrm>
            <a:off x="3435840" y="2895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7"/>
          <p:cNvSpPr/>
          <p:nvPr/>
        </p:nvSpPr>
        <p:spPr>
          <a:xfrm>
            <a:off x="3435840" y="40766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8"/>
          <p:cNvSpPr/>
          <p:nvPr/>
        </p:nvSpPr>
        <p:spPr>
          <a:xfrm>
            <a:off x="3364560" y="5364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刺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0"/>
          <p:cNvSpPr/>
          <p:nvPr/>
        </p:nvSpPr>
        <p:spPr>
          <a:xfrm>
            <a:off x="4883400" y="2849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1"/>
          <p:cNvSpPr/>
          <p:nvPr/>
        </p:nvSpPr>
        <p:spPr>
          <a:xfrm>
            <a:off x="4883400" y="41148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2"/>
          <p:cNvSpPr/>
          <p:nvPr/>
        </p:nvSpPr>
        <p:spPr>
          <a:xfrm>
            <a:off x="4883400" y="541008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3"/>
          <p:cNvSpPr/>
          <p:nvPr/>
        </p:nvSpPr>
        <p:spPr>
          <a:xfrm>
            <a:off x="6336360" y="2849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较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4"/>
          <p:cNvSpPr/>
          <p:nvPr/>
        </p:nvSpPr>
        <p:spPr>
          <a:xfrm>
            <a:off x="6331320" y="41148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5"/>
          <p:cNvSpPr/>
          <p:nvPr/>
        </p:nvSpPr>
        <p:spPr>
          <a:xfrm>
            <a:off x="6331320" y="5364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6"/>
          <p:cNvSpPr/>
          <p:nvPr/>
        </p:nvSpPr>
        <p:spPr>
          <a:xfrm>
            <a:off x="7855200" y="2857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华文新魏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7"/>
          <p:cNvSpPr/>
          <p:nvPr/>
        </p:nvSpPr>
        <p:spPr>
          <a:xfrm>
            <a:off x="7874280" y="4145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华文新魏"/>
              </a:rPr>
              <a:t>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8"/>
          <p:cNvSpPr/>
          <p:nvPr/>
        </p:nvSpPr>
        <p:spPr>
          <a:xfrm>
            <a:off x="7931520" y="5364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华文新魏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6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6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6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6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6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6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533520"/>
            <a:ext cx="5029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水资源的污染源有哪些？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工业废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  <a:ea typeface="华文新魏"/>
              </a:rPr>
              <a:t>生活污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农业污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200907220949469516"/>
          <p:cNvPicPr/>
          <p:nvPr/>
        </p:nvPicPr>
        <p:blipFill>
          <a:blip r:embed="rId3"/>
          <a:stretch/>
        </p:blipFill>
        <p:spPr>
          <a:xfrm>
            <a:off x="6477120" y="4038480"/>
            <a:ext cx="1485720" cy="148608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"/>
          <p:cNvSpPr/>
          <p:nvPr/>
        </p:nvSpPr>
        <p:spPr>
          <a:xfrm>
            <a:off x="1160640" y="6156360"/>
            <a:ext cx="72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6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6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048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从自身做起，不向水库中投放垃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对身边的人宣传保护我们的水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发组织去清理水库边上的垃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向政府建议加强治理水库的力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609480" y="1238400"/>
            <a:ext cx="2400480" cy="15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的建议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0880" y="457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如何保护家乡的水环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6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6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4D7F-461A-405C-80CC-9511C65C5B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60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家乡自然水域里的水有没有受到污染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99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华文新魏"/>
                <a:ea typeface="华文新魏"/>
              </a:rPr>
              <a:t>是什么原因造成了污染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99cc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华文新魏"/>
                <a:ea typeface="华文新魏"/>
              </a:rPr>
              <a:t>让我们去考察一下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老师选定考察地点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想一想考察时要注意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制定一份考察计划</a:t>
            </a:r>
            <a:r>
              <a:rPr b="1" lang="en-US" sz="4800" spc="-1" strike="noStrike">
                <a:solidFill>
                  <a:srgbClr val="333399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2590920" y="457200"/>
            <a:ext cx="4038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的考察计划表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920" y="1752480"/>
          <a:ext cx="8686800" cy="4876920"/>
        </p:xfrm>
        <a:graphic>
          <a:graphicData uri="http://schemas.openxmlformats.org/drawingml/2006/table">
            <a:tbl>
              <a:tblPr/>
              <a:tblGrid>
                <a:gridCol w="3276720"/>
                <a:gridCol w="5410080"/>
              </a:tblGrid>
              <a:tr h="60948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我的考察计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目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考察自然水域中的水的质量状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地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注意事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（一定要注意安全！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23"/>
          <p:cNvSpPr/>
          <p:nvPr/>
        </p:nvSpPr>
        <p:spPr>
          <a:xfrm>
            <a:off x="3938760" y="31687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火炉山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华文新魏"/>
              </a:rPr>
              <a:t>水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5480640" y="3854520"/>
            <a:ext cx="7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老师的陪同下进行考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4324680" y="42814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考察时做到仔细</a:t>
            </a:r>
            <a:r>
              <a:rPr b="1" lang="en-US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全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3505320" y="4692600"/>
            <a:ext cx="67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009999"/>
                </a:solidFill>
                <a:latin typeface="华文新魏"/>
                <a:ea typeface="华文新魏"/>
              </a:rPr>
              <a:t>取样时</a:t>
            </a:r>
            <a:r>
              <a:rPr b="1" lang="en-US" sz="2800" spc="-1" strike="noStrike">
                <a:solidFill>
                  <a:srgbClr val="0099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9999"/>
                </a:solidFill>
                <a:latin typeface="华文新魏"/>
                <a:ea typeface="华文新魏"/>
              </a:rPr>
              <a:t>小心岸边湿滑</a:t>
            </a:r>
            <a:r>
              <a:rPr b="1" lang="en-US" sz="2800" spc="-1" strike="noStrike">
                <a:solidFill>
                  <a:srgbClr val="0099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9999"/>
                </a:solidFill>
                <a:latin typeface="华文新魏"/>
                <a:ea typeface="华文新魏"/>
              </a:rPr>
              <a:t>不要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华文新魏"/>
              </a:rPr>
              <a:t>深水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3581280" y="579132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取样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要用手直接碰触水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好带上手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6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华文新魏"/>
              </a:rPr>
              <a:t>实地考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考察时先看水域周围是什么样的环境，有没有废水排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新魏"/>
              </a:rPr>
              <a:t>再看看水的颜色怎样，水里有没有动植物，水面有没有污染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最后取一瓶水样，带回学校进行检验观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6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P5220456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P5220454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4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对采回的水样进一步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把水样静置一段时间后，看有没有杂质沉淀下来，杂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用显微镜检查水中有没有肉眼看不见的微小生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6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水做好玻片标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安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抬高物镜，放上玻片标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降低物镜，调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移动玻片标本，让图片在视野的中间。（标本移动方向和图像移动方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838080" y="228600"/>
            <a:ext cx="411480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显微镜使用注意事项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时的注意事项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心仔细观察，防止水样溅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要用手直接触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闻气味时，应该用手轻轻的在瓶口扇动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仅使少量的气味飘入鼻孔。禁止把鼻子凑到容器口去闻味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用显微镜观察时</a:t>
            </a:r>
            <a:r>
              <a:rPr b="1" lang="en-US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要做到仔细，步骤正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117988990-embed-113069797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0440" y="5810400"/>
            <a:ext cx="1033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3:30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4:40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