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64C-4651-4A6E-B18B-E36A27131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454C-5C4B-458D-B2AE-37C7F524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C0D-EBF4-4C3D-9AE9-B9DC1A1EF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4905-1442-440D-B2E0-D0A30092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8F6D-C51B-4312-959E-788590CEF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0BC8B-6863-4818-98F3-28EA4B3C8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D8F6-1474-43DC-8EEA-C65CB7D9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1014-F122-4350-9A94-948FE1CE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7697-CFB4-4C09-B526-AEBF7F98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BBA5-6974-40D4-B097-05BE5BC2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37329-EB73-4560-933F-F7400455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5B96-D73F-4892-A819-8DD7994AC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CFE6A-E0C9-487B-8C6E-857AFCE6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D444-29FF-4E4F-9506-8C8348A9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267B-92E6-4844-BCA7-83EC33B3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4B251-5EED-4F51-BAE2-0F7D83DC0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469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25036-0800-4C2F-B77C-46BA61981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1009-BD8E-4509-BBD5-2F16AE4A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652-395A-48B2-B6D4-72F4DE7BB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8D3-1DC4-4F27-A119-9F43F78D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171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E81-55B1-4030-A1EC-DB9545A75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0912-FCE7-4E64-9167-1054F53A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469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06D3-B39A-4591-AEEF-CF92F6325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469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7D24-B6A2-4E8D-82CB-5E1A7085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3873-38F4-45F8-8A69-57A88B24D9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B837-69EA-4CB1-B7D9-063B242F3A3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10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7.xml"/><Relationship Id="rId3" Type="http://schemas.openxmlformats.org/officeDocument/2006/relationships/slide" Target="slide18.xml"/><Relationship Id="rId4" Type="http://schemas.openxmlformats.org/officeDocument/2006/relationships/slide" Target="slide22.xm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" Target="slide15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" Target="slide5.xml"/><Relationship Id="rId17" Type="http://schemas.openxmlformats.org/officeDocument/2006/relationships/image" Target="../media/image4.jpeg"/><Relationship Id="rId18" Type="http://schemas.openxmlformats.org/officeDocument/2006/relationships/slide" Target="slide5.xml"/><Relationship Id="rId1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rcRect l="0" t="3849" r="0" b="7080"/>
          <a:stretch/>
        </p:blipFill>
        <p:spPr>
          <a:xfrm>
            <a:off x="-14400" y="-27000"/>
            <a:ext cx="9158400" cy="6899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5640" y="1628640"/>
            <a:ext cx="742788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方正粗倩简体"/>
                <a:ea typeface="方正粗倩简体"/>
              </a:rPr>
              <a:t>看 云 识 天 气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矩形 10"/>
          <p:cNvSpPr/>
          <p:nvPr/>
        </p:nvSpPr>
        <p:spPr>
          <a:xfrm>
            <a:off x="238500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Times New Roman"/>
                <a:ea typeface="黑体"/>
              </a:rPr>
              <a:t>阅读第四、五节，完成表格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1523880"/>
          <a:ext cx="8458200" cy="4903920"/>
        </p:xfrm>
        <a:graphic>
          <a:graphicData uri="http://schemas.openxmlformats.org/drawingml/2006/table">
            <a:tbl>
              <a:tblPr/>
              <a:tblGrid>
                <a:gridCol w="1754280"/>
                <a:gridCol w="4660920"/>
                <a:gridCol w="2043000"/>
              </a:tblGrid>
              <a:tr h="121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名称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形       状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天气情况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2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  <a:hlinkClick r:id="rId1" action="ppaction://hlinksldjump"/>
                        </a:rPr>
                        <a:t>卷层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  <a:hlinkClick r:id="rId2" action="ppaction://hlinksldjump"/>
                        </a:rPr>
                        <a:t>高层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  <a:hlinkClick r:id="rId3" action="ppaction://hlinksldjump"/>
                        </a:rPr>
                        <a:t>雨层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  <a:hlinkClick r:id="rId4" action="ppaction://hlinksldjump"/>
                        </a:rPr>
                        <a:t>积雨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8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卷层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7"/>
          <p:cNvSpPr/>
          <p:nvPr/>
        </p:nvSpPr>
        <p:spPr>
          <a:xfrm>
            <a:off x="275760" y="260280"/>
            <a:ext cx="911520" cy="61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  <a:ea typeface="华文彩云"/>
              </a:rPr>
              <a:t>         </a:t>
            </a:r>
            <a:r>
              <a:rPr b="1" lang="zh-CN" sz="4800" spc="-1" strike="noStrike">
                <a:solidFill>
                  <a:srgbClr val="ffcccc"/>
                </a:solidFill>
                <a:latin typeface="Arial"/>
                <a:ea typeface="华文彩云"/>
              </a:rPr>
              <a:t>卷  层  云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10">
            <a:hlinkClick r:id="rId2" action="ppaction://hlinksldjump"/>
          </p:cNvPr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f8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1" descr="高层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7"/>
          <p:cNvSpPr/>
          <p:nvPr/>
        </p:nvSpPr>
        <p:spPr>
          <a:xfrm>
            <a:off x="-677160" y="1052640"/>
            <a:ext cx="20091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8f47e7"/>
                </a:solidFill>
                <a:latin typeface="Arial"/>
                <a:ea typeface="华文彩云"/>
              </a:rPr>
              <a:t>  </a:t>
            </a:r>
            <a:r>
              <a:rPr b="1" lang="zh-CN" sz="6000" spc="-1" strike="noStrike">
                <a:solidFill>
                  <a:srgbClr val="ffcccc"/>
                </a:solidFill>
                <a:latin typeface="Arial"/>
                <a:ea typeface="华文彩云"/>
              </a:rPr>
              <a:t>高  层  云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Text Box 9">
            <a:hlinkClick r:id="rId2" action="ppaction://hlinksldjump"/>
          </p:cNvPr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2" descr="雨层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8"/>
          <p:cNvSpPr/>
          <p:nvPr/>
        </p:nvSpPr>
        <p:spPr>
          <a:xfrm>
            <a:off x="3424680" y="1133640"/>
            <a:ext cx="2561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cc"/>
                </a:solidFill>
                <a:latin typeface="Arial"/>
                <a:ea typeface="华文彩云"/>
              </a:rPr>
              <a:t>雨  层  云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Text Box 10">
            <a:hlinkClick r:id="rId2" action="ppaction://hlinksldjump"/>
          </p:cNvPr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积雨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>
            <a:hlinkClick r:id="rId2" action="ppaction://hlinksldjump"/>
          </p:cNvPr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5257800" y="4572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cc"/>
                </a:solidFill>
                <a:latin typeface="Times New Roman"/>
                <a:ea typeface="华文彩云"/>
              </a:rPr>
              <a:t>积  雨  云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Times New Roman"/>
                <a:ea typeface="黑体"/>
              </a:rPr>
              <a:t>阅读第六节，完成表格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685800" y="1676520"/>
          <a:ext cx="7772400" cy="4114800"/>
        </p:xfrm>
        <a:graphic>
          <a:graphicData uri="http://schemas.openxmlformats.org/drawingml/2006/table">
            <a:tbl>
              <a:tblPr/>
              <a:tblGrid>
                <a:gridCol w="1714680"/>
                <a:gridCol w="4008240"/>
                <a:gridCol w="204948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名称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云 彩 情 况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天气情况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  <a:hlinkClick r:id="rId1" action="ppaction://hlinksldjump"/>
                        </a:rPr>
                        <a:t>晕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楷体_GB2312"/>
                          <a:ea typeface="楷体_GB2312"/>
                        </a:rPr>
                        <a:t>华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  <a:hlinkClick r:id="rId2" action="ppaction://hlinksldjump"/>
                        </a:rPr>
                        <a:t>虹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  <a:hlinkClick r:id="rId3" action="ppaction://hlinksldjump"/>
                        </a:rPr>
                        <a:t>霞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39">
            <a:hlinkClick r:id="rId4" action="ppaction://hlinksldjump"/>
          </p:cNvPr>
          <p:cNvSpPr/>
          <p:nvPr/>
        </p:nvSpPr>
        <p:spPr>
          <a:xfrm>
            <a:off x="7467480" y="6172200"/>
            <a:ext cx="1067040" cy="457200"/>
          </a:xfrm>
          <a:prstGeom prst="rect">
            <a:avLst/>
          </a:prstGeom>
          <a:solidFill>
            <a:srgbClr val="eeb00b"/>
          </a:solidFill>
          <a:ln cap="sq" w="1260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退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日晕"/>
          <p:cNvPicPr/>
          <p:nvPr/>
        </p:nvPicPr>
        <p:blipFill>
          <a:blip r:embed="rId1"/>
          <a:stretch/>
        </p:blipFill>
        <p:spPr>
          <a:xfrm>
            <a:off x="0" y="0"/>
            <a:ext cx="5364000" cy="4440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月晕"/>
          <p:cNvPicPr/>
          <p:nvPr/>
        </p:nvPicPr>
        <p:blipFill>
          <a:blip r:embed="rId2"/>
          <a:stretch/>
        </p:blipFill>
        <p:spPr>
          <a:xfrm>
            <a:off x="4500720" y="2565360"/>
            <a:ext cx="4643280" cy="4292640"/>
          </a:xfrm>
          <a:prstGeom prst="rect">
            <a:avLst/>
          </a:prstGeom>
          <a:ln w="0">
            <a:noFill/>
          </a:ln>
        </p:spPr>
      </p:pic>
      <p:sp>
        <p:nvSpPr>
          <p:cNvPr id="136" name="AutoShape 13"/>
          <p:cNvSpPr/>
          <p:nvPr/>
        </p:nvSpPr>
        <p:spPr>
          <a:xfrm>
            <a:off x="7093080" y="1844640"/>
            <a:ext cx="358560" cy="576360"/>
          </a:xfrm>
          <a:prstGeom prst="downArrow">
            <a:avLst>
              <a:gd name="adj1" fmla="val 50000"/>
              <a:gd name="adj2" fmla="val 40178"/>
            </a:avLst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1979640" y="4724280"/>
            <a:ext cx="360360" cy="505080"/>
          </a:xfrm>
          <a:prstGeom prst="upArrow">
            <a:avLst>
              <a:gd name="adj1" fmla="val 50000"/>
              <a:gd name="adj2" fmla="val 35033"/>
            </a:avLst>
          </a:pr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16"/>
          <p:cNvSpPr/>
          <p:nvPr/>
        </p:nvSpPr>
        <p:spPr>
          <a:xfrm>
            <a:off x="6156360" y="620640"/>
            <a:ext cx="230328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日  晕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17"/>
          <p:cNvSpPr/>
          <p:nvPr/>
        </p:nvSpPr>
        <p:spPr>
          <a:xfrm>
            <a:off x="971640" y="5516640"/>
            <a:ext cx="2160360" cy="916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华文新魏"/>
              </a:rPr>
              <a:t>月 晕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19">
            <a:hlinkClick r:id="rId3" action="ppaction://hlinksldjump"/>
          </p:cNvPr>
          <p:cNvSpPr/>
          <p:nvPr/>
        </p:nvSpPr>
        <p:spPr>
          <a:xfrm>
            <a:off x="3124080" y="615636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5" descr="彩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8"/>
          <p:cNvSpPr/>
          <p:nvPr/>
        </p:nvSpPr>
        <p:spPr>
          <a:xfrm>
            <a:off x="6372360" y="1052640"/>
            <a:ext cx="165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00"/>
                </a:solidFill>
                <a:latin typeface="Arial"/>
                <a:ea typeface="华文彩云"/>
              </a:rPr>
              <a:t>虹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10">
            <a:hlinkClick r:id="rId2" action="ppaction://hlinksldjump"/>
          </p:cNvPr>
          <p:cNvSpPr/>
          <p:nvPr/>
        </p:nvSpPr>
        <p:spPr>
          <a:xfrm>
            <a:off x="762120" y="59436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171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5" name="Picture 4" descr="霞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1692360" y="907920"/>
            <a:ext cx="187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ff"/>
                </a:solidFill>
                <a:latin typeface="Arial"/>
                <a:ea typeface="华文彩云"/>
              </a:rPr>
              <a:t>霞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9">
            <a:hlinkClick r:id="rId2" action="ppaction://hlinksldjump"/>
          </p:cNvPr>
          <p:cNvSpPr/>
          <p:nvPr/>
        </p:nvSpPr>
        <p:spPr>
          <a:xfrm>
            <a:off x="739152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7772400" cy="90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品位语言，学习写法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85800" y="20574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文中运用了哪些修辞方法？你能举出具体的例子吗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文中哪些词语能够体现说明文语言的准确性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你认为要写好一篇说明文应该注意什么？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8120" y="761760"/>
            <a:ext cx="2743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黑体"/>
                <a:ea typeface="黑体"/>
              </a:rPr>
              <a:t>谚  语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914400" y="2514600"/>
            <a:ext cx="8050320" cy="30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早上乌云盖，无雨也风来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天上鲤鱼斑，明天晒谷不用翻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天上灰布悬，雨丝定连绵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aeaea"/>
                </a:solidFill>
                <a:latin typeface="Times New Roman"/>
                <a:ea typeface="楷体_GB2312"/>
              </a:rPr>
              <a:t>朝霞不出门，晚霞行千里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457200" y="304920"/>
            <a:ext cx="352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</a:rPr>
              <a:t>仿写练习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931320" y="12668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示例：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669960" y="1820880"/>
            <a:ext cx="847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天上的云真是姿态万千，变化无常。它们有的像羽毛，有的像鱼鳞，有的像羊群；还有的像峰峦，像河流，像雄师，像奔马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778480" y="3657600"/>
            <a:ext cx="10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、夜幕四合，四周的群山，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2473920" y="4495680"/>
            <a:ext cx="102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9900"/>
                </a:solidFill>
                <a:latin typeface="Times New Roman"/>
              </a:rPr>
              <a:t>、远处的霓虹灯亮了，</a:t>
            </a: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951480" y="53352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作业：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327760" y="20988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巩固课后的生字词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558680" y="3013200"/>
            <a:ext cx="8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从今天开始，每天练习看云识天气，判断当天或第二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的天气情况，轮流发布天气预报，看谁预报得准确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4258800" y="4572000"/>
            <a:ext cx="7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</a:rPr>
              <a:t>、继续搜集民间关于天气的谚语，整理在集锦本上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7"/>
          <p:cNvSpPr/>
          <p:nvPr/>
        </p:nvSpPr>
        <p:spPr>
          <a:xfrm>
            <a:off x="2305800" y="198288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eb00b"/>
                </a:solidFill>
                <a:latin typeface="Times New Roman"/>
                <a:ea typeface="隶书"/>
              </a:rPr>
              <a:t>本节课到此结束，谢谢大家！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ff33cc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33cc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33cc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3E81-AD03-4995-9EDC-1FACF1DA93D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6933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Times New Roman"/>
                <a:ea typeface="黑体"/>
              </a:rPr>
              <a:t>快速阅读课文，完成下列练习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18960" y="198072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、找出看云识天气的基本经验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      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4623840" y="3124080"/>
            <a:ext cx="8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、划出课本上介绍的各种云的名称</a:t>
            </a:r>
            <a:r>
              <a:rPr b="0" lang="zh-CN" sz="3200" spc="-1" strike="noStrike">
                <a:solidFill>
                  <a:srgbClr val="eaeaea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文本框 1"/>
          <p:cNvSpPr/>
          <p:nvPr/>
        </p:nvSpPr>
        <p:spPr>
          <a:xfrm>
            <a:off x="181080" y="6276960"/>
            <a:ext cx="79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更多免费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PPT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模板下载：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  <a:ea typeface="宋体"/>
              </a:rPr>
              <a:t>http://www.eeppt.co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3965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黑体"/>
                <a:ea typeface="黑体"/>
              </a:rPr>
              <a:t>看 云 识 天 气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371240"/>
            <a:ext cx="19051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华文新魏"/>
                <a:ea typeface="华文新魏"/>
              </a:rPr>
              <a:t>形状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755640" y="2349360"/>
            <a:ext cx="144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卷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卷积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积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高积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3348000" y="2421000"/>
            <a:ext cx="1440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卷层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高层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雨层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积雨云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629400" y="2514600"/>
            <a:ext cx="792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晕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华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虹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  <a:ea typeface="华文中宋"/>
              </a:rPr>
              <a:t>霞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611280" y="5373720"/>
            <a:ext cx="1584360" cy="703440"/>
          </a:xfrm>
          <a:prstGeom prst="rect">
            <a:avLst/>
          </a:prstGeom>
          <a:noFill/>
          <a:ln w="936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Arial"/>
                <a:ea typeface="华文新魏"/>
              </a:rPr>
              <a:t>薄  云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3348000" y="5373720"/>
            <a:ext cx="1655640" cy="703440"/>
          </a:xfrm>
          <a:prstGeom prst="rect">
            <a:avLst/>
          </a:prstGeom>
          <a:noFill/>
          <a:ln w="936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Arial"/>
                <a:ea typeface="华文新魏"/>
              </a:rPr>
              <a:t>厚  云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Rectangle 13"/>
          <p:cNvSpPr/>
          <p:nvPr/>
        </p:nvSpPr>
        <p:spPr>
          <a:xfrm>
            <a:off x="6432840" y="13716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华文新魏"/>
                <a:ea typeface="华文新魏"/>
              </a:rPr>
              <a:t>光彩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395280" y="1557360"/>
          <a:ext cx="8367840" cy="4614840"/>
        </p:xfrm>
        <a:graphic>
          <a:graphicData uri="http://schemas.openxmlformats.org/drawingml/2006/table">
            <a:tbl>
              <a:tblPr/>
              <a:tblGrid>
                <a:gridCol w="1844640"/>
                <a:gridCol w="4467240"/>
                <a:gridCol w="2055960"/>
              </a:tblGrid>
              <a:tr h="122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名  称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形      状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eeb00b"/>
                          </a:solidFill>
                          <a:latin typeface="黑体"/>
                          <a:ea typeface="黑体"/>
                        </a:rPr>
                        <a:t>天气情况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  <a:hlinkClick r:id="rId1" action="ppaction://hlinksldjump"/>
                        </a:rPr>
                        <a:t>卷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  <a:hlinkClick r:id="rId2" action="ppaction://hlinksldjump"/>
                        </a:rPr>
                        <a:t>卷积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  <a:hlinkClick r:id="rId3" action="ppaction://hlinksldjump"/>
                        </a:rPr>
                        <a:t>积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 u="sng">
                          <a:solidFill>
                            <a:srgbClr val="ff33cc"/>
                          </a:solidFill>
                          <a:uFillTx/>
                          <a:latin typeface="楷体_GB2312"/>
                          <a:ea typeface="楷体_GB2312"/>
                          <a:hlinkClick r:id="rId4" action="ppaction://hlinksldjump"/>
                        </a:rPr>
                        <a:t>高积云</a:t>
                      </a:r>
                      <a:endParaRPr b="0" lang="en-US" sz="3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Text Box 43"/>
          <p:cNvSpPr/>
          <p:nvPr/>
        </p:nvSpPr>
        <p:spPr>
          <a:xfrm>
            <a:off x="0" y="404640"/>
            <a:ext cx="32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Text Box 68"/>
          <p:cNvSpPr/>
          <p:nvPr/>
        </p:nvSpPr>
        <p:spPr>
          <a:xfrm>
            <a:off x="457200" y="38088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eb00b"/>
                </a:solidFill>
                <a:latin typeface="Arial"/>
                <a:ea typeface="黑体"/>
              </a:rPr>
              <a:t>阅读第三节，完成表格</a:t>
            </a:r>
            <a:r>
              <a:rPr b="0" lang="zh-CN" sz="4000" spc="-1" strike="noStrike">
                <a:solidFill>
                  <a:srgbClr val="eeb00b"/>
                </a:solidFill>
                <a:latin typeface="Arial"/>
                <a:ea typeface="黑体"/>
              </a:rPr>
              <a:t>：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73"/>
          <p:cNvSpPr/>
          <p:nvPr/>
        </p:nvSpPr>
        <p:spPr>
          <a:xfrm>
            <a:off x="3759120" y="4083120"/>
            <a:ext cx="2252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77"/>
          <p:cNvSpPr/>
          <p:nvPr/>
        </p:nvSpPr>
        <p:spPr>
          <a:xfrm>
            <a:off x="684360" y="2637000"/>
            <a:ext cx="14396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6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ff33cc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5" name="Picture 11" descr="卷云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609480" y="609480"/>
            <a:ext cx="3673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彩云"/>
              </a:rPr>
              <a:t>卷   云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Text Box 15">
            <a:hlinkClick r:id="rId18" action="ppaction://hlinksldjump"/>
          </p:cNvPr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13" descr="卷积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4"/>
          <p:cNvSpPr/>
          <p:nvPr/>
        </p:nvSpPr>
        <p:spPr>
          <a:xfrm>
            <a:off x="3276720" y="685800"/>
            <a:ext cx="3504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华文彩云"/>
              </a:rPr>
              <a:t>卷积云</a:t>
            </a:r>
            <a:endParaRPr b="0" lang="en-US" sz="6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15">
            <a:hlinkClick r:id="rId2" action="ppaction://hlinksldjump"/>
          </p:cNvPr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7" descr="积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4"/>
          <p:cNvSpPr/>
          <p:nvPr/>
        </p:nvSpPr>
        <p:spPr>
          <a:xfrm>
            <a:off x="2556000" y="765000"/>
            <a:ext cx="374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eaeaea"/>
                </a:solidFill>
                <a:latin typeface="Arial"/>
                <a:ea typeface="华文彩云"/>
              </a:rPr>
              <a:t> </a:t>
            </a:r>
            <a:r>
              <a:rPr b="0" lang="zh-CN" sz="6000" spc="-1" strike="noStrike">
                <a:solidFill>
                  <a:srgbClr val="0000ff"/>
                </a:solidFill>
                <a:latin typeface="Arial"/>
                <a:ea typeface="华文彩云"/>
              </a:rPr>
              <a:t>积      云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Text Box 18">
            <a:hlinkClick r:id="rId2" action="ppaction://hlinksldjump"/>
          </p:cNvPr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1" descr="高积云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-466920" y="1484280"/>
            <a:ext cx="23749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华文彩云"/>
              </a:rPr>
              <a:t>高 积 云</a:t>
            </a:r>
            <a:endParaRPr b="0" lang="en-US" sz="7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Text Box 13">
            <a:hlinkClick r:id="rId2" action="ppaction://hlinksldjump"/>
          </p:cNvPr>
          <p:cNvSpPr/>
          <p:nvPr/>
        </p:nvSpPr>
        <p:spPr>
          <a:xfrm>
            <a:off x="6781680" y="58672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返回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8T05:23:2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3:37Z</dcterms:modified>
  <cp:revision>3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