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image3.jpeg" ContentType="image/jpeg"/>
  <Override PartName="/ppt/media/type.wav" ContentType="audio/x-wav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F081-FF9A-4583-B771-E4EE6B2F750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878C-A955-4D14-B853-0623F69937B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8913-ADF6-45EB-90B3-49F7D33BF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DB5C-A147-4A26-86B7-F448BC9C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80D1-3ECC-43EA-80C0-DB6976CFC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888B-E2A5-4639-A63B-21204CEC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F4B9-1088-4592-9C09-2ED11934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8108-298D-43AB-B8F6-2B80221B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4E16-A8FB-475E-90CD-3E7F1492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DCA9-9094-4F3A-9AB1-DA62847A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0360-EFF4-4705-957E-939D15B1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3AA7-F289-4090-96AC-5DC5E8C5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A9F7-8C61-4F13-86CB-2E7215A2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3B55-A25E-43E7-848E-CD7D8196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D949-144F-451B-822F-F4948D223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7.jpeg"/><Relationship Id="rId3" Type="http://schemas.openxmlformats.org/officeDocument/2006/relationships/slide" Target="slide12.xml"/><Relationship Id="rId4" Type="http://schemas.openxmlformats.org/officeDocument/2006/relationships/slide" Target="slide14.xml"/><Relationship Id="rId5" Type="http://schemas.openxmlformats.org/officeDocument/2006/relationships/slide" Target="slide13.xml"/><Relationship Id="rId6" Type="http://schemas.openxmlformats.org/officeDocument/2006/relationships/slide" Target="slide15.xml"/><Relationship Id="rId7" Type="http://schemas.openxmlformats.org/officeDocument/2006/relationships/slide" Target="slide16.xml"/><Relationship Id="rId8" Type="http://schemas.openxmlformats.org/officeDocument/2006/relationships/slide" Target="slide13.xm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1403280" y="511200"/>
            <a:ext cx="5977080" cy="5977080"/>
          </a:xfrm>
          <a:prstGeom prst="rect">
            <a:avLst/>
          </a:prstGeom>
          <a:ln w="0">
            <a:noFill/>
          </a:ln>
        </p:spPr>
      </p:pic>
      <p:sp>
        <p:nvSpPr>
          <p:cNvPr id="49" name="WordArt 8"/>
          <p:cNvSpPr txBox="1"/>
          <p:nvPr/>
        </p:nvSpPr>
        <p:spPr>
          <a:xfrm>
            <a:off x="1403280" y="1916280"/>
            <a:ext cx="6264360" cy="141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黑体"/>
              </a:rPr>
              <a:t>垃圾的处理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黑体"/>
              <a:ea typeface="黑体"/>
            </a:endParaRPr>
          </a:p>
        </p:txBody>
      </p:sp>
      <p:sp>
        <p:nvSpPr>
          <p:cNvPr id="50" name="WordArt 10"/>
          <p:cNvSpPr txBox="1"/>
          <p:nvPr/>
        </p:nvSpPr>
        <p:spPr>
          <a:xfrm>
            <a:off x="755640" y="511200"/>
            <a:ext cx="488160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行楷"/>
              </a:rPr>
              <a:t>（教科版）六年级科学下册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51" name="矩形 3"/>
          <p:cNvSpPr/>
          <p:nvPr/>
        </p:nvSpPr>
        <p:spPr>
          <a:xfrm>
            <a:off x="2173680" y="616572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4"/>
          <p:cNvSpPr/>
          <p:nvPr/>
        </p:nvSpPr>
        <p:spPr>
          <a:xfrm>
            <a:off x="0" y="189000"/>
            <a:ext cx="2700360" cy="1368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5"/>
          <p:cNvSpPr txBox="1"/>
          <p:nvPr/>
        </p:nvSpPr>
        <p:spPr>
          <a:xfrm>
            <a:off x="539640" y="549360"/>
            <a:ext cx="144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说一说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5" name="WordArt 8"/>
          <p:cNvSpPr txBox="1"/>
          <p:nvPr/>
        </p:nvSpPr>
        <p:spPr>
          <a:xfrm>
            <a:off x="2916360" y="476280"/>
            <a:ext cx="4832280" cy="8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四人小组讨论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1427760" y="1602360"/>
            <a:ext cx="612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针对简单挖坑填埋垃圾存在的危害，你有什么好的建议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68360" y="2421000"/>
          <a:ext cx="8136000" cy="3381480"/>
        </p:xfrm>
        <a:graphic>
          <a:graphicData uri="http://schemas.openxmlformats.org/drawingml/2006/table">
            <a:tbl>
              <a:tblPr/>
              <a:tblGrid>
                <a:gridCol w="4390920"/>
                <a:gridCol w="3745080"/>
              </a:tblGrid>
              <a:tr h="701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危  害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建  议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垃圾与土壤直接接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土壤污染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99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垃圾发酵生成可燃性气体和有毒气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可燃性和有毒气体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97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受污染的水渗透到土壤和地下水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污染土壤和地下水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7"/>
          <p:cNvSpPr/>
          <p:nvPr/>
        </p:nvSpPr>
        <p:spPr>
          <a:xfrm>
            <a:off x="6372360" y="981000"/>
            <a:ext cx="136836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垃圾处理厂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6">
            <a:hlinkClick r:id="rId3" action="ppaction://hlinksldjump"/>
          </p:cNvPr>
          <p:cNvSpPr/>
          <p:nvPr/>
        </p:nvSpPr>
        <p:spPr>
          <a:xfrm>
            <a:off x="6732720" y="5013360"/>
            <a:ext cx="129528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>
            <a:hlinkClick r:id="rId4" action="ppaction://hlinksldjump"/>
          </p:cNvPr>
          <p:cNvSpPr/>
          <p:nvPr/>
        </p:nvSpPr>
        <p:spPr>
          <a:xfrm>
            <a:off x="539640" y="5300640"/>
            <a:ext cx="122400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>
            <a:hlinkClick r:id="rId5" action="ppaction://hlinksldjump"/>
          </p:cNvPr>
          <p:cNvSpPr/>
          <p:nvPr/>
        </p:nvSpPr>
        <p:spPr>
          <a:xfrm>
            <a:off x="684360" y="404640"/>
            <a:ext cx="251928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1">
            <a:hlinkClick r:id="rId6" action="ppaction://hlinksldjump"/>
          </p:cNvPr>
          <p:cNvSpPr/>
          <p:nvPr/>
        </p:nvSpPr>
        <p:spPr>
          <a:xfrm>
            <a:off x="2411280" y="1125360"/>
            <a:ext cx="2089440" cy="57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5">
            <a:hlinkClick r:id="rId7" action="ppaction://hlinksldjump"/>
          </p:cNvPr>
          <p:cNvSpPr/>
          <p:nvPr/>
        </p:nvSpPr>
        <p:spPr>
          <a:xfrm>
            <a:off x="8604360" y="0"/>
            <a:ext cx="539640" cy="504720"/>
          </a:xfrm>
          <a:custGeom>
            <a:avLst/>
            <a:gdLst>
              <a:gd name="textAreaLeft" fmla="*/ 32400 w 539640"/>
              <a:gd name="textAreaRight" fmla="*/ 507240 w 539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093" h="21600">
                <a:moveTo>
                  <a:pt x="0" y="0"/>
                </a:moveTo>
                <a:lnTo>
                  <a:pt x="23093" y="0"/>
                </a:lnTo>
                <a:lnTo>
                  <a:pt x="23093" y="21600"/>
                </a:lnTo>
                <a:lnTo>
                  <a:pt x="0" y="21600"/>
                </a:lnTo>
                <a:close/>
              </a:path>
              <a:path fill="lightenLess" w="23093" h="21600">
                <a:moveTo>
                  <a:pt x="0" y="0"/>
                </a:moveTo>
                <a:lnTo>
                  <a:pt x="23093" y="0"/>
                </a:lnTo>
                <a:lnTo>
                  <a:pt x="21693" y="1400"/>
                </a:lnTo>
                <a:lnTo>
                  <a:pt x="1400" y="1400"/>
                </a:lnTo>
                <a:close/>
              </a:path>
              <a:path fill="darken" w="23093" h="21600">
                <a:moveTo>
                  <a:pt x="23093" y="0"/>
                </a:moveTo>
                <a:lnTo>
                  <a:pt x="23093" y="21600"/>
                </a:lnTo>
                <a:lnTo>
                  <a:pt x="21693" y="20200"/>
                </a:lnTo>
                <a:lnTo>
                  <a:pt x="21693" y="1400"/>
                </a:lnTo>
                <a:close/>
              </a:path>
              <a:path fill="darkenLess" w="23093" h="21600">
                <a:moveTo>
                  <a:pt x="230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3" y="20200"/>
                </a:lnTo>
                <a:close/>
              </a:path>
              <a:path fill="lighten" w="230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3" h="21600">
                <a:moveTo>
                  <a:pt x="15046" y="10800"/>
                </a:moveTo>
                <a:lnTo>
                  <a:pt x="4540" y="17806"/>
                </a:lnTo>
                <a:lnTo>
                  <a:pt x="4540" y="3794"/>
                </a:lnTo>
                <a:close/>
              </a:path>
              <a:path fill="darken" w="23093" h="21600">
                <a:moveTo>
                  <a:pt x="16891" y="3794"/>
                </a:moveTo>
                <a:lnTo>
                  <a:pt x="16891" y="17806"/>
                </a:lnTo>
                <a:lnTo>
                  <a:pt x="18553" y="17806"/>
                </a:lnTo>
                <a:lnTo>
                  <a:pt x="18553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6">
            <a:hlinkClick r:id="rId8" action="ppaction://hlinksldjump"/>
          </p:cNvPr>
          <p:cNvSpPr/>
          <p:nvPr/>
        </p:nvSpPr>
        <p:spPr>
          <a:xfrm>
            <a:off x="3059280" y="6093000"/>
            <a:ext cx="19429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2182320" y="2492280"/>
            <a:ext cx="460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衬垫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把垃圾屋与周围土层隔开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>
            <a:hlinkClick r:id="rId1" action="ppaction://hlinksldjump"/>
          </p:cNvPr>
          <p:cNvSpPr/>
          <p:nvPr/>
        </p:nvSpPr>
        <p:spPr>
          <a:xfrm>
            <a:off x="7812000" y="5516640"/>
            <a:ext cx="935280" cy="865080"/>
          </a:xfrm>
          <a:custGeom>
            <a:avLst/>
            <a:gdLst>
              <a:gd name="textAreaLeft" fmla="*/ 55800 w 935280"/>
              <a:gd name="textAreaRight" fmla="*/ 879480 w 93528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52" h="21600">
                <a:moveTo>
                  <a:pt x="0" y="0"/>
                </a:moveTo>
                <a:lnTo>
                  <a:pt x="23352" y="0"/>
                </a:lnTo>
                <a:lnTo>
                  <a:pt x="23352" y="21600"/>
                </a:lnTo>
                <a:lnTo>
                  <a:pt x="0" y="21600"/>
                </a:lnTo>
                <a:close/>
              </a:path>
              <a:path fill="lightenLess" w="23352" h="21600">
                <a:moveTo>
                  <a:pt x="0" y="0"/>
                </a:moveTo>
                <a:lnTo>
                  <a:pt x="23352" y="0"/>
                </a:lnTo>
                <a:lnTo>
                  <a:pt x="21952" y="1400"/>
                </a:lnTo>
                <a:lnTo>
                  <a:pt x="1400" y="1400"/>
                </a:lnTo>
                <a:close/>
              </a:path>
              <a:path fill="darken" w="23352" h="21600">
                <a:moveTo>
                  <a:pt x="23352" y="0"/>
                </a:moveTo>
                <a:lnTo>
                  <a:pt x="23352" y="21600"/>
                </a:lnTo>
                <a:lnTo>
                  <a:pt x="21952" y="20200"/>
                </a:lnTo>
                <a:lnTo>
                  <a:pt x="21952" y="1400"/>
                </a:lnTo>
                <a:close/>
              </a:path>
              <a:path fill="darkenLess" w="23352" h="21600">
                <a:moveTo>
                  <a:pt x="23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52" y="20200"/>
                </a:lnTo>
                <a:close/>
              </a:path>
              <a:path fill="lighten" w="23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52" h="21600">
                <a:moveTo>
                  <a:pt x="11676" y="3837"/>
                </a:moveTo>
                <a:lnTo>
                  <a:pt x="14252" y="6448"/>
                </a:lnTo>
                <a:lnTo>
                  <a:pt x="14252" y="4707"/>
                </a:lnTo>
                <a:lnTo>
                  <a:pt x="16028" y="4707"/>
                </a:lnTo>
                <a:lnTo>
                  <a:pt x="16028" y="8224"/>
                </a:lnTo>
                <a:lnTo>
                  <a:pt x="18639" y="10800"/>
                </a:lnTo>
                <a:lnTo>
                  <a:pt x="16985" y="10800"/>
                </a:lnTo>
                <a:lnTo>
                  <a:pt x="16985" y="17989"/>
                </a:lnTo>
                <a:lnTo>
                  <a:pt x="6367" y="17989"/>
                </a:lnTo>
                <a:lnTo>
                  <a:pt x="6367" y="10800"/>
                </a:lnTo>
                <a:lnTo>
                  <a:pt x="4713" y="10800"/>
                </a:lnTo>
                <a:close/>
              </a:path>
              <a:path fill="darkenLess" w="23352" h="21600">
                <a:moveTo>
                  <a:pt x="14252" y="6448"/>
                </a:moveTo>
                <a:lnTo>
                  <a:pt x="14252" y="4707"/>
                </a:lnTo>
                <a:lnTo>
                  <a:pt x="16028" y="4707"/>
                </a:lnTo>
                <a:lnTo>
                  <a:pt x="16028" y="8224"/>
                </a:lnTo>
                <a:close/>
              </a:path>
              <a:path fill="darkenLess" w="23352" h="21600">
                <a:moveTo>
                  <a:pt x="10753" y="14299"/>
                </a:moveTo>
                <a:lnTo>
                  <a:pt x="12599" y="14299"/>
                </a:lnTo>
                <a:lnTo>
                  <a:pt x="12599" y="17989"/>
                </a:lnTo>
                <a:lnTo>
                  <a:pt x="16985" y="17989"/>
                </a:lnTo>
                <a:lnTo>
                  <a:pt x="16985" y="10800"/>
                </a:lnTo>
                <a:lnTo>
                  <a:pt x="6367" y="10800"/>
                </a:lnTo>
                <a:lnTo>
                  <a:pt x="6367" y="17989"/>
                </a:lnTo>
                <a:lnTo>
                  <a:pt x="1075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611280" y="2276640"/>
            <a:ext cx="817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垃圾过滤收集池和处理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把从地面渗入垃圾屋并被垃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污染了的水收集起来进行处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>
            <a:hlinkClick r:id="rId1" action="ppaction://hlinksldjump"/>
          </p:cNvPr>
          <p:cNvSpPr/>
          <p:nvPr/>
        </p:nvSpPr>
        <p:spPr>
          <a:xfrm>
            <a:off x="7812000" y="5516640"/>
            <a:ext cx="935280" cy="865080"/>
          </a:xfrm>
          <a:custGeom>
            <a:avLst/>
            <a:gdLst>
              <a:gd name="textAreaLeft" fmla="*/ 55800 w 935280"/>
              <a:gd name="textAreaRight" fmla="*/ 879480 w 93528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52" h="21600">
                <a:moveTo>
                  <a:pt x="0" y="0"/>
                </a:moveTo>
                <a:lnTo>
                  <a:pt x="23352" y="0"/>
                </a:lnTo>
                <a:lnTo>
                  <a:pt x="23352" y="21600"/>
                </a:lnTo>
                <a:lnTo>
                  <a:pt x="0" y="21600"/>
                </a:lnTo>
                <a:close/>
              </a:path>
              <a:path fill="lightenLess" w="23352" h="21600">
                <a:moveTo>
                  <a:pt x="0" y="0"/>
                </a:moveTo>
                <a:lnTo>
                  <a:pt x="23352" y="0"/>
                </a:lnTo>
                <a:lnTo>
                  <a:pt x="21952" y="1400"/>
                </a:lnTo>
                <a:lnTo>
                  <a:pt x="1400" y="1400"/>
                </a:lnTo>
                <a:close/>
              </a:path>
              <a:path fill="darken" w="23352" h="21600">
                <a:moveTo>
                  <a:pt x="23352" y="0"/>
                </a:moveTo>
                <a:lnTo>
                  <a:pt x="23352" y="21600"/>
                </a:lnTo>
                <a:lnTo>
                  <a:pt x="21952" y="20200"/>
                </a:lnTo>
                <a:lnTo>
                  <a:pt x="21952" y="1400"/>
                </a:lnTo>
                <a:close/>
              </a:path>
              <a:path fill="darkenLess" w="23352" h="21600">
                <a:moveTo>
                  <a:pt x="23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52" y="20200"/>
                </a:lnTo>
                <a:close/>
              </a:path>
              <a:path fill="lighten" w="23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52" h="21600">
                <a:moveTo>
                  <a:pt x="11676" y="3837"/>
                </a:moveTo>
                <a:lnTo>
                  <a:pt x="14252" y="6448"/>
                </a:lnTo>
                <a:lnTo>
                  <a:pt x="14252" y="4707"/>
                </a:lnTo>
                <a:lnTo>
                  <a:pt x="16028" y="4707"/>
                </a:lnTo>
                <a:lnTo>
                  <a:pt x="16028" y="8224"/>
                </a:lnTo>
                <a:lnTo>
                  <a:pt x="18639" y="10800"/>
                </a:lnTo>
                <a:lnTo>
                  <a:pt x="16985" y="10800"/>
                </a:lnTo>
                <a:lnTo>
                  <a:pt x="16985" y="17989"/>
                </a:lnTo>
                <a:lnTo>
                  <a:pt x="6367" y="17989"/>
                </a:lnTo>
                <a:lnTo>
                  <a:pt x="6367" y="10800"/>
                </a:lnTo>
                <a:lnTo>
                  <a:pt x="4713" y="10800"/>
                </a:lnTo>
                <a:close/>
              </a:path>
              <a:path fill="darkenLess" w="23352" h="21600">
                <a:moveTo>
                  <a:pt x="14252" y="6448"/>
                </a:moveTo>
                <a:lnTo>
                  <a:pt x="14252" y="4707"/>
                </a:lnTo>
                <a:lnTo>
                  <a:pt x="16028" y="4707"/>
                </a:lnTo>
                <a:lnTo>
                  <a:pt x="16028" y="8224"/>
                </a:lnTo>
                <a:close/>
              </a:path>
              <a:path fill="darkenLess" w="23352" h="21600">
                <a:moveTo>
                  <a:pt x="10753" y="14299"/>
                </a:moveTo>
                <a:lnTo>
                  <a:pt x="12599" y="14299"/>
                </a:lnTo>
                <a:lnTo>
                  <a:pt x="12599" y="17989"/>
                </a:lnTo>
                <a:lnTo>
                  <a:pt x="16985" y="17989"/>
                </a:lnTo>
                <a:lnTo>
                  <a:pt x="16985" y="10800"/>
                </a:lnTo>
                <a:lnTo>
                  <a:pt x="6367" y="10800"/>
                </a:lnTo>
                <a:lnTo>
                  <a:pt x="6367" y="17989"/>
                </a:lnTo>
                <a:lnTo>
                  <a:pt x="1075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395280" y="1916280"/>
            <a:ext cx="81374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监测井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随时监测垃圾填埋场附近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土壤和地下水状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7812000" y="5516640"/>
            <a:ext cx="935280" cy="865080"/>
          </a:xfrm>
          <a:custGeom>
            <a:avLst/>
            <a:gdLst>
              <a:gd name="textAreaLeft" fmla="*/ 55800 w 935280"/>
              <a:gd name="textAreaRight" fmla="*/ 879480 w 93528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52" h="21600">
                <a:moveTo>
                  <a:pt x="0" y="0"/>
                </a:moveTo>
                <a:lnTo>
                  <a:pt x="23352" y="0"/>
                </a:lnTo>
                <a:lnTo>
                  <a:pt x="23352" y="21600"/>
                </a:lnTo>
                <a:lnTo>
                  <a:pt x="0" y="21600"/>
                </a:lnTo>
                <a:close/>
              </a:path>
              <a:path fill="lightenLess" w="23352" h="21600">
                <a:moveTo>
                  <a:pt x="0" y="0"/>
                </a:moveTo>
                <a:lnTo>
                  <a:pt x="23352" y="0"/>
                </a:lnTo>
                <a:lnTo>
                  <a:pt x="21952" y="1400"/>
                </a:lnTo>
                <a:lnTo>
                  <a:pt x="1400" y="1400"/>
                </a:lnTo>
                <a:close/>
              </a:path>
              <a:path fill="darken" w="23352" h="21600">
                <a:moveTo>
                  <a:pt x="23352" y="0"/>
                </a:moveTo>
                <a:lnTo>
                  <a:pt x="23352" y="21600"/>
                </a:lnTo>
                <a:lnTo>
                  <a:pt x="21952" y="20200"/>
                </a:lnTo>
                <a:lnTo>
                  <a:pt x="21952" y="1400"/>
                </a:lnTo>
                <a:close/>
              </a:path>
              <a:path fill="darkenLess" w="23352" h="21600">
                <a:moveTo>
                  <a:pt x="23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52" y="20200"/>
                </a:lnTo>
                <a:close/>
              </a:path>
              <a:path fill="lighten" w="23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52" h="21600">
                <a:moveTo>
                  <a:pt x="11676" y="3837"/>
                </a:moveTo>
                <a:lnTo>
                  <a:pt x="14252" y="6448"/>
                </a:lnTo>
                <a:lnTo>
                  <a:pt x="14252" y="4707"/>
                </a:lnTo>
                <a:lnTo>
                  <a:pt x="16028" y="4707"/>
                </a:lnTo>
                <a:lnTo>
                  <a:pt x="16028" y="8224"/>
                </a:lnTo>
                <a:lnTo>
                  <a:pt x="18639" y="10800"/>
                </a:lnTo>
                <a:lnTo>
                  <a:pt x="16985" y="10800"/>
                </a:lnTo>
                <a:lnTo>
                  <a:pt x="16985" y="17989"/>
                </a:lnTo>
                <a:lnTo>
                  <a:pt x="6367" y="17989"/>
                </a:lnTo>
                <a:lnTo>
                  <a:pt x="6367" y="10800"/>
                </a:lnTo>
                <a:lnTo>
                  <a:pt x="4713" y="10800"/>
                </a:lnTo>
                <a:close/>
              </a:path>
              <a:path fill="darkenLess" w="23352" h="21600">
                <a:moveTo>
                  <a:pt x="14252" y="6448"/>
                </a:moveTo>
                <a:lnTo>
                  <a:pt x="14252" y="4707"/>
                </a:lnTo>
                <a:lnTo>
                  <a:pt x="16028" y="4707"/>
                </a:lnTo>
                <a:lnTo>
                  <a:pt x="16028" y="8224"/>
                </a:lnTo>
                <a:close/>
              </a:path>
              <a:path fill="darkenLess" w="23352" h="21600">
                <a:moveTo>
                  <a:pt x="10753" y="14299"/>
                </a:moveTo>
                <a:lnTo>
                  <a:pt x="12599" y="14299"/>
                </a:lnTo>
                <a:lnTo>
                  <a:pt x="12599" y="17989"/>
                </a:lnTo>
                <a:lnTo>
                  <a:pt x="16985" y="17989"/>
                </a:lnTo>
                <a:lnTo>
                  <a:pt x="16985" y="10800"/>
                </a:lnTo>
                <a:lnTo>
                  <a:pt x="6367" y="10800"/>
                </a:lnTo>
                <a:lnTo>
                  <a:pt x="6367" y="17989"/>
                </a:lnTo>
                <a:lnTo>
                  <a:pt x="1075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1850760" y="2060640"/>
            <a:ext cx="5458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气体排放管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排放可燃性气体和有毒气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>
            <a:hlinkClick r:id="rId1" action="ppaction://hlinksldjump"/>
          </p:cNvPr>
          <p:cNvSpPr/>
          <p:nvPr/>
        </p:nvSpPr>
        <p:spPr>
          <a:xfrm>
            <a:off x="7812000" y="5516640"/>
            <a:ext cx="935280" cy="865080"/>
          </a:xfrm>
          <a:custGeom>
            <a:avLst/>
            <a:gdLst>
              <a:gd name="textAreaLeft" fmla="*/ 55800 w 935280"/>
              <a:gd name="textAreaRight" fmla="*/ 879480 w 93528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52" h="21600">
                <a:moveTo>
                  <a:pt x="0" y="0"/>
                </a:moveTo>
                <a:lnTo>
                  <a:pt x="23352" y="0"/>
                </a:lnTo>
                <a:lnTo>
                  <a:pt x="23352" y="21600"/>
                </a:lnTo>
                <a:lnTo>
                  <a:pt x="0" y="21600"/>
                </a:lnTo>
                <a:close/>
              </a:path>
              <a:path fill="lightenLess" w="23352" h="21600">
                <a:moveTo>
                  <a:pt x="0" y="0"/>
                </a:moveTo>
                <a:lnTo>
                  <a:pt x="23352" y="0"/>
                </a:lnTo>
                <a:lnTo>
                  <a:pt x="21952" y="1400"/>
                </a:lnTo>
                <a:lnTo>
                  <a:pt x="1400" y="1400"/>
                </a:lnTo>
                <a:close/>
              </a:path>
              <a:path fill="darken" w="23352" h="21600">
                <a:moveTo>
                  <a:pt x="23352" y="0"/>
                </a:moveTo>
                <a:lnTo>
                  <a:pt x="23352" y="21600"/>
                </a:lnTo>
                <a:lnTo>
                  <a:pt x="21952" y="20200"/>
                </a:lnTo>
                <a:lnTo>
                  <a:pt x="21952" y="1400"/>
                </a:lnTo>
                <a:close/>
              </a:path>
              <a:path fill="darkenLess" w="23352" h="21600">
                <a:moveTo>
                  <a:pt x="23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52" y="20200"/>
                </a:lnTo>
                <a:close/>
              </a:path>
              <a:path fill="lighten" w="23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52" h="21600">
                <a:moveTo>
                  <a:pt x="11676" y="3837"/>
                </a:moveTo>
                <a:lnTo>
                  <a:pt x="14252" y="6448"/>
                </a:lnTo>
                <a:lnTo>
                  <a:pt x="14252" y="4707"/>
                </a:lnTo>
                <a:lnTo>
                  <a:pt x="16028" y="4707"/>
                </a:lnTo>
                <a:lnTo>
                  <a:pt x="16028" y="8224"/>
                </a:lnTo>
                <a:lnTo>
                  <a:pt x="18639" y="10800"/>
                </a:lnTo>
                <a:lnTo>
                  <a:pt x="16985" y="10800"/>
                </a:lnTo>
                <a:lnTo>
                  <a:pt x="16985" y="17989"/>
                </a:lnTo>
                <a:lnTo>
                  <a:pt x="6367" y="17989"/>
                </a:lnTo>
                <a:lnTo>
                  <a:pt x="6367" y="10800"/>
                </a:lnTo>
                <a:lnTo>
                  <a:pt x="4713" y="10800"/>
                </a:lnTo>
                <a:close/>
              </a:path>
              <a:path fill="darkenLess" w="23352" h="21600">
                <a:moveTo>
                  <a:pt x="14252" y="6448"/>
                </a:moveTo>
                <a:lnTo>
                  <a:pt x="14252" y="4707"/>
                </a:lnTo>
                <a:lnTo>
                  <a:pt x="16028" y="4707"/>
                </a:lnTo>
                <a:lnTo>
                  <a:pt x="16028" y="8224"/>
                </a:lnTo>
                <a:close/>
              </a:path>
              <a:path fill="darkenLess" w="23352" h="21600">
                <a:moveTo>
                  <a:pt x="10753" y="14299"/>
                </a:moveTo>
                <a:lnTo>
                  <a:pt x="12599" y="14299"/>
                </a:lnTo>
                <a:lnTo>
                  <a:pt x="12599" y="17989"/>
                </a:lnTo>
                <a:lnTo>
                  <a:pt x="16985" y="17989"/>
                </a:lnTo>
                <a:lnTo>
                  <a:pt x="16985" y="10800"/>
                </a:lnTo>
                <a:lnTo>
                  <a:pt x="6367" y="10800"/>
                </a:lnTo>
                <a:lnTo>
                  <a:pt x="6367" y="17989"/>
                </a:lnTo>
                <a:lnTo>
                  <a:pt x="1075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250920" y="1962000"/>
            <a:ext cx="85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r>
              <a:rPr b="1" lang="zh-CN" sz="6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焚烧是处理垃圾的另一种常见方法，就是把垃圾在焚烧炉里烧掉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0" y="189000"/>
            <a:ext cx="2700360" cy="1368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5"/>
          <p:cNvSpPr txBox="1"/>
          <p:nvPr/>
        </p:nvSpPr>
        <p:spPr>
          <a:xfrm>
            <a:off x="539640" y="549360"/>
            <a:ext cx="144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方案二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3708360" y="398520"/>
            <a:ext cx="158436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焚烧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23275811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40e7254dd52730e3d72afc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1238868984718RBO1B405C003_b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5292720" y="374760"/>
            <a:ext cx="38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于德清新市加元村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德清佳能垃圾焚烧发电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由中国电力新能源发展有限公司投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亿元建设的环保项目，被列为德清县的重点工程项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它是中电新能源第一个在浙江建设的垃圾焚烧发电项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处理德清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乡镇、开发区的生活垃圾。采用的垃圾焚烧设备和烟气处理技术均为国内最先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，已顺利完成并网发电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20072131453842438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5"/>
          <p:cNvSpPr txBox="1"/>
          <p:nvPr/>
        </p:nvSpPr>
        <p:spPr>
          <a:xfrm>
            <a:off x="684360" y="387360"/>
            <a:ext cx="3065400" cy="88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说一说：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3" name="WordArt 6"/>
          <p:cNvSpPr txBox="1"/>
          <p:nvPr/>
        </p:nvSpPr>
        <p:spPr>
          <a:xfrm>
            <a:off x="826920" y="2759040"/>
            <a:ext cx="720108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你有哪些收获？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4" name="文本框 1"/>
          <p:cNvSpPr/>
          <p:nvPr/>
        </p:nvSpPr>
        <p:spPr>
          <a:xfrm>
            <a:off x="1146240" y="5626080"/>
            <a:ext cx="594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14AC-3F91-4C12-873A-EAB2C52A796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395280" y="1628640"/>
            <a:ext cx="83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r>
              <a:rPr b="1" lang="zh-CN" sz="6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简单的填埋，就是找块空地，挖个大坑，把垃圾倒进去，再用泥土盖起来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0" y="189000"/>
            <a:ext cx="2700360" cy="1368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10"/>
          <p:cNvSpPr txBox="1"/>
          <p:nvPr/>
        </p:nvSpPr>
        <p:spPr>
          <a:xfrm>
            <a:off x="539640" y="549360"/>
            <a:ext cx="144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方案一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" name="WordArt 11"/>
          <p:cNvSpPr txBox="1"/>
          <p:nvPr/>
        </p:nvSpPr>
        <p:spPr>
          <a:xfrm>
            <a:off x="3708360" y="398520"/>
            <a:ext cx="158436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填埋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181080" y="47628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        </a:t>
            </a:r>
            <a:r>
              <a:rPr b="0" lang="zh-CN" sz="2400" spc="-1" strike="noStrike" u="sng">
                <a:solidFill>
                  <a:srgbClr val="ff66cc"/>
                </a:solidFill>
                <a:uFillTx/>
                <a:latin typeface="Arial"/>
                <a:ea typeface="黑体"/>
              </a:rPr>
              <a:t>垃圾的填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是我们目前最常用的垃圾处理方式，让我们动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来模拟这样的一个实验，看看有什么现象发生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452"/>
          <p:cNvSpPr/>
          <p:nvPr/>
        </p:nvSpPr>
        <p:spPr>
          <a:xfrm>
            <a:off x="3780000" y="2414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09"/>
          <p:cNvSpPr/>
          <p:nvPr/>
        </p:nvSpPr>
        <p:spPr>
          <a:xfrm>
            <a:off x="3522600" y="2652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79280" y="1508040"/>
          <a:ext cx="8713800" cy="5072040"/>
        </p:xfrm>
        <a:graphic>
          <a:graphicData uri="http://schemas.openxmlformats.org/drawingml/2006/table">
            <a:tbl>
              <a:tblPr/>
              <a:tblGrid>
                <a:gridCol w="1649520"/>
                <a:gridCol w="1427040"/>
                <a:gridCol w="1801800"/>
                <a:gridCol w="2160720"/>
                <a:gridCol w="1674720"/>
              </a:tblGrid>
              <a:tr h="457560">
                <a:tc gridSpan="5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垃圾填埋的模拟实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研究的问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垃圾地填埋对土壤、地下水是否有危害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实验材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设   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实   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方   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细石子代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___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清水代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被染红的纸巾代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喷水代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 row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实验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实验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说明了什么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地 下 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纸的变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土       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实验结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WordArt 829"/>
          <p:cNvSpPr txBox="1"/>
          <p:nvPr/>
        </p:nvSpPr>
        <p:spPr>
          <a:xfrm rot="20562000">
            <a:off x="-36000" y="117000"/>
            <a:ext cx="1565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我来实验：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5"/>
          <p:cNvSpPr txBox="1"/>
          <p:nvPr/>
        </p:nvSpPr>
        <p:spPr>
          <a:xfrm>
            <a:off x="250920" y="404640"/>
            <a:ext cx="2665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温馨提示：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68360" y="1557360"/>
            <a:ext cx="8496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实验步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①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先放清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②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放入一号材料袋（稍大的石子），尽量摊平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③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放入被染红的餐巾纸，尽量贴着玻璃容器壁放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④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放入二号材料袋（稍小的石子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⑤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洒水，速度不宜太快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⑥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做到边实验、边观察、边记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6"/>
          <p:cNvSpPr/>
          <p:nvPr/>
        </p:nvSpPr>
        <p:spPr>
          <a:xfrm>
            <a:off x="250920" y="18900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小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042920" y="836640"/>
            <a:ext cx="74516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把垃圾简单地填埋，垃圾中的污水会扩散，污水扩散到周围的土壤，如果被污染的土壤中种了蔬菜和粮食，你愿意买来吃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更可怕的是，随着垃圾中污水的扩散，还会污染地下水。而地下水会四处流动，那么，污水中的病菌，毒菌会随着地下水扩散到更大的范围，危害人们的健康，所以，垃圾中的污水扩散是一种很严重的危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826920" y="97776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沼气爆炸现场之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2008141008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5076720" y="105264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沼气爆炸现场之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2081386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2771640" y="3716280"/>
            <a:ext cx="3529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2916360" y="364500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沼气爆炸事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8T11:23:5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6:09Z</dcterms:modified>
  <cp:revision>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