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DE6-C078-4483-9BC6-B24ACCD5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BBC-4E14-4575-941F-3A36E22C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C34-1FAE-4B09-93ED-EEC1ACA7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C41-5478-4B15-B95B-EBBD7EB5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ACF-7C47-49E0-B607-163F364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8B7-A40F-42E8-B2D5-16F772DD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8F3-615B-406E-93B4-23EEE50B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31C-93D0-47DD-A2D8-514651F0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D6E-65CC-4B82-A8D0-2D42156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39C-E2C3-41A6-B3C3-F558512D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E25-3312-4D72-8CE1-D0315D17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A6B-28F3-474F-A64C-FB4E445C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6E69-3E80-4D33-B4D7-EAD63C80D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1371600" y="12193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9  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蓝色的树叶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2268360" y="57326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9"/>
          <p:cNvSpPr/>
          <p:nvPr/>
        </p:nvSpPr>
        <p:spPr>
          <a:xfrm>
            <a:off x="2513880" y="4076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carrie\蓝树叶\2.jpg"/>
          <p:cNvPicPr/>
          <p:nvPr/>
        </p:nvPicPr>
        <p:blipFill>
          <a:blip r:embed="rId1"/>
          <a:stretch/>
        </p:blipFill>
        <p:spPr>
          <a:xfrm>
            <a:off x="1066680" y="304920"/>
            <a:ext cx="7696440" cy="6405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485A-E9B9-42EC-B845-397BFA90BB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62120" y="533520"/>
            <a:ext cx="8381880" cy="3644280"/>
            <a:chOff x="762120" y="533520"/>
            <a:chExt cx="8381880" cy="3644280"/>
          </a:xfrm>
        </p:grpSpPr>
        <p:sp>
          <p:nvSpPr>
            <p:cNvPr id="45" name="Text Box 3"/>
            <p:cNvSpPr/>
            <p:nvPr/>
          </p:nvSpPr>
          <p:spPr>
            <a:xfrm>
              <a:off x="762120" y="838080"/>
              <a:ext cx="83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美术课        风景       削铅笔      惹人喜爱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4"/>
            <p:cNvSpPr/>
            <p:nvPr/>
          </p:nvSpPr>
          <p:spPr>
            <a:xfrm>
              <a:off x="838080" y="2209680"/>
              <a:ext cx="777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吞吞吐吐       桌子         盒子        注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1828800" y="353520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皱起眉头         拿出         不由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1219320" y="533520"/>
              <a:ext cx="71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è                  jĭng        xiāo qiān              r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7"/>
            <p:cNvSpPr/>
            <p:nvPr/>
          </p:nvSpPr>
          <p:spPr>
            <a:xfrm>
              <a:off x="1828800" y="190512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ŭ                  zhuō                   hé                  zh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8"/>
            <p:cNvSpPr/>
            <p:nvPr/>
          </p:nvSpPr>
          <p:spPr>
            <a:xfrm>
              <a:off x="1752480" y="32004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8"/>
          <p:cNvSpPr txBox="1"/>
          <p:nvPr/>
        </p:nvSpPr>
        <p:spPr>
          <a:xfrm>
            <a:off x="1828800" y="58672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请注意多音字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2" name="Group 18"/>
          <p:cNvGrpSpPr/>
          <p:nvPr/>
        </p:nvGrpSpPr>
        <p:grpSpPr>
          <a:xfrm>
            <a:off x="685800" y="533520"/>
            <a:ext cx="8077320" cy="4315320"/>
            <a:chOff x="685800" y="533520"/>
            <a:chExt cx="8077320" cy="4315320"/>
          </a:xfrm>
        </p:grpSpPr>
        <p:sp>
          <p:nvSpPr>
            <p:cNvPr id="53" name="Text Box 2"/>
            <p:cNvSpPr/>
            <p:nvPr/>
          </p:nvSpPr>
          <p:spPr>
            <a:xfrm>
              <a:off x="5943600" y="271152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削铅笔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2514600" y="533520"/>
              <a:ext cx="2133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吞吞吐吐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525780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iāo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1828800" y="533520"/>
              <a:ext cx="6094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ŭ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85800" y="10666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>
              <a:off x="1295280" y="838080"/>
              <a:ext cx="457200" cy="10670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271"/>
                  </a:lnTo>
                  <a:cubicBezTo>
                    <a:pt x="10800" y="10171"/>
                    <a:pt x="5400" y="11070"/>
                    <a:pt x="0" y="11070"/>
                  </a:cubicBezTo>
                  <a:cubicBezTo>
                    <a:pt x="5400" y="11070"/>
                    <a:pt x="10800" y="11970"/>
                    <a:pt x="10800" y="1286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1828800" y="1600200"/>
              <a:ext cx="6094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ù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2362320" y="16002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经典中圆简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吐出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3"/>
            <p:cNvSpPr/>
            <p:nvPr/>
          </p:nvSpPr>
          <p:spPr>
            <a:xfrm>
              <a:off x="4191120" y="3352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4800600" y="3124080"/>
              <a:ext cx="457200" cy="10670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271"/>
                  </a:lnTo>
                  <a:cubicBezTo>
                    <a:pt x="10800" y="10171"/>
                    <a:pt x="5400" y="11070"/>
                    <a:pt x="0" y="11070"/>
                  </a:cubicBezTo>
                  <a:cubicBezTo>
                    <a:pt x="5400" y="11070"/>
                    <a:pt x="10800" y="11970"/>
                    <a:pt x="10800" y="1286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57800" y="3886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5943600" y="3657600"/>
              <a:ext cx="281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削弱    削减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0"/>
          <p:cNvSpPr/>
          <p:nvPr/>
        </p:nvSpPr>
        <p:spPr>
          <a:xfrm>
            <a:off x="228600" y="0"/>
            <a:ext cx="8610480" cy="38862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990720" y="762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美术课        风景       削铅笔      惹人喜爱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9072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吞吞吐吐       桌子         盒子        注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676520" y="2743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皱起眉头         拿出         不由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295280" y="457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              jĭng        xiāo qiān          r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90512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ŭ              zhuō                hé                zh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600200" y="2438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228600" y="0"/>
            <a:ext cx="8610480" cy="38862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90720" y="762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术       课        景       削      铅        惹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905120" y="17524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吐         桌           盒             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0" y="2666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皱           拿            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990720" y="4572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         jĭng        xiāo      qiān          r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98108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ŭ             zhuō            hé                  zh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209680" y="2362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228600" y="0"/>
            <a:ext cx="8610480" cy="38862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762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术       课        景       削      铅        惹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905120" y="17524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吐         桌           盒             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286000" y="2666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皱           拿            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990720" y="4572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         jĭng        xiāo      qiān          r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98108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ŭ             zhuō            hé                  zh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209680" y="2362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5516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熟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偏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2362320" y="5592600"/>
            <a:ext cx="5638680" cy="1267200"/>
            <a:chOff x="2362320" y="5592600"/>
            <a:chExt cx="5638680" cy="1267200"/>
          </a:xfrm>
        </p:grpSpPr>
        <p:grpSp>
          <p:nvGrpSpPr>
            <p:cNvPr id="88" name="Group 11"/>
            <p:cNvGrpSpPr/>
            <p:nvPr/>
          </p:nvGrpSpPr>
          <p:grpSpPr>
            <a:xfrm>
              <a:off x="2362320" y="5592600"/>
              <a:ext cx="1600200" cy="581400"/>
              <a:chOff x="2362320" y="5592600"/>
              <a:chExt cx="1600200" cy="581400"/>
            </a:xfrm>
          </p:grpSpPr>
          <p:sp>
            <p:nvSpPr>
              <p:cNvPr id="89" name="Text Box 12"/>
              <p:cNvSpPr/>
              <p:nvPr/>
            </p:nvSpPr>
            <p:spPr>
              <a:xfrm>
                <a:off x="2362320" y="559260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沿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3"/>
              <p:cNvSpPr/>
              <p:nvPr/>
            </p:nvSpPr>
            <p:spPr>
              <a:xfrm>
                <a:off x="2895480" y="589716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4"/>
              <p:cNvSpPr/>
              <p:nvPr/>
            </p:nvSpPr>
            <p:spPr>
              <a:xfrm>
                <a:off x="3352680" y="55926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Group 15"/>
            <p:cNvGrpSpPr/>
            <p:nvPr/>
          </p:nvGrpSpPr>
          <p:grpSpPr>
            <a:xfrm>
              <a:off x="4267080" y="5622840"/>
              <a:ext cx="1600200" cy="581400"/>
              <a:chOff x="4267080" y="5622840"/>
              <a:chExt cx="1600200" cy="581400"/>
            </a:xfrm>
          </p:grpSpPr>
          <p:sp>
            <p:nvSpPr>
              <p:cNvPr id="93" name="Text Box 16"/>
              <p:cNvSpPr/>
              <p:nvPr/>
            </p:nvSpPr>
            <p:spPr>
              <a:xfrm>
                <a:off x="4267080" y="5622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住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17"/>
              <p:cNvSpPr/>
              <p:nvPr/>
            </p:nvSpPr>
            <p:spPr>
              <a:xfrm>
                <a:off x="4800600" y="597384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Text Box 18"/>
              <p:cNvSpPr/>
              <p:nvPr/>
            </p:nvSpPr>
            <p:spPr>
              <a:xfrm>
                <a:off x="5257800" y="56228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9"/>
            <p:cNvGrpSpPr/>
            <p:nvPr/>
          </p:nvGrpSpPr>
          <p:grpSpPr>
            <a:xfrm>
              <a:off x="6400800" y="5622840"/>
              <a:ext cx="1600200" cy="581400"/>
              <a:chOff x="6400800" y="5622840"/>
              <a:chExt cx="1600200" cy="581400"/>
            </a:xfrm>
          </p:grpSpPr>
          <p:sp>
            <p:nvSpPr>
              <p:cNvPr id="97" name="Text Box 20"/>
              <p:cNvSpPr/>
              <p:nvPr/>
            </p:nvSpPr>
            <p:spPr>
              <a:xfrm>
                <a:off x="6400800" y="56228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消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21"/>
              <p:cNvSpPr/>
              <p:nvPr/>
            </p:nvSpPr>
            <p:spPr>
              <a:xfrm>
                <a:off x="6934320" y="59738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22"/>
              <p:cNvSpPr/>
              <p:nvPr/>
            </p:nvSpPr>
            <p:spPr>
              <a:xfrm>
                <a:off x="7391520" y="56228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削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3"/>
            <p:cNvGrpSpPr/>
            <p:nvPr/>
          </p:nvGrpSpPr>
          <p:grpSpPr>
            <a:xfrm>
              <a:off x="2362320" y="6232680"/>
              <a:ext cx="1600200" cy="581400"/>
              <a:chOff x="2362320" y="6232680"/>
              <a:chExt cx="1600200" cy="581400"/>
            </a:xfrm>
          </p:grpSpPr>
          <p:sp>
            <p:nvSpPr>
              <p:cNvPr id="101" name="Text Box 24"/>
              <p:cNvSpPr/>
              <p:nvPr/>
            </p:nvSpPr>
            <p:spPr>
              <a:xfrm>
                <a:off x="2362320" y="62326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2895480" y="65833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6"/>
              <p:cNvSpPr/>
              <p:nvPr/>
            </p:nvSpPr>
            <p:spPr>
              <a:xfrm>
                <a:off x="3352680" y="623268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皱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27"/>
            <p:cNvGrpSpPr/>
            <p:nvPr/>
          </p:nvGrpSpPr>
          <p:grpSpPr>
            <a:xfrm>
              <a:off x="4267080" y="6278400"/>
              <a:ext cx="1600200" cy="581400"/>
              <a:chOff x="4267080" y="6278400"/>
              <a:chExt cx="1600200" cy="581400"/>
            </a:xfrm>
          </p:grpSpPr>
          <p:sp>
            <p:nvSpPr>
              <p:cNvPr id="105" name="Text Box 28"/>
              <p:cNvSpPr/>
              <p:nvPr/>
            </p:nvSpPr>
            <p:spPr>
              <a:xfrm>
                <a:off x="4267080" y="62784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29"/>
              <p:cNvSpPr/>
              <p:nvPr/>
            </p:nvSpPr>
            <p:spPr>
              <a:xfrm>
                <a:off x="4800600" y="662904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30"/>
              <p:cNvSpPr/>
              <p:nvPr/>
            </p:nvSpPr>
            <p:spPr>
              <a:xfrm>
                <a:off x="5257800" y="627840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课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Text Box 31"/>
          <p:cNvSpPr/>
          <p:nvPr/>
        </p:nvSpPr>
        <p:spPr>
          <a:xfrm>
            <a:off x="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熟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偏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2"/>
          <p:cNvGrpSpPr/>
          <p:nvPr/>
        </p:nvGrpSpPr>
        <p:grpSpPr>
          <a:xfrm>
            <a:off x="2209680" y="3747960"/>
            <a:ext cx="6758280" cy="1786320"/>
            <a:chOff x="2209680" y="3747960"/>
            <a:chExt cx="6758280" cy="1786320"/>
          </a:xfrm>
        </p:grpSpPr>
        <p:sp>
          <p:nvSpPr>
            <p:cNvPr id="110" name="Text Box 33"/>
            <p:cNvSpPr/>
            <p:nvPr/>
          </p:nvSpPr>
          <p:spPr>
            <a:xfrm>
              <a:off x="2209680" y="382428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木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34"/>
            <p:cNvSpPr/>
            <p:nvPr/>
          </p:nvSpPr>
          <p:spPr>
            <a:xfrm>
              <a:off x="4419720" y="380988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口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土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35"/>
            <p:cNvSpPr/>
            <p:nvPr/>
          </p:nvSpPr>
          <p:spPr>
            <a:xfrm>
              <a:off x="6629400" y="380988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皿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36"/>
            <p:cNvSpPr/>
            <p:nvPr/>
          </p:nvSpPr>
          <p:spPr>
            <a:xfrm>
              <a:off x="2209680" y="437364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37"/>
            <p:cNvSpPr/>
            <p:nvPr/>
          </p:nvSpPr>
          <p:spPr>
            <a:xfrm>
              <a:off x="4419720" y="4419720"/>
              <a:ext cx="199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若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心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8"/>
            <p:cNvSpPr/>
            <p:nvPr/>
          </p:nvSpPr>
          <p:spPr>
            <a:xfrm>
              <a:off x="6629400" y="4419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|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9"/>
            <p:cNvSpPr/>
            <p:nvPr/>
          </p:nvSpPr>
          <p:spPr>
            <a:xfrm>
              <a:off x="2971800" y="3747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2209680" y="49528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日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京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28600" y="0"/>
            <a:ext cx="8610480" cy="38862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90720" y="762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美术课        风景       削铅笔      惹人喜爱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9072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吞吞吐吐       桌子         盒子        注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676520" y="2743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皱起眉头         拿出         不由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95280" y="457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              jĭng        xiāo qiān          r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90512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ŭ              zhuō                hé                zh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600200" y="2438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982800" y="5297400"/>
            <a:ext cx="71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752480" y="1981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美术课        风景       绿铅笔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00200" y="3701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吞吞吐吐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114800" y="3657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拿起       不由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carrie\蓝树叶\1.jpg"/>
          <p:cNvPicPr/>
          <p:nvPr/>
        </p:nvPicPr>
        <p:blipFill>
          <a:blip r:embed="rId1"/>
          <a:stretch/>
        </p:blipFill>
        <p:spPr>
          <a:xfrm>
            <a:off x="914400" y="125280"/>
            <a:ext cx="7391520" cy="6732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02:01:51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8:07Z</dcterms:modified>
  <cp:revision>2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