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822B-ACA6-4A4A-AFAA-78DFBBCE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DA33-8765-455F-AE21-B2701CA2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F602-06F3-4021-981E-070817F6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ABE-EC83-4332-B287-FBCD8A2D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0B91-11E9-46E0-9720-14A34BEE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E92-BD4A-4487-A553-C6445F9F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608A-1276-48D4-AF08-A5C055B3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B4D-614D-4212-9C95-7EE47DBF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870C-B9DE-4B2C-834D-358DF5B9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167C-8E7A-4E11-B798-EC8DFA70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F986-819C-4A38-BB8B-5F4C73C5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B624-E42A-4A9C-B91A-B5E9F354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B1BB-C07F-4A37-A020-93F59349F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11280" y="1052640"/>
            <a:ext cx="432108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老    王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2402280" y="6102360"/>
            <a:ext cx="46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6"/>
          <p:cNvSpPr/>
          <p:nvPr/>
        </p:nvSpPr>
        <p:spPr>
          <a:xfrm>
            <a:off x="711000" y="55306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积水的课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938160" y="412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放学路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6064200" y="508464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露天课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831760" y="58770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稚嫩的肩上扛着的是生活的重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76200" y="33336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站着也能上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218960" y="417600"/>
            <a:ext cx="15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好冷啊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128760" y="3459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一个品学兼优的学生的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6203880" y="5805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我们想上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5967360" y="345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我们的一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4099320" y="5229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我们的课桌，我们的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  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32000" y="1599840"/>
            <a:ext cx="7200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靠一辆破旧的三轮车活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革”期间载客的三轮车被取缔，他的生计就更加窘迫，只能凑合着打发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了一辈子光棍，孤苦伶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眼睛不好，瞎了一只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住在荒僻的小胡同，塌败的小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058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假如我是一团火，就要给别人送去温暖。</a:t>
            </a:r>
            <a:br>
              <a:rPr sz="3200"/>
            </a:br>
            <a:br>
              <a:rPr sz="1400"/>
            </a:b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假如我是一朵花，就要给别人送去芬芳。</a:t>
            </a:r>
            <a:br>
              <a:rPr sz="3600"/>
            </a:br>
            <a:br>
              <a:rPr sz="1400"/>
            </a:b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假如我是一颗星，就要给别人送去光明。</a:t>
            </a:r>
            <a:br>
              <a:rPr sz="3600"/>
            </a:br>
            <a:br>
              <a:rPr sz="1400"/>
            </a:b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假如我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就要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br>
              <a:rPr sz="3600"/>
            </a:br>
            <a:br>
              <a:rPr sz="1400"/>
            </a:br>
            <a:br>
              <a:rPr sz="1400"/>
            </a:b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请大家以上面的形式，把你的心愿表达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99640" y="1915920"/>
            <a:ext cx="8013960" cy="22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幸运者只有关爱不幸者的责任，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没有歧视不幸者的理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"/>
          <p:cNvSpPr/>
          <p:nvPr/>
        </p:nvSpPr>
        <p:spPr>
          <a:xfrm>
            <a:off x="1811160" y="554832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68360" y="691920"/>
            <a:ext cx="6553440" cy="41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作业</a:t>
            </a:r>
            <a:br>
              <a:rPr sz="4000"/>
            </a:br>
            <a:br>
              <a:rPr sz="1200"/>
            </a:b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华文新魏"/>
              </a:rPr>
              <a:t>研讨与练习第三题</a:t>
            </a:r>
            <a:br>
              <a:rPr sz="4000"/>
            </a:br>
            <a:br>
              <a:rPr sz="14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试以老王为第一人称，改</a:t>
            </a:r>
            <a:br>
              <a:rPr sz="4000"/>
            </a:br>
            <a:br>
              <a:rPr sz="14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写课文中老王给我送香油、</a:t>
            </a:r>
            <a:br>
              <a:rPr sz="4000"/>
            </a:br>
            <a:br>
              <a:rPr sz="14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鸡蛋这一部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C142-EE13-4DC6-80CE-7C94147275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26920" y="475920"/>
            <a:ext cx="45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善  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47640" y="2060280"/>
            <a:ext cx="72835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愿意给我们家带送冰块，车费减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送钱先生看病，不要钱，拿了钱还不大放心，担心人家看病钱不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受了人家的好处，总也不忘，总觉得欠了人情，去世前一天还硬撑着拿了香油、鸡蛋上门感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124080" y="5560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老王是一个不幸而又善良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23840" y="4653000"/>
            <a:ext cx="8858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老王是一个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的人，表现在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华文新魏"/>
                <a:ea typeface="华文新魏"/>
              </a:rPr>
              <a:t>                        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7"/>
          <p:cNvSpPr/>
          <p:nvPr/>
        </p:nvSpPr>
        <p:spPr>
          <a:xfrm>
            <a:off x="2124000" y="2349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npo00063c"/>
          <p:cNvPicPr/>
          <p:nvPr/>
        </p:nvPicPr>
        <p:blipFill>
          <a:blip r:embed="rId2"/>
          <a:stretch/>
        </p:blipFill>
        <p:spPr>
          <a:xfrm>
            <a:off x="1116000" y="620640"/>
            <a:ext cx="4032360" cy="3240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292720" y="907920"/>
            <a:ext cx="36720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杨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原名杨季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江苏无锡人。作家、文学翻译家。主要译著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吉诃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散文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校六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饮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，长篇小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洗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258920" y="4292640"/>
            <a:ext cx="7634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钱钟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10—199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江苏无锡人。学者，作家，著有小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围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学术著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谈艺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管锥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善  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835280" y="1484280"/>
            <a:ext cx="68515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照顾老王的生意，坐他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王再客气，也付给他应得的报酬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王送来香油鸡蛋，不能让他白送，也给了钱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心老王的生计：三轮车改装后，生意不好做，关切询问他是否能维持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她的女儿也如她一样善良，送老王大瓶鱼肝油，治好他的夜盲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xin_3924039e556f474bbe77ae1d8ddfc24b_2310A3"/>
          <p:cNvPicPr/>
          <p:nvPr/>
        </p:nvPicPr>
        <p:blipFill>
          <a:blip r:embed="rId2"/>
          <a:stretch/>
        </p:blipFill>
        <p:spPr>
          <a:xfrm>
            <a:off x="2195640" y="333360"/>
            <a:ext cx="5903640" cy="43052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3543480" y="4941720"/>
            <a:ext cx="316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作者是一个“幸运”而又善良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2124000" y="155736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这一情节中老王的话语不多，却十分有表现力。你能就这些只言片语推测一下老王当时的心理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4385160" y="184464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那是一个幸运的人对一个不幸者的愧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860920" y="2924280"/>
            <a:ext cx="444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一个社会总有幸运者和不幸者，幸运者有责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关爱不幸者，关注他们的命运，让他们也过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好日子，帮助改善他们的处境。作者回想起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对老王的关爱还很不够，所以感到愧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931200" y="549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揭示主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3:17:45Z</dcterms:created>
  <dc:creator>第一PPT模板网-WWW.1PPT.COM</dc:creator>
  <dc:description/>
  <cp:keywords>第一PPT模板网-WWW.1PPT.COM</cp:keywords>
  <dc:language>en-US</dc:language>
  <cp:lastModifiedBy>xinxing</cp:lastModifiedBy>
  <dcterms:modified xsi:type="dcterms:W3CDTF">2017-04-16T16:07:21Z</dcterms:modified>
  <cp:revision>12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