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B3FE-86E8-435B-BCCA-C8ADDEC9FD1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D8DA-1E96-4DE1-B40A-5AF2E71EB5E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3D73-11A6-435D-B3A1-71094BEC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5AC-227C-45CC-A036-216EF8D9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13A8-3969-4324-857A-428D35B5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116-EE7F-47B6-92DD-CA5BFF2D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7223-CF98-4329-92F4-0B84D32B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D64A-415C-4770-B993-2D522206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9348-D3C7-4E6B-9CBC-4D80389F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5E2F-FDA6-4E1F-8AC2-B796CBA5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C32C-F4E3-41BA-999A-FFE6868B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EE44-8696-4380-9B87-23D5D0C5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C553-8501-4FA5-8917-95A4C039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3DB-2591-4B3C-83A5-EC6FDFC9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4DB6-411E-4C4D-BFF8-75DB25FC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B17B-7D85-4D37-924D-F10F3209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AF2B-5256-4880-9CAD-9C5D1629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0C77-E6D0-419C-8951-3B36843E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1F61-A664-429B-A5B5-A834B78D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39C-FBB2-4E9A-97A2-FC043427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18B-2153-4059-B49D-6DAC14FE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186-25F1-4CC8-BFF4-9E7E8114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F36-4006-423C-9473-E50BBECC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676-FE45-4850-AF7C-7881A4E0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E6C-26F7-4091-95F6-B95657A1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48A-F441-4AA9-AD2F-99F568BB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425D-4DCA-446C-BE8A-BA6761752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74FD-FE72-401A-B6D5-849AF333E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1" descr=""/>
          <p:cNvPicPr/>
          <p:nvPr/>
        </p:nvPicPr>
        <p:blipFill>
          <a:blip r:embed="rId1"/>
          <a:srcRect l="0" t="3946" r="0" b="5307"/>
          <a:stretch/>
        </p:blipFill>
        <p:spPr>
          <a:xfrm>
            <a:off x="1978200" y="2133720"/>
            <a:ext cx="5208480" cy="3887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25240" y="692280"/>
            <a:ext cx="63133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e40000"/>
                </a:solidFill>
                <a:latin typeface="华文中宋"/>
                <a:ea typeface="华文中宋"/>
              </a:rPr>
              <a:t>轮轴的秘密</a:t>
            </a:r>
            <a:endParaRPr b="0" lang="en-US" sz="8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2" name="矩形 4"/>
          <p:cNvSpPr/>
          <p:nvPr/>
        </p:nvSpPr>
        <p:spPr>
          <a:xfrm>
            <a:off x="2313360" y="61657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轮轴在生活中的应用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一想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轮轴在生活中在什么地方有应用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书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1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一找，它们的哪一部分相当于轮，哪一部分相当于轴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</a:rPr>
              <a:t>总结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两个结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轮上用力比较省力，轴上用力比较费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轴不变，轮越大越省力，轮越小越费力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3E57-0127-40DF-966D-4917986A2E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矩形 10"/>
          <p:cNvSpPr/>
          <p:nvPr/>
        </p:nvSpPr>
        <p:spPr>
          <a:xfrm>
            <a:off x="4643280" y="19400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4004018_144615004541_2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6" descr="20090908105820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WordArt 7"/>
          <p:cNvSpPr txBox="1"/>
          <p:nvPr/>
        </p:nvSpPr>
        <p:spPr>
          <a:xfrm>
            <a:off x="3855960" y="-27000"/>
            <a:ext cx="17240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轮子</a:t>
            </a:r>
            <a:endParaRPr b="1" lang="en-US" sz="4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7" name="WordArt 8"/>
          <p:cNvSpPr txBox="1"/>
          <p:nvPr/>
        </p:nvSpPr>
        <p:spPr>
          <a:xfrm>
            <a:off x="4716360" y="3141720"/>
            <a:ext cx="978120" cy="9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轴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8" name="Line 9"/>
          <p:cNvSpPr/>
          <p:nvPr/>
        </p:nvSpPr>
        <p:spPr>
          <a:xfrm flipV="1">
            <a:off x="5651640" y="907560"/>
            <a:ext cx="1368360" cy="23050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0"/>
          <p:cNvSpPr/>
          <p:nvPr/>
        </p:nvSpPr>
        <p:spPr>
          <a:xfrm flipH="1" flipV="1">
            <a:off x="2987280" y="1557000"/>
            <a:ext cx="1871640" cy="1655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40000"/>
                </a:solidFill>
                <a:latin typeface="Arial"/>
              </a:rPr>
              <a:t>提问：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如果取下水龙头上的轮子，直接去拧轴，还容易打开水龙头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为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如何验证轮轴的存在会省力？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利用实验检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讨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合上节课杠杆实验，想一想如何设计实验，需要什么？实验结果如何验证省力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</a:rPr>
              <a:t>实验：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轮轴的作用</a:t>
            </a: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09120" y="1125000"/>
            <a:ext cx="8153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目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轮轴是否省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组装一个轮轴实验装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钩码分别表示阻力和用的力。确定轮、轴谁为阻力，谁为用力？观察轴和轮上各用几个砝码可以使轮轴两端达到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平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确定判断的标准：钩码在不用外力情况下空中静止时为平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40000"/>
                </a:solidFill>
                <a:latin typeface="Arial"/>
              </a:rPr>
              <a:t>实验：</a:t>
            </a: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轮轴的作用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记录的数据要真实有效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分析要有根有据，结论要科学合理，用完整的话写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小组间明确合作分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保护实验仪器，注意实验安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小组汇报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结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轮上用力比较省力，轴上用力比较费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"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小个子战胜大力士</a:t>
            </a: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"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的游戏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选两位力量悬殊的同学分别握住螺丝刀的刀杆和刀柄，向相反方向旋转，看看谁能够获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一想，这是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如果轴不变，把轮换大些会怎样呢？ 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轴不变，轮越大越省力，轮越小越费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"/>
          <p:cNvSpPr/>
          <p:nvPr/>
        </p:nvSpPr>
        <p:spPr>
          <a:xfrm>
            <a:off x="1201680" y="5041800"/>
            <a:ext cx="55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3:36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0:51Z</dcterms:modified>
  <cp:revision>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