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camera.wav" ContentType="audio/x-wav"/>
  <Override PartName="/ppt/media/image7.png" ContentType="image/png"/>
  <Override PartName="/ppt/media/image8.gif" ContentType="image/gif"/>
  <Override PartName="/ppt/media/image9.wmf" ContentType="image/x-wmf"/>
  <Override PartName="/ppt/media/image10.jpeg" ContentType="image/jpeg"/>
  <Override PartName="/ppt/media/chimes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596-4CC3-4911-A69A-3FE82C52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920" y="2984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B3F-7EBF-4474-8B1A-6A0B0DFE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6796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56A-BA13-4D09-9F67-FEEB057E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3360" y="62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15800" y="62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920" y="298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33360" y="298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15800" y="298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05B-E004-4D57-9449-28EC825B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CCB0-8A3A-4439-9663-C2AF575E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FC1B-3CD8-4973-B876-CE0C56D4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A64E-9817-4FFD-A844-4745E227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39AB-CCCD-4802-ACCB-AEF33FAE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EC42-BD23-40F5-8EB3-55ED821E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803C-298E-4403-BD3F-3822CB37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A465-6843-45CE-86A4-0FA3E9D2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3BF-345C-48FC-A909-27FD0C19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1865-ED6F-4BE3-A952-D9929E9B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2984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1FE7-1913-4490-AF08-03A3F127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2984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7911-0E57-494C-8CF8-F160F369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C31A-870E-4786-8DAD-9960AF61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62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62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298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298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298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12AC-6F47-488B-9107-C1FA7F21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418E-4063-4F84-A28C-5EBE0C44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0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C841-90D8-4E6C-B05B-3700A61C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1C82-BFDF-4FC0-808F-5B1D7BB5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DFAD-C8FC-45C0-9FF7-A4556331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609DB-EAEC-4B3C-9FBB-7AB9871D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30C-5EC8-4E6B-9BAE-7A0C1BE4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C67C-201A-44F4-BA38-4FE14F39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5092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B5240-E474-4DB0-8EA0-311F4153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6796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FB75-D47D-4998-BFA0-CA8E124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2984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F5CE6-2137-414D-B05D-B48FE7AD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50920" y="2984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F6D8-D0C0-4CC7-9EF6-608B4EBB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5092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46796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6C7C-5F02-49CF-AE19-7048E27B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33360" y="62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15800" y="620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0920" y="298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33360" y="298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15800" y="2984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6169-249B-42CD-B7B5-A3D2DD68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3A6-E376-40DE-89BC-24C29CBB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437-0EB7-4387-A6DD-E534551A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6E0-6AFF-4CA8-9F16-A9A805D4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92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EEA-8F93-4F7D-AA1F-EB6F4B13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67960" y="2984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81D-C5F3-4426-9ED8-F271FC2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7960" y="620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2984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5B6-9DA5-4347-903B-E79B2C6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6A0D-D9E9-4915-9279-59F1E65CA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小学资源网官方logo"/>
          <p:cNvPicPr/>
          <p:nvPr/>
        </p:nvPicPr>
        <p:blipFill>
          <a:blip r:embed="rId3"/>
          <a:stretch/>
        </p:blipFill>
        <p:spPr>
          <a:xfrm>
            <a:off x="0" y="6426360"/>
            <a:ext cx="90000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43" name="Picture 3" descr="框"/>
            <p:cNvPicPr/>
            <p:nvPr/>
          </p:nvPicPr>
          <p:blipFill>
            <a:blip r:embed="rId3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4" descr="花4"/>
            <p:cNvPicPr/>
            <p:nvPr/>
          </p:nvPicPr>
          <p:blipFill>
            <a:blip r:embed="rId4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5" descr="花3"/>
            <p:cNvPicPr/>
            <p:nvPr/>
          </p:nvPicPr>
          <p:blipFill>
            <a:blip r:embed="rId5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6" descr="葉子"/>
            <p:cNvPicPr/>
            <p:nvPr/>
          </p:nvPicPr>
          <p:blipFill>
            <a:blip r:embed="rId6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0D64-2EEA-46FA-B522-9D0A4B777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9" name="Picture 3" descr="框"/>
            <p:cNvPicPr/>
            <p:nvPr/>
          </p:nvPicPr>
          <p:blipFill>
            <a:blip r:embed="rId3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" descr="花4"/>
            <p:cNvPicPr/>
            <p:nvPr/>
          </p:nvPicPr>
          <p:blipFill>
            <a:blip r:embed="rId4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" descr="花3"/>
            <p:cNvPicPr/>
            <p:nvPr/>
          </p:nvPicPr>
          <p:blipFill>
            <a:blip r:embed="rId5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6" descr="葉子"/>
            <p:cNvPicPr/>
            <p:nvPr/>
          </p:nvPicPr>
          <p:blipFill>
            <a:blip r:embed="rId6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5BB6-A94E-4ECF-BEB5-035658B19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2916360" y="565200"/>
            <a:ext cx="33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新课标六年级数学上册</a:t>
            </a:r>
            <a:r>
              <a:rPr b="0" lang="zh-CN" sz="2000" spc="-1" strike="noStrike">
                <a:solidFill>
                  <a:srgbClr val="0099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1825560" y="2016000"/>
            <a:ext cx="5184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纳 税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24199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684360" y="1197000"/>
            <a:ext cx="8459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家大型饭店七月份的营业额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00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万元。如果按营业额的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%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缴纳营业税，这家饭店七月份应缴纳营业税款多少万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3000×5%=150(</a:t>
            </a:r>
            <a:r>
              <a:rPr b="0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万元</a:t>
            </a:r>
            <a:r>
              <a:rPr b="0" lang="en-US" sz="4800" spc="-1" strike="noStrike">
                <a:solidFill>
                  <a:srgbClr val="333399"/>
                </a:solidFill>
                <a:latin typeface="黑体"/>
                <a:ea typeface="黑体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答：这家饭店七月份应缴纳营业税款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29"/>
          <p:cNvSpPr txBox="1"/>
          <p:nvPr/>
        </p:nvSpPr>
        <p:spPr>
          <a:xfrm>
            <a:off x="1187280" y="260280"/>
            <a:ext cx="33847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8000"/>
                </a:solidFill>
                <a:latin typeface="隶书"/>
              </a:rPr>
              <a:t>依法纳税实例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468360" y="1341360"/>
            <a:ext cx="7920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家汽车运输公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份的营业额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600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元。如果按营业额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缴纳营业税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份应缴纳营业税多少元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0"/>
          <p:cNvSpPr txBox="1"/>
          <p:nvPr/>
        </p:nvSpPr>
        <p:spPr>
          <a:xfrm>
            <a:off x="395280" y="765000"/>
            <a:ext cx="25257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小试牛刀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6095880" y="6400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826920" y="1844640"/>
            <a:ext cx="83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、判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税收是国家财政收入的主要来源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集体要纳税，个人可以不纳税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税率也是一种百分比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2"/>
          <p:cNvGrpSpPr/>
          <p:nvPr/>
        </p:nvGrpSpPr>
        <p:grpSpPr>
          <a:xfrm>
            <a:off x="2916360" y="3357360"/>
            <a:ext cx="647640" cy="432000"/>
            <a:chOff x="2916360" y="3357360"/>
            <a:chExt cx="647640" cy="432000"/>
          </a:xfrm>
        </p:grpSpPr>
        <p:sp>
          <p:nvSpPr>
            <p:cNvPr id="180" name="Line 30"/>
            <p:cNvSpPr/>
            <p:nvPr/>
          </p:nvSpPr>
          <p:spPr>
            <a:xfrm>
              <a:off x="2916360" y="3573720"/>
              <a:ext cx="215640" cy="21564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1"/>
            <p:cNvSpPr/>
            <p:nvPr/>
          </p:nvSpPr>
          <p:spPr>
            <a:xfrm flipV="1">
              <a:off x="3132000" y="3357360"/>
              <a:ext cx="432000" cy="43164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3"/>
          <p:cNvGrpSpPr/>
          <p:nvPr/>
        </p:nvGrpSpPr>
        <p:grpSpPr>
          <a:xfrm>
            <a:off x="7812000" y="5373360"/>
            <a:ext cx="647640" cy="432000"/>
            <a:chOff x="7812000" y="5373360"/>
            <a:chExt cx="647640" cy="432000"/>
          </a:xfrm>
        </p:grpSpPr>
        <p:sp>
          <p:nvSpPr>
            <p:cNvPr id="183" name="Line 34"/>
            <p:cNvSpPr/>
            <p:nvPr/>
          </p:nvSpPr>
          <p:spPr>
            <a:xfrm>
              <a:off x="7812000" y="5589720"/>
              <a:ext cx="215640" cy="21564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5"/>
            <p:cNvSpPr/>
            <p:nvPr/>
          </p:nvSpPr>
          <p:spPr>
            <a:xfrm flipV="1">
              <a:off x="8027640" y="5373360"/>
              <a:ext cx="432000" cy="43164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8"/>
          <p:cNvGrpSpPr/>
          <p:nvPr/>
        </p:nvGrpSpPr>
        <p:grpSpPr>
          <a:xfrm>
            <a:off x="2339640" y="4869000"/>
            <a:ext cx="432000" cy="358560"/>
            <a:chOff x="2339640" y="4869000"/>
            <a:chExt cx="432000" cy="358560"/>
          </a:xfrm>
        </p:grpSpPr>
        <p:sp>
          <p:nvSpPr>
            <p:cNvPr id="186" name="Line 36"/>
            <p:cNvSpPr/>
            <p:nvPr/>
          </p:nvSpPr>
          <p:spPr>
            <a:xfrm flipH="1">
              <a:off x="2339640" y="4869000"/>
              <a:ext cx="431640" cy="35856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7"/>
            <p:cNvSpPr/>
            <p:nvPr/>
          </p:nvSpPr>
          <p:spPr>
            <a:xfrm>
              <a:off x="2340000" y="4869000"/>
              <a:ext cx="431640" cy="35856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WordArt 39"/>
          <p:cNvSpPr txBox="1"/>
          <p:nvPr/>
        </p:nvSpPr>
        <p:spPr>
          <a:xfrm>
            <a:off x="2771640" y="189000"/>
            <a:ext cx="410544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隶书"/>
              </a:rPr>
              <a:t>练习显身手</a:t>
            </a:r>
            <a:endParaRPr b="1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隶书"/>
              <a:ea typeface="隶书"/>
            </a:endParaRPr>
          </a:p>
        </p:txBody>
      </p:sp>
    </p:spTree>
  </p:cSld>
  <p:transition spd="med"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95280" y="1341360"/>
            <a:ext cx="75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二、应用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人买彩票中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元大奖，按国家规定个人意外所得税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那么他必须交税款多少万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税法规定，每月的个人收入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的部分，应按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税率征收个人所得税，小丽父亲每月工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，小丽父亲每月应缴个人所得税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755640" y="1341360"/>
            <a:ext cx="7848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城市中的饭店除了要按营业额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缴纳营业税以外，还要按营业税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缴纳城市维护费。如果一个饭店平均每个月的营业额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万元，那么每年应交这两种税共多少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6095880" y="6400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32"/>
          <p:cNvSpPr txBox="1"/>
          <p:nvPr/>
        </p:nvSpPr>
        <p:spPr>
          <a:xfrm>
            <a:off x="1042920" y="40464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问题解决我能行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</p:spTree>
  </p:cSld>
  <p:transition spd="slow">
    <p:comb dir="horz"/>
    <p:sndAc>
      <p:stSnd>
        <p:snd r:embed="rId1" name="chimes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1332000" y="1341360"/>
            <a:ext cx="6840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本节课你有哪些收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学习了本节课的知识，你有什么感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"/>
          <p:cNvSpPr/>
          <p:nvPr/>
        </p:nvSpPr>
        <p:spPr>
          <a:xfrm>
            <a:off x="284040" y="5889600"/>
            <a:ext cx="51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pic178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2195640" y="476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纳税光荣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C7A2-6C99-4A2C-89E6-C4395C4028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539640" y="184464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知识目标：初步了解税收的作用，理解应纳税额、税率的含义，了解常见税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能力目标：能运用百分数的知识正确计算应纳税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情感目标：增强大家的法制意识，使大家知道每个公民都有依法纳税的义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395280" y="692280"/>
            <a:ext cx="4032360" cy="62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隶书"/>
              </a:rPr>
              <a:t>我们的学习目标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隶书"/>
              <a:ea typeface="隶书"/>
            </a:endParaRPr>
          </a:p>
        </p:txBody>
      </p:sp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2"/>
          <p:cNvSpPr/>
          <p:nvPr/>
        </p:nvSpPr>
        <p:spPr>
          <a:xfrm>
            <a:off x="102564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ject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417080" cy="4903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9111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911160" y="3308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88272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882720" y="3308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43836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3.gif (254002 bytes)"/>
          <p:cNvPicPr/>
          <p:nvPr/>
        </p:nvPicPr>
        <p:blipFill>
          <a:blip r:embed="rId2"/>
          <a:stretch/>
        </p:blipFill>
        <p:spPr>
          <a:xfrm>
            <a:off x="0" y="5486400"/>
            <a:ext cx="102564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900000" y="1125360"/>
            <a:ext cx="66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纳税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就是根据国家各种税法的有关规定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按照一定的比率把集体或个人收入的一部分缴纳给国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324000" y="2133720"/>
            <a:ext cx="763272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200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全国财政收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37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元，其中税收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17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200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中央财政的教育支出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汽车制造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生产小轿车销售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6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元，向国家缴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教师去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份对外讲学收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，向国家交纳税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9"/>
          <p:cNvSpPr/>
          <p:nvPr/>
        </p:nvSpPr>
        <p:spPr>
          <a:xfrm>
            <a:off x="395280" y="47628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分析下面几组信息，讨论两个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什么是纳税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②为什么要纳税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755640" y="14842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你知道吗？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1993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年我国进行了税制改革，将纳税主要分为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增值税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消费税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营业税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个人所得税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等几类。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缴纳的税款叫做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应纳税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468360" y="765000"/>
            <a:ext cx="8172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你说说下面的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应纳税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１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小南海水泥厂２００２年向国家缴纳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增值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２１０万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２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华胜宾馆２００２年８月的营业额达９４０万元，应向国家缴纳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营业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４７万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３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长沙卷烟厂今年２月销售额３０００万元，应缴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消费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１２００万元人民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４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张老师的月工资是１０００元，每年应缴纳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个人所得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１２０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50920" y="620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什么叫税率？你能写出计算税率的公式吗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2133720"/>
            <a:ext cx="87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333300"/>
                </a:solidFill>
                <a:latin typeface="Times New Roman"/>
              </a:rPr>
              <a:t>应纳税额与各种收入的比率叫做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税率</a:t>
            </a:r>
            <a:r>
              <a:rPr b="1" lang="zh-CN" sz="4400" spc="-1" strike="noStrike">
                <a:solidFill>
                  <a:srgbClr val="3333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ject 6" descr=""/>
          <p:cNvPicPr/>
          <p:nvPr/>
        </p:nvPicPr>
        <p:blipFill>
          <a:blip r:embed="rId1"/>
          <a:stretch/>
        </p:blipFill>
        <p:spPr>
          <a:xfrm>
            <a:off x="146160" y="3645000"/>
            <a:ext cx="840564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395280" y="620640"/>
            <a:ext cx="7777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你了解一些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隶书"/>
              </a:rPr>
              <a:t>税率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规定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１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黑体"/>
              </a:rPr>
              <a:t>.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增值税１７％或１３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２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黑体"/>
              </a:rPr>
              <a:t>.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消费税根据消费品种的不同从３％到５０％不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３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黑体"/>
              </a:rPr>
              <a:t>.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营业税分行业从３％到２０％不等，如交通业５％，娱乐行业２０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４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黑体"/>
              </a:rPr>
              <a:t>.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个人所得税按收入的高低从５％   到４５％不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1" name="chimes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91116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11160" y="3308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882720" y="33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882720" y="33084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43836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3.gif (254002 bytes)"/>
          <p:cNvPicPr/>
          <p:nvPr/>
        </p:nvPicPr>
        <p:blipFill>
          <a:blip r:embed="rId1"/>
          <a:stretch/>
        </p:blipFill>
        <p:spPr>
          <a:xfrm>
            <a:off x="0" y="5486400"/>
            <a:ext cx="1025640" cy="13716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0" y="105264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怎样计算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应纳税额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收入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×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税率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应纳税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  <p:sndAc>
      <p:stSnd>
        <p:snd r:embed="rId2" name="camera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0:59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cp:lastPrinted>1900-01-03T05:08:28Z</cp:lastPrinted>
  <dcterms:modified xsi:type="dcterms:W3CDTF">2017-04-16T15:33:09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