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15.png" ContentType="image/png"/>
  <Override PartName="/ppt/media/image14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16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705-8775-4155-8499-5914BCCA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F6E-E2F6-4A83-B70F-958FDBA7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950-0A76-4910-9174-85CD595F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C1A-1831-4D88-913C-E3F009F8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9B0-64F8-4624-8330-B2B83A78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EC7-1306-430A-B151-B562247D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04B-89D8-4D62-8752-4022F155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C82-C8F3-4C7C-BA64-5217A5B8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0FF-1F2F-4FB5-8800-3C750A60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519-5A1A-4DD7-867D-1AFCC7C1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EF2-DAC4-4A6C-9CC2-514CA255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D24-1CA1-48E7-B766-017DFC7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E2A3-39EC-433E-80F4-A71326DF8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3.jpe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51040" y="1052640"/>
            <a:ext cx="77770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Bookshelf Symbol 7"/>
                <a:ea typeface="Bookshelf Symbol 7"/>
              </a:rPr>
              <a:t>平行四边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898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Bookshelf Symbol 7"/>
                <a:ea typeface="Bookshelf Symbol 7"/>
              </a:rPr>
              <a:t>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898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Bookshelf Symbol 7"/>
                <a:ea typeface="Bookshelf Symbol 7"/>
              </a:rPr>
              <a:t>梯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6"/>
          <p:cNvSpPr/>
          <p:nvPr/>
        </p:nvSpPr>
        <p:spPr>
          <a:xfrm>
            <a:off x="1908000" y="5164200"/>
            <a:ext cx="2016360" cy="865080"/>
          </a:xfrm>
          <a:prstGeom prst="parallelogram">
            <a:avLst>
              <a:gd name="adj" fmla="val 5827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 rot="10800000">
            <a:off x="6049440" y="5092200"/>
            <a:ext cx="1584360" cy="10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60244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5"/>
          <p:cNvSpPr/>
          <p:nvPr/>
        </p:nvSpPr>
        <p:spPr>
          <a:xfrm>
            <a:off x="179280" y="333360"/>
            <a:ext cx="1800360" cy="1008000"/>
          </a:xfrm>
          <a:custGeom>
            <a:avLst/>
            <a:gdLst>
              <a:gd name="textAreaLeft" fmla="*/ 21960 w 1800360"/>
              <a:gd name="textAreaRight" fmla="*/ 1822680 w 1800360"/>
              <a:gd name="textAreaTop" fmla="*/ 262080 h 1008000"/>
              <a:gd name="textAreaBottom" fmla="*/ 745920 h 1008000"/>
            </a:gdLst>
            <a:ahLst/>
            <a:rect l="textAreaLeft" t="textAreaTop" r="textAreaRight" b="textAreaBottom"/>
            <a:pathLst>
              <a:path w="21600" h="21600">
                <a:moveTo>
                  <a:pt x="266" y="2809"/>
                </a:moveTo>
                <a:cubicBezTo>
                  <a:pt x="7333" y="-7142"/>
                  <a:pt x="14533" y="12760"/>
                  <a:pt x="21600" y="2809"/>
                </a:cubicBezTo>
                <a:lnTo>
                  <a:pt x="21334" y="18791"/>
                </a:lnTo>
                <a:cubicBezTo>
                  <a:pt x="14267" y="28742"/>
                  <a:pt x="7067" y="8840"/>
                  <a:pt x="0" y="18791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50920" y="5461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判  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826920" y="-53172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Text Box 8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840720" cy="519120"/>
          </a:xfrm>
          <a:prstGeom prst="rect">
            <a:avLst/>
          </a:prstGeom>
          <a:ln w="0">
            <a:noFill/>
          </a:ln>
        </p:spPr>
      </p:pic>
      <p:pic>
        <p:nvPicPr>
          <p:cNvPr id="207" name="Text Box 9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30844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4"/>
          <p:cNvSpPr/>
          <p:nvPr/>
        </p:nvSpPr>
        <p:spPr>
          <a:xfrm>
            <a:off x="7093080" y="1844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5869080" y="2492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7958160" y="314172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227640" y="37893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7956720" y="4437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边框2"/>
          <p:cNvPicPr/>
          <p:nvPr/>
        </p:nvPicPr>
        <p:blipFill>
          <a:blip r:embed="rId1"/>
          <a:stretch/>
        </p:blipFill>
        <p:spPr>
          <a:xfrm>
            <a:off x="0" y="0"/>
            <a:ext cx="9180360" cy="6916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5"/>
          <p:cNvPicPr/>
          <p:nvPr/>
        </p:nvPicPr>
        <p:blipFill>
          <a:blip r:embed="rId2"/>
          <a:srcRect l="11326" t="32326" r="71177" b="27027"/>
          <a:stretch/>
        </p:blipFill>
        <p:spPr>
          <a:xfrm>
            <a:off x="179280" y="18900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/>
          <p:cNvSpPr/>
          <p:nvPr/>
        </p:nvSpPr>
        <p:spPr>
          <a:xfrm rot="753600">
            <a:off x="1760400" y="591840"/>
            <a:ext cx="2603520" cy="1039680"/>
          </a:xfrm>
          <a:prstGeom prst="wedgeRoundRectCallout">
            <a:avLst>
              <a:gd name="adj1" fmla="val -64638"/>
              <a:gd name="adj2" fmla="val 23083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7"/>
          <p:cNvSpPr txBox="1"/>
          <p:nvPr/>
        </p:nvSpPr>
        <p:spPr>
          <a:xfrm rot="759600">
            <a:off x="2195280" y="798480"/>
            <a:ext cx="180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05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剪一剪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05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17" name="Text Box 8" descr=""/>
          <p:cNvPicPr/>
          <p:nvPr/>
        </p:nvPicPr>
        <p:blipFill>
          <a:blip r:embed="rId4"/>
          <a:stretch/>
        </p:blipFill>
        <p:spPr>
          <a:xfrm>
            <a:off x="34920" y="1989000"/>
            <a:ext cx="4500720" cy="930240"/>
          </a:xfrm>
          <a:prstGeom prst="rect">
            <a:avLst/>
          </a:prstGeom>
          <a:ln w="0">
            <a:noFill/>
          </a:ln>
        </p:spPr>
      </p:pic>
      <p:sp>
        <p:nvSpPr>
          <p:cNvPr id="218" name="Line 9"/>
          <p:cNvSpPr/>
          <p:nvPr/>
        </p:nvSpPr>
        <p:spPr>
          <a:xfrm>
            <a:off x="4572000" y="1916280"/>
            <a:ext cx="0" cy="3457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ext Box 10" descr=""/>
          <p:cNvPicPr/>
          <p:nvPr/>
        </p:nvPicPr>
        <p:blipFill>
          <a:blip r:embed="rId5"/>
          <a:stretch/>
        </p:blipFill>
        <p:spPr>
          <a:xfrm>
            <a:off x="4464000" y="1994040"/>
            <a:ext cx="4716360" cy="9302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1"/>
          <p:cNvSpPr/>
          <p:nvPr/>
        </p:nvSpPr>
        <p:spPr>
          <a:xfrm>
            <a:off x="826920" y="3500280"/>
            <a:ext cx="2808360" cy="1225800"/>
          </a:xfrm>
          <a:prstGeom prst="parallelogram">
            <a:avLst>
              <a:gd name="adj" fmla="val 5727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 rot="10800000">
            <a:off x="5579640" y="3573000"/>
            <a:ext cx="266724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剪刀"/>
          <p:cNvPicPr/>
          <p:nvPr/>
        </p:nvPicPr>
        <p:blipFill>
          <a:blip r:embed="rId6"/>
          <a:stretch/>
        </p:blipFill>
        <p:spPr>
          <a:xfrm>
            <a:off x="6948360" y="692280"/>
            <a:ext cx="1003320" cy="10033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6"/>
          <p:cNvGrpSpPr/>
          <p:nvPr/>
        </p:nvGrpSpPr>
        <p:grpSpPr>
          <a:xfrm>
            <a:off x="1908000" y="2997360"/>
            <a:ext cx="1003320" cy="2516040"/>
            <a:chOff x="1908000" y="2997360"/>
            <a:chExt cx="1003320" cy="2516040"/>
          </a:xfrm>
        </p:grpSpPr>
        <p:sp>
          <p:nvSpPr>
            <p:cNvPr id="224" name="Line 14"/>
            <p:cNvSpPr/>
            <p:nvPr/>
          </p:nvSpPr>
          <p:spPr>
            <a:xfrm>
              <a:off x="1908000" y="2997360"/>
              <a:ext cx="505080" cy="1944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15" descr="剪刀"/>
            <p:cNvPicPr/>
            <p:nvPr/>
          </p:nvPicPr>
          <p:blipFill>
            <a:blip r:embed="rId7"/>
            <a:stretch/>
          </p:blipFill>
          <p:spPr>
            <a:xfrm rot="16200000">
              <a:off x="2339640" y="4941720"/>
              <a:ext cx="57168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20"/>
          <p:cNvGrpSpPr/>
          <p:nvPr/>
        </p:nvGrpSpPr>
        <p:grpSpPr>
          <a:xfrm>
            <a:off x="6012000" y="3068640"/>
            <a:ext cx="1436400" cy="2660760"/>
            <a:chOff x="6012000" y="3068640"/>
            <a:chExt cx="1436400" cy="2660760"/>
          </a:xfrm>
        </p:grpSpPr>
        <p:sp>
          <p:nvSpPr>
            <p:cNvPr id="227" name="Line 18"/>
            <p:cNvSpPr/>
            <p:nvPr/>
          </p:nvSpPr>
          <p:spPr>
            <a:xfrm>
              <a:off x="6012000" y="3068640"/>
              <a:ext cx="936360" cy="2089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19" descr="剪刀"/>
            <p:cNvPicPr/>
            <p:nvPr/>
          </p:nvPicPr>
          <p:blipFill>
            <a:blip r:embed="rId8"/>
            <a:stretch/>
          </p:blipFill>
          <p:spPr>
            <a:xfrm rot="16200000">
              <a:off x="6876720" y="5157720"/>
              <a:ext cx="57168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MTM_196.MID" descr=""/>
          <p:cNvPicPr/>
          <p:nvPr/>
        </p:nvPicPr>
        <p:blipFill>
          <a:blip r:embed="rId9"/>
          <a:stretch/>
        </p:blipFill>
        <p:spPr>
          <a:xfrm>
            <a:off x="4572000" y="4046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9"/>
          <p:cNvGrpSpPr/>
          <p:nvPr/>
        </p:nvGrpSpPr>
        <p:grpSpPr>
          <a:xfrm>
            <a:off x="6659640" y="2997360"/>
            <a:ext cx="1436400" cy="2659680"/>
            <a:chOff x="6659640" y="2997360"/>
            <a:chExt cx="1436400" cy="2659680"/>
          </a:xfrm>
        </p:grpSpPr>
        <p:sp>
          <p:nvSpPr>
            <p:cNvPr id="231" name="Line 30"/>
            <p:cNvSpPr/>
            <p:nvPr/>
          </p:nvSpPr>
          <p:spPr>
            <a:xfrm>
              <a:off x="6659640" y="2997360"/>
              <a:ext cx="936360" cy="2088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Picture 31" descr="剪刀"/>
            <p:cNvPicPr/>
            <p:nvPr/>
          </p:nvPicPr>
          <p:blipFill>
            <a:blip r:embed="rId10"/>
            <a:stretch/>
          </p:blipFill>
          <p:spPr>
            <a:xfrm rot="16200000">
              <a:off x="7524720" y="508572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63996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3732 -0.00763 C -0.12135 -0.03655 -0.10521 -0.06523 -0.09861 -0.06268 C -0.09201 -0.06014 -0.10642 0.00347 -0.09739 0.00787 C -0.08837 0.01226 -0.0559 -0.04256 -0.04444 -0.03585 C -0.03298 -0.02914 -0.0401 0.04904 -0.02916 0.04858 C -0.01823 0.04812 0.01129 -0.03978 0.02153 -0.03909 C 0.03177 -0.0384 0.02118 0.05043 0.03212 0.05344 C 0.04306 0.05645 0.07604 -0.02382 0.08733 -0.02035 C 0.09861 -0.01688 0.09375 0.07032 0.10035 0.07379 C 0.10695 0.07726 0.12257 0.01342 0.12726 -3.45593E-006 E">
                                      <p:cBhvr>
                                        <p:cTn id="42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15225 0.03933 C 0.15173 0.0347 0.15191 0.02915 0.15 0.02522 C 0.14548 0.01596 0.13732 0.00671 0.13003 0.00162 C 0.12343 0.00301 0.12257 0.00139 0.11823 0.00625 C 0.11024 0.01504 0.11267 0.02475 0.10173 0.02984 C 0.09896 0.02938 0.09583 0.03007 0.0934 0.02822 C 0.08889 0.02499 0.08333 0.01296 0.08055 0.00787 C 0.07934 0.00579 0.0783 0.0037 0.07708 0.00162 C 0.07621 -3.27318999999993E-006 0.07465 -0.003 0.07465 -0.003 C 0.07257 -0.01133 0.06857 -0.01735 0.06406 -0.02336 C 0.06076 -0.03655 0.06632 -0.01665 0.0559 -0.03747 C 0.05503 -0.03909 0.05451 -0.04117 0.05347 -0.04233 C 0.05243 -0.04349 0.046 -0.0451 0.04531 -0.04534 C 0.03784 -0.05204 0.02899 -0.04857 0.0217 -0.04233 C 0.01857 -0.03539 0.01736 -0.02752 0.01458 -0.02035 C 0.01284 -0.00994 0.01319 0.00093 0.01111 0.01111 C 0.00902 0.02128 -0.00104 0.03077 -0.00538 0.03933 C -0.00504 0.04141 -0.00365 0.04349 -0.00417 0.04557 C -0.00469 0.04696 -0.00643 0.0465 -0.00764 0.04696 C -0.0132 0.04881 -0.01858 0.05043 -0.02413 0.05182 C -0.03212 0.04835 -0.02986 0.03447 -0.03247 0.02522 C -0.03785 0.00648 -0.04792 -0.00439 -0.06181 -0.01087 C -0.07136 -0.00902 -0.07535 -0.00925 -0.08056 0.00162 C -0.08229 0.01041 -0.08403 0.01643 -0.09011 0.02036 C -0.09549 0.02776 -0.10052 0.0347 -0.10417 0.04395 C -0.10782 0.05321 -0.10538 0.06223 -0.11354 0.06593 C -0.11841 0.07056 -0.12136 0.07588 -0.12882 0.06894 C -0.13282 0.06524 -0.13473 0.04974 -0.13716 0.04395 C -0.14497 0.02568 -0.15365 0.00995 -0.16893 0.00324 C -0.1757 0.00394 -0.18924 0.00185 -0.19011 0.00949 C -0.1908 0.01573 -0.18976 0.02198 -0.18889 0.02822 C -0.18854 0.03146 -0.18646 0.03771 -0.18646 0.03771 C -0.18976 0.04395 -0.19132 0.04673 -0.19705 0.04858 C -0.22049 0.04789 -0.23924 0.05298 -0.25955 0.04395 C -0.26042 0.02961 -0.26059 0.02545 -0.26528 0.01411 C -0.26615 0.01203 -0.2665 0.00949 -0.26771 0.00787 C -0.26979 0.00532 -0.27483 0.00162 -0.27483 0.00162 C -0.28542 0.00301 -0.28629 0.00255 -0.29358 0.00949 C -0.29653 0.02499 -0.29358 0.04118 -0.29705 0.05645 C -0.2967 0.06015 -0.29705 0.06408 -0.29601 0.06755 C -0.29219 0.08073 -0.28889 0.07379 -0.28299 0.08166 E">
                                      <p:cBhvr>
                                        <p:cTn id="42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WordArt 22" descr=""/>
          <p:cNvPicPr/>
          <p:nvPr/>
        </p:nvPicPr>
        <p:blipFill>
          <a:blip r:embed="rId1"/>
          <a:stretch/>
        </p:blipFill>
        <p:spPr>
          <a:xfrm>
            <a:off x="1258920" y="711360"/>
            <a:ext cx="5329080" cy="150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3" descr="N_027"/>
          <p:cNvPicPr/>
          <p:nvPr/>
        </p:nvPicPr>
        <p:blipFill>
          <a:blip r:embed="rId2"/>
          <a:stretch/>
        </p:blipFill>
        <p:spPr>
          <a:xfrm>
            <a:off x="6804000" y="3284640"/>
            <a:ext cx="21430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235" name="AutoShape 24"/>
          <p:cNvCxnSpPr/>
          <p:nvPr/>
        </p:nvCxnSpPr>
        <p:spPr>
          <a:xfrm>
            <a:off x="4140000" y="2708280"/>
            <a:ext cx="2592720" cy="2161080"/>
          </a:xfrm>
          <a:prstGeom prst="straightConnector1">
            <a:avLst/>
          </a:prstGeom>
          <a:ln w="5724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</p:cxnSp>
      <p:pic>
        <p:nvPicPr>
          <p:cNvPr id="236" name="Picture 26" descr="5"/>
          <p:cNvPicPr/>
          <p:nvPr/>
        </p:nvPicPr>
        <p:blipFill>
          <a:blip r:embed="rId3"/>
          <a:srcRect l="11326" t="32326" r="71177" b="27027"/>
          <a:stretch/>
        </p:blipFill>
        <p:spPr>
          <a:xfrm>
            <a:off x="0" y="4076640"/>
            <a:ext cx="2070000" cy="23749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27"/>
          <p:cNvSpPr/>
          <p:nvPr/>
        </p:nvSpPr>
        <p:spPr>
          <a:xfrm>
            <a:off x="2124000" y="4148280"/>
            <a:ext cx="3024360" cy="1225440"/>
          </a:xfrm>
          <a:prstGeom prst="cloudCallout">
            <a:avLst>
              <a:gd name="adj1" fmla="val -64907"/>
              <a:gd name="adj2" fmla="val 61398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2411280" y="44337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你有收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autoRev="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0.05136 C -0.25885 0.04604 -0.25833 0.04211 -0.25538 0.03748 C -0.25434 0.03239 -0.2533 0.031 -0.24896 0.02823 C -0.24791 0.02614 -0.24757 0.02406 -0.24635 0.02244 C -0.2434 0.01874 -0.23889 0.01435 -0.23507 0.01134 C -0.2309 0.00764 -0.22986 0.00371 -0.22413 0.00186 C -0.21632 0.00347 -0.21718 0.00278 -0.21215 0.01018 C -0.21076 0.01203 -0.2085 0.01573 -0.2085 0.01597 C -0.20711 0.02175 -0.20642 0.0236 -0.20277 0.02892 C -0.20225 0.02985 -0.20104 0.03193 -0.20104 0.03216 C -0.19965 0.03632 -0.19687 0.03979 -0.19357 0.04303 C -0.19201 0.04766 -0.18871 0.05043 -0.18524 0.05344 C -0.1835 0.05506 -0.17986 0.05899 -0.17986 0.05922 C -0.17552 0.05853 -0.17118 0.05899 -0.16701 0.05807 C -0.16527 0.0576 -0.16163 0.05367 -0.16059 0.05251 C -0.15625 0.04905 -0.15225 0.04581 -0.14843 0.04211 C -0.14635 0.03794 -0.14357 0.0354 -0.14097 0.03193 C -0.13628 0.02545 -0.14236 0.03077 -0.13628 0.02406 C -0.13472 0.02221 -0.13073 0.01874 -0.13073 0.01897 C -0.12934 0.01296 -0.13159 0.01805 -0.12708 0.01412 C -0.12448 0.01134 -0.12274 0.00718 -0.11979 0.00463 C -0.11753 0.00255 -0.11093 -0.00092 -0.10798 -0.00185 C -0.1 0.00047 -0.09271 0.00278 -0.08576 0.00764 C -0.08073 0.01504 -0.07534 0.02244 -0.06996 0.02985 C -0.06701 0.03401 -0.06684 0.03979 -0.06441 0.04419 C -0.06059 0.05136 -0.05451 0.06038 -0.04618 0.06292 C -0.03889 0.062 -0.03819 0.06107 -0.03229 0.05807 C -0.03038 0.0546 -0.02708 0.05275 -0.02482 0.04951 C -0.02309 0.0465 -0.01927 0.04025 -0.01927 0.04049 C -0.01805 0.03632 -0.01666 0.03332 -0.01493 0.02985 C -0.01354 0.02707 -0.01354 0.02337 -0.0118 0.02059 C -0.00902 0.01458 -0.00468 0.00833 -3.05556E-006 0.00347 C 0.00348 -0.0037 0.00834 -0.0074 0.01563 -0.0104 C 0.01927 -0.01017 0.02275 -0.0104 0.02587 -0.00948 C 0.03386 -0.00647 0.03698 0.00186 0.04254 0.00764 C 0.04462 0.01458 0.0415 0.00602 0.04601 0.01203 C 0.04792 0.01435 0.04827 0.02059 0.05087 0.02406 C 0.05174 0.02753 0.05243 0.02985 0.05452 0.03285 C 0.05608 0.0384 0.0566 0.04234 0.06094 0.04673 C 0.06337 0.05413 0.07587 0.04974 0.08108 0.04951 C 0.08785 0.04465 0.09341 0.03979 0.09653 0.03193 C 0.09827 0.02823 0.09844 0.02383 0.10035 0.02059 C 0.10747 0.00787 0.11302 0.00278 0.12639 -0.00185 C 0.13473 -0.00046 0.1342 0.00116 0.14011 0.00648 C 0.14289 0.00903 0.14358 0.00787 0.14653 0.01134 C 0.1507 0.0162 0.14983 0.01805 0.15209 0.02337 C 0.15469 0.02938 0.15313 0.02291 0.15469 0.02892 C 0.15608 0.03308 0.15625 0.03933 0.15764 0.04303 C 0.15834 0.04442 0.15955 0.04488 0.16042 0.04581 C 0.16615 0.05298 0.16962 0.05413 0.17865 0.05622 C 0.18351 0.05598 0.18837 0.05622 0.19254 0.05529 C 0.19618 0.05437 0.20087 0.04812 0.20382 0.04581 C 0.20539 0.04118 0.20868 0.03794 0.21111 0.03355 C 0.21198 0.03239 0.21233 0.031 0.21285 0.02985 C 0.21337 0.02892 0.21354 0.02799 0.21372 0.02707 C 0.21927 0.01735 0.21632 0.02499 0.21858 0.01874 C 0.21667 0.01342 0.21285 0.00856 0.20834 0.00556 C 0.20782 0.00486 0.20382 -0.00185 0.20278 -0.00092 C 0.19636 0.00556 0.19184 0.01365 0.18716 0.02152 C 0.18646 0.02221 0.18907 0.02082 0.19011 0.02059 C 0.19115 0.02013 0.19236 0.0199 0.19375 0.01967 C 0.19896 0.01597 0.20035 0.01573 0.2066 0.01412 C 0.21216 -0.00231 0.22622 -0.00647 0.2415 -0.00948 C 0.24532 -0.00902 0.24983 -0.00948 0.25348 -0.00855 C 0.26181 -0.00624 0.26476 0.00324 0.26632 0.01018 C 0.26667 0.01458 0.26632 0.0192 0.26736 0.02337 C 0.26962 0.03355 0.28282 0.04905 0.29219 0.05136 C 0.29914 0.0509 0.30104 0.05159 0.30625 0.04881 C 0.30903 0.04673 0.31441 0.04303 0.31441 0.04326 C 0.31841 0.03679 0.32188 0.03077 0.32743 0.02522 C 0.33039 0.01597 0.3316 0.00671 0.34115 0.00186 C 0.34341 0.0007 0.34532 -0.00115 0.34757 -0.00185 C 0.35 -0.00277 0.35486 -0.0037 0.35486 -0.00346 C 0.36372 -0.00138 0.3717 0.01088 0.37622 0.01874 C 0.37761 0.02383 0.38056 0.02799 0.38264 0.03285 C 0.38594 0.04025 0.38802 0.04951 0.39653 0.05251 C 0.40174 0.05136 0.40608 0.04905 0.41111 0.04766 C 0.41841 0.04257 0.42275 0.03586 0.42778 0.02892 C 0.42865 0.02799 0.42969 0.02707 0.43056 0.02614 C 0.43195 0.02429 0.43438 0.02059 0.43438 0.02082 C 0.43525 0.0162 0.43559 0.01388 0.43802 0.01018 C 0.44115 0.00093 0.43976 0.00648 0.43976 -0.00647 E">
                                      <p:cBhvr>
                                        <p:cTn id="446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9918-9B94-43D3-A163-3663C51215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1"/>
          <p:cNvSpPr/>
          <p:nvPr/>
        </p:nvSpPr>
        <p:spPr>
          <a:xfrm>
            <a:off x="3951360" y="234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5"/>
          <p:cNvGrpSpPr/>
          <p:nvPr/>
        </p:nvGrpSpPr>
        <p:grpSpPr>
          <a:xfrm>
            <a:off x="1902240" y="1784880"/>
            <a:ext cx="5145480" cy="2888640"/>
            <a:chOff x="1902240" y="1784880"/>
            <a:chExt cx="5145480" cy="2888640"/>
          </a:xfrm>
        </p:grpSpPr>
        <p:sp>
          <p:nvSpPr>
            <p:cNvPr id="47" name="Line 7"/>
            <p:cNvSpPr/>
            <p:nvPr/>
          </p:nvSpPr>
          <p:spPr>
            <a:xfrm>
              <a:off x="2240280" y="1784880"/>
              <a:ext cx="4807440" cy="158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8"/>
            <p:cNvSpPr/>
            <p:nvPr/>
          </p:nvSpPr>
          <p:spPr>
            <a:xfrm>
              <a:off x="1902240" y="4660560"/>
              <a:ext cx="4924800" cy="129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9"/>
          <p:cNvSpPr/>
          <p:nvPr/>
        </p:nvSpPr>
        <p:spPr>
          <a:xfrm rot="16200000">
            <a:off x="2954160" y="2238480"/>
            <a:ext cx="2803680" cy="20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3299400" y="479880"/>
            <a:ext cx="2132640" cy="4800960"/>
            <a:chOff x="3299400" y="479880"/>
            <a:chExt cx="2132640" cy="4800960"/>
          </a:xfrm>
        </p:grpSpPr>
        <p:sp>
          <p:nvSpPr>
            <p:cNvPr id="51" name="Line 10"/>
            <p:cNvSpPr/>
            <p:nvPr/>
          </p:nvSpPr>
          <p:spPr>
            <a:xfrm flipV="1">
              <a:off x="3299400" y="1067040"/>
              <a:ext cx="27360" cy="4213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 flipV="1">
              <a:off x="5419800" y="479880"/>
              <a:ext cx="12240" cy="46328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4"/>
          <p:cNvGrpSpPr/>
          <p:nvPr/>
        </p:nvGrpSpPr>
        <p:grpSpPr>
          <a:xfrm>
            <a:off x="1744920" y="2263320"/>
            <a:ext cx="4874040" cy="2079360"/>
            <a:chOff x="1744920" y="2263320"/>
            <a:chExt cx="4874040" cy="2079360"/>
          </a:xfrm>
        </p:grpSpPr>
        <p:sp>
          <p:nvSpPr>
            <p:cNvPr id="54" name="Line 4"/>
            <p:cNvSpPr/>
            <p:nvPr/>
          </p:nvSpPr>
          <p:spPr>
            <a:xfrm>
              <a:off x="1744920" y="2263320"/>
              <a:ext cx="4213800" cy="1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 flipV="1">
              <a:off x="1986840" y="4326120"/>
              <a:ext cx="4632120" cy="165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6"/>
          <p:cNvGrpSpPr/>
          <p:nvPr/>
        </p:nvGrpSpPr>
        <p:grpSpPr>
          <a:xfrm>
            <a:off x="3093480" y="699840"/>
            <a:ext cx="1978920" cy="5526000"/>
            <a:chOff x="3093480" y="699840"/>
            <a:chExt cx="1978920" cy="5526000"/>
          </a:xfrm>
        </p:grpSpPr>
        <p:sp>
          <p:nvSpPr>
            <p:cNvPr id="57" name="Line 11"/>
            <p:cNvSpPr/>
            <p:nvPr/>
          </p:nvSpPr>
          <p:spPr>
            <a:xfrm flipH="1">
              <a:off x="5043960" y="1393200"/>
              <a:ext cx="28440" cy="4832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 flipH="1">
              <a:off x="3093480" y="699840"/>
              <a:ext cx="17280" cy="54302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3"/>
          <p:cNvSpPr/>
          <p:nvPr/>
        </p:nvSpPr>
        <p:spPr>
          <a:xfrm>
            <a:off x="3133800" y="2276640"/>
            <a:ext cx="1869840" cy="20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473040" y="243000"/>
            <a:ext cx="55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1"/>
          <p:cNvGrpSpPr/>
          <p:nvPr/>
        </p:nvGrpSpPr>
        <p:grpSpPr>
          <a:xfrm>
            <a:off x="1835280" y="1197000"/>
            <a:ext cx="4819680" cy="3889080"/>
            <a:chOff x="1835280" y="1197000"/>
            <a:chExt cx="4819680" cy="3889080"/>
          </a:xfrm>
        </p:grpSpPr>
        <p:sp>
          <p:nvSpPr>
            <p:cNvPr id="62" name="Line 6"/>
            <p:cNvSpPr/>
            <p:nvPr/>
          </p:nvSpPr>
          <p:spPr>
            <a:xfrm flipV="1">
              <a:off x="1835280" y="1197000"/>
              <a:ext cx="2449440" cy="3456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9"/>
            <p:cNvSpPr/>
            <p:nvPr/>
          </p:nvSpPr>
          <p:spPr>
            <a:xfrm flipV="1">
              <a:off x="4211640" y="1557000"/>
              <a:ext cx="2443320" cy="3529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0"/>
          <p:cNvGrpSpPr/>
          <p:nvPr/>
        </p:nvGrpSpPr>
        <p:grpSpPr>
          <a:xfrm>
            <a:off x="1258920" y="1989000"/>
            <a:ext cx="5834160" cy="2303640"/>
            <a:chOff x="1258920" y="1989000"/>
            <a:chExt cx="5834160" cy="2303640"/>
          </a:xfrm>
        </p:grpSpPr>
        <p:sp>
          <p:nvSpPr>
            <p:cNvPr id="65" name="Line 10"/>
            <p:cNvSpPr/>
            <p:nvPr/>
          </p:nvSpPr>
          <p:spPr>
            <a:xfrm>
              <a:off x="2050920" y="1989000"/>
              <a:ext cx="504216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1258920" y="4292640"/>
              <a:ext cx="561816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18"/>
          <p:cNvSpPr/>
          <p:nvPr/>
        </p:nvSpPr>
        <p:spPr>
          <a:xfrm>
            <a:off x="2124000" y="2060640"/>
            <a:ext cx="4176720" cy="2232000"/>
          </a:xfrm>
          <a:prstGeom prst="parallelogram">
            <a:avLst>
              <a:gd name="adj" fmla="val 7007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4"/>
          <p:cNvGrpSpPr/>
          <p:nvPr/>
        </p:nvGrpSpPr>
        <p:grpSpPr>
          <a:xfrm>
            <a:off x="1547640" y="1844640"/>
            <a:ext cx="5904000" cy="2376360"/>
            <a:chOff x="1547640" y="1844640"/>
            <a:chExt cx="5904000" cy="2376360"/>
          </a:xfrm>
        </p:grpSpPr>
        <p:sp>
          <p:nvSpPr>
            <p:cNvPr id="69" name="Line 4"/>
            <p:cNvSpPr/>
            <p:nvPr/>
          </p:nvSpPr>
          <p:spPr>
            <a:xfrm>
              <a:off x="1619280" y="1844640"/>
              <a:ext cx="56894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"/>
            <p:cNvSpPr/>
            <p:nvPr/>
          </p:nvSpPr>
          <p:spPr>
            <a:xfrm>
              <a:off x="1547640" y="4219560"/>
              <a:ext cx="5904000" cy="1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5"/>
          <p:cNvGrpSpPr/>
          <p:nvPr/>
        </p:nvGrpSpPr>
        <p:grpSpPr>
          <a:xfrm>
            <a:off x="2140560" y="953280"/>
            <a:ext cx="4397760" cy="3967920"/>
            <a:chOff x="2140560" y="953280"/>
            <a:chExt cx="4397760" cy="3967920"/>
          </a:xfrm>
        </p:grpSpPr>
        <p:sp>
          <p:nvSpPr>
            <p:cNvPr id="72" name="Line 7"/>
            <p:cNvSpPr/>
            <p:nvPr/>
          </p:nvSpPr>
          <p:spPr>
            <a:xfrm>
              <a:off x="4977360" y="1144440"/>
              <a:ext cx="1560960" cy="37767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8"/>
            <p:cNvSpPr/>
            <p:nvPr/>
          </p:nvSpPr>
          <p:spPr>
            <a:xfrm flipH="1">
              <a:off x="2140560" y="953280"/>
              <a:ext cx="1620360" cy="3861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3"/>
          <p:cNvSpPr/>
          <p:nvPr/>
        </p:nvSpPr>
        <p:spPr>
          <a:xfrm rot="10800000">
            <a:off x="2484360" y="1915920"/>
            <a:ext cx="3672000" cy="22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"/>
          <p:cNvSpPr/>
          <p:nvPr/>
        </p:nvSpPr>
        <p:spPr>
          <a:xfrm>
            <a:off x="684360" y="3789360"/>
            <a:ext cx="3314520" cy="1368360"/>
          </a:xfrm>
          <a:prstGeom prst="parallelogram">
            <a:avLst>
              <a:gd name="adj" fmla="val 9071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187280" y="1701720"/>
            <a:ext cx="238140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724360" y="1630440"/>
            <a:ext cx="1514520" cy="1438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 rot="10800000">
            <a:off x="5076360" y="3715920"/>
            <a:ext cx="266724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348000" y="63972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四 边 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116000" y="2637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 rot="5400000">
            <a:off x="1131480" y="1645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 rot="10800000">
            <a:off x="3203640" y="16614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 rot="16200000">
            <a:off x="3219480" y="26524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 rot="10800000">
            <a:off x="6875280" y="15901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 rot="16200000">
            <a:off x="6857640" y="2724840"/>
            <a:ext cx="4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 rot="5400000">
            <a:off x="5669280" y="1573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651640" y="270828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0"/>
          <p:cNvGrpSpPr/>
          <p:nvPr/>
        </p:nvGrpSpPr>
        <p:grpSpPr>
          <a:xfrm>
            <a:off x="1187280" y="1700280"/>
            <a:ext cx="2376720" cy="1297080"/>
            <a:chOff x="1187280" y="1700280"/>
            <a:chExt cx="2376720" cy="1297080"/>
          </a:xfrm>
        </p:grpSpPr>
        <p:sp>
          <p:nvSpPr>
            <p:cNvPr id="89" name="Line 28"/>
            <p:cNvSpPr/>
            <p:nvPr/>
          </p:nvSpPr>
          <p:spPr>
            <a:xfrm>
              <a:off x="1187280" y="2997360"/>
              <a:ext cx="2376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>
              <a:off x="1187280" y="1700280"/>
              <a:ext cx="2376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3"/>
          <p:cNvGrpSpPr/>
          <p:nvPr/>
        </p:nvGrpSpPr>
        <p:grpSpPr>
          <a:xfrm>
            <a:off x="1187280" y="1700280"/>
            <a:ext cx="2376720" cy="1297080"/>
            <a:chOff x="1187280" y="1700280"/>
            <a:chExt cx="2376720" cy="1297080"/>
          </a:xfrm>
        </p:grpSpPr>
        <p:sp>
          <p:nvSpPr>
            <p:cNvPr id="92" name="Line 31"/>
            <p:cNvSpPr/>
            <p:nvPr/>
          </p:nvSpPr>
          <p:spPr>
            <a:xfrm>
              <a:off x="3564000" y="1700280"/>
              <a:ext cx="0" cy="12970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2"/>
            <p:cNvSpPr/>
            <p:nvPr/>
          </p:nvSpPr>
          <p:spPr>
            <a:xfrm>
              <a:off x="1187280" y="1700280"/>
              <a:ext cx="0" cy="12970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42"/>
          <p:cNvGrpSpPr/>
          <p:nvPr/>
        </p:nvGrpSpPr>
        <p:grpSpPr>
          <a:xfrm>
            <a:off x="5724360" y="1628640"/>
            <a:ext cx="1511640" cy="1440000"/>
            <a:chOff x="5724360" y="1628640"/>
            <a:chExt cx="1511640" cy="1440000"/>
          </a:xfrm>
        </p:grpSpPr>
        <p:sp>
          <p:nvSpPr>
            <p:cNvPr id="95" name="Line 37"/>
            <p:cNvSpPr/>
            <p:nvPr/>
          </p:nvSpPr>
          <p:spPr>
            <a:xfrm>
              <a:off x="5724360" y="1628640"/>
              <a:ext cx="0" cy="1440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8"/>
            <p:cNvSpPr/>
            <p:nvPr/>
          </p:nvSpPr>
          <p:spPr>
            <a:xfrm>
              <a:off x="7236000" y="1628640"/>
              <a:ext cx="0" cy="1440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1"/>
          <p:cNvGrpSpPr/>
          <p:nvPr/>
        </p:nvGrpSpPr>
        <p:grpSpPr>
          <a:xfrm>
            <a:off x="5724360" y="1628640"/>
            <a:ext cx="1511640" cy="1440000"/>
            <a:chOff x="5724360" y="1628640"/>
            <a:chExt cx="1511640" cy="1440000"/>
          </a:xfrm>
        </p:grpSpPr>
        <p:sp>
          <p:nvSpPr>
            <p:cNvPr id="98" name="Line 39"/>
            <p:cNvSpPr/>
            <p:nvPr/>
          </p:nvSpPr>
          <p:spPr>
            <a:xfrm>
              <a:off x="5724360" y="1628640"/>
              <a:ext cx="15116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0"/>
            <p:cNvSpPr/>
            <p:nvPr/>
          </p:nvSpPr>
          <p:spPr>
            <a:xfrm>
              <a:off x="5724360" y="3068640"/>
              <a:ext cx="15116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46"/>
          <p:cNvGrpSpPr/>
          <p:nvPr/>
        </p:nvGrpSpPr>
        <p:grpSpPr>
          <a:xfrm>
            <a:off x="684360" y="3789360"/>
            <a:ext cx="3311280" cy="1368360"/>
            <a:chOff x="684360" y="3789360"/>
            <a:chExt cx="3311280" cy="1368360"/>
          </a:xfrm>
        </p:grpSpPr>
        <p:sp>
          <p:nvSpPr>
            <p:cNvPr id="101" name="Line 44"/>
            <p:cNvSpPr/>
            <p:nvPr/>
          </p:nvSpPr>
          <p:spPr>
            <a:xfrm>
              <a:off x="684360" y="5157720"/>
              <a:ext cx="20872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5"/>
            <p:cNvSpPr/>
            <p:nvPr/>
          </p:nvSpPr>
          <p:spPr>
            <a:xfrm>
              <a:off x="1908000" y="3789360"/>
              <a:ext cx="20876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50"/>
          <p:cNvGrpSpPr/>
          <p:nvPr/>
        </p:nvGrpSpPr>
        <p:grpSpPr>
          <a:xfrm>
            <a:off x="684000" y="3789360"/>
            <a:ext cx="3311640" cy="1368360"/>
            <a:chOff x="684000" y="3789360"/>
            <a:chExt cx="3311640" cy="1368360"/>
          </a:xfrm>
        </p:grpSpPr>
        <p:sp>
          <p:nvSpPr>
            <p:cNvPr id="104" name="Line 48"/>
            <p:cNvSpPr/>
            <p:nvPr/>
          </p:nvSpPr>
          <p:spPr>
            <a:xfrm flipH="1">
              <a:off x="2771640" y="3789360"/>
              <a:ext cx="1224000" cy="1368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 flipH="1">
              <a:off x="684000" y="3789360"/>
              <a:ext cx="1223640" cy="1368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7"/>
          <p:cNvSpPr/>
          <p:nvPr/>
        </p:nvSpPr>
        <p:spPr>
          <a:xfrm>
            <a:off x="2914560" y="4428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平行四边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6"/>
          <p:cNvGrpSpPr/>
          <p:nvPr/>
        </p:nvGrpSpPr>
        <p:grpSpPr>
          <a:xfrm>
            <a:off x="395280" y="1989000"/>
            <a:ext cx="2521080" cy="1441440"/>
            <a:chOff x="395280" y="1989000"/>
            <a:chExt cx="2521080" cy="1441440"/>
          </a:xfrm>
        </p:grpSpPr>
        <p:grpSp>
          <p:nvGrpSpPr>
            <p:cNvPr id="108" name="Group 35"/>
            <p:cNvGrpSpPr/>
            <p:nvPr/>
          </p:nvGrpSpPr>
          <p:grpSpPr>
            <a:xfrm>
              <a:off x="466560" y="2062080"/>
              <a:ext cx="2381400" cy="1297080"/>
              <a:chOff x="466560" y="2062080"/>
              <a:chExt cx="2381400" cy="1297080"/>
            </a:xfrm>
          </p:grpSpPr>
          <p:grpSp>
            <p:nvGrpSpPr>
              <p:cNvPr id="109" name="Group 34"/>
              <p:cNvGrpSpPr/>
              <p:nvPr/>
            </p:nvGrpSpPr>
            <p:grpSpPr>
              <a:xfrm>
                <a:off x="466560" y="2062080"/>
                <a:ext cx="2381400" cy="1297080"/>
                <a:chOff x="466560" y="2062080"/>
                <a:chExt cx="2381400" cy="1297080"/>
              </a:xfrm>
            </p:grpSpPr>
            <p:sp>
              <p:nvSpPr>
                <p:cNvPr id="110" name="Rectangle 4"/>
                <p:cNvSpPr/>
                <p:nvPr/>
              </p:nvSpPr>
              <p:spPr>
                <a:xfrm>
                  <a:off x="466560" y="2063520"/>
                  <a:ext cx="2381400" cy="129564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Group 16"/>
                <p:cNvGrpSpPr/>
                <p:nvPr/>
              </p:nvGrpSpPr>
              <p:grpSpPr>
                <a:xfrm>
                  <a:off x="466560" y="2062080"/>
                  <a:ext cx="2376720" cy="1297080"/>
                  <a:chOff x="466560" y="2062080"/>
                  <a:chExt cx="2376720" cy="1297080"/>
                </a:xfrm>
              </p:grpSpPr>
              <p:sp>
                <p:nvSpPr>
                  <p:cNvPr id="112" name="Line 17"/>
                  <p:cNvSpPr/>
                  <p:nvPr/>
                </p:nvSpPr>
                <p:spPr>
                  <a:xfrm>
                    <a:off x="466560" y="3359160"/>
                    <a:ext cx="2376720" cy="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18"/>
                  <p:cNvSpPr/>
                  <p:nvPr/>
                </p:nvSpPr>
                <p:spPr>
                  <a:xfrm>
                    <a:off x="466560" y="2062080"/>
                    <a:ext cx="2376720" cy="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Group 19"/>
              <p:cNvGrpSpPr/>
              <p:nvPr/>
            </p:nvGrpSpPr>
            <p:grpSpPr>
              <a:xfrm>
                <a:off x="466560" y="2062080"/>
                <a:ext cx="2376720" cy="1297080"/>
                <a:chOff x="466560" y="2062080"/>
                <a:chExt cx="2376720" cy="1297080"/>
              </a:xfrm>
            </p:grpSpPr>
            <p:sp>
              <p:nvSpPr>
                <p:cNvPr id="115" name="Line 20"/>
                <p:cNvSpPr/>
                <p:nvPr/>
              </p:nvSpPr>
              <p:spPr>
                <a:xfrm>
                  <a:off x="2843280" y="2062080"/>
                  <a:ext cx="0" cy="1297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1"/>
                <p:cNvSpPr/>
                <p:nvPr/>
              </p:nvSpPr>
              <p:spPr>
                <a:xfrm>
                  <a:off x="466560" y="2062080"/>
                  <a:ext cx="0" cy="1297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Text Box 8"/>
            <p:cNvSpPr/>
            <p:nvPr/>
          </p:nvSpPr>
          <p:spPr>
            <a:xfrm>
              <a:off x="395280" y="299880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 rot="5400000">
              <a:off x="409320" y="200628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 rot="10800000">
              <a:off x="2482920" y="202320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 rot="16200000">
              <a:off x="2498760" y="301428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7"/>
          <p:cNvGrpSpPr/>
          <p:nvPr/>
        </p:nvGrpSpPr>
        <p:grpSpPr>
          <a:xfrm>
            <a:off x="3492360" y="1916280"/>
            <a:ext cx="1656720" cy="1583640"/>
            <a:chOff x="3492360" y="1916280"/>
            <a:chExt cx="1656720" cy="1583640"/>
          </a:xfrm>
        </p:grpSpPr>
        <p:sp>
          <p:nvSpPr>
            <p:cNvPr id="122" name="Rectangle 5"/>
            <p:cNvSpPr/>
            <p:nvPr/>
          </p:nvSpPr>
          <p:spPr>
            <a:xfrm>
              <a:off x="3565080" y="1990800"/>
              <a:ext cx="1514520" cy="1438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 rot="10800000">
              <a:off x="4716000" y="195048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 rot="16200000">
              <a:off x="4699080" y="30837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4"/>
            <p:cNvSpPr/>
            <p:nvPr/>
          </p:nvSpPr>
          <p:spPr>
            <a:xfrm rot="5400000">
              <a:off x="3507840" y="193320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3492360" y="306864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2"/>
            <p:cNvGrpSpPr/>
            <p:nvPr/>
          </p:nvGrpSpPr>
          <p:grpSpPr>
            <a:xfrm>
              <a:off x="3565080" y="1989000"/>
              <a:ext cx="1511640" cy="1440000"/>
              <a:chOff x="3565080" y="1989000"/>
              <a:chExt cx="1511640" cy="1440000"/>
            </a:xfrm>
          </p:grpSpPr>
          <p:sp>
            <p:nvSpPr>
              <p:cNvPr id="128" name="Line 23"/>
              <p:cNvSpPr/>
              <p:nvPr/>
            </p:nvSpPr>
            <p:spPr>
              <a:xfrm>
                <a:off x="3565080" y="1989000"/>
                <a:ext cx="0" cy="1440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5076720" y="1989000"/>
                <a:ext cx="0" cy="1440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5"/>
            <p:cNvGrpSpPr/>
            <p:nvPr/>
          </p:nvGrpSpPr>
          <p:grpSpPr>
            <a:xfrm>
              <a:off x="3565080" y="1989000"/>
              <a:ext cx="1511640" cy="1440000"/>
              <a:chOff x="3565080" y="1989000"/>
              <a:chExt cx="1511640" cy="1440000"/>
            </a:xfrm>
          </p:grpSpPr>
          <p:sp>
            <p:nvSpPr>
              <p:cNvPr id="131" name="Line 26"/>
              <p:cNvSpPr/>
              <p:nvPr/>
            </p:nvSpPr>
            <p:spPr>
              <a:xfrm>
                <a:off x="3565080" y="1989000"/>
                <a:ext cx="15116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>
                <a:off x="3565080" y="3429000"/>
                <a:ext cx="15116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60"/>
          <p:cNvGrpSpPr/>
          <p:nvPr/>
        </p:nvGrpSpPr>
        <p:grpSpPr>
          <a:xfrm>
            <a:off x="5433480" y="2060640"/>
            <a:ext cx="3314880" cy="1368360"/>
            <a:chOff x="5433480" y="2060640"/>
            <a:chExt cx="3314880" cy="1368360"/>
          </a:xfrm>
        </p:grpSpPr>
        <p:sp>
          <p:nvSpPr>
            <p:cNvPr id="134" name="AutoShape 3"/>
            <p:cNvSpPr/>
            <p:nvPr/>
          </p:nvSpPr>
          <p:spPr>
            <a:xfrm>
              <a:off x="5433840" y="2060640"/>
              <a:ext cx="3314520" cy="1368360"/>
            </a:xfrm>
            <a:prstGeom prst="parallelogram">
              <a:avLst>
                <a:gd name="adj" fmla="val 90711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59"/>
            <p:cNvGrpSpPr/>
            <p:nvPr/>
          </p:nvGrpSpPr>
          <p:grpSpPr>
            <a:xfrm>
              <a:off x="5433480" y="2060640"/>
              <a:ext cx="3311640" cy="1368360"/>
              <a:chOff x="5433480" y="2060640"/>
              <a:chExt cx="3311640" cy="1368360"/>
            </a:xfrm>
          </p:grpSpPr>
          <p:grpSp>
            <p:nvGrpSpPr>
              <p:cNvPr id="136" name="Group 53"/>
              <p:cNvGrpSpPr/>
              <p:nvPr/>
            </p:nvGrpSpPr>
            <p:grpSpPr>
              <a:xfrm>
                <a:off x="5433840" y="2060640"/>
                <a:ext cx="3311280" cy="1368360"/>
                <a:chOff x="5433840" y="2060640"/>
                <a:chExt cx="3311280" cy="1368360"/>
              </a:xfrm>
            </p:grpSpPr>
            <p:sp>
              <p:nvSpPr>
                <p:cNvPr id="137" name="Line 54"/>
                <p:cNvSpPr/>
                <p:nvPr/>
              </p:nvSpPr>
              <p:spPr>
                <a:xfrm>
                  <a:off x="5433840" y="3429000"/>
                  <a:ext cx="20872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5"/>
                <p:cNvSpPr/>
                <p:nvPr/>
              </p:nvSpPr>
              <p:spPr>
                <a:xfrm>
                  <a:off x="6657480" y="2060640"/>
                  <a:ext cx="20876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56"/>
              <p:cNvGrpSpPr/>
              <p:nvPr/>
            </p:nvGrpSpPr>
            <p:grpSpPr>
              <a:xfrm>
                <a:off x="5433480" y="2060640"/>
                <a:ext cx="3311640" cy="1368360"/>
                <a:chOff x="5433480" y="2060640"/>
                <a:chExt cx="3311640" cy="1368360"/>
              </a:xfrm>
            </p:grpSpPr>
            <p:sp>
              <p:nvSpPr>
                <p:cNvPr id="140" name="Line 57"/>
                <p:cNvSpPr/>
                <p:nvPr/>
              </p:nvSpPr>
              <p:spPr>
                <a:xfrm flipH="1">
                  <a:off x="7521120" y="2060640"/>
                  <a:ext cx="1224000" cy="1368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8"/>
                <p:cNvSpPr/>
                <p:nvPr/>
              </p:nvSpPr>
              <p:spPr>
                <a:xfrm flipH="1">
                  <a:off x="5433480" y="2060640"/>
                  <a:ext cx="1223640" cy="1368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Text Box 61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8567640" cy="641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2" descr="5"/>
          <p:cNvPicPr/>
          <p:nvPr/>
        </p:nvPicPr>
        <p:blipFill>
          <a:blip r:embed="rId2"/>
          <a:srcRect l="11326" t="32326" r="71177" b="27027"/>
          <a:stretch/>
        </p:blipFill>
        <p:spPr>
          <a:xfrm>
            <a:off x="179280" y="189000"/>
            <a:ext cx="144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490920" y="3240"/>
            <a:ext cx="259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梯  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Text Box 39" descr=""/>
          <p:cNvPicPr/>
          <p:nvPr/>
        </p:nvPicPr>
        <p:blipFill>
          <a:blip r:embed="rId1"/>
          <a:stretch/>
        </p:blipFill>
        <p:spPr>
          <a:xfrm>
            <a:off x="1187280" y="4149720"/>
            <a:ext cx="7417080" cy="641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0" descr="5"/>
          <p:cNvPicPr/>
          <p:nvPr/>
        </p:nvPicPr>
        <p:blipFill>
          <a:blip r:embed="rId2"/>
          <a:srcRect l="11326" t="32326" r="71177" b="27027"/>
          <a:stretch/>
        </p:blipFill>
        <p:spPr>
          <a:xfrm>
            <a:off x="395280" y="26028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1"/>
          <p:cNvSpPr/>
          <p:nvPr/>
        </p:nvSpPr>
        <p:spPr>
          <a:xfrm rot="10800000">
            <a:off x="3131640" y="1989000"/>
            <a:ext cx="2667240" cy="136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4"/>
          <p:cNvGrpSpPr/>
          <p:nvPr/>
        </p:nvGrpSpPr>
        <p:grpSpPr>
          <a:xfrm>
            <a:off x="3132000" y="1989000"/>
            <a:ext cx="2664000" cy="1368720"/>
            <a:chOff x="3132000" y="1989000"/>
            <a:chExt cx="2664000" cy="1368720"/>
          </a:xfrm>
        </p:grpSpPr>
        <p:sp>
          <p:nvSpPr>
            <p:cNvPr id="149" name="Line 42"/>
            <p:cNvSpPr/>
            <p:nvPr/>
          </p:nvSpPr>
          <p:spPr>
            <a:xfrm>
              <a:off x="3780000" y="1989000"/>
              <a:ext cx="1368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43"/>
            <p:cNvSpPr/>
            <p:nvPr/>
          </p:nvSpPr>
          <p:spPr>
            <a:xfrm>
              <a:off x="3132000" y="3357720"/>
              <a:ext cx="266400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46"/>
          <p:cNvSpPr/>
          <p:nvPr/>
        </p:nvSpPr>
        <p:spPr>
          <a:xfrm>
            <a:off x="1187280" y="4218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只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8"/>
          <p:cNvGrpSpPr/>
          <p:nvPr/>
        </p:nvGrpSpPr>
        <p:grpSpPr>
          <a:xfrm>
            <a:off x="3132000" y="1989000"/>
            <a:ext cx="2664000" cy="1368720"/>
            <a:chOff x="3132000" y="1989000"/>
            <a:chExt cx="2664000" cy="1368720"/>
          </a:xfrm>
        </p:grpSpPr>
        <p:sp>
          <p:nvSpPr>
            <p:cNvPr id="153" name="Line 49"/>
            <p:cNvSpPr/>
            <p:nvPr/>
          </p:nvSpPr>
          <p:spPr>
            <a:xfrm>
              <a:off x="3780000" y="1989000"/>
              <a:ext cx="1368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0"/>
            <p:cNvSpPr/>
            <p:nvPr/>
          </p:nvSpPr>
          <p:spPr>
            <a:xfrm>
              <a:off x="3132000" y="3357720"/>
              <a:ext cx="266400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1"/>
          <p:cNvSpPr/>
          <p:nvPr/>
        </p:nvSpPr>
        <p:spPr>
          <a:xfrm>
            <a:off x="97164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（唯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3"/>
          <p:cNvSpPr/>
          <p:nvPr/>
        </p:nvSpPr>
        <p:spPr>
          <a:xfrm>
            <a:off x="1332000" y="3500280"/>
            <a:ext cx="741672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2"/>
          <p:cNvSpPr/>
          <p:nvPr/>
        </p:nvSpPr>
        <p:spPr>
          <a:xfrm>
            <a:off x="1812960" y="5087880"/>
            <a:ext cx="558792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907920" y="220500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1"/>
          <p:cNvSpPr/>
          <p:nvPr/>
        </p:nvSpPr>
        <p:spPr>
          <a:xfrm>
            <a:off x="2843280" y="1773360"/>
            <a:ext cx="685800" cy="1295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2"/>
          <p:cNvSpPr/>
          <p:nvPr/>
        </p:nvSpPr>
        <p:spPr>
          <a:xfrm>
            <a:off x="4216320" y="2019240"/>
            <a:ext cx="1219320" cy="762120"/>
          </a:xfrm>
          <a:prstGeom prst="triangle">
            <a:avLst>
              <a:gd name="adj" fmla="val 807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4"/>
          <p:cNvSpPr/>
          <p:nvPr/>
        </p:nvSpPr>
        <p:spPr>
          <a:xfrm rot="5400000">
            <a:off x="4500000" y="3751200"/>
            <a:ext cx="9144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88" y="21600"/>
                </a:lnTo>
                <a:lnTo>
                  <a:pt x="1481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5"/>
          <p:cNvSpPr/>
          <p:nvPr/>
        </p:nvSpPr>
        <p:spPr>
          <a:xfrm rot="5400000">
            <a:off x="713520" y="3775680"/>
            <a:ext cx="2057400" cy="642960"/>
          </a:xfrm>
          <a:prstGeom prst="parallelogram">
            <a:avLst>
              <a:gd name="adj" fmla="val 808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6"/>
          <p:cNvSpPr/>
          <p:nvPr/>
        </p:nvSpPr>
        <p:spPr>
          <a:xfrm>
            <a:off x="7596360" y="3586320"/>
            <a:ext cx="990360" cy="10666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3203640" y="3284640"/>
            <a:ext cx="3045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7377120" y="2133720"/>
            <a:ext cx="13716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1"/>
          <p:cNvSpPr/>
          <p:nvPr/>
        </p:nvSpPr>
        <p:spPr>
          <a:xfrm>
            <a:off x="6040440" y="3746520"/>
            <a:ext cx="762120" cy="7621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1763640" y="5589720"/>
            <a:ext cx="2210040" cy="457200"/>
          </a:xfrm>
          <a:prstGeom prst="parallelogram">
            <a:avLst>
              <a:gd name="adj" fmla="val 1486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6372360" y="5229360"/>
            <a:ext cx="1066680" cy="977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3"/>
          <p:cNvSpPr/>
          <p:nvPr/>
        </p:nvSpPr>
        <p:spPr>
          <a:xfrm>
            <a:off x="8058240" y="5157720"/>
            <a:ext cx="761760" cy="10670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486108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5"/>
          <p:cNvSpPr/>
          <p:nvPr/>
        </p:nvSpPr>
        <p:spPr>
          <a:xfrm>
            <a:off x="8029440" y="5635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6"/>
          <p:cNvSpPr/>
          <p:nvPr/>
        </p:nvSpPr>
        <p:spPr>
          <a:xfrm>
            <a:off x="179280" y="333360"/>
            <a:ext cx="1800360" cy="1008000"/>
          </a:xfrm>
          <a:custGeom>
            <a:avLst/>
            <a:gdLst>
              <a:gd name="textAreaLeft" fmla="*/ 21960 w 1800360"/>
              <a:gd name="textAreaRight" fmla="*/ 1822680 w 1800360"/>
              <a:gd name="textAreaTop" fmla="*/ 262080 h 1008000"/>
              <a:gd name="textAreaBottom" fmla="*/ 745920 h 1008000"/>
            </a:gdLst>
            <a:ahLst/>
            <a:rect l="textAreaLeft" t="textAreaTop" r="textAreaRight" b="textAreaBottom"/>
            <a:pathLst>
              <a:path w="21600" h="21600">
                <a:moveTo>
                  <a:pt x="266" y="2809"/>
                </a:moveTo>
                <a:cubicBezTo>
                  <a:pt x="7333" y="-7142"/>
                  <a:pt x="14533" y="12760"/>
                  <a:pt x="21600" y="2809"/>
                </a:cubicBezTo>
                <a:lnTo>
                  <a:pt x="21334" y="18791"/>
                </a:lnTo>
                <a:cubicBezTo>
                  <a:pt x="14267" y="28742"/>
                  <a:pt x="7067" y="8840"/>
                  <a:pt x="0" y="18791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8"/>
          <p:cNvSpPr/>
          <p:nvPr/>
        </p:nvSpPr>
        <p:spPr>
          <a:xfrm>
            <a:off x="250920" y="476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找一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7"/>
          <p:cNvSpPr/>
          <p:nvPr/>
        </p:nvSpPr>
        <p:spPr>
          <a:xfrm>
            <a:off x="1079640" y="-50004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61"/>
          <p:cNvSpPr/>
          <p:nvPr/>
        </p:nvSpPr>
        <p:spPr>
          <a:xfrm>
            <a:off x="4356000" y="5013360"/>
            <a:ext cx="2016360" cy="1297080"/>
          </a:xfrm>
          <a:custGeom>
            <a:avLst/>
            <a:gdLst/>
            <a:ahLst/>
            <a:rect l="l" t="t" r="r" b="b"/>
            <a:pathLst>
              <a:path w="1360" h="1270">
                <a:moveTo>
                  <a:pt x="0" y="499"/>
                </a:moveTo>
                <a:lnTo>
                  <a:pt x="272" y="1270"/>
                </a:lnTo>
                <a:lnTo>
                  <a:pt x="1360" y="0"/>
                </a:lnTo>
                <a:lnTo>
                  <a:pt x="363" y="725"/>
                </a:lnTo>
                <a:lnTo>
                  <a:pt x="0" y="49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5867280" y="2276640"/>
            <a:ext cx="1657440" cy="865080"/>
          </a:xfrm>
          <a:custGeom>
            <a:avLst/>
            <a:gdLst/>
            <a:ahLst/>
            <a:rect l="l" t="t" r="r" b="b"/>
            <a:pathLst>
              <a:path w="1361" h="726">
                <a:moveTo>
                  <a:pt x="317" y="0"/>
                </a:moveTo>
                <a:lnTo>
                  <a:pt x="0" y="726"/>
                </a:lnTo>
                <a:lnTo>
                  <a:pt x="1361" y="726"/>
                </a:lnTo>
                <a:lnTo>
                  <a:pt x="998" y="272"/>
                </a:lnTo>
                <a:lnTo>
                  <a:pt x="31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7"/>
          <p:cNvSpPr/>
          <p:nvPr/>
        </p:nvSpPr>
        <p:spPr>
          <a:xfrm>
            <a:off x="615816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Text Box 68" descr=""/>
          <p:cNvPicPr/>
          <p:nvPr/>
        </p:nvPicPr>
        <p:blipFill>
          <a:blip r:embed="rId1"/>
          <a:stretch/>
        </p:blipFill>
        <p:spPr>
          <a:xfrm>
            <a:off x="2122560" y="907920"/>
            <a:ext cx="6913440" cy="519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9"/>
          <p:cNvSpPr/>
          <p:nvPr/>
        </p:nvSpPr>
        <p:spPr>
          <a:xfrm>
            <a:off x="900000" y="2205000"/>
            <a:ext cx="11430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4"/>
          <p:cNvSpPr/>
          <p:nvPr/>
        </p:nvSpPr>
        <p:spPr>
          <a:xfrm>
            <a:off x="2843280" y="1773360"/>
            <a:ext cx="685800" cy="1295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5"/>
          <p:cNvSpPr/>
          <p:nvPr/>
        </p:nvSpPr>
        <p:spPr>
          <a:xfrm>
            <a:off x="7380360" y="2133720"/>
            <a:ext cx="13716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6"/>
          <p:cNvSpPr/>
          <p:nvPr/>
        </p:nvSpPr>
        <p:spPr>
          <a:xfrm rot="5400000">
            <a:off x="700560" y="3775680"/>
            <a:ext cx="2057400" cy="642960"/>
          </a:xfrm>
          <a:prstGeom prst="parallelogram">
            <a:avLst>
              <a:gd name="adj" fmla="val 80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7"/>
          <p:cNvSpPr/>
          <p:nvPr/>
        </p:nvSpPr>
        <p:spPr>
          <a:xfrm>
            <a:off x="3203640" y="3284640"/>
            <a:ext cx="3045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 rot="5400000">
            <a:off x="4492080" y="3759120"/>
            <a:ext cx="9144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88" y="21600"/>
                </a:lnTo>
                <a:lnTo>
                  <a:pt x="1481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6041880" y="3746520"/>
            <a:ext cx="762120" cy="76212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596360" y="3573360"/>
            <a:ext cx="990360" cy="1067040"/>
          </a:xfrm>
          <a:prstGeom prst="parallelogram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1"/>
          <p:cNvSpPr/>
          <p:nvPr/>
        </p:nvSpPr>
        <p:spPr>
          <a:xfrm>
            <a:off x="1763640" y="5589720"/>
            <a:ext cx="2210040" cy="457200"/>
          </a:xfrm>
          <a:prstGeom prst="parallelogram">
            <a:avLst>
              <a:gd name="adj" fmla="val 1486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4"/>
          <p:cNvSpPr/>
          <p:nvPr/>
        </p:nvSpPr>
        <p:spPr>
          <a:xfrm rot="5400000">
            <a:off x="331200" y="5508360"/>
            <a:ext cx="137160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2"/>
          <p:cNvSpPr/>
          <p:nvPr/>
        </p:nvSpPr>
        <p:spPr>
          <a:xfrm>
            <a:off x="6372360" y="5229360"/>
            <a:ext cx="1066680" cy="9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5"/>
          <p:cNvSpPr/>
          <p:nvPr/>
        </p:nvSpPr>
        <p:spPr>
          <a:xfrm rot="5400000">
            <a:off x="331200" y="5508360"/>
            <a:ext cx="137160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757080" y="54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4"/>
          <p:cNvSpPr/>
          <p:nvPr/>
        </p:nvSpPr>
        <p:spPr>
          <a:xfrm>
            <a:off x="1260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6"/>
          <p:cNvSpPr/>
          <p:nvPr/>
        </p:nvSpPr>
        <p:spPr>
          <a:xfrm>
            <a:off x="4573440" y="573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298944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7"/>
          <p:cNvSpPr/>
          <p:nvPr/>
        </p:nvSpPr>
        <p:spPr>
          <a:xfrm>
            <a:off x="7886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8"/>
          <p:cNvSpPr/>
          <p:nvPr/>
        </p:nvSpPr>
        <p:spPr>
          <a:xfrm>
            <a:off x="1549440" y="383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3205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4813560" y="383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625320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2"/>
          <p:cNvSpPr/>
          <p:nvPr/>
        </p:nvSpPr>
        <p:spPr>
          <a:xfrm>
            <a:off x="7813440" y="386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4"/>
          <p:cNvSpPr/>
          <p:nvPr/>
        </p:nvSpPr>
        <p:spPr>
          <a:xfrm>
            <a:off x="270180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6659640" y="544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4:39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8:11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