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36C-27EA-4318-9621-BC97C203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65B-3551-4B48-93AB-B0233AA5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B12-AF54-4EF7-A018-5AE3AB72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339-DD0B-4943-AA4C-CAE0F94E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0EF-3B3B-428C-A430-4791E5E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022-759C-49C2-AF98-FA66A91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675-23AB-4C1A-AFD8-C2ADF90F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6C3-6582-403B-A097-F1AE319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83E-CB17-422A-ACD3-C31B29E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DDF-7524-4784-A61F-8369E7FE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DB3-0C0A-4936-AFF4-A1A6FCA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EF5-FF6A-4FBB-AA1D-0A2FF37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B53-23DE-4B65-BE8C-6BF7F2EC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0" r="0" b="3773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希望.mp3" descr=""/>
          <p:cNvPicPr/>
          <p:nvPr/>
        </p:nvPicPr>
        <p:blipFill>
          <a:blip r:embed="rId2"/>
          <a:stretch/>
        </p:blipFill>
        <p:spPr>
          <a:xfrm>
            <a:off x="-6858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3" descr=""/>
          <p:cNvPicPr/>
          <p:nvPr/>
        </p:nvPicPr>
        <p:blipFill>
          <a:blip r:embed="rId3"/>
          <a:stretch/>
        </p:blipFill>
        <p:spPr>
          <a:xfrm>
            <a:off x="4498920" y="1258920"/>
            <a:ext cx="3529080" cy="4340160"/>
          </a:xfrm>
          <a:prstGeom prst="rect">
            <a:avLst/>
          </a:prstGeom>
          <a:ln w="0">
            <a:noFill/>
          </a:ln>
        </p:spPr>
      </p:pic>
      <p:sp>
        <p:nvSpPr>
          <p:cNvPr id="44" name="矩形 11"/>
          <p:cNvSpPr/>
          <p:nvPr/>
        </p:nvSpPr>
        <p:spPr>
          <a:xfrm>
            <a:off x="23821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438280" y="5540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秋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362320" y="1600200"/>
            <a:ext cx="61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春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38280" y="27432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夏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14600" y="3886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冬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42880" y="1325520"/>
            <a:ext cx="54936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14280" y="1630440"/>
            <a:ext cx="549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 rot="5400000">
            <a:off x="-914400" y="213336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敢动笔写写吗？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2193840" y="527832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 rot="5400000">
            <a:off x="2895480" y="3276360"/>
            <a:ext cx="1066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幸福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5715000" y="4191120"/>
            <a:ext cx="1905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遗憾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4572000" y="2362320"/>
            <a:ext cx="12952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美丽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85800" y="266688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快乐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9" name="WordArt 13"/>
          <p:cNvSpPr txBox="1"/>
          <p:nvPr/>
        </p:nvSpPr>
        <p:spPr>
          <a:xfrm rot="5400000">
            <a:off x="418680" y="79992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能找到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7924680" y="5105520"/>
            <a:ext cx="838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吗？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696440" y="46483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希望.mp3" descr=""/>
          <p:cNvPicPr/>
          <p:nvPr/>
        </p:nvPicPr>
        <p:blipFill>
          <a:blip r:embed="rId2"/>
          <a:stretch/>
        </p:blipFill>
        <p:spPr>
          <a:xfrm>
            <a:off x="-685800" y="5181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 rot="5400000">
            <a:off x="7657560" y="7236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746600" y="59356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6400800" y="5327640"/>
            <a:ext cx="236232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8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谢谢</a:t>
            </a:r>
            <a:endParaRPr b="0" lang="en-US" sz="2400" spc="1" strike="noStrike">
              <a:ln w="12600">
                <a:solidFill>
                  <a:srgbClr val="8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641160" y="-27000"/>
            <a:ext cx="8502840" cy="6885000"/>
            <a:chOff x="641160" y="-27000"/>
            <a:chExt cx="8502840" cy="6885000"/>
          </a:xfrm>
        </p:grpSpPr>
        <p:pic>
          <p:nvPicPr>
            <p:cNvPr id="108" name="Picture 2" descr="露珠"/>
            <p:cNvPicPr/>
            <p:nvPr/>
          </p:nvPicPr>
          <p:blipFill>
            <a:blip r:embed="rId1"/>
            <a:stretch/>
          </p:blipFill>
          <p:spPr>
            <a:xfrm>
              <a:off x="4648320" y="-27000"/>
              <a:ext cx="44956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收割"/>
            <p:cNvPicPr/>
            <p:nvPr/>
          </p:nvPicPr>
          <p:blipFill>
            <a:blip r:embed="rId2"/>
            <a:stretch/>
          </p:blipFill>
          <p:spPr>
            <a:xfrm>
              <a:off x="4648320" y="1916280"/>
              <a:ext cx="44956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" descr="收割2"/>
            <p:cNvPicPr/>
            <p:nvPr/>
          </p:nvPicPr>
          <p:blipFill>
            <a:blip r:embed="rId3"/>
            <a:stretch/>
          </p:blipFill>
          <p:spPr>
            <a:xfrm>
              <a:off x="6804000" y="3933720"/>
              <a:ext cx="234000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5"/>
            <p:cNvSpPr/>
            <p:nvPr/>
          </p:nvSpPr>
          <p:spPr>
            <a:xfrm>
              <a:off x="641160" y="3809880"/>
              <a:ext cx="3676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震落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露珠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伐木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飘出幽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放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镰刀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用背篓来装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瓜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秋天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农家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882000" y="765000"/>
              <a:ext cx="2930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思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比较删后的诗句和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节诗表达效果上有什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不同？能删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7" descr="水果"/>
            <p:cNvPicPr/>
            <p:nvPr/>
          </p:nvPicPr>
          <p:blipFill>
            <a:blip r:embed="rId4"/>
            <a:stretch/>
          </p:blipFill>
          <p:spPr>
            <a:xfrm>
              <a:off x="4648320" y="3906720"/>
              <a:ext cx="2303280" cy="295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AutoShape 14">
            <a:hlinkClick r:id="rId5" action="ppaction://hlinksldjump"/>
          </p:cNvPr>
          <p:cNvSpPr/>
          <p:nvPr/>
        </p:nvSpPr>
        <p:spPr>
          <a:xfrm>
            <a:off x="28195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261-9BC8-4838-A51B-70BA177EA7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4427640" y="765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红叶3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594880" y="4800600"/>
            <a:ext cx="1399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何其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 rot="5400000">
            <a:off x="-381240" y="1828440"/>
            <a:ext cx="47246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秋天</a:t>
            </a:r>
            <a:endParaRPr b="0" lang="en-US" sz="4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0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 rot="5400000">
            <a:off x="799560" y="1333080"/>
            <a:ext cx="236196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何其芳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80880" y="35812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现代散文家、诗人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文艺评论家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380880" y="6461280"/>
            <a:ext cx="75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752480" y="304920"/>
            <a:ext cx="7667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晨满披着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丁丁（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hēng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饱食过稻香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背篓（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ēilǒ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来装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篱间肥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u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栖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江面的冷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圆的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i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鱼似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蓬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载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摇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渔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枯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清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è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USIC.MP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 rot="5400000">
            <a:off x="-304920" y="1600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  天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31800" y="3657600"/>
            <a:ext cx="458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7320" y="34290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其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6" descr="图片0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1027"/>
          <p:cNvSpPr txBox="1"/>
          <p:nvPr/>
        </p:nvSpPr>
        <p:spPr>
          <a:xfrm rot="5400000">
            <a:off x="799560" y="1333080"/>
            <a:ext cx="236196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何其芳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1028"/>
          <p:cNvSpPr/>
          <p:nvPr/>
        </p:nvSpPr>
        <p:spPr>
          <a:xfrm>
            <a:off x="380880" y="35812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现代散文家、诗人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文艺评论家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露珠"/>
          <p:cNvPicPr/>
          <p:nvPr/>
        </p:nvPicPr>
        <p:blipFill>
          <a:blip r:embed="rId1"/>
          <a:stretch/>
        </p:blipFill>
        <p:spPr>
          <a:xfrm>
            <a:off x="4648320" y="-27000"/>
            <a:ext cx="449568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收割"/>
          <p:cNvPicPr/>
          <p:nvPr/>
        </p:nvPicPr>
        <p:blipFill>
          <a:blip r:embed="rId2"/>
          <a:stretch/>
        </p:blipFill>
        <p:spPr>
          <a:xfrm>
            <a:off x="4648320" y="1916280"/>
            <a:ext cx="4495680" cy="2066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收割2"/>
          <p:cNvPicPr/>
          <p:nvPr/>
        </p:nvPicPr>
        <p:blipFill>
          <a:blip r:embed="rId3"/>
          <a:stretch/>
        </p:blipFill>
        <p:spPr>
          <a:xfrm>
            <a:off x="6804000" y="3933720"/>
            <a:ext cx="234000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41160" y="3809880"/>
            <a:ext cx="367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背篓来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882000" y="765000"/>
            <a:ext cx="293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删后的诗句和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节诗表达效果上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？能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水果"/>
          <p:cNvPicPr/>
          <p:nvPr/>
        </p:nvPicPr>
        <p:blipFill>
          <a:blip r:embed="rId4"/>
          <a:stretch/>
        </p:blipFill>
        <p:spPr>
          <a:xfrm>
            <a:off x="4648320" y="3906720"/>
            <a:ext cx="2303280" cy="2951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1219320" y="373392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清晨满披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295280" y="4221000"/>
            <a:ext cx="13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丁丁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62120" y="4653000"/>
            <a:ext cx="24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饱食过稻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905120" y="5084640"/>
            <a:ext cx="22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竹篱间肥硕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914400" y="55054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栖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>
            <a:hlinkClick r:id="rId5" action="ppaction://hlinksldjump"/>
          </p:cNvPr>
          <p:cNvSpPr/>
          <p:nvPr/>
        </p:nvSpPr>
        <p:spPr>
          <a:xfrm>
            <a:off x="3733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撒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乌桕"/>
          <p:cNvPicPr/>
          <p:nvPr/>
        </p:nvPicPr>
        <p:blipFill>
          <a:blip r:embed="rId2"/>
          <a:stretch/>
        </p:blipFill>
        <p:spPr>
          <a:xfrm>
            <a:off x="7308720" y="4648320"/>
            <a:ext cx="1835280" cy="1976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2286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向江面的冷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撒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圆圆的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收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鳊鱼似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乌桕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芦蓬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满载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轻轻摇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归泊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秋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游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渔船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53341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思考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你觉得这节诗写得好吗？           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20120" y="58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祁连山水"/>
          <p:cNvPicPr/>
          <p:nvPr/>
        </p:nvPicPr>
        <p:blipFill>
          <a:blip r:embed="rId1"/>
          <a:stretch/>
        </p:blipFill>
        <p:spPr>
          <a:xfrm>
            <a:off x="4608360" y="0"/>
            <a:ext cx="4643640" cy="321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羊群"/>
          <p:cNvPicPr/>
          <p:nvPr/>
        </p:nvPicPr>
        <p:blipFill>
          <a:blip r:embed="rId2"/>
          <a:stretch/>
        </p:blipFill>
        <p:spPr>
          <a:xfrm>
            <a:off x="0" y="2752560"/>
            <a:ext cx="9144000" cy="4105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782280" y="44280"/>
            <a:ext cx="320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枯涸见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更清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33520" y="5562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画面跟原诗意境有何不同之处？该不该加 点什么？说说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52480" y="304920"/>
            <a:ext cx="7667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晨满披着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丁丁（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hēng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饱食过稻香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背篓（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ēilǒ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来装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篱间肥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u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栖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江面的冷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圆的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i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鱼似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蓬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载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摇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渔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枯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清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è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MUSIC.MP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 rot="5400000">
            <a:off x="-304920" y="1600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  天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31800" y="3657600"/>
            <a:ext cx="458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147320" y="34290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其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3:31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15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