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1F8-7B18-474E-B27B-110175C13F1C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5A89-036D-47A7-9661-A2A1EF68F0E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547640" y="191628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认识方向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（主题图、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20816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位置与方向（一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684360" y="843120"/>
            <a:ext cx="785520" cy="785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744720" y="6093000"/>
            <a:ext cx="45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1"/>
          <p:cNvSpPr/>
          <p:nvPr/>
        </p:nvSpPr>
        <p:spPr>
          <a:xfrm>
            <a:off x="2728800" y="6026040"/>
            <a:ext cx="454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大门在校园的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298120" y="6008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4241880" y="1557360"/>
            <a:ext cx="587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874800" y="3444840"/>
            <a:ext cx="579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7257960" y="3424320"/>
            <a:ext cx="554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259160" y="551664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16" name="组合 12"/>
          <p:cNvGrpSpPr/>
          <p:nvPr/>
        </p:nvGrpSpPr>
        <p:grpSpPr>
          <a:xfrm>
            <a:off x="1474920" y="1643040"/>
            <a:ext cx="5887800" cy="3745080"/>
            <a:chOff x="1474920" y="1643040"/>
            <a:chExt cx="5887800" cy="3745080"/>
          </a:xfrm>
        </p:grpSpPr>
        <p:pic>
          <p:nvPicPr>
            <p:cNvPr id="117" name="Picture 17" descr=""/>
            <p:cNvPicPr/>
            <p:nvPr/>
          </p:nvPicPr>
          <p:blipFill>
            <a:blip r:embed="rId1"/>
            <a:stretch/>
          </p:blipFill>
          <p:spPr>
            <a:xfrm>
              <a:off x="1550520" y="2248560"/>
              <a:ext cx="5812200" cy="31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4"/>
            <p:cNvSpPr/>
            <p:nvPr/>
          </p:nvSpPr>
          <p:spPr>
            <a:xfrm>
              <a:off x="1474920" y="164304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早晨，太阳在东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09520" y="200160"/>
            <a:ext cx="872496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标题 5"/>
          <p:cNvSpPr/>
          <p:nvPr/>
        </p:nvSpPr>
        <p:spPr>
          <a:xfrm>
            <a:off x="458640" y="41760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58960" y="1676520"/>
            <a:ext cx="56926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早晨起来，面向太阳，    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前面是（    ），后面是（    ），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左面是（    ），右面是（    ）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3372840" y="23115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6059520" y="23115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276720" y="3006720"/>
            <a:ext cx="60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5962680" y="3006720"/>
            <a:ext cx="60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1341360" y="1714680"/>
            <a:ext cx="108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7" name="Picture 10" descr="u1jx01_01"/>
          <p:cNvPicPr/>
          <p:nvPr/>
        </p:nvPicPr>
        <p:blipFill>
          <a:blip r:embed="rId1"/>
          <a:stretch/>
        </p:blipFill>
        <p:spPr>
          <a:xfrm>
            <a:off x="2268360" y="3789360"/>
            <a:ext cx="3600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/>
          <a:stretch/>
        </p:blipFill>
        <p:spPr>
          <a:xfrm>
            <a:off x="1565280" y="2095560"/>
            <a:ext cx="6340320" cy="32605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8"/>
          <p:cNvGrpSpPr/>
          <p:nvPr/>
        </p:nvGrpSpPr>
        <p:grpSpPr>
          <a:xfrm>
            <a:off x="468360" y="5300640"/>
            <a:ext cx="5974920" cy="1150920"/>
            <a:chOff x="468360" y="5300640"/>
            <a:chExt cx="5974920" cy="1150920"/>
          </a:xfrm>
        </p:grpSpPr>
        <p:sp>
          <p:nvSpPr>
            <p:cNvPr id="130" name="AutoShape 27"/>
            <p:cNvSpPr/>
            <p:nvPr/>
          </p:nvSpPr>
          <p:spPr>
            <a:xfrm>
              <a:off x="1627560" y="5516640"/>
              <a:ext cx="4815720" cy="588960"/>
            </a:xfrm>
            <a:prstGeom prst="wedgeRoundRectCallout">
              <a:avLst>
                <a:gd name="adj1" fmla="val -55851"/>
                <a:gd name="adj2" fmla="val -9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1" name="Group 17"/>
            <p:cNvGrpSpPr/>
            <p:nvPr/>
          </p:nvGrpSpPr>
          <p:grpSpPr>
            <a:xfrm>
              <a:off x="468360" y="5300640"/>
              <a:ext cx="5753880" cy="1150920"/>
              <a:chOff x="468360" y="5300640"/>
              <a:chExt cx="5753880" cy="1150920"/>
            </a:xfrm>
          </p:grpSpPr>
          <p:pic>
            <p:nvPicPr>
              <p:cNvPr id="132" name="图片 3" descr="女孩2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5300640"/>
                <a:ext cx="98100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6"/>
              <p:cNvSpPr/>
              <p:nvPr/>
            </p:nvSpPr>
            <p:spPr>
              <a:xfrm>
                <a:off x="1700640" y="5589720"/>
                <a:ext cx="452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楷体_GB2312"/>
                  </a:rPr>
                  <a:t>东与（   ）相对，北与（   ）相对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34" name="矩形 11"/>
          <p:cNvSpPr/>
          <p:nvPr/>
        </p:nvSpPr>
        <p:spPr>
          <a:xfrm>
            <a:off x="4763520" y="558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2559960" y="558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标题 5"/>
          <p:cNvSpPr/>
          <p:nvPr/>
        </p:nvSpPr>
        <p:spPr>
          <a:xfrm>
            <a:off x="458640" y="41760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341360" y="1714680"/>
            <a:ext cx="108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文本框 1"/>
          <p:cNvSpPr/>
          <p:nvPr/>
        </p:nvSpPr>
        <p:spPr>
          <a:xfrm>
            <a:off x="1181160" y="621036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1" descr="u1jx01_02"/>
          <p:cNvPicPr/>
          <p:nvPr/>
        </p:nvPicPr>
        <p:blipFill>
          <a:blip r:embed="rId2"/>
          <a:srcRect l="4909" t="5877" r="4630" b="6211"/>
          <a:stretch/>
        </p:blipFill>
        <p:spPr>
          <a:xfrm>
            <a:off x="1943280" y="2685960"/>
            <a:ext cx="4624200" cy="33703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8"/>
          <p:cNvSpPr txBox="1"/>
          <p:nvPr/>
        </p:nvSpPr>
        <p:spPr>
          <a:xfrm>
            <a:off x="1190520" y="4140360"/>
            <a:ext cx="5875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3965400" y="6153120"/>
            <a:ext cx="5796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2" name="WordArt 10"/>
          <p:cNvSpPr txBox="1"/>
          <p:nvPr/>
        </p:nvSpPr>
        <p:spPr>
          <a:xfrm>
            <a:off x="3978360" y="2543040"/>
            <a:ext cx="55404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6781680" y="411948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2124000" y="1125360"/>
            <a:ext cx="5586480" cy="1511640"/>
            <a:chOff x="2124000" y="1125360"/>
            <a:chExt cx="5586480" cy="1511640"/>
          </a:xfrm>
        </p:grpSpPr>
        <p:sp>
          <p:nvSpPr>
            <p:cNvPr id="145" name="AutoShape 27"/>
            <p:cNvSpPr/>
            <p:nvPr/>
          </p:nvSpPr>
          <p:spPr>
            <a:xfrm>
              <a:off x="2124000" y="1557360"/>
              <a:ext cx="3527640" cy="891000"/>
            </a:xfrm>
            <a:prstGeom prst="wedgeRoundRectCallout">
              <a:avLst>
                <a:gd name="adj1" fmla="val 59444"/>
                <a:gd name="adj2" fmla="val 15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先找出教室里的东方，然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想办法找出其他三个方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6" name="Picture 29" descr="42"/>
            <p:cNvPicPr/>
            <p:nvPr/>
          </p:nvPicPr>
          <p:blipFill>
            <a:blip r:embed="rId3"/>
            <a:stretch/>
          </p:blipFill>
          <p:spPr>
            <a:xfrm flipH="1">
              <a:off x="6084720" y="1125360"/>
              <a:ext cx="1625760" cy="151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标题 5"/>
          <p:cNvSpPr/>
          <p:nvPr/>
        </p:nvSpPr>
        <p:spPr>
          <a:xfrm>
            <a:off x="458640" y="41760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1341360" y="1714680"/>
            <a:ext cx="108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标题 5"/>
          <p:cNvSpPr/>
          <p:nvPr/>
        </p:nvSpPr>
        <p:spPr>
          <a:xfrm>
            <a:off x="826920" y="2527200"/>
            <a:ext cx="7959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498-394A-4039-8640-254D917341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1"/>
          <p:cNvSpPr/>
          <p:nvPr/>
        </p:nvSpPr>
        <p:spPr>
          <a:xfrm>
            <a:off x="2104920" y="5445000"/>
            <a:ext cx="662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3" name="Picture 13" descr="u1jx01_01"/>
          <p:cNvPicPr/>
          <p:nvPr/>
        </p:nvPicPr>
        <p:blipFill>
          <a:blip r:embed="rId2"/>
          <a:stretch/>
        </p:blipFill>
        <p:spPr>
          <a:xfrm>
            <a:off x="1332000" y="2565360"/>
            <a:ext cx="5249880" cy="3938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9"/>
          <p:cNvGrpSpPr/>
          <p:nvPr/>
        </p:nvGrpSpPr>
        <p:grpSpPr>
          <a:xfrm>
            <a:off x="2916360" y="1197000"/>
            <a:ext cx="5038560" cy="1511280"/>
            <a:chOff x="2916360" y="1197000"/>
            <a:chExt cx="5038560" cy="1511280"/>
          </a:xfrm>
        </p:grpSpPr>
        <p:pic>
          <p:nvPicPr>
            <p:cNvPr id="55" name="Picture 29" descr="42"/>
            <p:cNvPicPr/>
            <p:nvPr/>
          </p:nvPicPr>
          <p:blipFill>
            <a:blip r:embed="rId3"/>
            <a:stretch/>
          </p:blipFill>
          <p:spPr>
            <a:xfrm flipH="1">
              <a:off x="6443640" y="119700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18"/>
            <p:cNvGrpSpPr/>
            <p:nvPr/>
          </p:nvGrpSpPr>
          <p:grpSpPr>
            <a:xfrm>
              <a:off x="2916360" y="1557360"/>
              <a:ext cx="3403440" cy="868320"/>
              <a:chOff x="2916360" y="1557360"/>
              <a:chExt cx="3403440" cy="868320"/>
            </a:xfrm>
          </p:grpSpPr>
          <p:sp>
            <p:nvSpPr>
              <p:cNvPr id="57" name="AutoShape 27"/>
              <p:cNvSpPr/>
              <p:nvPr/>
            </p:nvSpPr>
            <p:spPr>
              <a:xfrm>
                <a:off x="2916360" y="1562040"/>
                <a:ext cx="3403440" cy="863640"/>
              </a:xfrm>
              <a:prstGeom prst="wedgeRoundRectCallout">
                <a:avLst>
                  <a:gd name="adj1" fmla="val 58763"/>
                  <a:gd name="adj2" fmla="val -17648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8" name="Text Box 15"/>
              <p:cNvSpPr/>
              <p:nvPr/>
            </p:nvSpPr>
            <p:spPr>
              <a:xfrm>
                <a:off x="3008160" y="1557360"/>
                <a:ext cx="3311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想一想，你每天早晨上学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看见太阳从哪个方向升起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59" name="Rectangle 10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340000" y="1590840"/>
            <a:ext cx="54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早晨，太阳在东边。  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2" name="Picture 8" descr="u1jx01_01"/>
          <p:cNvPicPr/>
          <p:nvPr/>
        </p:nvPicPr>
        <p:blipFill>
          <a:blip r:embed="rId1"/>
          <a:stretch/>
        </p:blipFill>
        <p:spPr>
          <a:xfrm>
            <a:off x="1332000" y="2565360"/>
            <a:ext cx="5249880" cy="3938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24000" y="1631880"/>
            <a:ext cx="48243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早晨起来，面向太阳，    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前面是东，后面是西，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左面是北，右面是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6" name="Picture 7" descr="u1jx01_01"/>
          <p:cNvPicPr/>
          <p:nvPr/>
        </p:nvPicPr>
        <p:blipFill>
          <a:blip r:embed="rId1"/>
          <a:stretch/>
        </p:blipFill>
        <p:spPr>
          <a:xfrm>
            <a:off x="1979640" y="3645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209520" y="190440"/>
            <a:ext cx="872496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0" name="组合 1"/>
          <p:cNvGrpSpPr/>
          <p:nvPr/>
        </p:nvGrpSpPr>
        <p:grpSpPr>
          <a:xfrm>
            <a:off x="1474920" y="1643040"/>
            <a:ext cx="5887800" cy="3745080"/>
            <a:chOff x="1474920" y="1643040"/>
            <a:chExt cx="5887800" cy="3745080"/>
          </a:xfrm>
        </p:grpSpPr>
        <p:pic>
          <p:nvPicPr>
            <p:cNvPr id="71" name="Picture 17" descr=""/>
            <p:cNvPicPr/>
            <p:nvPr/>
          </p:nvPicPr>
          <p:blipFill>
            <a:blip r:embed="rId1"/>
            <a:stretch/>
          </p:blipFill>
          <p:spPr>
            <a:xfrm>
              <a:off x="1550520" y="2248560"/>
              <a:ext cx="5812200" cy="31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4"/>
            <p:cNvSpPr/>
            <p:nvPr/>
          </p:nvSpPr>
          <p:spPr>
            <a:xfrm>
              <a:off x="1474920" y="164304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早晨，太阳在东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3" name="WordArt 8"/>
          <p:cNvSpPr txBox="1"/>
          <p:nvPr/>
        </p:nvSpPr>
        <p:spPr>
          <a:xfrm>
            <a:off x="4241880" y="1557360"/>
            <a:ext cx="587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874800" y="3444840"/>
            <a:ext cx="579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7257960" y="3424320"/>
            <a:ext cx="554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4259160" y="551664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2"/>
          <p:cNvGrpSpPr/>
          <p:nvPr/>
        </p:nvGrpSpPr>
        <p:grpSpPr>
          <a:xfrm>
            <a:off x="1474920" y="1643040"/>
            <a:ext cx="5887800" cy="3745080"/>
            <a:chOff x="1474920" y="1643040"/>
            <a:chExt cx="5887800" cy="3745080"/>
          </a:xfrm>
        </p:grpSpPr>
        <p:pic>
          <p:nvPicPr>
            <p:cNvPr id="78" name="Picture 17" descr=""/>
            <p:cNvPicPr/>
            <p:nvPr/>
          </p:nvPicPr>
          <p:blipFill>
            <a:blip r:embed="rId1"/>
            <a:stretch/>
          </p:blipFill>
          <p:spPr>
            <a:xfrm>
              <a:off x="1550520" y="2248560"/>
              <a:ext cx="5812200" cy="31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4"/>
            <p:cNvSpPr/>
            <p:nvPr/>
          </p:nvSpPr>
          <p:spPr>
            <a:xfrm>
              <a:off x="1474920" y="164304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早晨，太阳在东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0" name="Rectangle 51"/>
          <p:cNvSpPr/>
          <p:nvPr/>
        </p:nvSpPr>
        <p:spPr>
          <a:xfrm>
            <a:off x="2362320" y="6027840"/>
            <a:ext cx="454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图书馆在校园的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5298120" y="6008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4241880" y="1557360"/>
            <a:ext cx="587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874800" y="3444840"/>
            <a:ext cx="579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7257960" y="3424320"/>
            <a:ext cx="554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4259160" y="551664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1"/>
          <p:cNvSpPr/>
          <p:nvPr/>
        </p:nvSpPr>
        <p:spPr>
          <a:xfrm>
            <a:off x="2362320" y="6026040"/>
            <a:ext cx="454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体育馆在校园的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5298120" y="6008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4241880" y="1557360"/>
            <a:ext cx="587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874800" y="3444840"/>
            <a:ext cx="579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7257960" y="3424320"/>
            <a:ext cx="554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4259160" y="551664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94" name="组合 12"/>
          <p:cNvGrpSpPr/>
          <p:nvPr/>
        </p:nvGrpSpPr>
        <p:grpSpPr>
          <a:xfrm>
            <a:off x="1474920" y="1643040"/>
            <a:ext cx="5887800" cy="3745080"/>
            <a:chOff x="1474920" y="1643040"/>
            <a:chExt cx="5887800" cy="3745080"/>
          </a:xfrm>
        </p:grpSpPr>
        <p:pic>
          <p:nvPicPr>
            <p:cNvPr id="95" name="Picture 17" descr=""/>
            <p:cNvPicPr/>
            <p:nvPr/>
          </p:nvPicPr>
          <p:blipFill>
            <a:blip r:embed="rId1"/>
            <a:stretch/>
          </p:blipFill>
          <p:spPr>
            <a:xfrm>
              <a:off x="1550520" y="2248560"/>
              <a:ext cx="5812200" cy="31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4"/>
            <p:cNvSpPr/>
            <p:nvPr/>
          </p:nvSpPr>
          <p:spPr>
            <a:xfrm>
              <a:off x="1474920" y="164304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早晨，太阳在东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7" name="Rectangle 14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1"/>
          <p:cNvSpPr/>
          <p:nvPr/>
        </p:nvSpPr>
        <p:spPr>
          <a:xfrm>
            <a:off x="2362320" y="6026040"/>
            <a:ext cx="454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教学楼在校园的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298120" y="6008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4241880" y="1557360"/>
            <a:ext cx="587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874800" y="3444840"/>
            <a:ext cx="579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西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7257960" y="3424320"/>
            <a:ext cx="554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东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4259160" y="5516640"/>
            <a:ext cx="55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  <a:latin typeface="黑体"/>
              </a:rPr>
              <a:t>南</a:t>
            </a:r>
            <a:endParaRPr b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1474920" y="1643040"/>
            <a:ext cx="5887800" cy="3745080"/>
            <a:chOff x="1474920" y="1643040"/>
            <a:chExt cx="5887800" cy="3745080"/>
          </a:xfrm>
        </p:grpSpPr>
        <p:pic>
          <p:nvPicPr>
            <p:cNvPr id="106" name="Picture 17" descr=""/>
            <p:cNvPicPr/>
            <p:nvPr/>
          </p:nvPicPr>
          <p:blipFill>
            <a:blip r:embed="rId1"/>
            <a:stretch/>
          </p:blipFill>
          <p:spPr>
            <a:xfrm>
              <a:off x="1550520" y="2248560"/>
              <a:ext cx="5812200" cy="31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4"/>
            <p:cNvSpPr/>
            <p:nvPr/>
          </p:nvSpPr>
          <p:spPr>
            <a:xfrm>
              <a:off x="1474920" y="164304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早晨，太阳在东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8" name="Rectangle 13"/>
          <p:cNvSpPr/>
          <p:nvPr/>
        </p:nvSpPr>
        <p:spPr>
          <a:xfrm>
            <a:off x="252360" y="46483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9:30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