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899-1CDE-4FBA-8BAC-26A24DAA09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7E2-0736-4780-8AD6-C052918D9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796-4884-4D5E-B0A1-3D8D7D01D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CA7B-9631-4BC4-BA14-C9D6627EA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DE72-F8AE-4D01-AE1B-18F8B8DE4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CC8-D873-462E-868B-ED1065F65C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ED9-9D58-47D2-9CD9-D6CF4AAF2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32AD-9F85-4BD3-8F03-F6A371CD53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81E-A404-4CB2-863F-FB88EB123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1B3B-4B81-4688-9847-E058B6058B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BDF-0770-4F6E-A152-D9304DE03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3CA0-E980-4FB2-8B50-E37C887AC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22A5-8D20-4DBA-9180-50C4059F09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2DC-CDE6-4FB9-AB38-C5F25933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7AB-9DD8-4F02-8E45-5658FFDB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ED3-E950-4445-B290-E7E58AD1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055-460D-4DDD-A93D-D44C43BF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30D-DF78-4C04-9DF7-E24827D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AC4-B50E-49B8-B161-E9DD3BA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808-CE0C-49C3-BD9F-A1EF996C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FA9-80A4-4204-853D-1674BBC6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481-AC9C-4A27-AE78-068E2D29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BB8-6DE4-458B-948E-DF06720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CD7-1EC6-44E6-B712-A1203A3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DDB-7B7A-4D55-9EA8-D8C1470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ACC-C58E-4F83-9098-FED40B658F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692360" y="2276640"/>
            <a:ext cx="611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商的近似数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9" name="Picture 4" descr="54328127417"/>
          <p:cNvPicPr/>
          <p:nvPr/>
        </p:nvPicPr>
        <p:blipFill>
          <a:blip r:embed="rId1"/>
          <a:stretch/>
        </p:blipFill>
        <p:spPr>
          <a:xfrm>
            <a:off x="349200" y="277956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54203708233"/>
          <p:cNvPicPr/>
          <p:nvPr/>
        </p:nvPicPr>
        <p:blipFill>
          <a:blip r:embed="rId2"/>
          <a:stretch/>
        </p:blipFill>
        <p:spPr>
          <a:xfrm>
            <a:off x="6095880" y="5484960"/>
            <a:ext cx="2571840" cy="66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042920" y="620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人教新课标版五年级数学上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313720" y="56293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79640" y="14130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3÷2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商保留两位小数约是（   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510280" y="2994120"/>
            <a:ext cx="251208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8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8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8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843440" y="202896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928800" y="6049800"/>
            <a:ext cx="72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1763640" y="1587600"/>
            <a:ext cx="71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5÷0.9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商（   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806200" y="2994120"/>
            <a:ext cx="163764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大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等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272280" y="15256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611280" y="273096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6÷1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        19÷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732840" y="1341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商的近似值（保留两位小数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6031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684360" y="4902120"/>
            <a:ext cx="7991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有一种油桶，最多能装油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6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千克，要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装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千克油，需要这种油桶多少个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179280" y="620640"/>
            <a:ext cx="8785440" cy="597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40360" y="1773360"/>
            <a:ext cx="46083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件衬衫要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粒纽扣，现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粒纽扣，能钉多少件衬衫？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2006830203748174472"/>
          <p:cNvPicPr/>
          <p:nvPr/>
        </p:nvPicPr>
        <p:blipFill>
          <a:blip r:embed="rId1"/>
          <a:stretch/>
        </p:blipFill>
        <p:spPr>
          <a:xfrm>
            <a:off x="468360" y="184464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xiaokui1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185840" y="942840"/>
            <a:ext cx="727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堆煤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，平均每次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，一共需运多少次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5105520" cy="25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ADE6-85DB-40EB-93CA-26DB8F0D55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217880" y="2605680"/>
            <a:ext cx="715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.90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保留整数是（      ）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.90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确到十分位是（      ）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.90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保留两位小数是（        ）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.90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确到千分位是（         ）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332000" y="18511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用“四舍五入”法求近似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724000" y="2708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54440" y="336384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3.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343200" y="40831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3.9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377760" y="479736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3.9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755640" y="19368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准确数与近似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准确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日常生活和生产实际所遇到的数中，有时可以得到完全准确的数，它们精确，没有误差。如，某班有学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这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准确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近似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实际中常常不需要用精确的数描述一个量，或不可能得到精确的数。例如：中国约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人。这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是近似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1"/>
          <p:cNvSpPr/>
          <p:nvPr/>
        </p:nvSpPr>
        <p:spPr>
          <a:xfrm>
            <a:off x="234000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179280" y="620640"/>
            <a:ext cx="8785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8" descr=""/>
          <p:cNvPicPr/>
          <p:nvPr/>
        </p:nvPicPr>
        <p:blipFill>
          <a:blip r:embed="rId1"/>
          <a:stretch/>
        </p:blipFill>
        <p:spPr>
          <a:xfrm>
            <a:off x="1619280" y="2039760"/>
            <a:ext cx="4535280" cy="261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1856880" y="977760"/>
            <a:ext cx="25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给王鹏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筒羽毛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7"/>
          <p:cNvGrpSpPr/>
          <p:nvPr/>
        </p:nvGrpSpPr>
        <p:grpSpPr>
          <a:xfrm>
            <a:off x="755640" y="5084640"/>
            <a:ext cx="2521080" cy="1150920"/>
            <a:chOff x="755640" y="5084640"/>
            <a:chExt cx="2521080" cy="1150920"/>
          </a:xfrm>
        </p:grpSpPr>
        <p:sp>
          <p:nvSpPr>
            <p:cNvPr id="65" name="AutoShape 44"/>
            <p:cNvSpPr/>
            <p:nvPr/>
          </p:nvSpPr>
          <p:spPr>
            <a:xfrm>
              <a:off x="755640" y="5084640"/>
              <a:ext cx="2448000" cy="1150920"/>
            </a:xfrm>
            <a:prstGeom prst="wedgeRoundRectCallout">
              <a:avLst>
                <a:gd name="adj1" fmla="val 47083"/>
                <a:gd name="adj2" fmla="val -78828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1"/>
            <p:cNvSpPr/>
            <p:nvPr/>
          </p:nvSpPr>
          <p:spPr>
            <a:xfrm>
              <a:off x="755640" y="5229360"/>
              <a:ext cx="25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打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个，这是多少钱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6"/>
          <p:cNvGrpSpPr/>
          <p:nvPr/>
        </p:nvGrpSpPr>
        <p:grpSpPr>
          <a:xfrm>
            <a:off x="4932360" y="4581360"/>
            <a:ext cx="3600360" cy="1151280"/>
            <a:chOff x="4932360" y="4581360"/>
            <a:chExt cx="3600360" cy="1151280"/>
          </a:xfrm>
        </p:grpSpPr>
        <p:sp>
          <p:nvSpPr>
            <p:cNvPr id="68" name="AutoShape 45"/>
            <p:cNvSpPr/>
            <p:nvPr/>
          </p:nvSpPr>
          <p:spPr>
            <a:xfrm>
              <a:off x="4932360" y="4581360"/>
              <a:ext cx="3384720" cy="1151280"/>
            </a:xfrm>
            <a:prstGeom prst="wedgeRoundRectCallout">
              <a:avLst>
                <a:gd name="adj1" fmla="val -35226"/>
                <a:gd name="adj2" fmla="val -85032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2"/>
            <p:cNvSpPr/>
            <p:nvPr/>
          </p:nvSpPr>
          <p:spPr>
            <a:xfrm>
              <a:off x="5148360" y="4724280"/>
              <a:ext cx="338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筒羽毛球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.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个大约是多少钱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179280" y="620640"/>
            <a:ext cx="8785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476360" y="98100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.4 ÷12≈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93160" y="3352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保留两位小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542960" y="4865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保留一位小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573280" y="336384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.4 ÷12≈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3490920" y="1916280"/>
            <a:ext cx="3312720" cy="1223640"/>
            <a:chOff x="3490920" y="1916280"/>
            <a:chExt cx="3312720" cy="1223640"/>
          </a:xfrm>
        </p:grpSpPr>
        <p:sp>
          <p:nvSpPr>
            <p:cNvPr id="76" name="AutoShape 11"/>
            <p:cNvSpPr/>
            <p:nvPr/>
          </p:nvSpPr>
          <p:spPr>
            <a:xfrm>
              <a:off x="3490920" y="1916280"/>
              <a:ext cx="3312720" cy="122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>
              <a:off x="3665520" y="2324880"/>
              <a:ext cx="2963160" cy="543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1f7a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3752280" y="2121120"/>
              <a:ext cx="87228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4797720" y="2121120"/>
              <a:ext cx="1746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6281280" y="2121120"/>
              <a:ext cx="17460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931360" y="2121120"/>
              <a:ext cx="174960" cy="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7"/>
            <p:cNvSpPr/>
            <p:nvPr/>
          </p:nvSpPr>
          <p:spPr>
            <a:xfrm>
              <a:off x="3665520" y="2324880"/>
              <a:ext cx="2963160" cy="543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"/>
          <p:cNvSpPr/>
          <p:nvPr/>
        </p:nvSpPr>
        <p:spPr>
          <a:xfrm>
            <a:off x="3705120" y="227664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Arial"/>
              </a:rPr>
              <a:t>1.6166666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4572000" y="2276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4354560" y="2276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3995640" y="3922560"/>
            <a:ext cx="4248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计算钱数，保留两位小数，表示计算到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3995640" y="5445000"/>
            <a:ext cx="4248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计算钱数，保留一位小数，表示计算到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0"/>
          <p:cNvGrpSpPr/>
          <p:nvPr/>
        </p:nvGrpSpPr>
        <p:grpSpPr>
          <a:xfrm>
            <a:off x="5446440" y="3357720"/>
            <a:ext cx="1070640" cy="642600"/>
            <a:chOff x="5446440" y="3357720"/>
            <a:chExt cx="1070640" cy="642600"/>
          </a:xfrm>
        </p:grpSpPr>
        <p:sp>
          <p:nvSpPr>
            <p:cNvPr id="89" name="Rectangle 28"/>
            <p:cNvSpPr/>
            <p:nvPr/>
          </p:nvSpPr>
          <p:spPr>
            <a:xfrm>
              <a:off x="5580000" y="3429000"/>
              <a:ext cx="863640" cy="504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446440" y="335772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.6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5556240" y="4869000"/>
            <a:ext cx="816120" cy="642600"/>
            <a:chOff x="5556240" y="4869000"/>
            <a:chExt cx="816120" cy="642600"/>
          </a:xfrm>
        </p:grpSpPr>
        <p:sp>
          <p:nvSpPr>
            <p:cNvPr id="92" name="Rectangle 29"/>
            <p:cNvSpPr/>
            <p:nvPr/>
          </p:nvSpPr>
          <p:spPr>
            <a:xfrm>
              <a:off x="5651640" y="4940280"/>
              <a:ext cx="720720" cy="504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5556240" y="486900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26"/>
          <p:cNvSpPr/>
          <p:nvPr/>
        </p:nvSpPr>
        <p:spPr>
          <a:xfrm>
            <a:off x="2573280" y="487512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.4 ÷12≈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4356000" y="1484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"/>
                            </p:stCondLst>
                            <p:childTnLst>
                              <p:par>
                                <p:cTn id="5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20"/>
                            </p:stCondLst>
                            <p:childTnLst>
                              <p:par>
                                <p:cTn id="9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477800" y="1554120"/>
            <a:ext cx="68392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有效数字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近似数精确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一位，从左边第一个不是零的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算起，到这一位数字上，所有的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，都叫做这个数的有效数字。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166≈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0.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有两个有效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900000" y="2414880"/>
            <a:ext cx="5759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商的近似值，一般先除到比需要保留的小数位数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多一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再按照“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四舍五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法取商的近似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200681722593866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7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649200">
            <a:off x="-324000" y="261720"/>
            <a:ext cx="9612360" cy="6696000"/>
          </a:xfrm>
          <a:prstGeom prst="cloudCallout">
            <a:avLst>
              <a:gd name="adj1" fmla="val -44370"/>
              <a:gd name="adj2" fmla="val 99500"/>
            </a:avLst>
          </a:prstGeom>
          <a:solidFill>
            <a:srgbClr val="ffffff">
              <a:alpha val="85000"/>
            </a:srgbClr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1280" y="1733400"/>
            <a:ext cx="878508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现在苹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，如果东风牌汽车每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能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苹果要几次才能运完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55640" y="4149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在运送货物时，最后一次所剩的货物无论是多少，都必须运送。因此，在这种情况下，需要使用“进一法”。需要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辆车才能远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908000" y="3435480"/>
            <a:ext cx="50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32÷5=6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3419640" y="1074600"/>
            <a:ext cx="182880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进一法：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fabric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8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1"/>
          <p:cNvSpPr/>
          <p:nvPr/>
        </p:nvSpPr>
        <p:spPr>
          <a:xfrm rot="649200">
            <a:off x="-324000" y="261720"/>
            <a:ext cx="9612360" cy="6696000"/>
          </a:xfrm>
          <a:prstGeom prst="cloudCallout">
            <a:avLst>
              <a:gd name="adj1" fmla="val -44370"/>
              <a:gd name="adj2" fmla="val 99500"/>
            </a:avLst>
          </a:prstGeom>
          <a:solidFill>
            <a:srgbClr val="ffffff">
              <a:alpha val="8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332000" y="2205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布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尺，若做一套衣服需布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尺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尺布料可做几套衣服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3419640" y="1074600"/>
            <a:ext cx="182880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去尾法：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908000" y="3435480"/>
            <a:ext cx="50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60÷16=3.7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19280" y="42926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因为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0 .75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米布是做不成一套衣服的。所以不能用“四舍五入”法约等于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。只能取近似数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34Z</dcterms:modified>
  <cp:revision>14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