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png" ContentType="image/pn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14.gif" ContentType="image/gif"/>
  <Override PartName="/ppt/media/type.wav" ContentType="audio/x-wav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145-AACD-4908-A11D-BF8D95F4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9C2-2DB4-4B4E-8CBC-CD91672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F54-2320-40E8-A576-5B31D596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7D7-5792-418B-8842-EA83BCEC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A95-E813-459A-AA1C-5A29661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ECA-74C8-4923-8391-1CED083D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2AB-502D-4B94-A5AB-8E2ADA7E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A2A-66DB-4FE4-8A0F-02FE2CBF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1F4-C7C8-4A0D-A50D-BE5B5FE4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8D6-A735-4E72-9358-49FB7F9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DE6-4061-4FA5-8A2D-33DF2BF0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89F-D7B0-4187-B3DB-52C7A20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9321-A960-4D9B-831A-09A5FE71D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gif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195640" y="170028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ff"/>
                </a:solidFill>
                <a:latin typeface="Arial"/>
                <a:ea typeface="华文行楷"/>
              </a:rPr>
              <a:t>稍复杂的方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39940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归纳总结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116000" y="1557360"/>
            <a:ext cx="698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今天这节课你学到了什么知识？ 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8305920" y="6324480"/>
            <a:ext cx="838080" cy="533520"/>
            <a:chOff x="8305920" y="6324480"/>
            <a:chExt cx="838080" cy="533520"/>
          </a:xfrm>
        </p:grpSpPr>
        <p:pic>
          <p:nvPicPr>
            <p:cNvPr id="139" name="Picture 10" descr="D_020"/>
            <p:cNvPicPr/>
            <p:nvPr/>
          </p:nvPicPr>
          <p:blipFill>
            <a:blip r:embed="rId3"/>
            <a:stretch/>
          </p:blipFill>
          <p:spPr>
            <a:xfrm>
              <a:off x="8610840" y="632448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1">
              <a:hlinkClick r:id="" action="ppaction://hlinkshowjump?jump=endshow"/>
              <a:hlinkClick r:id="rId4"/>
            </p:cNvPr>
            <p:cNvSpPr/>
            <p:nvPr/>
          </p:nvSpPr>
          <p:spPr>
            <a:xfrm>
              <a:off x="8305920" y="6324480"/>
              <a:ext cx="304920" cy="52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1"/>
          <p:cNvSpPr/>
          <p:nvPr/>
        </p:nvSpPr>
        <p:spPr>
          <a:xfrm>
            <a:off x="954000" y="584676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CA52-5CC3-492B-9CA6-9B385B803A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11280" y="42775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鸡有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  <a:ea typeface="华文楷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母鸡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比公鸡只数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。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1"/>
          <p:cNvGrpSpPr/>
          <p:nvPr/>
        </p:nvGrpSpPr>
        <p:grpSpPr>
          <a:xfrm>
            <a:off x="324000" y="523800"/>
            <a:ext cx="6408720" cy="1034280"/>
            <a:chOff x="324000" y="523800"/>
            <a:chExt cx="6408720" cy="1034280"/>
          </a:xfrm>
        </p:grpSpPr>
        <p:sp>
          <p:nvSpPr>
            <p:cNvPr id="45" name="Text Box 5"/>
            <p:cNvSpPr/>
            <p:nvPr/>
          </p:nvSpPr>
          <p:spPr>
            <a:xfrm>
              <a:off x="324000" y="523800"/>
              <a:ext cx="374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一、解下列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5005440" y="10983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y</a:t>
              </a:r>
              <a:r>
                <a:rPr b="1" lang="zh-CN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－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4=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7"/>
            <p:cNvSpPr/>
            <p:nvPr/>
          </p:nvSpPr>
          <p:spPr>
            <a:xfrm>
              <a:off x="1333800" y="1098360"/>
              <a:ext cx="17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</a:t>
              </a:r>
              <a:r>
                <a:rPr b="1" lang="en-US" sz="2400" spc="-1" strike="noStrike">
                  <a:solidFill>
                    <a:srgbClr val="333399"/>
                  </a:solidFill>
                  <a:latin typeface="Lucida Calligraphy"/>
                  <a:ea typeface="隶书"/>
                </a:rPr>
                <a:t>x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=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9"/>
          <p:cNvSpPr/>
          <p:nvPr/>
        </p:nvSpPr>
        <p:spPr>
          <a:xfrm>
            <a:off x="250920" y="1531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147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05080" y="1963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780000" y="1531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34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71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5437080" y="1963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=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95280" y="37018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二、根据下面叙述说说相等关系，并写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684360" y="490680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84360" y="548316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鸡的只数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684360" y="605808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013440" y="490680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13440" y="548316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013440" y="605808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23"/>
          <p:cNvSpPr txBox="1"/>
          <p:nvPr/>
        </p:nvSpPr>
        <p:spPr>
          <a:xfrm>
            <a:off x="6084720" y="549360"/>
            <a:ext cx="18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49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×49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47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3995640" y="2313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05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4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71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9"/>
          <p:cNvSpPr/>
          <p:nvPr/>
        </p:nvSpPr>
        <p:spPr>
          <a:xfrm>
            <a:off x="4017960" y="654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7093080" y="62064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三、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9"/>
          <p:cNvGrpSpPr/>
          <p:nvPr/>
        </p:nvGrpSpPr>
        <p:grpSpPr>
          <a:xfrm>
            <a:off x="1187280" y="5443200"/>
            <a:ext cx="5977080" cy="1191240"/>
            <a:chOff x="1187280" y="5443200"/>
            <a:chExt cx="5977080" cy="1191240"/>
          </a:xfrm>
        </p:grpSpPr>
        <p:sp>
          <p:nvSpPr>
            <p:cNvPr id="66" name="Rectangle 8"/>
            <p:cNvSpPr/>
            <p:nvPr/>
          </p:nvSpPr>
          <p:spPr>
            <a:xfrm>
              <a:off x="1187280" y="5443200"/>
              <a:ext cx="295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解：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12×2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4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（块）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3780000" y="616464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答：共有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块白色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13"/>
          <p:cNvSpPr/>
          <p:nvPr/>
        </p:nvSpPr>
        <p:spPr>
          <a:xfrm>
            <a:off x="3635280" y="620640"/>
            <a:ext cx="2521080" cy="1035000"/>
          </a:xfrm>
          <a:prstGeom prst="wedgeRoundRectCallout">
            <a:avLst>
              <a:gd name="adj1" fmla="val 7555"/>
              <a:gd name="adj2" fmla="val 147240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黑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白色皮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6443640" y="1341360"/>
            <a:ext cx="2627280" cy="1035000"/>
          </a:xfrm>
          <a:prstGeom prst="wedgeRoundRectCallout">
            <a:avLst>
              <a:gd name="adj1" fmla="val -8550"/>
              <a:gd name="adj2" fmla="val 103375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0" y="3933720"/>
            <a:ext cx="1657440" cy="792360"/>
          </a:xfrm>
          <a:prstGeom prst="wedgeRoundRectCallout">
            <a:avLst>
              <a:gd name="adj1" fmla="val 39560"/>
              <a:gd name="adj2" fmla="val -9989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白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637236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78000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401840" y="4976640"/>
            <a:ext cx="18730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0"/>
          <p:cNvGrpSpPr/>
          <p:nvPr/>
        </p:nvGrpSpPr>
        <p:grpSpPr>
          <a:xfrm>
            <a:off x="179280" y="836640"/>
            <a:ext cx="3311640" cy="581400"/>
            <a:chOff x="179280" y="836640"/>
            <a:chExt cx="3311640" cy="581400"/>
          </a:xfrm>
        </p:grpSpPr>
        <p:sp>
          <p:nvSpPr>
            <p:cNvPr id="75" name="Text Box 21"/>
            <p:cNvSpPr/>
            <p:nvPr/>
          </p:nvSpPr>
          <p:spPr>
            <a:xfrm>
              <a:off x="179280" y="8366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906560" y="8838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3" descr="ball2"/>
          <p:cNvPicPr/>
          <p:nvPr/>
        </p:nvPicPr>
        <p:blipFill>
          <a:blip r:embed="rId4"/>
          <a:stretch/>
        </p:blipFill>
        <p:spPr>
          <a:xfrm rot="10800000">
            <a:off x="3676680" y="2852280"/>
            <a:ext cx="750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合作探究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108000" y="1481040"/>
            <a:ext cx="3311640" cy="581400"/>
            <a:chOff x="108000" y="1481040"/>
            <a:chExt cx="3311640" cy="581400"/>
          </a:xfrm>
        </p:grpSpPr>
        <p:sp>
          <p:nvSpPr>
            <p:cNvPr id="80" name="Text Box 6"/>
            <p:cNvSpPr/>
            <p:nvPr/>
          </p:nvSpPr>
          <p:spPr>
            <a:xfrm>
              <a:off x="108000" y="14810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835280" y="1528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9" descr="ball2"/>
          <p:cNvPicPr/>
          <p:nvPr/>
        </p:nvPicPr>
        <p:blipFill>
          <a:blip r:embed="rId4"/>
          <a:stretch/>
        </p:blipFill>
        <p:spPr>
          <a:xfrm rot="10800000">
            <a:off x="3635280" y="3736800"/>
            <a:ext cx="750960" cy="771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0"/>
          <p:cNvSpPr/>
          <p:nvPr/>
        </p:nvSpPr>
        <p:spPr>
          <a:xfrm>
            <a:off x="3564000" y="1052640"/>
            <a:ext cx="2160360" cy="1035000"/>
          </a:xfrm>
          <a:prstGeom prst="wedgeRoundRectCallout">
            <a:avLst>
              <a:gd name="adj1" fmla="val 13481"/>
              <a:gd name="adj2" fmla="val 18757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6516720" y="1773360"/>
            <a:ext cx="2627280" cy="1035000"/>
          </a:xfrm>
          <a:prstGeom prst="wedgeRoundRectCallout">
            <a:avLst>
              <a:gd name="adj1" fmla="val 2930"/>
              <a:gd name="adj2" fmla="val 135583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34920" y="4724280"/>
            <a:ext cx="1657440" cy="792360"/>
          </a:xfrm>
          <a:prstGeom prst="wedgeRoundRectCallout">
            <a:avLst>
              <a:gd name="adj1" fmla="val 55842"/>
              <a:gd name="adj2" fmla="val -78254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黑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15636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356400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1185840" y="6093000"/>
            <a:ext cx="18734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图片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649296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"/>
          <p:cNvGrpSpPr/>
          <p:nvPr/>
        </p:nvGrpSpPr>
        <p:grpSpPr>
          <a:xfrm>
            <a:off x="7596360" y="6021360"/>
            <a:ext cx="1547640" cy="503280"/>
            <a:chOff x="7596360" y="6021360"/>
            <a:chExt cx="1547640" cy="503280"/>
          </a:xfrm>
        </p:grpSpPr>
        <p:pic>
          <p:nvPicPr>
            <p:cNvPr id="91" name="Picture 5" descr="W_046"/>
            <p:cNvPicPr/>
            <p:nvPr/>
          </p:nvPicPr>
          <p:blipFill>
            <a:blip r:embed="rId2"/>
            <a:stretch/>
          </p:blipFill>
          <p:spPr>
            <a:xfrm>
              <a:off x="8028000" y="6048360"/>
              <a:ext cx="525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6">
              <a:hlinkClick r:id="rId3" action="ppaction://hlinksldjump"/>
            </p:cNvPr>
            <p:cNvSpPr/>
            <p:nvPr/>
          </p:nvSpPr>
          <p:spPr>
            <a:xfrm>
              <a:off x="7596360" y="6021360"/>
              <a:ext cx="15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返    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变式练习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华文楷体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826920" y="1100160"/>
            <a:ext cx="6697800" cy="1251720"/>
            <a:chOff x="826920" y="1100160"/>
            <a:chExt cx="6697800" cy="1251720"/>
          </a:xfrm>
        </p:grpSpPr>
        <p:sp>
          <p:nvSpPr>
            <p:cNvPr id="97" name="Text Box 4"/>
            <p:cNvSpPr/>
            <p:nvPr/>
          </p:nvSpPr>
          <p:spPr>
            <a:xfrm>
              <a:off x="826920" y="1100160"/>
              <a:ext cx="66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    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足球上黑色的皮都是五边形的，白色的皮都是六边形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白色皮共有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0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，比黑色皮的 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 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900000" y="1892160"/>
              <a:ext cx="39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共有多少块黑色皮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0"/>
          <p:cNvSpPr/>
          <p:nvPr/>
        </p:nvSpPr>
        <p:spPr>
          <a:xfrm>
            <a:off x="1763640" y="2373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：设共有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484360" y="3381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195640" y="280512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色皮的块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白色皮的块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050920" y="37418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987640" y="4102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132000" y="44625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835280" y="48211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检验：左边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×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349800" y="59961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remove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RWHELP"/>
          <p:cNvPicPr/>
          <p:nvPr/>
        </p:nvPicPr>
        <p:blipFill>
          <a:blip r:embed="rId2"/>
          <a:stretch/>
        </p:blipFill>
        <p:spPr>
          <a:xfrm>
            <a:off x="6156360" y="260280"/>
            <a:ext cx="298764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1258920" y="3284640"/>
            <a:ext cx="6264360" cy="2520720"/>
          </a:xfrm>
          <a:prstGeom prst="rect">
            <a:avLst/>
          </a:prstGeom>
          <a:solidFill>
            <a:srgbClr val="e6e6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总结思考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332000" y="39560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分析、找出数量之间的相等关系，列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301760" y="4532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767960" y="51325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检验，写出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16"/>
          <p:cNvSpPr txBox="1"/>
          <p:nvPr/>
        </p:nvSpPr>
        <p:spPr>
          <a:xfrm>
            <a:off x="1521000" y="1628640"/>
            <a:ext cx="5787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列方程解决问题的一般步骤是什么？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332000" y="3500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弄清题意，找出未知数，用</a:t>
            </a:r>
            <a:r>
              <a:rPr b="1" lang="en-US" sz="2400" spc="-1" strike="noStrike">
                <a:solidFill>
                  <a:srgbClr val="cc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108000" y="292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养鸡厂养母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公鸡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公鸡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24000" y="39337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校饲养小组今年养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去年养的只数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去年养兔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26920" y="5300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等腰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底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．它的腰是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0"/>
          <p:cNvGrpSpPr/>
          <p:nvPr/>
        </p:nvGrpSpPr>
        <p:grpSpPr>
          <a:xfrm>
            <a:off x="324000" y="1051560"/>
            <a:ext cx="8280360" cy="1036800"/>
            <a:chOff x="324000" y="1051560"/>
            <a:chExt cx="8280360" cy="1036800"/>
          </a:xfrm>
        </p:grpSpPr>
        <p:sp>
          <p:nvSpPr>
            <p:cNvPr id="119" name="Rectangle 5"/>
            <p:cNvSpPr/>
            <p:nvPr/>
          </p:nvSpPr>
          <p:spPr>
            <a:xfrm>
              <a:off x="466560" y="1051560"/>
              <a:ext cx="38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只列方程不解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24000" y="1628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书室有文艺书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比科技书的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倍多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科技书</a:t>
              </a:r>
              <a:r>
                <a:rPr b="1" lang="en-US" sz="2400" spc="-1" strike="noStrike">
                  <a:solidFill>
                    <a:srgbClr val="000000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1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巩固应用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042920" y="2421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2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042920" y="3476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= 4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1042920" y="47721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= 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042920" y="6140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3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7"/>
          <p:cNvGrpSpPr/>
          <p:nvPr/>
        </p:nvGrpSpPr>
        <p:grpSpPr>
          <a:xfrm>
            <a:off x="1403280" y="548280"/>
            <a:ext cx="6624720" cy="1611720"/>
            <a:chOff x="1403280" y="548280"/>
            <a:chExt cx="6624720" cy="1611720"/>
          </a:xfrm>
        </p:grpSpPr>
        <p:sp>
          <p:nvSpPr>
            <p:cNvPr id="127" name="Rectangle 4"/>
            <p:cNvSpPr/>
            <p:nvPr/>
          </p:nvSpPr>
          <p:spPr>
            <a:xfrm>
              <a:off x="1708560" y="548280"/>
              <a:ext cx="7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、解下列方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1403280" y="112536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4932360" y="112536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7.5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1403280" y="170028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4932360" y="17002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×9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971640" y="465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共有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428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网球，每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装一筒，装完后还剩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。一共装了多少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971640" y="2565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北京故宫的面积是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，比天安门广场面积的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。天安门广场的面积是都是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2"/>
          <a:stretch/>
        </p:blipFill>
        <p:spPr>
          <a:xfrm>
            <a:off x="5796000" y="270972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232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51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40Z</dcterms:modified>
  <cp:revision>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