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chimes.wav" ContentType="audio/x-wav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464F-3B93-476B-B357-20FE3BB987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5C30-1780-4C56-BB1D-564DACF96757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0A4F-0B8C-4440-AA9C-96D6C841C2A9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D772-9E38-497B-A12A-A1219FE9CD42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28D-9890-4D27-80D5-B956A6D9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F65-86B1-4F78-8222-E3C38B57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373-E736-48F3-91A7-337274C5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A15-4CF1-46CD-A860-A5AB99C1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58EB-4DE5-49B9-BA0C-144E1070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EE09-F9D2-4C05-BB76-5682EFF1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BB93-2D43-46FB-B416-DD73A5F4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995C-6223-4875-9759-9A2E83C2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2A3E-295A-4102-91F4-F6C598C7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99C5-D553-400F-866B-EF6FF00A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4F78-4E14-4243-9CCB-C6FEE918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1EF-418F-4388-9729-9D37BAC6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E5B7-FFEA-49D6-B408-786B754B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F0EA-3230-49C4-9CAD-BCD82868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61C6-C4BC-4622-B020-40EDB0E1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0E41-6E67-4729-BA7F-81BCD460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3CA1-49AE-4433-A7E3-B40F71CC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866-3F8E-408C-8801-1E75519A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7AF-DE04-42BC-A3AC-397DF299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97F-308C-40E5-9514-BE9C60F7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4A7-0DCA-43EC-B6BC-1D577ADF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A65-3EBE-4810-98EE-9D930FF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71F-9BA8-489E-AA74-69885AAF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FEB-0B7C-4E16-AE17-F54DB33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F651-3DF3-442D-B241-7A2422E24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A1DD-11BD-4971-919B-3F737934BDA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609480" y="609480"/>
            <a:ext cx="41245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水</a:t>
            </a:r>
            <a:endParaRPr b="0" lang="en-US" sz="20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2209320" y="60199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3657600" y="2743200"/>
            <a:ext cx="121932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Oval 3"/>
          <p:cNvSpPr/>
          <p:nvPr/>
        </p:nvSpPr>
        <p:spPr>
          <a:xfrm>
            <a:off x="1600200" y="0"/>
            <a:ext cx="12193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1752480" y="2819520"/>
            <a:ext cx="11718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2743200" y="4267080"/>
            <a:ext cx="31240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5638680" y="2819520"/>
            <a:ext cx="1095480" cy="876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6629400" y="1447920"/>
            <a:ext cx="1295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2743200" y="1219320"/>
            <a:ext cx="3200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4267080" y="22096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67816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895480" y="320040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4267080" y="38095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H="1">
            <a:off x="4876920" y="3200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H="1">
            <a:off x="6172200" y="2209680"/>
            <a:ext cx="457200" cy="573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886200" y="2971800"/>
            <a:ext cx="114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685800" y="1066680"/>
            <a:ext cx="1174680" cy="100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6095880" y="3733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96252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5562720" y="289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用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7238880" y="2743200"/>
            <a:ext cx="129564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705720" y="4038480"/>
            <a:ext cx="144756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6705720" y="1676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洗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6781680" y="4267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4191120" y="6094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2895480" y="1295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水是什么样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Oval 28"/>
          <p:cNvSpPr/>
          <p:nvPr/>
        </p:nvSpPr>
        <p:spPr>
          <a:xfrm>
            <a:off x="6095880" y="0"/>
            <a:ext cx="144792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733920" y="0"/>
            <a:ext cx="12952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228600" y="4495680"/>
            <a:ext cx="1174680" cy="92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Oval 31"/>
          <p:cNvSpPr/>
          <p:nvPr/>
        </p:nvSpPr>
        <p:spPr>
          <a:xfrm>
            <a:off x="0" y="3352680"/>
            <a:ext cx="117468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Oval 32"/>
          <p:cNvSpPr/>
          <p:nvPr/>
        </p:nvSpPr>
        <p:spPr>
          <a:xfrm>
            <a:off x="0" y="2057400"/>
            <a:ext cx="11746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Oval 33"/>
          <p:cNvSpPr/>
          <p:nvPr/>
        </p:nvSpPr>
        <p:spPr>
          <a:xfrm>
            <a:off x="3048120" y="5257800"/>
            <a:ext cx="29718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人的生产生活离不开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838080" y="5257800"/>
            <a:ext cx="20574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Oval 35"/>
          <p:cNvSpPr/>
          <p:nvPr/>
        </p:nvSpPr>
        <p:spPr>
          <a:xfrm>
            <a:off x="6095880" y="5257800"/>
            <a:ext cx="18288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Line 36"/>
          <p:cNvSpPr/>
          <p:nvPr/>
        </p:nvSpPr>
        <p:spPr>
          <a:xfrm>
            <a:off x="1752480" y="1905120"/>
            <a:ext cx="381240" cy="954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Line 37"/>
          <p:cNvSpPr/>
          <p:nvPr/>
        </p:nvSpPr>
        <p:spPr>
          <a:xfrm>
            <a:off x="2666880" y="990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Line 38"/>
          <p:cNvSpPr/>
          <p:nvPr/>
        </p:nvSpPr>
        <p:spPr>
          <a:xfrm flipH="1">
            <a:off x="5867280" y="990720"/>
            <a:ext cx="457200" cy="573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39"/>
          <p:cNvSpPr/>
          <p:nvPr/>
        </p:nvSpPr>
        <p:spPr>
          <a:xfrm>
            <a:off x="28195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和生物的关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40"/>
          <p:cNvSpPr/>
          <p:nvPr/>
        </p:nvSpPr>
        <p:spPr>
          <a:xfrm>
            <a:off x="990720" y="54100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植物离不开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Line 43"/>
          <p:cNvSpPr/>
          <p:nvPr/>
        </p:nvSpPr>
        <p:spPr>
          <a:xfrm flipV="1">
            <a:off x="1143000" y="3429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1143000" y="27432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Line 45"/>
          <p:cNvSpPr/>
          <p:nvPr/>
        </p:nvSpPr>
        <p:spPr>
          <a:xfrm flipH="1">
            <a:off x="129492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6"/>
          <p:cNvSpPr/>
          <p:nvPr/>
        </p:nvSpPr>
        <p:spPr>
          <a:xfrm>
            <a:off x="182880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存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44956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Line 48"/>
          <p:cNvSpPr/>
          <p:nvPr/>
        </p:nvSpPr>
        <p:spPr>
          <a:xfrm>
            <a:off x="5867280" y="4876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Line 49"/>
          <p:cNvSpPr/>
          <p:nvPr/>
        </p:nvSpPr>
        <p:spPr>
          <a:xfrm flipH="1">
            <a:off x="2438280" y="50292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914400" y="1219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52"/>
          <p:cNvSpPr/>
          <p:nvPr/>
        </p:nvSpPr>
        <p:spPr>
          <a:xfrm>
            <a:off x="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淡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Picture 56" descr="未命名"/>
          <p:cNvPicPr/>
          <p:nvPr/>
        </p:nvPicPr>
        <p:blipFill>
          <a:blip r:embed="rId1"/>
          <a:stretch/>
        </p:blipFill>
        <p:spPr>
          <a:xfrm>
            <a:off x="7696080" y="304920"/>
            <a:ext cx="1117800" cy="1117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0"/>
          <p:cNvSpPr/>
          <p:nvPr/>
        </p:nvSpPr>
        <p:spPr>
          <a:xfrm>
            <a:off x="4572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雪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6095880" y="152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透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63"/>
          <p:cNvSpPr/>
          <p:nvPr/>
        </p:nvSpPr>
        <p:spPr>
          <a:xfrm>
            <a:off x="7391520" y="2971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烧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6705720" y="4114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67"/>
          <p:cNvSpPr/>
          <p:nvPr/>
        </p:nvSpPr>
        <p:spPr>
          <a:xfrm>
            <a:off x="685800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灌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69"/>
          <p:cNvSpPr/>
          <p:nvPr/>
        </p:nvSpPr>
        <p:spPr>
          <a:xfrm>
            <a:off x="8442360" y="573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70"/>
          <p:cNvSpPr/>
          <p:nvPr/>
        </p:nvSpPr>
        <p:spPr>
          <a:xfrm>
            <a:off x="1600200" y="228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无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71"/>
          <p:cNvSpPr/>
          <p:nvPr/>
        </p:nvSpPr>
        <p:spPr>
          <a:xfrm>
            <a:off x="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海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72"/>
          <p:cNvSpPr/>
          <p:nvPr/>
        </p:nvSpPr>
        <p:spPr>
          <a:xfrm>
            <a:off x="6095880" y="541008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动物离不开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73"/>
          <p:cNvSpPr/>
          <p:nvPr/>
        </p:nvSpPr>
        <p:spPr>
          <a:xfrm>
            <a:off x="3809880" y="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无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8"/>
          <p:cNvSpPr/>
          <p:nvPr/>
        </p:nvSpPr>
        <p:spPr>
          <a:xfrm>
            <a:off x="3276720" y="5715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4" name="Picture 4" descr="6"/>
          <p:cNvPicPr/>
          <p:nvPr/>
        </p:nvPicPr>
        <p:blipFill>
          <a:blip r:embed="rId1"/>
          <a:stretch/>
        </p:blipFill>
        <p:spPr>
          <a:xfrm>
            <a:off x="69840" y="66600"/>
            <a:ext cx="9002880" cy="6723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80880" y="12193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914400" y="18288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闭上眼睛，看看能不能将带中的物体分辨出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找出容易辨别的和难辨别的物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难辨别的物体不能用眼睛观察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4" descr="3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5800" y="685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水在哪个袋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" y="2286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容易辨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429000" y="2438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石块   木块  树叶   空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28600" y="3657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难辨别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4419720" y="35812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酒      醋    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0948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石块   木块   酒   醋   空气   水  树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1494000" y="6099120"/>
            <a:ext cx="53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228600" y="3808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给袋中的物体分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295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木块  牛奶  水  石块  树叶  醋  空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362320" y="4114800"/>
            <a:ext cx="53337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木块      石块      树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762120" y="4473720"/>
            <a:ext cx="16002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固体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362320" y="2743200"/>
            <a:ext cx="533376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牛奶      水     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762120" y="2743200"/>
            <a:ext cx="160020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液体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609480" y="1981080"/>
            <a:ext cx="6934320" cy="0"/>
          </a:xfrm>
          <a:prstGeom prst="line">
            <a:avLst/>
          </a:prstGeom>
          <a:ln cap="sq"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609480" y="3733920"/>
            <a:ext cx="6934320" cy="0"/>
          </a:xfrm>
          <a:prstGeom prst="line">
            <a:avLst/>
          </a:prstGeom>
          <a:ln w="126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609480" y="5791320"/>
            <a:ext cx="6934320" cy="0"/>
          </a:xfrm>
          <a:prstGeom prst="line">
            <a:avLst/>
          </a:prstGeom>
          <a:ln cap="sq"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609480" y="1981080"/>
            <a:ext cx="0" cy="3772080"/>
          </a:xfrm>
          <a:prstGeom prst="line">
            <a:avLst/>
          </a:prstGeom>
          <a:ln cap="sq"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2286000" y="2057400"/>
            <a:ext cx="0" cy="3772080"/>
          </a:xfrm>
          <a:prstGeom prst="line">
            <a:avLst/>
          </a:prstGeom>
          <a:ln w="126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Line 18"/>
          <p:cNvSpPr/>
          <p:nvPr/>
        </p:nvSpPr>
        <p:spPr>
          <a:xfrm>
            <a:off x="7543800" y="2133720"/>
            <a:ext cx="0" cy="3771720"/>
          </a:xfrm>
          <a:prstGeom prst="line">
            <a:avLst/>
          </a:prstGeom>
          <a:ln cap="sq"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609480" y="5943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注：空气既不是液体，也不是固体是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气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c5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8B1E-D8B4-47B3-8E02-7C78186E42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01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34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