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6435-0F61-40DD-925A-D84ACFC7D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545F-AE94-4D56-B21B-1EC66E68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B21A-571A-4374-BAFF-DDEE6914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A67A-76FA-4CD7-83EB-858478B82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3FA2-30A2-40A6-841A-B08CF427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FBFE-24C0-44FB-93E1-852318BE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9B5E-8B70-4AEA-92CE-69756F4E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CC46-1B79-428E-BFAB-56E1257B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9448-E632-4711-A5DA-8711C805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2AC8-CEC3-4EAC-A042-45881489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216A-23D7-4F9A-8B3D-B46420CE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1984-3050-4ADF-8DDE-D5CCEBBA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CFE8-03D3-4459-9A33-9EF6F87710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692360" y="1706040"/>
            <a:ext cx="57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黑体"/>
                <a:ea typeface="黑体"/>
              </a:rPr>
              <a:t>三角形的分类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6"/>
          <p:cNvSpPr/>
          <p:nvPr/>
        </p:nvSpPr>
        <p:spPr>
          <a:xfrm>
            <a:off x="2384640" y="595008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51"/>
          <p:cNvSpPr/>
          <p:nvPr/>
        </p:nvSpPr>
        <p:spPr>
          <a:xfrm>
            <a:off x="6084720" y="907920"/>
            <a:ext cx="1008360" cy="1584360"/>
          </a:xfrm>
          <a:custGeom>
            <a:avLst/>
            <a:gdLst/>
            <a:ahLst/>
            <a:rect l="l" t="t" r="r" b="b"/>
            <a:pathLst>
              <a:path w="635" h="998">
                <a:moveTo>
                  <a:pt x="0" y="998"/>
                </a:moveTo>
                <a:lnTo>
                  <a:pt x="635" y="0"/>
                </a:lnTo>
                <a:lnTo>
                  <a:pt x="635" y="817"/>
                </a:lnTo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50"/>
          <p:cNvSpPr/>
          <p:nvPr/>
        </p:nvSpPr>
        <p:spPr>
          <a:xfrm>
            <a:off x="3995640" y="1100160"/>
            <a:ext cx="1236600" cy="312840"/>
          </a:xfrm>
          <a:custGeom>
            <a:avLst/>
            <a:gdLst/>
            <a:ahLst/>
            <a:rect l="l" t="t" r="r" b="b"/>
            <a:pathLst>
              <a:path w="1187" h="333">
                <a:moveTo>
                  <a:pt x="0" y="333"/>
                </a:moveTo>
                <a:cubicBezTo>
                  <a:pt x="21" y="333"/>
                  <a:pt x="43" y="333"/>
                  <a:pt x="64" y="333"/>
                </a:cubicBezTo>
                <a:lnTo>
                  <a:pt x="551" y="0"/>
                </a:lnTo>
                <a:lnTo>
                  <a:pt x="1187" y="318"/>
                </a:lnTo>
              </a:path>
            </a:pathLst>
          </a:custGeom>
          <a:solidFill>
            <a:srgbClr val="00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56"/>
          <p:cNvGrpSpPr/>
          <p:nvPr/>
        </p:nvGrpSpPr>
        <p:grpSpPr>
          <a:xfrm>
            <a:off x="1241280" y="905760"/>
            <a:ext cx="1260720" cy="755640"/>
            <a:chOff x="1241280" y="905760"/>
            <a:chExt cx="1260720" cy="755640"/>
          </a:xfrm>
        </p:grpSpPr>
        <p:sp>
          <p:nvSpPr>
            <p:cNvPr id="147" name="Freeform 49"/>
            <p:cNvSpPr/>
            <p:nvPr/>
          </p:nvSpPr>
          <p:spPr>
            <a:xfrm rot="185400">
              <a:off x="1258560" y="938160"/>
              <a:ext cx="1225440" cy="690480"/>
            </a:xfrm>
            <a:custGeom>
              <a:avLst/>
              <a:gdLst/>
              <a:ahLst/>
              <a:rect l="l" t="t" r="r" b="b"/>
              <a:pathLst>
                <a:path w="1043" h="589">
                  <a:moveTo>
                    <a:pt x="0" y="589"/>
                  </a:moveTo>
                  <a:lnTo>
                    <a:pt x="340" y="0"/>
                  </a:lnTo>
                  <a:lnTo>
                    <a:pt x="1043" y="406"/>
                  </a:lnTo>
                </a:path>
              </a:pathLst>
            </a:custGeom>
            <a:solidFill>
              <a:srgbClr val="ff99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55"/>
            <p:cNvSpPr/>
            <p:nvPr/>
          </p:nvSpPr>
          <p:spPr>
            <a:xfrm rot="7480200">
              <a:off x="1625040" y="952200"/>
              <a:ext cx="174600" cy="209520"/>
            </a:xfrm>
            <a:custGeom>
              <a:avLst/>
              <a:gdLst/>
              <a:ahLst/>
              <a:rect l="l" t="t" r="r" b="b"/>
              <a:pathLst>
                <a:path w="136" h="181">
                  <a:moveTo>
                    <a:pt x="0" y="0"/>
                  </a:moveTo>
                  <a:lnTo>
                    <a:pt x="136" y="0"/>
                  </a:lnTo>
                  <a:lnTo>
                    <a:pt x="136" y="181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File"/>
          <p:cNvSpPr/>
          <p:nvPr/>
        </p:nvSpPr>
        <p:spPr>
          <a:xfrm>
            <a:off x="826920" y="1197000"/>
            <a:ext cx="2160720" cy="1440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①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ile"/>
          <p:cNvSpPr/>
          <p:nvPr/>
        </p:nvSpPr>
        <p:spPr>
          <a:xfrm>
            <a:off x="3492360" y="1197000"/>
            <a:ext cx="2160720" cy="14400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②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ile"/>
          <p:cNvSpPr/>
          <p:nvPr/>
        </p:nvSpPr>
        <p:spPr>
          <a:xfrm>
            <a:off x="6084720" y="1197000"/>
            <a:ext cx="2160720" cy="144000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③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58"/>
          <p:cNvGrpSpPr/>
          <p:nvPr/>
        </p:nvGrpSpPr>
        <p:grpSpPr>
          <a:xfrm>
            <a:off x="6699240" y="955440"/>
            <a:ext cx="1147680" cy="1608480"/>
            <a:chOff x="6699240" y="955440"/>
            <a:chExt cx="1147680" cy="1608480"/>
          </a:xfrm>
        </p:grpSpPr>
        <p:sp>
          <p:nvSpPr>
            <p:cNvPr id="153" name="AutoShape 29"/>
            <p:cNvSpPr/>
            <p:nvPr/>
          </p:nvSpPr>
          <p:spPr>
            <a:xfrm rot="540000">
              <a:off x="6805440" y="1052280"/>
              <a:ext cx="935280" cy="1430280"/>
            </a:xfrm>
            <a:prstGeom prst="triangle">
              <a:avLst>
                <a:gd name="adj" fmla="val 23463"/>
              </a:avLst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rc 30"/>
            <p:cNvSpPr/>
            <p:nvPr/>
          </p:nvSpPr>
          <p:spPr>
            <a:xfrm flipH="1">
              <a:off x="7392960" y="2247840"/>
              <a:ext cx="139680" cy="316080"/>
            </a:xfrm>
            <a:custGeom>
              <a:avLst/>
              <a:gdLst/>
              <a:ahLst/>
              <a:rect l="l" t="t" r="r" b="b"/>
              <a:pathLst>
                <a:path fill="none" w="20935" h="21600">
                  <a:moveTo>
                    <a:pt x="-1" y="0"/>
                  </a:moveTo>
                  <a:cubicBezTo>
                    <a:pt x="9880" y="0"/>
                    <a:pt x="18501" y="6704"/>
                    <a:pt x="20934" y="16281"/>
                  </a:cubicBezTo>
                </a:path>
                <a:path stroke="0" w="20935" h="21600">
                  <a:moveTo>
                    <a:pt x="-1" y="0"/>
                  </a:moveTo>
                  <a:cubicBezTo>
                    <a:pt x="9880" y="0"/>
                    <a:pt x="18501" y="6704"/>
                    <a:pt x="20934" y="16281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rc 31"/>
            <p:cNvSpPr/>
            <p:nvPr/>
          </p:nvSpPr>
          <p:spPr>
            <a:xfrm>
              <a:off x="6804000" y="2166840"/>
              <a:ext cx="138240" cy="254160"/>
            </a:xfrm>
            <a:custGeom>
              <a:avLst/>
              <a:gdLst/>
              <a:ahLst/>
              <a:rect l="l" t="t" r="r" b="b"/>
              <a:pathLst>
                <a:path fill="none" w="21600" h="2751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601"/>
                    <a:pt x="21321" y="25593"/>
                    <a:pt x="20773" y="27518"/>
                  </a:cubicBezTo>
                </a:path>
                <a:path stroke="0" w="21600" h="2751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601"/>
                    <a:pt x="21321" y="25593"/>
                    <a:pt x="20773" y="2751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rc 32"/>
            <p:cNvSpPr/>
            <p:nvPr/>
          </p:nvSpPr>
          <p:spPr>
            <a:xfrm flipV="1" rot="1427400">
              <a:off x="7094520" y="980640"/>
              <a:ext cx="214200" cy="420840"/>
            </a:xfrm>
            <a:custGeom>
              <a:avLst/>
              <a:gdLst/>
              <a:ahLst/>
              <a:rect l="l" t="t" r="r" b="b"/>
              <a:pathLst>
                <a:path fill="none" w="20639" h="21600">
                  <a:moveTo>
                    <a:pt x="0" y="951"/>
                  </a:moveTo>
                  <a:cubicBezTo>
                    <a:pt x="2054" y="320"/>
                    <a:pt x="4191" y="-1"/>
                    <a:pt x="6340" y="0"/>
                  </a:cubicBezTo>
                  <a:cubicBezTo>
                    <a:pt x="11606" y="0"/>
                    <a:pt x="16691" y="1924"/>
                    <a:pt x="20639" y="5410"/>
                  </a:cubicBezTo>
                </a:path>
                <a:path stroke="0" w="20639" h="21600">
                  <a:moveTo>
                    <a:pt x="0" y="951"/>
                  </a:moveTo>
                  <a:cubicBezTo>
                    <a:pt x="2054" y="320"/>
                    <a:pt x="4191" y="-1"/>
                    <a:pt x="6340" y="0"/>
                  </a:cubicBezTo>
                  <a:cubicBezTo>
                    <a:pt x="11606" y="0"/>
                    <a:pt x="16691" y="1924"/>
                    <a:pt x="20639" y="5410"/>
                  </a:cubicBezTo>
                  <a:lnTo>
                    <a:pt x="6340" y="21600"/>
                  </a:lnTo>
                  <a:lnTo>
                    <a:pt x="0" y="951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36"/>
          <p:cNvGrpSpPr/>
          <p:nvPr/>
        </p:nvGrpSpPr>
        <p:grpSpPr>
          <a:xfrm>
            <a:off x="6359400" y="892800"/>
            <a:ext cx="1245960" cy="1974600"/>
            <a:chOff x="6359400" y="892800"/>
            <a:chExt cx="1245960" cy="1974600"/>
          </a:xfrm>
        </p:grpSpPr>
        <p:sp>
          <p:nvSpPr>
            <p:cNvPr id="158" name="AutoShape 37"/>
            <p:cNvSpPr/>
            <p:nvPr/>
          </p:nvSpPr>
          <p:spPr>
            <a:xfrm rot="16151400">
              <a:off x="6037200" y="1236240"/>
              <a:ext cx="1871640" cy="1201680"/>
            </a:xfrm>
            <a:prstGeom prst="triangle">
              <a:avLst>
                <a:gd name="adj" fmla="val 0"/>
              </a:avLst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rc 38"/>
            <p:cNvSpPr/>
            <p:nvPr/>
          </p:nvSpPr>
          <p:spPr>
            <a:xfrm flipH="1" rot="8051400">
              <a:off x="6556320" y="2490120"/>
              <a:ext cx="236520" cy="344520"/>
            </a:xfrm>
            <a:custGeom>
              <a:avLst/>
              <a:gdLst/>
              <a:ahLst/>
              <a:rect l="l" t="t" r="r" b="b"/>
              <a:pathLst>
                <a:path fill="none" w="21600" h="30166">
                  <a:moveTo>
                    <a:pt x="11421" y="0"/>
                  </a:moveTo>
                  <a:cubicBezTo>
                    <a:pt x="17752" y="3943"/>
                    <a:pt x="21600" y="10874"/>
                    <a:pt x="21600" y="18333"/>
                  </a:cubicBezTo>
                  <a:cubicBezTo>
                    <a:pt x="21600" y="22536"/>
                    <a:pt x="20373" y="26649"/>
                    <a:pt x="18070" y="30166"/>
                  </a:cubicBezTo>
                </a:path>
                <a:path stroke="0" w="21600" h="30166">
                  <a:moveTo>
                    <a:pt x="11421" y="0"/>
                  </a:moveTo>
                  <a:cubicBezTo>
                    <a:pt x="17752" y="3943"/>
                    <a:pt x="21600" y="10874"/>
                    <a:pt x="21600" y="18333"/>
                  </a:cubicBezTo>
                  <a:cubicBezTo>
                    <a:pt x="21600" y="22536"/>
                    <a:pt x="20373" y="26649"/>
                    <a:pt x="18070" y="30166"/>
                  </a:cubicBezTo>
                  <a:lnTo>
                    <a:pt x="0" y="18333"/>
                  </a:lnTo>
                  <a:lnTo>
                    <a:pt x="11421" y="0"/>
                  </a:lnTo>
                  <a:close/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rc 39"/>
            <p:cNvSpPr/>
            <p:nvPr/>
          </p:nvSpPr>
          <p:spPr>
            <a:xfrm rot="8051400">
              <a:off x="7383960" y="1213560"/>
              <a:ext cx="120600" cy="185760"/>
            </a:xfrm>
            <a:custGeom>
              <a:avLst/>
              <a:gdLst/>
              <a:ahLst/>
              <a:rect l="l" t="t" r="r" b="b"/>
              <a:pathLst>
                <a:path fill="none" w="21600" h="23969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91"/>
                    <a:pt x="21556" y="23182"/>
                    <a:pt x="21469" y="23968"/>
                  </a:cubicBezTo>
                </a:path>
                <a:path stroke="0" w="21600" h="23969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91"/>
                    <a:pt x="21556" y="23182"/>
                    <a:pt x="21469" y="2396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40"/>
            <p:cNvSpPr/>
            <p:nvPr/>
          </p:nvSpPr>
          <p:spPr>
            <a:xfrm rot="8051400">
              <a:off x="7234560" y="2502360"/>
              <a:ext cx="360360" cy="181080"/>
            </a:xfrm>
            <a:custGeom>
              <a:avLst/>
              <a:gdLst/>
              <a:ahLst/>
              <a:rect l="l" t="t" r="r" b="b"/>
              <a:pathLst>
                <a:path w="273" h="137">
                  <a:moveTo>
                    <a:pt x="0" y="1"/>
                  </a:moveTo>
                  <a:lnTo>
                    <a:pt x="136" y="137"/>
                  </a:lnTo>
                  <a:lnTo>
                    <a:pt x="273" y="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57"/>
          <p:cNvGrpSpPr/>
          <p:nvPr/>
        </p:nvGrpSpPr>
        <p:grpSpPr>
          <a:xfrm>
            <a:off x="6129720" y="1182960"/>
            <a:ext cx="2570760" cy="1981080"/>
            <a:chOff x="6129720" y="1182960"/>
            <a:chExt cx="2570760" cy="1981080"/>
          </a:xfrm>
        </p:grpSpPr>
        <p:sp>
          <p:nvSpPr>
            <p:cNvPr id="163" name="AutoShape 42"/>
            <p:cNvSpPr/>
            <p:nvPr/>
          </p:nvSpPr>
          <p:spPr>
            <a:xfrm rot="8942400">
              <a:off x="6156000" y="1773360"/>
              <a:ext cx="2517840" cy="799920"/>
            </a:xfrm>
            <a:prstGeom prst="triangle">
              <a:avLst>
                <a:gd name="adj" fmla="val 45569"/>
              </a:avLst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rc 43"/>
            <p:cNvSpPr/>
            <p:nvPr/>
          </p:nvSpPr>
          <p:spPr>
            <a:xfrm rot="21476400">
              <a:off x="6416640" y="2276280"/>
              <a:ext cx="98640" cy="201600"/>
            </a:xfrm>
            <a:custGeom>
              <a:avLst/>
              <a:gdLst/>
              <a:ahLst/>
              <a:rect l="l" t="t" r="r" b="b"/>
              <a:pathLst>
                <a:path fill="none" w="21600" h="3671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7252"/>
                    <a:pt x="19384" y="32680"/>
                    <a:pt x="15427" y="36717"/>
                  </a:cubicBezTo>
                </a:path>
                <a:path stroke="0" w="21600" h="3671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7252"/>
                    <a:pt x="19384" y="32680"/>
                    <a:pt x="15427" y="3671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rc 44"/>
            <p:cNvSpPr/>
            <p:nvPr/>
          </p:nvSpPr>
          <p:spPr>
            <a:xfrm flipH="1" rot="21476400">
              <a:off x="8038440" y="1341000"/>
              <a:ext cx="133560" cy="136440"/>
            </a:xfrm>
            <a:custGeom>
              <a:avLst/>
              <a:gdLst/>
              <a:ahLst/>
              <a:rect l="l" t="t" r="r" b="b"/>
              <a:pathLst>
                <a:path fill="none" w="32283" h="27745">
                  <a:moveTo>
                    <a:pt x="31390" y="0"/>
                  </a:moveTo>
                  <a:cubicBezTo>
                    <a:pt x="31982" y="1994"/>
                    <a:pt x="32283" y="4064"/>
                    <a:pt x="32283" y="6145"/>
                  </a:cubicBezTo>
                  <a:cubicBezTo>
                    <a:pt x="32283" y="18074"/>
                    <a:pt x="22612" y="27745"/>
                    <a:pt x="10683" y="27745"/>
                  </a:cubicBezTo>
                  <a:cubicBezTo>
                    <a:pt x="6937" y="27745"/>
                    <a:pt x="3255" y="26770"/>
                    <a:pt x="-1" y="24918"/>
                  </a:cubicBezTo>
                </a:path>
                <a:path stroke="0" w="32283" h="27745">
                  <a:moveTo>
                    <a:pt x="31390" y="0"/>
                  </a:moveTo>
                  <a:cubicBezTo>
                    <a:pt x="31982" y="1994"/>
                    <a:pt x="32283" y="4064"/>
                    <a:pt x="32283" y="6145"/>
                  </a:cubicBezTo>
                  <a:cubicBezTo>
                    <a:pt x="32283" y="18074"/>
                    <a:pt x="22612" y="27745"/>
                    <a:pt x="10683" y="27745"/>
                  </a:cubicBezTo>
                  <a:cubicBezTo>
                    <a:pt x="6937" y="27745"/>
                    <a:pt x="3255" y="26770"/>
                    <a:pt x="-1" y="24918"/>
                  </a:cubicBezTo>
                  <a:lnTo>
                    <a:pt x="10683" y="6145"/>
                  </a:lnTo>
                  <a:lnTo>
                    <a:pt x="31390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rc 45"/>
            <p:cNvSpPr/>
            <p:nvPr/>
          </p:nvSpPr>
          <p:spPr>
            <a:xfrm flipH="1" rot="254400">
              <a:off x="7454520" y="2228760"/>
              <a:ext cx="357480" cy="263520"/>
            </a:xfrm>
            <a:custGeom>
              <a:avLst/>
              <a:gdLst/>
              <a:ahLst/>
              <a:rect l="l" t="t" r="r" b="b"/>
              <a:pathLst>
                <a:path fill="none" w="29504" h="21600">
                  <a:moveTo>
                    <a:pt x="0" y="1498"/>
                  </a:moveTo>
                  <a:cubicBezTo>
                    <a:pt x="2517" y="508"/>
                    <a:pt x="5198" y="-1"/>
                    <a:pt x="7904" y="0"/>
                  </a:cubicBezTo>
                  <a:cubicBezTo>
                    <a:pt x="19833" y="0"/>
                    <a:pt x="29504" y="9670"/>
                    <a:pt x="29504" y="21600"/>
                  </a:cubicBezTo>
                </a:path>
                <a:path stroke="0" w="29504" h="21600">
                  <a:moveTo>
                    <a:pt x="0" y="1498"/>
                  </a:moveTo>
                  <a:cubicBezTo>
                    <a:pt x="2517" y="508"/>
                    <a:pt x="5198" y="-1"/>
                    <a:pt x="7904" y="0"/>
                  </a:cubicBezTo>
                  <a:cubicBezTo>
                    <a:pt x="19833" y="0"/>
                    <a:pt x="29504" y="9670"/>
                    <a:pt x="29504" y="21600"/>
                  </a:cubicBezTo>
                  <a:lnTo>
                    <a:pt x="7904" y="21600"/>
                  </a:lnTo>
                  <a:lnTo>
                    <a:pt x="0" y="1498"/>
                  </a:lnTo>
                  <a:close/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46"/>
          <p:cNvGrpSpPr/>
          <p:nvPr/>
        </p:nvGrpSpPr>
        <p:grpSpPr>
          <a:xfrm>
            <a:off x="3450960" y="1527480"/>
            <a:ext cx="2594520" cy="1113840"/>
            <a:chOff x="3450960" y="1527480"/>
            <a:chExt cx="2594520" cy="1113840"/>
          </a:xfrm>
        </p:grpSpPr>
        <p:sp>
          <p:nvSpPr>
            <p:cNvPr id="168" name="AutoShape 47"/>
            <p:cNvSpPr/>
            <p:nvPr/>
          </p:nvSpPr>
          <p:spPr>
            <a:xfrm rot="485400">
              <a:off x="3492360" y="1700280"/>
              <a:ext cx="2511360" cy="768240"/>
            </a:xfrm>
            <a:prstGeom prst="triangle">
              <a:avLst>
                <a:gd name="adj" fmla="val 30435"/>
              </a:avLst>
            </a:prstGeom>
            <a:solidFill>
              <a:srgbClr val="00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rc 48"/>
            <p:cNvSpPr/>
            <p:nvPr/>
          </p:nvSpPr>
          <p:spPr>
            <a:xfrm flipH="1" rot="11137800">
              <a:off x="4109760" y="1662840"/>
              <a:ext cx="334800" cy="203040"/>
            </a:xfrm>
            <a:custGeom>
              <a:avLst/>
              <a:gdLst/>
              <a:ahLst/>
              <a:rect l="l" t="t" r="r" b="b"/>
              <a:pathLst>
                <a:path fill="none" w="34224" h="21600">
                  <a:moveTo>
                    <a:pt x="-1" y="5211"/>
                  </a:moveTo>
                  <a:cubicBezTo>
                    <a:pt x="3916" y="1848"/>
                    <a:pt x="8908" y="-1"/>
                    <a:pt x="14071" y="0"/>
                  </a:cubicBezTo>
                  <a:cubicBezTo>
                    <a:pt x="23000" y="0"/>
                    <a:pt x="31009" y="5494"/>
                    <a:pt x="34223" y="13826"/>
                  </a:cubicBezTo>
                </a:path>
                <a:path stroke="0" w="34224" h="21600">
                  <a:moveTo>
                    <a:pt x="-1" y="5211"/>
                  </a:moveTo>
                  <a:cubicBezTo>
                    <a:pt x="3916" y="1848"/>
                    <a:pt x="8908" y="-1"/>
                    <a:pt x="14071" y="0"/>
                  </a:cubicBezTo>
                  <a:cubicBezTo>
                    <a:pt x="23000" y="0"/>
                    <a:pt x="31009" y="5494"/>
                    <a:pt x="34223" y="13826"/>
                  </a:cubicBezTo>
                  <a:lnTo>
                    <a:pt x="14071" y="21600"/>
                  </a:lnTo>
                  <a:lnTo>
                    <a:pt x="-1" y="5211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33"/>
          <p:cNvGrpSpPr/>
          <p:nvPr/>
        </p:nvGrpSpPr>
        <p:grpSpPr>
          <a:xfrm>
            <a:off x="875520" y="1254240"/>
            <a:ext cx="1826280" cy="2036520"/>
            <a:chOff x="875520" y="1254240"/>
            <a:chExt cx="1826280" cy="2036520"/>
          </a:xfrm>
        </p:grpSpPr>
        <p:sp>
          <p:nvSpPr>
            <p:cNvPr id="171" name="AutoShape 34"/>
            <p:cNvSpPr/>
            <p:nvPr/>
          </p:nvSpPr>
          <p:spPr>
            <a:xfrm rot="7437600">
              <a:off x="898920" y="1770840"/>
              <a:ext cx="1779480" cy="1003320"/>
            </a:xfrm>
            <a:prstGeom prst="rtTriangle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5"/>
            <p:cNvSpPr/>
            <p:nvPr/>
          </p:nvSpPr>
          <p:spPr>
            <a:xfrm rot="7437600">
              <a:off x="1802520" y="1320840"/>
              <a:ext cx="215640" cy="216000"/>
            </a:xfrm>
            <a:custGeom>
              <a:avLst/>
              <a:gdLst/>
              <a:ahLst/>
              <a:rect l="l" t="t" r="r" b="b"/>
              <a:pathLst>
                <a:path w="136" h="181">
                  <a:moveTo>
                    <a:pt x="0" y="0"/>
                  </a:moveTo>
                  <a:lnTo>
                    <a:pt x="136" y="0"/>
                  </a:lnTo>
                  <a:lnTo>
                    <a:pt x="136" y="181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 -0.00023 C 0.03594 -0.05919 0.04306 -0.11792 0.06684 -0.14613 C 0.09045 -0.17434 0.15243 -0.2185 0.17118 -0.16948 C 0.18993 -0.12046 0.20625 0.07422 0.179 0.14844 C 0.15174 0.22266 0.04306 0.24925 0.0073 0.27561 E">
                                      <p:cBhvr>
                                        <p:cTn id="194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56647E-006 C 2.77778E-007 -0.07375 -0.0066 -0.16346 -0.03021 -0.18173 C -0.05382 -0.2 -0.125 -0.17317 -0.14167 -0.10936 C -0.15833 -0.04554 -0.15139 0.14729 -0.13056 0.20139 C -0.10972 0.25526 -0.0401 0.21157 -0.01632 0.21411 E">
                                      <p:cBhvr>
                                        <p:cTn id="201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58 -0.0178 C 0.0559 -0.07283 0.06823 -0.12763 0.05104 -0.15861 C 0.03403 -0.18936 -0.02361 -0.25896 -0.05937 -0.20347 C -0.09514 -0.14797 -0.15937 0.08532 -0.16406 0.1748 C -0.16875 0.26405 -0.10365 0.29873 -0.08785 0.33133 E">
                                      <p:cBhvr>
                                        <p:cTn id="208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68208E-006 C 0.00625 -0.08971 0.0125 -0.17895 -0.00781 -0.18381 C -0.02812 -0.18867 -0.10312 -0.12138 -0.12222 -0.02959 C -0.14132 0.06243 -0.15121 0.30891 -0.12222 0.36694 C -0.09323 0.42498 0.01597 0.32902 0.05226 0.31908 E">
                                      <p:cBhvr>
                                        <p:cTn id="21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3.2948E-006 C 0.01371 -0.09943 0.01753 -0.19885 -0.00886 -0.22197 C -0.03525 -0.24509 -0.12448 -0.2074 -0.14861 -0.13943 C -0.17275 -0.07145 -0.18403 0.07768 -0.1533 0.18612 C -0.12257 0.29456 0.00329 0.45641 0.03559 0.51167 E">
                                      <p:cBhvr>
                                        <p:cTn id="222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7"/>
          <p:cNvSpPr/>
          <p:nvPr/>
        </p:nvSpPr>
        <p:spPr>
          <a:xfrm>
            <a:off x="611280" y="1413000"/>
            <a:ext cx="763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把所有的三角形看作一个整体，锐角三角形、直角三角形和钝角三角形都是这个整体的一部分。它们之间的关系，可以用下图表示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71"/>
          <p:cNvGrpSpPr/>
          <p:nvPr/>
        </p:nvGrpSpPr>
        <p:grpSpPr>
          <a:xfrm>
            <a:off x="2195640" y="3357720"/>
            <a:ext cx="4897440" cy="2376000"/>
            <a:chOff x="2195640" y="3357720"/>
            <a:chExt cx="4897440" cy="2376000"/>
          </a:xfrm>
        </p:grpSpPr>
        <p:sp>
          <p:nvSpPr>
            <p:cNvPr id="176" name="Oval 58"/>
            <p:cNvSpPr/>
            <p:nvPr/>
          </p:nvSpPr>
          <p:spPr>
            <a:xfrm>
              <a:off x="2195640" y="3399480"/>
              <a:ext cx="4807080" cy="22276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PubPieSlice"/>
            <p:cNvSpPr/>
            <p:nvPr/>
          </p:nvSpPr>
          <p:spPr>
            <a:xfrm>
              <a:off x="2195640" y="3357720"/>
              <a:ext cx="4807080" cy="236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09" y="6697"/>
                  </a:moveTo>
                  <a:cubicBezTo>
                    <a:pt x="275" y="7999"/>
                    <a:pt x="0" y="9392"/>
                    <a:pt x="0" y="10799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ubicBezTo>
                    <a:pt x="21600" y="9623"/>
                    <a:pt x="21407" y="8455"/>
                    <a:pt x="21031" y="7340"/>
                  </a:cubicBezTo>
                  <a:lnTo>
                    <a:pt x="10800" y="10800"/>
                  </a:lnTo>
                  <a:lnTo>
                    <a:pt x="809" y="6697"/>
                  </a:lnTo>
                  <a:close/>
                </a:path>
              </a:pathLst>
            </a:custGeom>
            <a:solidFill>
              <a:srgbClr val="ffffcc"/>
            </a:solidFill>
            <a:ln w="25560">
              <a:solidFill>
                <a:srgbClr val="ff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PubPieSlice"/>
            <p:cNvSpPr/>
            <p:nvPr/>
          </p:nvSpPr>
          <p:spPr>
            <a:xfrm>
              <a:off x="2213280" y="3364560"/>
              <a:ext cx="4807080" cy="236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686" y="21599"/>
                  </a:moveTo>
                  <a:cubicBezTo>
                    <a:pt x="10724" y="21599"/>
                    <a:pt x="10762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ubicBezTo>
                    <a:pt x="21600" y="9572"/>
                    <a:pt x="21390" y="8354"/>
                    <a:pt x="20981" y="7197"/>
                  </a:cubicBezTo>
                  <a:lnTo>
                    <a:pt x="10800" y="10800"/>
                  </a:lnTo>
                  <a:lnTo>
                    <a:pt x="10686" y="21599"/>
                  </a:lnTo>
                  <a:close/>
                </a:path>
              </a:pathLst>
            </a:custGeom>
            <a:solidFill>
              <a:srgbClr val="ccffff"/>
            </a:solidFill>
            <a:ln w="25560">
              <a:solidFill>
                <a:srgbClr val="ff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4680360" y="4677480"/>
              <a:ext cx="241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直角三角形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68"/>
            <p:cNvSpPr/>
            <p:nvPr/>
          </p:nvSpPr>
          <p:spPr>
            <a:xfrm>
              <a:off x="2476800" y="4565880"/>
              <a:ext cx="223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钝角三角形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69"/>
            <p:cNvSpPr/>
            <p:nvPr/>
          </p:nvSpPr>
          <p:spPr>
            <a:xfrm>
              <a:off x="3762720" y="3657600"/>
              <a:ext cx="217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锐角三角形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826920" y="227664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任意画一个三角形，先看一看，再用三角尺比一比，说说它是什么三角形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755640" y="76500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画一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237680" y="8874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连一连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2"/>
          <p:cNvSpPr/>
          <p:nvPr/>
        </p:nvSpPr>
        <p:spPr>
          <a:xfrm rot="8961600">
            <a:off x="4356000" y="2781360"/>
            <a:ext cx="1511280" cy="792000"/>
          </a:xfrm>
          <a:prstGeom prst="rtTriangl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3"/>
          <p:cNvSpPr/>
          <p:nvPr/>
        </p:nvSpPr>
        <p:spPr>
          <a:xfrm rot="21171000">
            <a:off x="6156360" y="2421000"/>
            <a:ext cx="1008000" cy="792000"/>
          </a:xfrm>
          <a:prstGeom prst="triangle">
            <a:avLst>
              <a:gd name="adj" fmla="val 1870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4"/>
          <p:cNvSpPr/>
          <p:nvPr/>
        </p:nvSpPr>
        <p:spPr>
          <a:xfrm rot="558000">
            <a:off x="1908000" y="2491920"/>
            <a:ext cx="1722600" cy="647640"/>
          </a:xfrm>
          <a:prstGeom prst="triangle">
            <a:avLst>
              <a:gd name="adj" fmla="val 4519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5"/>
          <p:cNvSpPr/>
          <p:nvPr/>
        </p:nvSpPr>
        <p:spPr>
          <a:xfrm>
            <a:off x="900000" y="2060640"/>
            <a:ext cx="720720" cy="1224000"/>
          </a:xfrm>
          <a:prstGeom prst="triangle">
            <a:avLst>
              <a:gd name="adj" fmla="val 10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6"/>
          <p:cNvSpPr/>
          <p:nvPr/>
        </p:nvSpPr>
        <p:spPr>
          <a:xfrm rot="12935400">
            <a:off x="6516720" y="2693520"/>
            <a:ext cx="2016000" cy="374760"/>
          </a:xfrm>
          <a:prstGeom prst="triangle">
            <a:avLst>
              <a:gd name="adj" fmla="val 3240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7"/>
          <p:cNvSpPr/>
          <p:nvPr/>
        </p:nvSpPr>
        <p:spPr>
          <a:xfrm rot="10800000">
            <a:off x="3346560" y="1989000"/>
            <a:ext cx="1009440" cy="1229040"/>
          </a:xfrm>
          <a:prstGeom prst="triangle">
            <a:avLst>
              <a:gd name="adj" fmla="val 42699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7"/>
          <p:cNvSpPr/>
          <p:nvPr/>
        </p:nvSpPr>
        <p:spPr>
          <a:xfrm>
            <a:off x="1173240" y="5300640"/>
            <a:ext cx="1400040" cy="5814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直角三角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8"/>
          <p:cNvSpPr/>
          <p:nvPr/>
        </p:nvSpPr>
        <p:spPr>
          <a:xfrm>
            <a:off x="3906720" y="5300640"/>
            <a:ext cx="1400040" cy="5814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锐角三角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9"/>
          <p:cNvSpPr/>
          <p:nvPr/>
        </p:nvSpPr>
        <p:spPr>
          <a:xfrm>
            <a:off x="6572160" y="5300640"/>
            <a:ext cx="1400040" cy="5814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钝角三角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40"/>
          <p:cNvSpPr/>
          <p:nvPr/>
        </p:nvSpPr>
        <p:spPr>
          <a:xfrm>
            <a:off x="1187280" y="3429000"/>
            <a:ext cx="360360" cy="180036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41"/>
          <p:cNvSpPr/>
          <p:nvPr/>
        </p:nvSpPr>
        <p:spPr>
          <a:xfrm>
            <a:off x="3203640" y="3357720"/>
            <a:ext cx="3456000" cy="18716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2"/>
          <p:cNvSpPr/>
          <p:nvPr/>
        </p:nvSpPr>
        <p:spPr>
          <a:xfrm>
            <a:off x="3924360" y="3357720"/>
            <a:ext cx="71280" cy="18716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3"/>
          <p:cNvSpPr/>
          <p:nvPr/>
        </p:nvSpPr>
        <p:spPr>
          <a:xfrm flipH="1">
            <a:off x="2268000" y="3357720"/>
            <a:ext cx="3095640" cy="18716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4"/>
          <p:cNvSpPr/>
          <p:nvPr/>
        </p:nvSpPr>
        <p:spPr>
          <a:xfrm flipH="1">
            <a:off x="5292360" y="3357720"/>
            <a:ext cx="1150920" cy="18716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5"/>
          <p:cNvSpPr/>
          <p:nvPr/>
        </p:nvSpPr>
        <p:spPr>
          <a:xfrm flipH="1">
            <a:off x="7308360" y="3429000"/>
            <a:ext cx="576360" cy="17287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735120" y="1541520"/>
            <a:ext cx="786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用一张长方形纸，折出两个完全一样的直角三角形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4-1"/>
          <p:cNvPicPr/>
          <p:nvPr/>
        </p:nvPicPr>
        <p:blipFill>
          <a:blip r:embed="rId1">
            <a:lum bright="-28000"/>
          </a:blip>
          <a:stretch/>
        </p:blipFill>
        <p:spPr>
          <a:xfrm>
            <a:off x="1619280" y="1700280"/>
            <a:ext cx="7143840" cy="57164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7"/>
          <p:cNvSpPr/>
          <p:nvPr/>
        </p:nvSpPr>
        <p:spPr>
          <a:xfrm>
            <a:off x="2843280" y="3284640"/>
            <a:ext cx="3744720" cy="2320920"/>
          </a:xfrm>
          <a:prstGeom prst="rect">
            <a:avLst/>
          </a:prstGeom>
          <a:solidFill>
            <a:srgbClr val="0085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900000" y="620640"/>
            <a:ext cx="1943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717480" y="69228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折一折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"/>
                            </p:stCondLst>
                            <p:childTnLst>
                              <p:par>
                                <p:cTn id="2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735120" y="1612800"/>
            <a:ext cx="786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用一张正方形纸，折出四个完全一样的直角三角形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4-2"/>
          <p:cNvPicPr/>
          <p:nvPr/>
        </p:nvPicPr>
        <p:blipFill>
          <a:blip r:embed="rId1"/>
          <a:stretch/>
        </p:blipFill>
        <p:spPr>
          <a:xfrm>
            <a:off x="3203640" y="2492280"/>
            <a:ext cx="4032360" cy="40323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6"/>
          <p:cNvSpPr/>
          <p:nvPr/>
        </p:nvSpPr>
        <p:spPr>
          <a:xfrm>
            <a:off x="3780000" y="3284640"/>
            <a:ext cx="2232000" cy="2232000"/>
          </a:xfrm>
          <a:prstGeom prst="rect">
            <a:avLst/>
          </a:prstGeom>
          <a:solidFill>
            <a:srgbClr val="0085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716040" y="692280"/>
            <a:ext cx="18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折一折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"/>
                            </p:stCondLst>
                            <p:childTnLst>
                              <p:par>
                                <p:cTn id="27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611280" y="1241280"/>
            <a:ext cx="786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把下边这样的平行四边形剪成两个完全一样的锐角三角形，应该怎样剪？剪成两个完全一样的钝角三角形呢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5-1"/>
          <p:cNvPicPr/>
          <p:nvPr/>
        </p:nvPicPr>
        <p:blipFill>
          <a:blip r:embed="rId1"/>
          <a:stretch/>
        </p:blipFill>
        <p:spPr>
          <a:xfrm>
            <a:off x="-324000" y="2708280"/>
            <a:ext cx="6336000" cy="4606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5-2"/>
          <p:cNvPicPr/>
          <p:nvPr/>
        </p:nvPicPr>
        <p:blipFill>
          <a:blip r:embed="rId2"/>
          <a:stretch/>
        </p:blipFill>
        <p:spPr>
          <a:xfrm>
            <a:off x="3419640" y="2708280"/>
            <a:ext cx="6408720" cy="465948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7"/>
          <p:cNvSpPr/>
          <p:nvPr/>
        </p:nvSpPr>
        <p:spPr>
          <a:xfrm>
            <a:off x="1014480" y="3933720"/>
            <a:ext cx="3125880" cy="1295640"/>
          </a:xfrm>
          <a:prstGeom prst="parallelogram">
            <a:avLst>
              <a:gd name="adj" fmla="val 83324"/>
            </a:avLst>
          </a:prstGeom>
          <a:solidFill>
            <a:srgbClr val="2b6c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4716360" y="3933720"/>
            <a:ext cx="3240360" cy="1366920"/>
          </a:xfrm>
          <a:prstGeom prst="parallelogram">
            <a:avLst>
              <a:gd name="adj" fmla="val 86295"/>
            </a:avLst>
          </a:prstGeom>
          <a:solidFill>
            <a:srgbClr val="2b6c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555480" y="47628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剪一剪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"/>
                            </p:stCondLst>
                            <p:childTnLst>
                              <p:par>
                                <p:cTn id="28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"/>
                            </p:stCondLst>
                            <p:childTnLst>
                              <p:par>
                                <p:cTn id="28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735120" y="1273320"/>
            <a:ext cx="786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你能在下面的三角形中分别画一条线段，把它分成两个直角三角形吗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5292720" y="3645000"/>
            <a:ext cx="2374920" cy="1512720"/>
          </a:xfrm>
          <a:prstGeom prst="triangle">
            <a:avLst>
              <a:gd name="adj" fmla="val 69583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8"/>
          <p:cNvSpPr/>
          <p:nvPr/>
        </p:nvSpPr>
        <p:spPr>
          <a:xfrm rot="60000">
            <a:off x="1042920" y="3715920"/>
            <a:ext cx="3384720" cy="1441440"/>
          </a:xfrm>
          <a:prstGeom prst="triangle">
            <a:avLst>
              <a:gd name="adj" fmla="val 75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9" descr="dengyao"/>
          <p:cNvPicPr/>
          <p:nvPr/>
        </p:nvPicPr>
        <p:blipFill>
          <a:blip r:embed="rId1"/>
          <a:stretch/>
        </p:blipFill>
        <p:spPr>
          <a:xfrm>
            <a:off x="755640" y="3213000"/>
            <a:ext cx="1949400" cy="1949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pencel"/>
          <p:cNvPicPr/>
          <p:nvPr/>
        </p:nvPicPr>
        <p:blipFill>
          <a:blip r:embed="rId2"/>
          <a:stretch/>
        </p:blipFill>
        <p:spPr>
          <a:xfrm>
            <a:off x="3564000" y="2673360"/>
            <a:ext cx="1380960" cy="1042920"/>
          </a:xfrm>
          <a:prstGeom prst="rect">
            <a:avLst/>
          </a:prstGeom>
          <a:ln w="0">
            <a:noFill/>
          </a:ln>
        </p:spPr>
      </p:pic>
      <p:grpSp>
        <p:nvGrpSpPr>
          <p:cNvPr id="226" name="Group 17"/>
          <p:cNvGrpSpPr/>
          <p:nvPr/>
        </p:nvGrpSpPr>
        <p:grpSpPr>
          <a:xfrm>
            <a:off x="3348000" y="3708360"/>
            <a:ext cx="488880" cy="1521000"/>
            <a:chOff x="3348000" y="3708360"/>
            <a:chExt cx="488880" cy="1521000"/>
          </a:xfrm>
        </p:grpSpPr>
        <p:sp>
          <p:nvSpPr>
            <p:cNvPr id="227" name="Line 12"/>
            <p:cNvSpPr/>
            <p:nvPr/>
          </p:nvSpPr>
          <p:spPr>
            <a:xfrm>
              <a:off x="3594240" y="3708360"/>
              <a:ext cx="0" cy="152100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3"/>
            <p:cNvSpPr/>
            <p:nvPr/>
          </p:nvSpPr>
          <p:spPr>
            <a:xfrm>
              <a:off x="3594240" y="4941720"/>
              <a:ext cx="242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4"/>
            <p:cNvSpPr/>
            <p:nvPr/>
          </p:nvSpPr>
          <p:spPr>
            <a:xfrm>
              <a:off x="3836880" y="4941720"/>
              <a:ext cx="0" cy="2397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5"/>
            <p:cNvSpPr/>
            <p:nvPr/>
          </p:nvSpPr>
          <p:spPr>
            <a:xfrm>
              <a:off x="3348000" y="4941720"/>
              <a:ext cx="243000" cy="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6"/>
            <p:cNvSpPr/>
            <p:nvPr/>
          </p:nvSpPr>
          <p:spPr>
            <a:xfrm>
              <a:off x="3348000" y="4941720"/>
              <a:ext cx="0" cy="23976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Picture 18" descr="dengyao"/>
          <p:cNvPicPr/>
          <p:nvPr/>
        </p:nvPicPr>
        <p:blipFill>
          <a:blip r:embed="rId3"/>
          <a:stretch/>
        </p:blipFill>
        <p:spPr>
          <a:xfrm>
            <a:off x="4095720" y="3208320"/>
            <a:ext cx="1949400" cy="19494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9" descr="pencel"/>
          <p:cNvPicPr/>
          <p:nvPr/>
        </p:nvPicPr>
        <p:blipFill>
          <a:blip r:embed="rId4"/>
          <a:stretch/>
        </p:blipFill>
        <p:spPr>
          <a:xfrm>
            <a:off x="6948360" y="2565360"/>
            <a:ext cx="1381320" cy="1042920"/>
          </a:xfrm>
          <a:prstGeom prst="rect">
            <a:avLst/>
          </a:prstGeom>
          <a:ln w="0">
            <a:noFill/>
          </a:ln>
        </p:spPr>
      </p:pic>
      <p:grpSp>
        <p:nvGrpSpPr>
          <p:cNvPr id="234" name="Group 20"/>
          <p:cNvGrpSpPr/>
          <p:nvPr/>
        </p:nvGrpSpPr>
        <p:grpSpPr>
          <a:xfrm>
            <a:off x="6692760" y="3708360"/>
            <a:ext cx="488880" cy="1521000"/>
            <a:chOff x="6692760" y="3708360"/>
            <a:chExt cx="488880" cy="1521000"/>
          </a:xfrm>
        </p:grpSpPr>
        <p:sp>
          <p:nvSpPr>
            <p:cNvPr id="235" name="Line 21"/>
            <p:cNvSpPr/>
            <p:nvPr/>
          </p:nvSpPr>
          <p:spPr>
            <a:xfrm>
              <a:off x="6939000" y="3708360"/>
              <a:ext cx="0" cy="152100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22"/>
            <p:cNvSpPr/>
            <p:nvPr/>
          </p:nvSpPr>
          <p:spPr>
            <a:xfrm>
              <a:off x="6939000" y="4941720"/>
              <a:ext cx="242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3"/>
            <p:cNvSpPr/>
            <p:nvPr/>
          </p:nvSpPr>
          <p:spPr>
            <a:xfrm>
              <a:off x="7181640" y="4941720"/>
              <a:ext cx="0" cy="2397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24"/>
            <p:cNvSpPr/>
            <p:nvPr/>
          </p:nvSpPr>
          <p:spPr>
            <a:xfrm>
              <a:off x="6692760" y="4941720"/>
              <a:ext cx="243000" cy="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25"/>
            <p:cNvSpPr/>
            <p:nvPr/>
          </p:nvSpPr>
          <p:spPr>
            <a:xfrm>
              <a:off x="6692760" y="4941720"/>
              <a:ext cx="0" cy="23976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26"/>
          <p:cNvSpPr/>
          <p:nvPr/>
        </p:nvSpPr>
        <p:spPr>
          <a:xfrm>
            <a:off x="684360" y="476280"/>
            <a:ext cx="21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画一画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9.24855E-007 L 0.1 9.24855E-007 E">
                                      <p:cBhvr>
                                        <p:cTn id="298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31214E-006 L 0.00018 0.22289 E">
                                      <p:cBhvr>
                                        <p:cTn id="305" dur="1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00"/>
                            </p:stCondLst>
                            <p:childTnLst>
                              <p:par>
                                <p:cTn id="30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1"/>
                            </p:stCondLst>
                            <p:childTnLst>
                              <p:par>
                                <p:cTn id="3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9.24855E-007 L 0.1 9.24855E-007 E">
                                      <p:cBhvr>
                                        <p:cTn id="321" dur="1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31214E-006 L 0.00018 0.22289 E">
                                      <p:cBhvr>
                                        <p:cTn id="328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001"/>
                            </p:stCondLst>
                            <p:childTnLst>
                              <p:par>
                                <p:cTn id="33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468360" y="1268280"/>
            <a:ext cx="815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在直角三角形中画一条线段，把它分成两个三角形。你分成了两个什么样的三角形？还可以怎么分？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37"/>
          <p:cNvGrpSpPr/>
          <p:nvPr/>
        </p:nvGrpSpPr>
        <p:grpSpPr>
          <a:xfrm>
            <a:off x="3492360" y="3213000"/>
            <a:ext cx="2808360" cy="1452600"/>
            <a:chOff x="3492360" y="3213000"/>
            <a:chExt cx="2808360" cy="1452600"/>
          </a:xfrm>
        </p:grpSpPr>
        <p:sp>
          <p:nvSpPr>
            <p:cNvPr id="244" name="AutoShape 22"/>
            <p:cNvSpPr/>
            <p:nvPr/>
          </p:nvSpPr>
          <p:spPr>
            <a:xfrm>
              <a:off x="3492360" y="3213000"/>
              <a:ext cx="2808360" cy="1441440"/>
            </a:xfrm>
            <a:prstGeom prst="rtTriangl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1"/>
            <p:cNvSpPr/>
            <p:nvPr/>
          </p:nvSpPr>
          <p:spPr>
            <a:xfrm>
              <a:off x="3506760" y="4294080"/>
              <a:ext cx="341280" cy="371520"/>
            </a:xfrm>
            <a:custGeom>
              <a:avLst/>
              <a:gdLst/>
              <a:ahLst/>
              <a:rect l="l" t="t" r="r" b="b"/>
              <a:pathLst>
                <a:path w="136" h="181">
                  <a:moveTo>
                    <a:pt x="0" y="0"/>
                  </a:moveTo>
                  <a:lnTo>
                    <a:pt x="136" y="0"/>
                  </a:lnTo>
                  <a:lnTo>
                    <a:pt x="136" y="181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48"/>
          <p:cNvGrpSpPr/>
          <p:nvPr/>
        </p:nvGrpSpPr>
        <p:grpSpPr>
          <a:xfrm>
            <a:off x="3492360" y="3213000"/>
            <a:ext cx="2808360" cy="1452600"/>
            <a:chOff x="3492360" y="3213000"/>
            <a:chExt cx="2808360" cy="1452600"/>
          </a:xfrm>
        </p:grpSpPr>
        <p:sp>
          <p:nvSpPr>
            <p:cNvPr id="247" name="Rectangle 47"/>
            <p:cNvSpPr/>
            <p:nvPr/>
          </p:nvSpPr>
          <p:spPr>
            <a:xfrm rot="1516800">
              <a:off x="3839760" y="3495240"/>
              <a:ext cx="360360" cy="15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38"/>
            <p:cNvGrpSpPr/>
            <p:nvPr/>
          </p:nvGrpSpPr>
          <p:grpSpPr>
            <a:xfrm>
              <a:off x="3492360" y="3213000"/>
              <a:ext cx="2808360" cy="1452600"/>
              <a:chOff x="3492360" y="3213000"/>
              <a:chExt cx="2808360" cy="1452600"/>
            </a:xfrm>
          </p:grpSpPr>
          <p:sp>
            <p:nvSpPr>
              <p:cNvPr id="249" name="AutoShape 39"/>
              <p:cNvSpPr/>
              <p:nvPr/>
            </p:nvSpPr>
            <p:spPr>
              <a:xfrm>
                <a:off x="3492360" y="3213000"/>
                <a:ext cx="2808360" cy="1441440"/>
              </a:xfrm>
              <a:prstGeom prst="rtTriangl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40"/>
              <p:cNvSpPr/>
              <p:nvPr/>
            </p:nvSpPr>
            <p:spPr>
              <a:xfrm>
                <a:off x="3506760" y="4294080"/>
                <a:ext cx="341280" cy="371520"/>
              </a:xfrm>
              <a:custGeom>
                <a:avLst/>
                <a:gdLst/>
                <a:ahLst/>
                <a:rect l="l" t="t" r="r" b="b"/>
                <a:pathLst>
                  <a:path w="136" h="181">
                    <a:moveTo>
                      <a:pt x="0" y="0"/>
                    </a:moveTo>
                    <a:lnTo>
                      <a:pt x="136" y="0"/>
                    </a:lnTo>
                    <a:lnTo>
                      <a:pt x="136" y="181"/>
                    </a:ln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Line 41"/>
            <p:cNvSpPr/>
            <p:nvPr/>
          </p:nvSpPr>
          <p:spPr>
            <a:xfrm flipV="1">
              <a:off x="3492360" y="3501720"/>
              <a:ext cx="576360" cy="115236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53"/>
          <p:cNvGrpSpPr/>
          <p:nvPr/>
        </p:nvGrpSpPr>
        <p:grpSpPr>
          <a:xfrm>
            <a:off x="3492360" y="3213000"/>
            <a:ext cx="2808360" cy="1452600"/>
            <a:chOff x="3492360" y="3213000"/>
            <a:chExt cx="2808360" cy="1452600"/>
          </a:xfrm>
        </p:grpSpPr>
        <p:grpSp>
          <p:nvGrpSpPr>
            <p:cNvPr id="253" name="Group 49"/>
            <p:cNvGrpSpPr/>
            <p:nvPr/>
          </p:nvGrpSpPr>
          <p:grpSpPr>
            <a:xfrm>
              <a:off x="3492360" y="3213000"/>
              <a:ext cx="2808360" cy="1452600"/>
              <a:chOff x="3492360" y="3213000"/>
              <a:chExt cx="2808360" cy="1452600"/>
            </a:xfrm>
          </p:grpSpPr>
          <p:sp>
            <p:nvSpPr>
              <p:cNvPr id="254" name="AutoShape 50"/>
              <p:cNvSpPr/>
              <p:nvPr/>
            </p:nvSpPr>
            <p:spPr>
              <a:xfrm>
                <a:off x="3492360" y="3213000"/>
                <a:ext cx="2808360" cy="1441440"/>
              </a:xfrm>
              <a:prstGeom prst="rtTriangl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51"/>
              <p:cNvSpPr/>
              <p:nvPr/>
            </p:nvSpPr>
            <p:spPr>
              <a:xfrm>
                <a:off x="3506760" y="4294080"/>
                <a:ext cx="341280" cy="371520"/>
              </a:xfrm>
              <a:custGeom>
                <a:avLst/>
                <a:gdLst/>
                <a:ahLst/>
                <a:rect l="l" t="t" r="r" b="b"/>
                <a:pathLst>
                  <a:path w="136" h="181">
                    <a:moveTo>
                      <a:pt x="0" y="0"/>
                    </a:moveTo>
                    <a:lnTo>
                      <a:pt x="136" y="0"/>
                    </a:lnTo>
                    <a:lnTo>
                      <a:pt x="136" y="181"/>
                    </a:ln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Line 52"/>
            <p:cNvSpPr/>
            <p:nvPr/>
          </p:nvSpPr>
          <p:spPr>
            <a:xfrm flipV="1">
              <a:off x="3564000" y="4078440"/>
              <a:ext cx="1584360" cy="50328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58"/>
          <p:cNvGrpSpPr/>
          <p:nvPr/>
        </p:nvGrpSpPr>
        <p:grpSpPr>
          <a:xfrm>
            <a:off x="3492360" y="3213000"/>
            <a:ext cx="2808360" cy="1452600"/>
            <a:chOff x="3492360" y="3213000"/>
            <a:chExt cx="2808360" cy="1452600"/>
          </a:xfrm>
        </p:grpSpPr>
        <p:grpSp>
          <p:nvGrpSpPr>
            <p:cNvPr id="258" name="Group 54"/>
            <p:cNvGrpSpPr/>
            <p:nvPr/>
          </p:nvGrpSpPr>
          <p:grpSpPr>
            <a:xfrm>
              <a:off x="3492360" y="3213000"/>
              <a:ext cx="2808360" cy="1452600"/>
              <a:chOff x="3492360" y="3213000"/>
              <a:chExt cx="2808360" cy="1452600"/>
            </a:xfrm>
          </p:grpSpPr>
          <p:sp>
            <p:nvSpPr>
              <p:cNvPr id="259" name="AutoShape 55"/>
              <p:cNvSpPr/>
              <p:nvPr/>
            </p:nvSpPr>
            <p:spPr>
              <a:xfrm>
                <a:off x="3492360" y="3213000"/>
                <a:ext cx="2808360" cy="1441440"/>
              </a:xfrm>
              <a:prstGeom prst="rtTriangl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56"/>
              <p:cNvSpPr/>
              <p:nvPr/>
            </p:nvSpPr>
            <p:spPr>
              <a:xfrm>
                <a:off x="3506760" y="4294080"/>
                <a:ext cx="341280" cy="371520"/>
              </a:xfrm>
              <a:custGeom>
                <a:avLst/>
                <a:gdLst/>
                <a:ahLst/>
                <a:rect l="l" t="t" r="r" b="b"/>
                <a:pathLst>
                  <a:path w="136" h="181">
                    <a:moveTo>
                      <a:pt x="0" y="0"/>
                    </a:moveTo>
                    <a:lnTo>
                      <a:pt x="136" y="0"/>
                    </a:lnTo>
                    <a:lnTo>
                      <a:pt x="136" y="181"/>
                    </a:ln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57"/>
            <p:cNvSpPr/>
            <p:nvPr/>
          </p:nvSpPr>
          <p:spPr>
            <a:xfrm>
              <a:off x="3492360" y="3213000"/>
              <a:ext cx="934920" cy="136836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6.93642E-007 L -0.32673 0.2615 E">
                                      <p:cBhvr>
                                        <p:cTn id="346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9" dur="500" fill="hold"/>
                                        <p:tgtEl>
                                          <p:spTgt spid="24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6.93642E-007 L -0.04323 0.2615 E">
                                      <p:cBhvr>
                                        <p:cTn id="357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0" dur="500" fill="hold"/>
                                        <p:tgtEl>
                                          <p:spTgt spid="25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dur="indefinite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6.93642E-007 L 0.24028 0.2615 E">
                                      <p:cBhvr>
                                        <p:cTn id="368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500"/>
                            </p:stCondLst>
                            <p:childTnLst>
                              <p:par>
                                <p:cTn id="370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1" dur="500" fill="hold"/>
                                        <p:tgtEl>
                                          <p:spTgt spid="257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784C-5441-44B5-9C47-FFE41C13279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3"/>
          <p:cNvSpPr/>
          <p:nvPr/>
        </p:nvSpPr>
        <p:spPr>
          <a:xfrm>
            <a:off x="1711080" y="1355760"/>
            <a:ext cx="270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锐角小于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9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4"/>
          <p:cNvSpPr/>
          <p:nvPr/>
        </p:nvSpPr>
        <p:spPr>
          <a:xfrm>
            <a:off x="1603440" y="2727360"/>
            <a:ext cx="254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直角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9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5"/>
          <p:cNvSpPr/>
          <p:nvPr/>
        </p:nvSpPr>
        <p:spPr>
          <a:xfrm>
            <a:off x="2036160" y="4005360"/>
            <a:ext cx="512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钝角大于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9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小于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8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4"/>
          <p:cNvSpPr/>
          <p:nvPr/>
        </p:nvSpPr>
        <p:spPr>
          <a:xfrm>
            <a:off x="1260360" y="1990800"/>
            <a:ext cx="1656000" cy="1295280"/>
          </a:xfrm>
          <a:custGeom>
            <a:avLst/>
            <a:gdLst/>
            <a:ahLst/>
            <a:rect l="l" t="t" r="r" b="b"/>
            <a:pathLst>
              <a:path w="1043" h="816">
                <a:moveTo>
                  <a:pt x="590" y="0"/>
                </a:moveTo>
                <a:lnTo>
                  <a:pt x="0" y="816"/>
                </a:lnTo>
                <a:lnTo>
                  <a:pt x="1043" y="544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5"/>
          <p:cNvSpPr/>
          <p:nvPr/>
        </p:nvSpPr>
        <p:spPr>
          <a:xfrm>
            <a:off x="3564000" y="1989000"/>
            <a:ext cx="2089080" cy="1295640"/>
          </a:xfrm>
          <a:custGeom>
            <a:avLst/>
            <a:gdLst/>
            <a:ahLst/>
            <a:rect l="l" t="t" r="r" b="b"/>
            <a:pathLst>
              <a:path w="1814" h="771">
                <a:moveTo>
                  <a:pt x="0" y="0"/>
                </a:moveTo>
                <a:lnTo>
                  <a:pt x="680" y="771"/>
                </a:lnTo>
                <a:lnTo>
                  <a:pt x="1814" y="635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6"/>
          <p:cNvSpPr/>
          <p:nvPr/>
        </p:nvSpPr>
        <p:spPr>
          <a:xfrm>
            <a:off x="6372360" y="2205000"/>
            <a:ext cx="1368360" cy="1368360"/>
          </a:xfrm>
          <a:custGeom>
            <a:avLst/>
            <a:gdLst/>
            <a:ahLst/>
            <a:rect l="l" t="t" r="r" b="b"/>
            <a:pathLst>
              <a:path w="862" h="862">
                <a:moveTo>
                  <a:pt x="0" y="0"/>
                </a:moveTo>
                <a:lnTo>
                  <a:pt x="862" y="0"/>
                </a:lnTo>
                <a:lnTo>
                  <a:pt x="862" y="862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7"/>
          <p:cNvSpPr/>
          <p:nvPr/>
        </p:nvSpPr>
        <p:spPr>
          <a:xfrm>
            <a:off x="6300720" y="4365720"/>
            <a:ext cx="1873440" cy="1008000"/>
          </a:xfrm>
          <a:custGeom>
            <a:avLst/>
            <a:gdLst/>
            <a:ahLst/>
            <a:rect l="l" t="t" r="r" b="b"/>
            <a:pathLst>
              <a:path w="998" h="317">
                <a:moveTo>
                  <a:pt x="317" y="0"/>
                </a:moveTo>
                <a:lnTo>
                  <a:pt x="998" y="272"/>
                </a:lnTo>
                <a:lnTo>
                  <a:pt x="0" y="317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8"/>
          <p:cNvSpPr/>
          <p:nvPr/>
        </p:nvSpPr>
        <p:spPr>
          <a:xfrm>
            <a:off x="3635280" y="4508640"/>
            <a:ext cx="1944720" cy="1008000"/>
          </a:xfrm>
          <a:custGeom>
            <a:avLst/>
            <a:gdLst/>
            <a:ahLst/>
            <a:rect l="l" t="t" r="r" b="b"/>
            <a:pathLst>
              <a:path w="1542" h="363">
                <a:moveTo>
                  <a:pt x="0" y="0"/>
                </a:moveTo>
                <a:lnTo>
                  <a:pt x="862" y="0"/>
                </a:lnTo>
                <a:lnTo>
                  <a:pt x="1542" y="363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rc 9"/>
          <p:cNvSpPr/>
          <p:nvPr/>
        </p:nvSpPr>
        <p:spPr>
          <a:xfrm>
            <a:off x="1474920" y="2998800"/>
            <a:ext cx="141120" cy="216000"/>
          </a:xfrm>
          <a:custGeom>
            <a:avLst/>
            <a:gdLst/>
            <a:ahLst/>
            <a:rect l="l" t="t" r="r" b="b"/>
            <a:pathLst>
              <a:path fill="none" w="21008" h="21600">
                <a:moveTo>
                  <a:pt x="-1" y="0"/>
                </a:moveTo>
                <a:cubicBezTo>
                  <a:pt x="9995" y="0"/>
                  <a:pt x="18684" y="6857"/>
                  <a:pt x="21008" y="16578"/>
                </a:cubicBezTo>
              </a:path>
              <a:path stroke="0" w="21008" h="21600">
                <a:moveTo>
                  <a:pt x="-1" y="0"/>
                </a:moveTo>
                <a:cubicBezTo>
                  <a:pt x="9995" y="0"/>
                  <a:pt x="18684" y="6857"/>
                  <a:pt x="21008" y="1657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rc 10"/>
          <p:cNvSpPr/>
          <p:nvPr/>
        </p:nvSpPr>
        <p:spPr>
          <a:xfrm>
            <a:off x="4211640" y="2997360"/>
            <a:ext cx="431640" cy="21564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rc 11"/>
          <p:cNvSpPr/>
          <p:nvPr/>
        </p:nvSpPr>
        <p:spPr>
          <a:xfrm flipH="1">
            <a:off x="7741440" y="5013360"/>
            <a:ext cx="71640" cy="21600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rc 12"/>
          <p:cNvSpPr/>
          <p:nvPr/>
        </p:nvSpPr>
        <p:spPr>
          <a:xfrm>
            <a:off x="4465800" y="4508640"/>
            <a:ext cx="558720" cy="361800"/>
          </a:xfrm>
          <a:custGeom>
            <a:avLst/>
            <a:gdLst/>
            <a:ahLst/>
            <a:rect l="l" t="t" r="r" b="b"/>
            <a:pathLst>
              <a:path fill="none" w="27919" h="21600">
                <a:moveTo>
                  <a:pt x="27918" y="20647"/>
                </a:moveTo>
                <a:cubicBezTo>
                  <a:pt x="25864" y="21279"/>
                  <a:pt x="23726" y="21599"/>
                  <a:pt x="21577" y="21600"/>
                </a:cubicBezTo>
                <a:cubicBezTo>
                  <a:pt x="10038" y="21600"/>
                  <a:pt x="536" y="12530"/>
                  <a:pt x="0" y="1003"/>
                </a:cubicBezTo>
              </a:path>
              <a:path stroke="0" w="27919" h="21600">
                <a:moveTo>
                  <a:pt x="27918" y="20647"/>
                </a:moveTo>
                <a:cubicBezTo>
                  <a:pt x="25864" y="21279"/>
                  <a:pt x="23726" y="21599"/>
                  <a:pt x="21577" y="21600"/>
                </a:cubicBezTo>
                <a:cubicBezTo>
                  <a:pt x="10038" y="21600"/>
                  <a:pt x="536" y="12530"/>
                  <a:pt x="0" y="1003"/>
                </a:cubicBezTo>
                <a:lnTo>
                  <a:pt x="21577" y="0"/>
                </a:lnTo>
                <a:lnTo>
                  <a:pt x="27918" y="2064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rc 13"/>
          <p:cNvSpPr/>
          <p:nvPr/>
        </p:nvSpPr>
        <p:spPr>
          <a:xfrm>
            <a:off x="7454880" y="2211480"/>
            <a:ext cx="289080" cy="288720"/>
          </a:xfrm>
          <a:custGeom>
            <a:avLst/>
            <a:gdLst/>
            <a:ahLst/>
            <a:rect l="l" t="t" r="r" b="b"/>
            <a:pathLst>
              <a:path fill="none" w="21600" h="25633">
                <a:moveTo>
                  <a:pt x="21092" y="25633"/>
                </a:moveTo>
                <a:cubicBezTo>
                  <a:pt x="9364" y="25357"/>
                  <a:pt x="0" y="15770"/>
                  <a:pt x="0" y="4039"/>
                </a:cubicBezTo>
                <a:cubicBezTo>
                  <a:pt x="-1" y="2683"/>
                  <a:pt x="127" y="1331"/>
                  <a:pt x="380" y="-1"/>
                </a:cubicBezTo>
              </a:path>
              <a:path stroke="0" w="21600" h="25633">
                <a:moveTo>
                  <a:pt x="21092" y="25633"/>
                </a:moveTo>
                <a:cubicBezTo>
                  <a:pt x="9364" y="25357"/>
                  <a:pt x="0" y="15770"/>
                  <a:pt x="0" y="4039"/>
                </a:cubicBezTo>
                <a:cubicBezTo>
                  <a:pt x="-1" y="2683"/>
                  <a:pt x="127" y="1331"/>
                  <a:pt x="380" y="-1"/>
                </a:cubicBezTo>
                <a:lnTo>
                  <a:pt x="21600" y="4039"/>
                </a:lnTo>
                <a:lnTo>
                  <a:pt x="21092" y="2563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514320" y="8557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判断它们各是什么角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6"/>
          <p:cNvSpPr/>
          <p:nvPr/>
        </p:nvSpPr>
        <p:spPr>
          <a:xfrm>
            <a:off x="971640" y="4365720"/>
            <a:ext cx="2016000" cy="1079280"/>
          </a:xfrm>
          <a:custGeom>
            <a:avLst/>
            <a:gdLst/>
            <a:ahLst/>
            <a:rect l="l" t="t" r="r" b="b"/>
            <a:pathLst>
              <a:path w="1270" h="680">
                <a:moveTo>
                  <a:pt x="0" y="680"/>
                </a:moveTo>
                <a:lnTo>
                  <a:pt x="680" y="0"/>
                </a:lnTo>
                <a:lnTo>
                  <a:pt x="1270" y="59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rc 17"/>
          <p:cNvSpPr/>
          <p:nvPr/>
        </p:nvSpPr>
        <p:spPr>
          <a:xfrm flipH="1" flipV="1">
            <a:off x="1866960" y="4438800"/>
            <a:ext cx="403200" cy="287280"/>
          </a:xfrm>
          <a:custGeom>
            <a:avLst/>
            <a:gdLst/>
            <a:ahLst/>
            <a:rect l="l" t="t" r="r" b="b"/>
            <a:pathLst>
              <a:path fill="none" w="38069" h="21600">
                <a:moveTo>
                  <a:pt x="0" y="12236"/>
                </a:moveTo>
                <a:cubicBezTo>
                  <a:pt x="3598" y="4756"/>
                  <a:pt x="11164" y="-1"/>
                  <a:pt x="19465" y="0"/>
                </a:cubicBezTo>
                <a:cubicBezTo>
                  <a:pt x="27109" y="0"/>
                  <a:pt x="34184" y="4040"/>
                  <a:pt x="38068" y="10624"/>
                </a:cubicBezTo>
              </a:path>
              <a:path stroke="0" w="38069" h="21600">
                <a:moveTo>
                  <a:pt x="0" y="12236"/>
                </a:moveTo>
                <a:cubicBezTo>
                  <a:pt x="3598" y="4756"/>
                  <a:pt x="11164" y="-1"/>
                  <a:pt x="19465" y="0"/>
                </a:cubicBezTo>
                <a:cubicBezTo>
                  <a:pt x="27109" y="0"/>
                  <a:pt x="34184" y="4040"/>
                  <a:pt x="38068" y="10624"/>
                </a:cubicBezTo>
                <a:lnTo>
                  <a:pt x="19465" y="21600"/>
                </a:lnTo>
                <a:lnTo>
                  <a:pt x="0" y="1223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1611000" y="2684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4348080" y="2611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２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7245360" y="2324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1827000" y="472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4346280" y="4772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7315200" y="4797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６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1"/>
          <p:cNvSpPr/>
          <p:nvPr/>
        </p:nvSpPr>
        <p:spPr>
          <a:xfrm>
            <a:off x="264960" y="6397560"/>
            <a:ext cx="603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4524480" y="620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下面的三角形各有几个锐角、直角和钝角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1"/>
          <p:cNvPicPr/>
          <p:nvPr/>
        </p:nvPicPr>
        <p:blipFill>
          <a:blip r:embed="rId1"/>
          <a:stretch/>
        </p:blipFill>
        <p:spPr>
          <a:xfrm>
            <a:off x="900000" y="1197000"/>
            <a:ext cx="7504200" cy="330048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3"/>
          <p:cNvSpPr/>
          <p:nvPr/>
        </p:nvSpPr>
        <p:spPr>
          <a:xfrm>
            <a:off x="900000" y="4508640"/>
            <a:ext cx="7704360" cy="865080"/>
          </a:xfrm>
          <a:prstGeom prst="wedgeEllipseCallout">
            <a:avLst>
              <a:gd name="adj1" fmla="val 35245"/>
              <a:gd name="adj2" fmla="val -1220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号三角形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锐角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直角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693800" y="4508640"/>
          <a:ext cx="5614920" cy="1644480"/>
        </p:xfrm>
        <a:graphic>
          <a:graphicData uri="http://schemas.openxmlformats.org/drawingml/2006/table">
            <a:tbl>
              <a:tblPr/>
              <a:tblGrid>
                <a:gridCol w="1728720"/>
                <a:gridCol w="647640"/>
                <a:gridCol w="648000"/>
                <a:gridCol w="647640"/>
                <a:gridCol w="647640"/>
                <a:gridCol w="647640"/>
                <a:gridCol w="647640"/>
              </a:tblGrid>
              <a:tr h="4111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③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④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⑤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⑥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111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锐角个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111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直角个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111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钝角个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72" name="Text Box 176"/>
          <p:cNvSpPr/>
          <p:nvPr/>
        </p:nvSpPr>
        <p:spPr>
          <a:xfrm>
            <a:off x="4216320" y="4853160"/>
            <a:ext cx="3225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77"/>
          <p:cNvSpPr/>
          <p:nvPr/>
        </p:nvSpPr>
        <p:spPr>
          <a:xfrm>
            <a:off x="4863960" y="4869000"/>
            <a:ext cx="3225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78"/>
          <p:cNvSpPr/>
          <p:nvPr/>
        </p:nvSpPr>
        <p:spPr>
          <a:xfrm>
            <a:off x="5511600" y="4869000"/>
            <a:ext cx="3225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79"/>
          <p:cNvSpPr/>
          <p:nvPr/>
        </p:nvSpPr>
        <p:spPr>
          <a:xfrm>
            <a:off x="6161040" y="4869000"/>
            <a:ext cx="3225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80"/>
          <p:cNvSpPr/>
          <p:nvPr/>
        </p:nvSpPr>
        <p:spPr>
          <a:xfrm>
            <a:off x="6808680" y="4869000"/>
            <a:ext cx="3225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042920" y="879480"/>
          <a:ext cx="7129440" cy="2073240"/>
        </p:xfrm>
        <a:graphic>
          <a:graphicData uri="http://schemas.openxmlformats.org/drawingml/2006/table">
            <a:tbl>
              <a:tblPr/>
              <a:tblGrid>
                <a:gridCol w="2195640"/>
                <a:gridCol w="822240"/>
                <a:gridCol w="822240"/>
                <a:gridCol w="822240"/>
                <a:gridCol w="811440"/>
                <a:gridCol w="833400"/>
                <a:gridCol w="82224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①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②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③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④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⑤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⑥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锐角个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直角个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钝角个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79" name="Text Box 79"/>
          <p:cNvSpPr/>
          <p:nvPr/>
        </p:nvSpPr>
        <p:spPr>
          <a:xfrm>
            <a:off x="900000" y="32259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观察上表，这些三角形可以分成几类？怎样分？在小组里交流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42920" y="879480"/>
          <a:ext cx="7129440" cy="2073240"/>
        </p:xfrm>
        <a:graphic>
          <a:graphicData uri="http://schemas.openxmlformats.org/drawingml/2006/table">
            <a:tbl>
              <a:tblPr/>
              <a:tblGrid>
                <a:gridCol w="2195640"/>
                <a:gridCol w="822240"/>
                <a:gridCol w="822240"/>
                <a:gridCol w="822240"/>
                <a:gridCol w="811440"/>
                <a:gridCol w="833400"/>
                <a:gridCol w="82224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①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②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③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④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⑤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⑥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锐角个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直角个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钝角个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82" name="Text Box 51"/>
          <p:cNvSpPr/>
          <p:nvPr/>
        </p:nvSpPr>
        <p:spPr>
          <a:xfrm>
            <a:off x="1042920" y="3357720"/>
            <a:ext cx="57596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个角都是锐角的三角形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锐角三角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2"/>
          <p:cNvSpPr/>
          <p:nvPr/>
        </p:nvSpPr>
        <p:spPr>
          <a:xfrm>
            <a:off x="1042920" y="4292640"/>
            <a:ext cx="57596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有一个角是直角的三角形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直角三角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3"/>
          <p:cNvSpPr/>
          <p:nvPr/>
        </p:nvSpPr>
        <p:spPr>
          <a:xfrm>
            <a:off x="1042920" y="5229360"/>
            <a:ext cx="5792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有一个角是钝角的三角形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钝角三角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54"/>
          <p:cNvGrpSpPr/>
          <p:nvPr/>
        </p:nvGrpSpPr>
        <p:grpSpPr>
          <a:xfrm>
            <a:off x="7325640" y="3089160"/>
            <a:ext cx="844920" cy="871200"/>
            <a:chOff x="7325640" y="3089160"/>
            <a:chExt cx="844920" cy="871200"/>
          </a:xfrm>
        </p:grpSpPr>
        <p:sp>
          <p:nvSpPr>
            <p:cNvPr id="86" name="Arc 55"/>
            <p:cNvSpPr/>
            <p:nvPr/>
          </p:nvSpPr>
          <p:spPr>
            <a:xfrm flipH="1">
              <a:off x="7838280" y="3764520"/>
              <a:ext cx="113040" cy="1692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rc 56"/>
            <p:cNvSpPr/>
            <p:nvPr/>
          </p:nvSpPr>
          <p:spPr>
            <a:xfrm>
              <a:off x="7380360" y="3675240"/>
              <a:ext cx="108000" cy="181080"/>
            </a:xfrm>
            <a:custGeom>
              <a:avLst/>
              <a:gdLst/>
              <a:ahLst/>
              <a:rect l="l" t="t" r="r" b="b"/>
              <a:pathLst>
                <a:path fill="none" w="21600" h="3671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7252"/>
                    <a:pt x="19384" y="32680"/>
                    <a:pt x="15427" y="36717"/>
                  </a:cubicBezTo>
                </a:path>
                <a:path stroke="0" w="21600" h="3671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7252"/>
                    <a:pt x="19384" y="32680"/>
                    <a:pt x="15427" y="3671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rc 57"/>
            <p:cNvSpPr/>
            <p:nvPr/>
          </p:nvSpPr>
          <p:spPr>
            <a:xfrm flipV="1" rot="1427400">
              <a:off x="7565760" y="3142800"/>
              <a:ext cx="176760" cy="225000"/>
            </a:xfrm>
            <a:custGeom>
              <a:avLst/>
              <a:gdLst/>
              <a:ahLst/>
              <a:rect l="l" t="t" r="r" b="b"/>
              <a:pathLst>
                <a:path fill="none" w="26837" h="21600">
                  <a:moveTo>
                    <a:pt x="-1" y="1870"/>
                  </a:moveTo>
                  <a:cubicBezTo>
                    <a:pt x="2767" y="637"/>
                    <a:pt x="5763" y="-1"/>
                    <a:pt x="8793" y="0"/>
                  </a:cubicBezTo>
                  <a:cubicBezTo>
                    <a:pt x="16061" y="0"/>
                    <a:pt x="22841" y="3655"/>
                    <a:pt x="26837" y="9726"/>
                  </a:cubicBezTo>
                </a:path>
                <a:path stroke="0" w="26837" h="21600">
                  <a:moveTo>
                    <a:pt x="-1" y="1870"/>
                  </a:moveTo>
                  <a:cubicBezTo>
                    <a:pt x="2767" y="637"/>
                    <a:pt x="5763" y="-1"/>
                    <a:pt x="8793" y="0"/>
                  </a:cubicBezTo>
                  <a:cubicBezTo>
                    <a:pt x="16061" y="0"/>
                    <a:pt x="22841" y="3655"/>
                    <a:pt x="26837" y="9726"/>
                  </a:cubicBezTo>
                  <a:lnTo>
                    <a:pt x="8793" y="21600"/>
                  </a:lnTo>
                  <a:lnTo>
                    <a:pt x="-1" y="187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58"/>
            <p:cNvSpPr/>
            <p:nvPr/>
          </p:nvSpPr>
          <p:spPr>
            <a:xfrm rot="540000">
              <a:off x="7381080" y="3141720"/>
              <a:ext cx="734040" cy="765720"/>
            </a:xfrm>
            <a:prstGeom prst="triangle">
              <a:avLst>
                <a:gd name="adj" fmla="val 23463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59"/>
          <p:cNvGrpSpPr/>
          <p:nvPr/>
        </p:nvGrpSpPr>
        <p:grpSpPr>
          <a:xfrm>
            <a:off x="7251840" y="4189320"/>
            <a:ext cx="952200" cy="679680"/>
            <a:chOff x="7251840" y="4189320"/>
            <a:chExt cx="952200" cy="679680"/>
          </a:xfrm>
        </p:grpSpPr>
        <p:sp>
          <p:nvSpPr>
            <p:cNvPr id="91" name="AutoShape 60"/>
            <p:cNvSpPr/>
            <p:nvPr/>
          </p:nvSpPr>
          <p:spPr>
            <a:xfrm>
              <a:off x="7251840" y="4189320"/>
              <a:ext cx="952200" cy="679680"/>
            </a:xfrm>
            <a:prstGeom prst="rtTriangl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61"/>
            <p:cNvSpPr/>
            <p:nvPr/>
          </p:nvSpPr>
          <p:spPr>
            <a:xfrm>
              <a:off x="7259400" y="4706640"/>
              <a:ext cx="115200" cy="146160"/>
            </a:xfrm>
            <a:custGeom>
              <a:avLst/>
              <a:gdLst/>
              <a:ahLst/>
              <a:rect l="l" t="t" r="r" b="b"/>
              <a:pathLst>
                <a:path w="136" h="181">
                  <a:moveTo>
                    <a:pt x="0" y="0"/>
                  </a:moveTo>
                  <a:lnTo>
                    <a:pt x="136" y="0"/>
                  </a:lnTo>
                  <a:lnTo>
                    <a:pt x="136" y="181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5"/>
          <p:cNvGrpSpPr/>
          <p:nvPr/>
        </p:nvGrpSpPr>
        <p:grpSpPr>
          <a:xfrm>
            <a:off x="7123680" y="5117760"/>
            <a:ext cx="1390680" cy="948960"/>
            <a:chOff x="7123680" y="5117760"/>
            <a:chExt cx="1390680" cy="948960"/>
          </a:xfrm>
        </p:grpSpPr>
        <p:sp>
          <p:nvSpPr>
            <p:cNvPr id="94" name="AutoShape 66"/>
            <p:cNvSpPr/>
            <p:nvPr/>
          </p:nvSpPr>
          <p:spPr>
            <a:xfrm rot="9066000">
              <a:off x="7106760" y="5443200"/>
              <a:ext cx="1424160" cy="297720"/>
            </a:xfrm>
            <a:prstGeom prst="triangle">
              <a:avLst>
                <a:gd name="adj" fmla="val 6265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rc 67"/>
            <p:cNvSpPr/>
            <p:nvPr/>
          </p:nvSpPr>
          <p:spPr>
            <a:xfrm flipH="1" rot="378000">
              <a:off x="7637760" y="5672160"/>
              <a:ext cx="181080" cy="133200"/>
            </a:xfrm>
            <a:custGeom>
              <a:avLst/>
              <a:gdLst/>
              <a:ahLst/>
              <a:rect l="l" t="t" r="r" b="b"/>
              <a:pathLst>
                <a:path fill="none" w="29504" h="21600">
                  <a:moveTo>
                    <a:pt x="0" y="1498"/>
                  </a:moveTo>
                  <a:cubicBezTo>
                    <a:pt x="2517" y="508"/>
                    <a:pt x="5198" y="-1"/>
                    <a:pt x="7904" y="0"/>
                  </a:cubicBezTo>
                  <a:cubicBezTo>
                    <a:pt x="19833" y="0"/>
                    <a:pt x="29504" y="9670"/>
                    <a:pt x="29504" y="21600"/>
                  </a:cubicBezTo>
                </a:path>
                <a:path stroke="0" w="29504" h="21600">
                  <a:moveTo>
                    <a:pt x="0" y="1498"/>
                  </a:moveTo>
                  <a:cubicBezTo>
                    <a:pt x="2517" y="508"/>
                    <a:pt x="5198" y="-1"/>
                    <a:pt x="7904" y="0"/>
                  </a:cubicBezTo>
                  <a:cubicBezTo>
                    <a:pt x="19833" y="0"/>
                    <a:pt x="29504" y="9670"/>
                    <a:pt x="29504" y="21600"/>
                  </a:cubicBezTo>
                  <a:lnTo>
                    <a:pt x="7904" y="21600"/>
                  </a:lnTo>
                  <a:lnTo>
                    <a:pt x="0" y="1498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350"/>
                            </p:stCondLst>
                            <p:childTnLst>
                              <p:par>
                                <p:cTn id="6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850"/>
                            </p:stCondLst>
                            <p:childTnLst>
                              <p:par>
                                <p:cTn id="65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350"/>
                            </p:stCondLst>
                            <p:childTnLst>
                              <p:par>
                                <p:cTn id="7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850"/>
                            </p:stCondLst>
                            <p:childTnLst>
                              <p:par>
                                <p:cTn id="80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350"/>
                            </p:stCondLst>
                            <p:childTnLst>
                              <p:par>
                                <p:cTn id="9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850"/>
                            </p:stCondLst>
                            <p:childTnLst>
                              <p:par>
                                <p:cTn id="95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42920" y="879480"/>
          <a:ext cx="7129440" cy="2073240"/>
        </p:xfrm>
        <a:graphic>
          <a:graphicData uri="http://schemas.openxmlformats.org/drawingml/2006/table">
            <a:tbl>
              <a:tblPr/>
              <a:tblGrid>
                <a:gridCol w="2195640"/>
                <a:gridCol w="822240"/>
                <a:gridCol w="822240"/>
                <a:gridCol w="822240"/>
                <a:gridCol w="811440"/>
                <a:gridCol w="833400"/>
                <a:gridCol w="82224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①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②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③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④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⑤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⑥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锐角个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直角个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钝角个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grpSp>
        <p:nvGrpSpPr>
          <p:cNvPr id="98" name="Group 87"/>
          <p:cNvGrpSpPr/>
          <p:nvPr/>
        </p:nvGrpSpPr>
        <p:grpSpPr>
          <a:xfrm>
            <a:off x="1979640" y="4265640"/>
            <a:ext cx="272880" cy="1709640"/>
            <a:chOff x="1979640" y="4265640"/>
            <a:chExt cx="272880" cy="1709640"/>
          </a:xfrm>
        </p:grpSpPr>
        <p:sp>
          <p:nvSpPr>
            <p:cNvPr id="99" name="Arc 68"/>
            <p:cNvSpPr/>
            <p:nvPr/>
          </p:nvSpPr>
          <p:spPr>
            <a:xfrm flipH="1">
              <a:off x="2041560" y="4265640"/>
              <a:ext cx="210960" cy="31572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rc 69"/>
            <p:cNvSpPr/>
            <p:nvPr/>
          </p:nvSpPr>
          <p:spPr>
            <a:xfrm flipH="1">
              <a:off x="1979640" y="5659560"/>
              <a:ext cx="210960" cy="31572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82"/>
          <p:cNvGrpSpPr/>
          <p:nvPr/>
        </p:nvGrpSpPr>
        <p:grpSpPr>
          <a:xfrm>
            <a:off x="1187280" y="3056040"/>
            <a:ext cx="6642360" cy="2963880"/>
            <a:chOff x="1187280" y="3056040"/>
            <a:chExt cx="6642360" cy="2963880"/>
          </a:xfrm>
        </p:grpSpPr>
        <p:sp>
          <p:nvSpPr>
            <p:cNvPr id="102" name="Arc 66"/>
            <p:cNvSpPr/>
            <p:nvPr/>
          </p:nvSpPr>
          <p:spPr>
            <a:xfrm>
              <a:off x="1187280" y="4098960"/>
              <a:ext cx="201960" cy="338040"/>
            </a:xfrm>
            <a:custGeom>
              <a:avLst/>
              <a:gdLst/>
              <a:ahLst/>
              <a:rect l="l" t="t" r="r" b="b"/>
              <a:pathLst>
                <a:path fill="none" w="21600" h="3671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7252"/>
                    <a:pt x="19384" y="32680"/>
                    <a:pt x="15427" y="36717"/>
                  </a:cubicBezTo>
                </a:path>
                <a:path stroke="0" w="21600" h="3671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7252"/>
                    <a:pt x="19384" y="32680"/>
                    <a:pt x="15427" y="3671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rc 67"/>
            <p:cNvSpPr/>
            <p:nvPr/>
          </p:nvSpPr>
          <p:spPr>
            <a:xfrm flipV="1" rot="1427400">
              <a:off x="1533240" y="3104640"/>
              <a:ext cx="330120" cy="420840"/>
            </a:xfrm>
            <a:custGeom>
              <a:avLst/>
              <a:gdLst/>
              <a:ahLst/>
              <a:rect l="l" t="t" r="r" b="b"/>
              <a:pathLst>
                <a:path fill="none" w="26837" h="21600">
                  <a:moveTo>
                    <a:pt x="-1" y="1870"/>
                  </a:moveTo>
                  <a:cubicBezTo>
                    <a:pt x="2767" y="637"/>
                    <a:pt x="5763" y="-1"/>
                    <a:pt x="8793" y="0"/>
                  </a:cubicBezTo>
                  <a:cubicBezTo>
                    <a:pt x="16061" y="0"/>
                    <a:pt x="22841" y="3655"/>
                    <a:pt x="26837" y="9726"/>
                  </a:cubicBezTo>
                </a:path>
                <a:path stroke="0" w="26837" h="21600">
                  <a:moveTo>
                    <a:pt x="-1" y="1870"/>
                  </a:moveTo>
                  <a:cubicBezTo>
                    <a:pt x="2767" y="637"/>
                    <a:pt x="5763" y="-1"/>
                    <a:pt x="8793" y="0"/>
                  </a:cubicBezTo>
                  <a:cubicBezTo>
                    <a:pt x="16061" y="0"/>
                    <a:pt x="22841" y="3655"/>
                    <a:pt x="26837" y="9726"/>
                  </a:cubicBezTo>
                  <a:lnTo>
                    <a:pt x="8793" y="21600"/>
                  </a:lnTo>
                  <a:lnTo>
                    <a:pt x="-1" y="187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rc 70"/>
            <p:cNvSpPr/>
            <p:nvPr/>
          </p:nvSpPr>
          <p:spPr>
            <a:xfrm flipV="1" rot="1774800">
              <a:off x="1619280" y="4965120"/>
              <a:ext cx="331920" cy="420480"/>
            </a:xfrm>
            <a:custGeom>
              <a:avLst/>
              <a:gdLst/>
              <a:ahLst/>
              <a:rect l="l" t="t" r="r" b="b"/>
              <a:pathLst>
                <a:path fill="none" w="26956" h="21600">
                  <a:moveTo>
                    <a:pt x="-1" y="1870"/>
                  </a:moveTo>
                  <a:cubicBezTo>
                    <a:pt x="2767" y="637"/>
                    <a:pt x="5763" y="-1"/>
                    <a:pt x="8793" y="0"/>
                  </a:cubicBezTo>
                  <a:cubicBezTo>
                    <a:pt x="16138" y="0"/>
                    <a:pt x="22980" y="3733"/>
                    <a:pt x="26956" y="9909"/>
                  </a:cubicBezTo>
                </a:path>
                <a:path stroke="0" w="26956" h="21600">
                  <a:moveTo>
                    <a:pt x="-1" y="1870"/>
                  </a:moveTo>
                  <a:cubicBezTo>
                    <a:pt x="2767" y="637"/>
                    <a:pt x="5763" y="-1"/>
                    <a:pt x="8793" y="0"/>
                  </a:cubicBezTo>
                  <a:cubicBezTo>
                    <a:pt x="16138" y="0"/>
                    <a:pt x="22980" y="3733"/>
                    <a:pt x="26956" y="9909"/>
                  </a:cubicBezTo>
                  <a:lnTo>
                    <a:pt x="8793" y="21600"/>
                  </a:lnTo>
                  <a:lnTo>
                    <a:pt x="-1" y="187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rc 71"/>
            <p:cNvSpPr/>
            <p:nvPr/>
          </p:nvSpPr>
          <p:spPr>
            <a:xfrm>
              <a:off x="1231920" y="5681520"/>
              <a:ext cx="171360" cy="338400"/>
            </a:xfrm>
            <a:custGeom>
              <a:avLst/>
              <a:gdLst/>
              <a:ahLst/>
              <a:rect l="l" t="t" r="r" b="b"/>
              <a:pathLst>
                <a:path fill="none" w="21600" h="3671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7252"/>
                    <a:pt x="19384" y="32680"/>
                    <a:pt x="15427" y="36717"/>
                  </a:cubicBezTo>
                </a:path>
                <a:path stroke="0" w="21600" h="3671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7252"/>
                    <a:pt x="19384" y="32680"/>
                    <a:pt x="15427" y="3671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rc 72"/>
            <p:cNvSpPr/>
            <p:nvPr/>
          </p:nvSpPr>
          <p:spPr>
            <a:xfrm flipH="1">
              <a:off x="4639680" y="5511960"/>
              <a:ext cx="236520" cy="287280"/>
            </a:xfrm>
            <a:custGeom>
              <a:avLst/>
              <a:gdLst/>
              <a:ahLst/>
              <a:rect l="l" t="t" r="r" b="b"/>
              <a:pathLst>
                <a:path fill="none" w="21600" h="25171">
                  <a:moveTo>
                    <a:pt x="11421" y="0"/>
                  </a:moveTo>
                  <a:cubicBezTo>
                    <a:pt x="17752" y="3943"/>
                    <a:pt x="21600" y="10874"/>
                    <a:pt x="21600" y="18333"/>
                  </a:cubicBezTo>
                  <a:cubicBezTo>
                    <a:pt x="21600" y="20657"/>
                    <a:pt x="21224" y="22966"/>
                    <a:pt x="20489" y="25171"/>
                  </a:cubicBezTo>
                </a:path>
                <a:path stroke="0" w="21600" h="25171">
                  <a:moveTo>
                    <a:pt x="11421" y="0"/>
                  </a:moveTo>
                  <a:cubicBezTo>
                    <a:pt x="17752" y="3943"/>
                    <a:pt x="21600" y="10874"/>
                    <a:pt x="21600" y="18333"/>
                  </a:cubicBezTo>
                  <a:cubicBezTo>
                    <a:pt x="21600" y="20657"/>
                    <a:pt x="21224" y="22966"/>
                    <a:pt x="20489" y="25171"/>
                  </a:cubicBezTo>
                  <a:lnTo>
                    <a:pt x="0" y="18333"/>
                  </a:lnTo>
                  <a:lnTo>
                    <a:pt x="11421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rc 73"/>
            <p:cNvSpPr/>
            <p:nvPr/>
          </p:nvSpPr>
          <p:spPr>
            <a:xfrm>
              <a:off x="3387600" y="5540400"/>
              <a:ext cx="120600" cy="284040"/>
            </a:xfrm>
            <a:custGeom>
              <a:avLst/>
              <a:gdLst/>
              <a:ahLst/>
              <a:rect l="l" t="t" r="r" b="b"/>
              <a:pathLst>
                <a:path fill="none" w="21600" h="3671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7252"/>
                    <a:pt x="19384" y="32680"/>
                    <a:pt x="15427" y="36717"/>
                  </a:cubicBezTo>
                </a:path>
                <a:path stroke="0" w="21600" h="3671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7252"/>
                    <a:pt x="19384" y="32680"/>
                    <a:pt x="15427" y="3671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rc 74"/>
            <p:cNvSpPr/>
            <p:nvPr/>
          </p:nvSpPr>
          <p:spPr>
            <a:xfrm flipH="1">
              <a:off x="4443480" y="3909960"/>
              <a:ext cx="201600" cy="312840"/>
            </a:xfrm>
            <a:custGeom>
              <a:avLst/>
              <a:gdLst/>
              <a:ahLst/>
              <a:rect l="l" t="t" r="r" b="b"/>
              <a:pathLst>
                <a:path fill="none" w="21600" h="29994">
                  <a:moveTo>
                    <a:pt x="10293" y="0"/>
                  </a:moveTo>
                  <a:cubicBezTo>
                    <a:pt x="17260" y="3777"/>
                    <a:pt x="21600" y="11065"/>
                    <a:pt x="21600" y="18990"/>
                  </a:cubicBezTo>
                  <a:cubicBezTo>
                    <a:pt x="21600" y="22861"/>
                    <a:pt x="20559" y="26662"/>
                    <a:pt x="18586" y="29993"/>
                  </a:cubicBezTo>
                </a:path>
                <a:path stroke="0" w="21600" h="29994">
                  <a:moveTo>
                    <a:pt x="10293" y="0"/>
                  </a:moveTo>
                  <a:cubicBezTo>
                    <a:pt x="17260" y="3777"/>
                    <a:pt x="21600" y="11065"/>
                    <a:pt x="21600" y="18990"/>
                  </a:cubicBezTo>
                  <a:cubicBezTo>
                    <a:pt x="21600" y="22861"/>
                    <a:pt x="20559" y="26662"/>
                    <a:pt x="18586" y="29993"/>
                  </a:cubicBezTo>
                  <a:lnTo>
                    <a:pt x="0" y="18990"/>
                  </a:lnTo>
                  <a:lnTo>
                    <a:pt x="10293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rc 75"/>
            <p:cNvSpPr/>
            <p:nvPr/>
          </p:nvSpPr>
          <p:spPr>
            <a:xfrm flipV="1" rot="21173400">
              <a:off x="3347640" y="3214080"/>
              <a:ext cx="343080" cy="434880"/>
            </a:xfrm>
            <a:custGeom>
              <a:avLst/>
              <a:gdLst/>
              <a:ahLst/>
              <a:rect l="l" t="t" r="r" b="b"/>
              <a:pathLst>
                <a:path fill="none" w="26956" h="21600">
                  <a:moveTo>
                    <a:pt x="-1" y="1870"/>
                  </a:moveTo>
                  <a:cubicBezTo>
                    <a:pt x="2767" y="637"/>
                    <a:pt x="5763" y="-1"/>
                    <a:pt x="8793" y="0"/>
                  </a:cubicBezTo>
                  <a:cubicBezTo>
                    <a:pt x="16138" y="0"/>
                    <a:pt x="22980" y="3733"/>
                    <a:pt x="26956" y="9909"/>
                  </a:cubicBezTo>
                </a:path>
                <a:path stroke="0" w="26956" h="21600">
                  <a:moveTo>
                    <a:pt x="-1" y="1870"/>
                  </a:moveTo>
                  <a:cubicBezTo>
                    <a:pt x="2767" y="637"/>
                    <a:pt x="5763" y="-1"/>
                    <a:pt x="8793" y="0"/>
                  </a:cubicBezTo>
                  <a:cubicBezTo>
                    <a:pt x="16138" y="0"/>
                    <a:pt x="22980" y="3733"/>
                    <a:pt x="26956" y="9909"/>
                  </a:cubicBezTo>
                  <a:lnTo>
                    <a:pt x="8793" y="21600"/>
                  </a:lnTo>
                  <a:lnTo>
                    <a:pt x="-1" y="187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rc 76"/>
            <p:cNvSpPr/>
            <p:nvPr/>
          </p:nvSpPr>
          <p:spPr>
            <a:xfrm>
              <a:off x="5921280" y="5586480"/>
              <a:ext cx="108000" cy="218880"/>
            </a:xfrm>
            <a:custGeom>
              <a:avLst/>
              <a:gdLst/>
              <a:ahLst/>
              <a:rect l="l" t="t" r="r" b="b"/>
              <a:pathLst>
                <a:path fill="none" w="21600" h="3671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7252"/>
                    <a:pt x="19384" y="32680"/>
                    <a:pt x="15427" y="36717"/>
                  </a:cubicBezTo>
                </a:path>
                <a:path stroke="0" w="21600" h="3671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7252"/>
                    <a:pt x="19384" y="32680"/>
                    <a:pt x="15427" y="3671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rc 77"/>
            <p:cNvSpPr/>
            <p:nvPr/>
          </p:nvSpPr>
          <p:spPr>
            <a:xfrm>
              <a:off x="6008760" y="3213000"/>
              <a:ext cx="218880" cy="219240"/>
            </a:xfrm>
            <a:custGeom>
              <a:avLst/>
              <a:gdLst/>
              <a:ahLst/>
              <a:rect l="l" t="t" r="r" b="b"/>
              <a:pathLst>
                <a:path fill="none" w="21600" h="32985">
                  <a:moveTo>
                    <a:pt x="17843" y="-1"/>
                  </a:moveTo>
                  <a:cubicBezTo>
                    <a:pt x="20290" y="3587"/>
                    <a:pt x="21600" y="7829"/>
                    <a:pt x="21600" y="12173"/>
                  </a:cubicBezTo>
                  <a:cubicBezTo>
                    <a:pt x="21600" y="21875"/>
                    <a:pt x="15129" y="30388"/>
                    <a:pt x="5781" y="32985"/>
                  </a:cubicBezTo>
                </a:path>
                <a:path stroke="0" w="21600" h="32985">
                  <a:moveTo>
                    <a:pt x="17843" y="-1"/>
                  </a:moveTo>
                  <a:cubicBezTo>
                    <a:pt x="20290" y="3587"/>
                    <a:pt x="21600" y="7829"/>
                    <a:pt x="21600" y="12173"/>
                  </a:cubicBezTo>
                  <a:cubicBezTo>
                    <a:pt x="21600" y="21875"/>
                    <a:pt x="15129" y="30388"/>
                    <a:pt x="5781" y="32985"/>
                  </a:cubicBezTo>
                  <a:lnTo>
                    <a:pt x="0" y="12173"/>
                  </a:lnTo>
                  <a:lnTo>
                    <a:pt x="17843" y="-1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rc 78"/>
            <p:cNvSpPr/>
            <p:nvPr/>
          </p:nvSpPr>
          <p:spPr>
            <a:xfrm flipH="1">
              <a:off x="7701120" y="3240000"/>
              <a:ext cx="110880" cy="236520"/>
            </a:xfrm>
            <a:custGeom>
              <a:avLst/>
              <a:gdLst/>
              <a:ahLst/>
              <a:rect l="l" t="t" r="r" b="b"/>
              <a:pathLst>
                <a:path fill="none" w="21600" h="30959">
                  <a:moveTo>
                    <a:pt x="19467" y="-1"/>
                  </a:moveTo>
                  <a:cubicBezTo>
                    <a:pt x="20871" y="2920"/>
                    <a:pt x="21600" y="6118"/>
                    <a:pt x="21600" y="9359"/>
                  </a:cubicBezTo>
                  <a:cubicBezTo>
                    <a:pt x="21600" y="21288"/>
                    <a:pt x="11929" y="30958"/>
                    <a:pt x="0" y="30959"/>
                  </a:cubicBezTo>
                </a:path>
                <a:path stroke="0" w="21600" h="30959">
                  <a:moveTo>
                    <a:pt x="19467" y="-1"/>
                  </a:moveTo>
                  <a:cubicBezTo>
                    <a:pt x="20871" y="2920"/>
                    <a:pt x="21600" y="6118"/>
                    <a:pt x="21600" y="9359"/>
                  </a:cubicBezTo>
                  <a:cubicBezTo>
                    <a:pt x="21600" y="21288"/>
                    <a:pt x="11929" y="30958"/>
                    <a:pt x="0" y="30959"/>
                  </a:cubicBezTo>
                  <a:lnTo>
                    <a:pt x="0" y="9359"/>
                  </a:lnTo>
                  <a:lnTo>
                    <a:pt x="19467" y="-1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rc 79"/>
            <p:cNvSpPr/>
            <p:nvPr/>
          </p:nvSpPr>
          <p:spPr>
            <a:xfrm flipH="1">
              <a:off x="7683480" y="4649760"/>
              <a:ext cx="146160" cy="149400"/>
            </a:xfrm>
            <a:custGeom>
              <a:avLst/>
              <a:gdLst/>
              <a:ahLst/>
              <a:rect l="l" t="t" r="r" b="b"/>
              <a:pathLst>
                <a:path fill="none" w="32283" h="27745">
                  <a:moveTo>
                    <a:pt x="31390" y="0"/>
                  </a:moveTo>
                  <a:cubicBezTo>
                    <a:pt x="31982" y="1994"/>
                    <a:pt x="32283" y="4064"/>
                    <a:pt x="32283" y="6145"/>
                  </a:cubicBezTo>
                  <a:cubicBezTo>
                    <a:pt x="32283" y="18074"/>
                    <a:pt x="22612" y="27745"/>
                    <a:pt x="10683" y="27745"/>
                  </a:cubicBezTo>
                  <a:cubicBezTo>
                    <a:pt x="6937" y="27745"/>
                    <a:pt x="3255" y="26770"/>
                    <a:pt x="-1" y="24918"/>
                  </a:cubicBezTo>
                </a:path>
                <a:path stroke="0" w="32283" h="27745">
                  <a:moveTo>
                    <a:pt x="31390" y="0"/>
                  </a:moveTo>
                  <a:cubicBezTo>
                    <a:pt x="31982" y="1994"/>
                    <a:pt x="32283" y="4064"/>
                    <a:pt x="32283" y="6145"/>
                  </a:cubicBezTo>
                  <a:cubicBezTo>
                    <a:pt x="32283" y="18074"/>
                    <a:pt x="22612" y="27745"/>
                    <a:pt x="10683" y="27745"/>
                  </a:cubicBezTo>
                  <a:cubicBezTo>
                    <a:pt x="6937" y="27745"/>
                    <a:pt x="3255" y="26770"/>
                    <a:pt x="-1" y="24918"/>
                  </a:cubicBezTo>
                  <a:lnTo>
                    <a:pt x="10683" y="6145"/>
                  </a:lnTo>
                  <a:lnTo>
                    <a:pt x="31390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94"/>
          <p:cNvGrpSpPr/>
          <p:nvPr/>
        </p:nvGrpSpPr>
        <p:grpSpPr>
          <a:xfrm>
            <a:off x="1042920" y="3003840"/>
            <a:ext cx="7507440" cy="3827880"/>
            <a:chOff x="1042920" y="3003840"/>
            <a:chExt cx="7507440" cy="3827880"/>
          </a:xfrm>
        </p:grpSpPr>
        <p:sp>
          <p:nvSpPr>
            <p:cNvPr id="115" name="AutoShape 60"/>
            <p:cNvSpPr/>
            <p:nvPr/>
          </p:nvSpPr>
          <p:spPr>
            <a:xfrm>
              <a:off x="3348000" y="3213000"/>
              <a:ext cx="1779480" cy="1003320"/>
            </a:xfrm>
            <a:prstGeom prst="rtTriangl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61"/>
            <p:cNvSpPr/>
            <p:nvPr/>
          </p:nvSpPr>
          <p:spPr>
            <a:xfrm>
              <a:off x="1042920" y="4941720"/>
              <a:ext cx="1368360" cy="1052640"/>
            </a:xfrm>
            <a:prstGeom prst="triangle">
              <a:avLst>
                <a:gd name="adj" fmla="val 5203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62"/>
            <p:cNvSpPr/>
            <p:nvPr/>
          </p:nvSpPr>
          <p:spPr>
            <a:xfrm rot="9066000">
              <a:off x="5508360" y="5038560"/>
              <a:ext cx="3078000" cy="642960"/>
            </a:xfrm>
            <a:prstGeom prst="triangle">
              <a:avLst>
                <a:gd name="adj" fmla="val 6265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63"/>
            <p:cNvSpPr/>
            <p:nvPr/>
          </p:nvSpPr>
          <p:spPr>
            <a:xfrm rot="540000">
              <a:off x="1188720" y="3102120"/>
              <a:ext cx="1369800" cy="1430280"/>
            </a:xfrm>
            <a:prstGeom prst="triangle">
              <a:avLst>
                <a:gd name="adj" fmla="val 23463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64"/>
            <p:cNvSpPr/>
            <p:nvPr/>
          </p:nvSpPr>
          <p:spPr>
            <a:xfrm rot="10800000">
              <a:off x="5580000" y="3239640"/>
              <a:ext cx="2511360" cy="768600"/>
            </a:xfrm>
            <a:prstGeom prst="triangle">
              <a:avLst>
                <a:gd name="adj" fmla="val 30435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65"/>
            <p:cNvSpPr/>
            <p:nvPr/>
          </p:nvSpPr>
          <p:spPr>
            <a:xfrm rot="8100000">
              <a:off x="3347640" y="5151600"/>
              <a:ext cx="1436760" cy="1373040"/>
            </a:xfrm>
            <a:prstGeom prst="triangle">
              <a:avLst>
                <a:gd name="adj" fmla="val 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80"/>
            <p:cNvSpPr/>
            <p:nvPr/>
          </p:nvSpPr>
          <p:spPr>
            <a:xfrm>
              <a:off x="2700360" y="3141720"/>
              <a:ext cx="0" cy="2951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81"/>
            <p:cNvSpPr/>
            <p:nvPr/>
          </p:nvSpPr>
          <p:spPr>
            <a:xfrm>
              <a:off x="5364000" y="3068640"/>
              <a:ext cx="0" cy="2951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88"/>
          <p:cNvGrpSpPr/>
          <p:nvPr/>
        </p:nvGrpSpPr>
        <p:grpSpPr>
          <a:xfrm>
            <a:off x="3362400" y="3976560"/>
            <a:ext cx="922320" cy="1217880"/>
            <a:chOff x="3362400" y="3976560"/>
            <a:chExt cx="922320" cy="1217880"/>
          </a:xfrm>
        </p:grpSpPr>
        <p:sp>
          <p:nvSpPr>
            <p:cNvPr id="124" name="Freeform 83"/>
            <p:cNvSpPr/>
            <p:nvPr/>
          </p:nvSpPr>
          <p:spPr>
            <a:xfrm>
              <a:off x="3362400" y="3976560"/>
              <a:ext cx="216000" cy="216000"/>
            </a:xfrm>
            <a:custGeom>
              <a:avLst/>
              <a:gdLst/>
              <a:ahLst/>
              <a:rect l="l" t="t" r="r" b="b"/>
              <a:pathLst>
                <a:path w="136" h="181">
                  <a:moveTo>
                    <a:pt x="0" y="0"/>
                  </a:moveTo>
                  <a:lnTo>
                    <a:pt x="136" y="0"/>
                  </a:lnTo>
                  <a:lnTo>
                    <a:pt x="136" y="181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6"/>
            <p:cNvSpPr/>
            <p:nvPr/>
          </p:nvSpPr>
          <p:spPr>
            <a:xfrm>
              <a:off x="3924360" y="5013360"/>
              <a:ext cx="360360" cy="181080"/>
            </a:xfrm>
            <a:custGeom>
              <a:avLst/>
              <a:gdLst/>
              <a:ahLst/>
              <a:rect l="l" t="t" r="r" b="b"/>
              <a:pathLst>
                <a:path w="273" h="137">
                  <a:moveTo>
                    <a:pt x="0" y="1"/>
                  </a:moveTo>
                  <a:lnTo>
                    <a:pt x="136" y="137"/>
                  </a:lnTo>
                  <a:lnTo>
                    <a:pt x="273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92"/>
          <p:cNvGrpSpPr/>
          <p:nvPr/>
        </p:nvGrpSpPr>
        <p:grpSpPr>
          <a:xfrm>
            <a:off x="6642000" y="3766320"/>
            <a:ext cx="875520" cy="2074320"/>
            <a:chOff x="6642000" y="3766320"/>
            <a:chExt cx="875520" cy="2074320"/>
          </a:xfrm>
        </p:grpSpPr>
        <p:sp>
          <p:nvSpPr>
            <p:cNvPr id="127" name="Arc 89"/>
            <p:cNvSpPr/>
            <p:nvPr/>
          </p:nvSpPr>
          <p:spPr>
            <a:xfrm flipH="1" rot="378000">
              <a:off x="6656400" y="5532120"/>
              <a:ext cx="392040" cy="287640"/>
            </a:xfrm>
            <a:custGeom>
              <a:avLst/>
              <a:gdLst/>
              <a:ahLst/>
              <a:rect l="l" t="t" r="r" b="b"/>
              <a:pathLst>
                <a:path fill="none" w="29504" h="21600">
                  <a:moveTo>
                    <a:pt x="0" y="1498"/>
                  </a:moveTo>
                  <a:cubicBezTo>
                    <a:pt x="2517" y="508"/>
                    <a:pt x="5198" y="-1"/>
                    <a:pt x="7904" y="0"/>
                  </a:cubicBezTo>
                  <a:cubicBezTo>
                    <a:pt x="19833" y="0"/>
                    <a:pt x="29504" y="9670"/>
                    <a:pt x="29504" y="21600"/>
                  </a:cubicBezTo>
                </a:path>
                <a:path stroke="0" w="29504" h="21600">
                  <a:moveTo>
                    <a:pt x="0" y="1498"/>
                  </a:moveTo>
                  <a:cubicBezTo>
                    <a:pt x="2517" y="508"/>
                    <a:pt x="5198" y="-1"/>
                    <a:pt x="7904" y="0"/>
                  </a:cubicBezTo>
                  <a:cubicBezTo>
                    <a:pt x="19833" y="0"/>
                    <a:pt x="29504" y="9670"/>
                    <a:pt x="29504" y="21600"/>
                  </a:cubicBezTo>
                  <a:lnTo>
                    <a:pt x="7904" y="21600"/>
                  </a:lnTo>
                  <a:lnTo>
                    <a:pt x="0" y="1498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rc 91"/>
            <p:cNvSpPr/>
            <p:nvPr/>
          </p:nvSpPr>
          <p:spPr>
            <a:xfrm flipH="1" rot="21452400">
              <a:off x="7178040" y="3773160"/>
              <a:ext cx="334800" cy="203040"/>
            </a:xfrm>
            <a:custGeom>
              <a:avLst/>
              <a:gdLst/>
              <a:ahLst/>
              <a:rect l="l" t="t" r="r" b="b"/>
              <a:pathLst>
                <a:path fill="none" w="34224" h="21600">
                  <a:moveTo>
                    <a:pt x="-1" y="5211"/>
                  </a:moveTo>
                  <a:cubicBezTo>
                    <a:pt x="3916" y="1848"/>
                    <a:pt x="8908" y="-1"/>
                    <a:pt x="14071" y="0"/>
                  </a:cubicBezTo>
                  <a:cubicBezTo>
                    <a:pt x="23000" y="0"/>
                    <a:pt x="31009" y="5494"/>
                    <a:pt x="34223" y="13826"/>
                  </a:cubicBezTo>
                </a:path>
                <a:path stroke="0" w="34224" h="21600">
                  <a:moveTo>
                    <a:pt x="-1" y="5211"/>
                  </a:moveTo>
                  <a:cubicBezTo>
                    <a:pt x="3916" y="1848"/>
                    <a:pt x="8908" y="-1"/>
                    <a:pt x="14071" y="0"/>
                  </a:cubicBezTo>
                  <a:cubicBezTo>
                    <a:pt x="23000" y="0"/>
                    <a:pt x="31009" y="5494"/>
                    <a:pt x="34223" y="13826"/>
                  </a:cubicBezTo>
                  <a:lnTo>
                    <a:pt x="14071" y="21600"/>
                  </a:lnTo>
                  <a:lnTo>
                    <a:pt x="-1" y="5211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dur="indefinite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971640" y="4149720"/>
            <a:ext cx="756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539640" y="1700280"/>
            <a:ext cx="82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在三角形中最大的角是锐角（直角、钝角），那么这个三角形就是锐角（直角、钝角）三角形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9"/>
          <p:cNvSpPr/>
          <p:nvPr/>
        </p:nvSpPr>
        <p:spPr>
          <a:xfrm>
            <a:off x="684360" y="48553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有一个角是锐角的三角形是锐角三角形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………………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0"/>
          <p:cNvSpPr/>
          <p:nvPr/>
        </p:nvSpPr>
        <p:spPr>
          <a:xfrm>
            <a:off x="900000" y="836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下面的说法对吗？说明理由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1"/>
          <p:cNvSpPr/>
          <p:nvPr/>
        </p:nvSpPr>
        <p:spPr>
          <a:xfrm>
            <a:off x="755640" y="1628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个角都是钝角的三角形是钝角三角形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……………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2"/>
          <p:cNvSpPr/>
          <p:nvPr/>
        </p:nvSpPr>
        <p:spPr>
          <a:xfrm>
            <a:off x="755640" y="314172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直角三角形中只有一个直角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………………………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3"/>
          <p:cNvSpPr/>
          <p:nvPr/>
        </p:nvSpPr>
        <p:spPr>
          <a:xfrm>
            <a:off x="6899040" y="213372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×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4"/>
          <p:cNvSpPr/>
          <p:nvPr/>
        </p:nvSpPr>
        <p:spPr>
          <a:xfrm>
            <a:off x="6861240" y="364500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5"/>
          <p:cNvSpPr/>
          <p:nvPr/>
        </p:nvSpPr>
        <p:spPr>
          <a:xfrm>
            <a:off x="6778440" y="508464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×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6"/>
          <p:cNvSpPr/>
          <p:nvPr/>
        </p:nvSpPr>
        <p:spPr>
          <a:xfrm>
            <a:off x="684360" y="48553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最大的角是锐角的三角形是锐角三角形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………………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7"/>
          <p:cNvSpPr/>
          <p:nvPr/>
        </p:nvSpPr>
        <p:spPr>
          <a:xfrm>
            <a:off x="6764400" y="511488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4T04:36:3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1:41Z</dcterms:modified>
  <cp:revision>10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