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2.png" ContentType="image/png"/>
  <Override PartName="/ppt/media/image9.jpeg" ContentType="image/jpeg"/>
  <Override PartName="/ppt/media/image11.png" ContentType="image/png"/>
  <Override PartName="/ppt/media/image18.jpeg" ContentType="image/jpeg"/>
  <Override PartName="/ppt/media/image17.wmf" ContentType="image/x-wmf"/>
  <Override PartName="/ppt/media/image16.wmf" ContentType="image/x-wmf"/>
  <Override PartName="/ppt/media/image4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123D-D21C-4267-8CFF-38644047E67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moban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ziliao/" TargetMode="External"/><Relationship Id="rId10" Type="http://schemas.openxmlformats.org/officeDocument/2006/relationships/hyperlink" Target="http://www.1ppt.com/fanwen/" TargetMode="External"/><Relationship Id="rId11" Type="http://schemas.openxmlformats.org/officeDocument/2006/relationships/hyperlink" Target="http://www.1ppt.com/shiti/" TargetMode="External"/><Relationship Id="rId12" Type="http://schemas.openxmlformats.org/officeDocument/2006/relationships/hyperlink" Target="http://www.1ppt.com/jiaoan/" TargetMode="External"/><Relationship Id="rId13" Type="http://schemas.openxmlformats.org/officeDocument/2006/relationships/hyperlink" Target="http://www.1ppt.cn/" TargetMode="External"/><Relationship Id="rId14" Type="http://schemas.openxmlformats.org/officeDocument/2006/relationships/hyperlink" Target="http://www.1ppt.com/kejian/" TargetMode="External"/><Relationship Id="rId15" Type="http://schemas.openxmlformats.org/officeDocument/2006/relationships/hyperlink" Target="http://www.1ppt.com/kejian/yuwen/" TargetMode="External"/><Relationship Id="rId16" Type="http://schemas.openxmlformats.org/officeDocument/2006/relationships/hyperlink" Target="http://www.1ppt.com/kejian/shuxue/" TargetMode="External"/><Relationship Id="rId17" Type="http://schemas.openxmlformats.org/officeDocument/2006/relationships/hyperlink" Target="http://www.1ppt.com/kejian/yingyu/" TargetMode="External"/><Relationship Id="rId18" Type="http://schemas.openxmlformats.org/officeDocument/2006/relationships/hyperlink" Target="http://www.1ppt.com/kejian/meishu/" TargetMode="External"/><Relationship Id="rId19" Type="http://schemas.openxmlformats.org/officeDocument/2006/relationships/hyperlink" Target="http://www.1ppt.com/kejian/kexue/" TargetMode="External"/><Relationship Id="rId20" Type="http://schemas.openxmlformats.org/officeDocument/2006/relationships/hyperlink" Target="http://www.1ppt.com/kejian/wuli/" TargetMode="External"/><Relationship Id="rId21" Type="http://schemas.openxmlformats.org/officeDocument/2006/relationships/hyperlink" Target="http://www.1ppt.com/kejian/huaxue/" TargetMode="External"/><Relationship Id="rId22" Type="http://schemas.openxmlformats.org/officeDocument/2006/relationships/hyperlink" Target="http://www.1ppt.com/kejian/shengwu/" TargetMode="External"/><Relationship Id="rId23" Type="http://schemas.openxmlformats.org/officeDocument/2006/relationships/hyperlink" Target="http://www.1ppt.com/kejian/dili/" TargetMode="External"/><Relationship Id="rId24" Type="http://schemas.openxmlformats.org/officeDocument/2006/relationships/hyperlink" Target="http://www.1ppt.com/kejian/lishi/" TargetMode="External"/><Relationship Id="rId25" Type="http://schemas.openxmlformats.org/officeDocument/2006/relationships/slide" Target="../slides/slide6.xml"/><Relationship Id="rId26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o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5FAC-2463-41E4-9E1F-00F21376759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F730-A1EE-4870-967A-497023A8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4FE2-B0A5-4970-A2B6-490A0F2B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6331-B1A3-4509-A0BD-6BECE154A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7BB3-7997-4FE8-8722-496B17FF8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3E4A-2C55-4B31-9AA9-7EACF257B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EA8A-7901-417E-A9D6-B1237E5C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8929-CE8F-4727-9FED-166AC65A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CAEE-CDF3-4295-9B99-A40F256C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3EA5-5314-4971-8730-8C2692BE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8253-BC48-4211-8C62-89FC07F6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91AA-E75F-4CF5-8912-8E877994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71B1-E43B-48A7-8CA3-281DCC76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3335-3A97-4A77-9DED-59F18A19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FC75-5117-48FA-A8D9-9AF45D75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C733-854A-4EFE-9B95-ADC02F4F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F386-408F-4642-A777-0CCCFEC1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5A65-2073-44CA-9321-DD0C121AB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9EF4F-AF79-4820-802D-31C45F18B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2CAFF-D7BC-4422-AC6E-09838774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5C0E4-B42D-4132-B00F-1BAAEDF8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D0F75-C661-44AD-95C2-0E7379E5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D77E6-6B5D-4B40-9C0E-D8330E5D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D8C0-3C50-44B1-9F27-40D20A8E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00B66-C131-4CBB-B4E0-1F4458E3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B51C7-E608-4940-B73E-28E5880C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C07E6-EB32-4A9B-AEA4-70BE555B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6822C-CE35-479F-BB12-23F969A6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5EC92-0021-481D-88B9-9DE11085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2AC91-1DC9-4A9F-B730-B9BEC7AFB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1E5B2-E8C5-40AE-8E55-E57F392CE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4999-9D68-47DC-A32B-84C792CD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261C-66C7-4A38-85FF-5AC9427A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7C96-13BA-40E5-A3A0-73026B59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4F00-1E28-472C-86EA-93CB34C8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B7B2-3F7B-49E0-BE75-9D951BDC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74DF-B11A-4DF9-BC1B-F2DF09E5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057D-64E8-42B6-ACB1-D268D61E425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548A-4AA5-4A52-A9B0-E54BEE3AC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1AD2-012B-4ED2-9536-799539D7D30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3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2" descr=""/>
          <p:cNvPicPr/>
          <p:nvPr/>
        </p:nvPicPr>
        <p:blipFill>
          <a:blip r:embed="rId2"/>
          <a:stretch/>
        </p:blipFill>
        <p:spPr>
          <a:xfrm>
            <a:off x="1403280" y="2421000"/>
            <a:ext cx="5932440" cy="3763800"/>
          </a:xfrm>
          <a:prstGeom prst="rect">
            <a:avLst/>
          </a:prstGeom>
          <a:ln w="0">
            <a:noFill/>
          </a:ln>
        </p:spPr>
      </p:pic>
      <p:sp>
        <p:nvSpPr>
          <p:cNvPr id="135" name="WordArt 5"/>
          <p:cNvSpPr txBox="1"/>
          <p:nvPr/>
        </p:nvSpPr>
        <p:spPr>
          <a:xfrm>
            <a:off x="1116000" y="1339920"/>
            <a:ext cx="6769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2c612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中宋"/>
              </a:rPr>
              <a:t>设计制作小赛车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2c612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36" name="矩形 7"/>
          <p:cNvSpPr/>
          <p:nvPr/>
        </p:nvSpPr>
        <p:spPr>
          <a:xfrm>
            <a:off x="2136960" y="609912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工程师怎样设计赛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真正的赛车高速、同时又要平稳、安全。从上面这些赛车中可以看出，设计师们是怎样思考和设计的呢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发动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轮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车身高宽距离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车身外形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2843280" y="2349360"/>
            <a:ext cx="1297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功力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2411280" y="3213000"/>
            <a:ext cx="2232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宽、花纹粗而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3635280" y="4076640"/>
            <a:ext cx="122400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低而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2987640" y="5084640"/>
            <a:ext cx="1368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流水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我们怎么设计？</a:t>
            </a:r>
            <a:r>
              <a:rPr b="0" lang="zh-CN" sz="1600" spc="-1" strike="noStrike">
                <a:solidFill>
                  <a:srgbClr val="006633"/>
                </a:solidFill>
                <a:latin typeface="宋体"/>
              </a:rPr>
              <a:t>④</a:t>
            </a:r>
            <a:endParaRPr b="0" lang="en-US" sz="16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64" name="Group 11"/>
          <p:cNvGrpSpPr/>
          <p:nvPr/>
        </p:nvGrpSpPr>
        <p:grpSpPr>
          <a:xfrm>
            <a:off x="395280" y="1844640"/>
            <a:ext cx="1944360" cy="1224000"/>
            <a:chOff x="395280" y="1844640"/>
            <a:chExt cx="1944360" cy="1224000"/>
          </a:xfrm>
        </p:grpSpPr>
        <p:sp>
          <p:nvSpPr>
            <p:cNvPr id="165" name="Rectangle 4"/>
            <p:cNvSpPr/>
            <p:nvPr/>
          </p:nvSpPr>
          <p:spPr>
            <a:xfrm>
              <a:off x="395280" y="1844640"/>
              <a:ext cx="1268280" cy="12240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明白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什么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途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5"/>
            <p:cNvSpPr/>
            <p:nvPr/>
          </p:nvSpPr>
          <p:spPr>
            <a:xfrm>
              <a:off x="1663560" y="2421000"/>
              <a:ext cx="67608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12"/>
          <p:cNvGrpSpPr/>
          <p:nvPr/>
        </p:nvGrpSpPr>
        <p:grpSpPr>
          <a:xfrm>
            <a:off x="2411280" y="1628640"/>
            <a:ext cx="2376360" cy="2087280"/>
            <a:chOff x="2411280" y="1628640"/>
            <a:chExt cx="2376360" cy="2087280"/>
          </a:xfrm>
        </p:grpSpPr>
        <p:sp>
          <p:nvSpPr>
            <p:cNvPr id="168" name="Rectangle 6"/>
            <p:cNvSpPr/>
            <p:nvPr/>
          </p:nvSpPr>
          <p:spPr>
            <a:xfrm>
              <a:off x="2411280" y="1628640"/>
              <a:ext cx="1720800" cy="20872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收集想法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研究会遇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什么问题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能不能解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决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7"/>
            <p:cNvSpPr/>
            <p:nvPr/>
          </p:nvSpPr>
          <p:spPr>
            <a:xfrm>
              <a:off x="4132080" y="2298960"/>
              <a:ext cx="65556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13"/>
          <p:cNvGrpSpPr/>
          <p:nvPr/>
        </p:nvGrpSpPr>
        <p:grpSpPr>
          <a:xfrm>
            <a:off x="4716360" y="1628640"/>
            <a:ext cx="2303280" cy="1584360"/>
            <a:chOff x="4716360" y="1628640"/>
            <a:chExt cx="2303280" cy="1584360"/>
          </a:xfrm>
        </p:grpSpPr>
        <p:sp>
          <p:nvSpPr>
            <p:cNvPr id="171" name="Rectangle 8"/>
            <p:cNvSpPr/>
            <p:nvPr/>
          </p:nvSpPr>
          <p:spPr>
            <a:xfrm>
              <a:off x="4716360" y="1628640"/>
              <a:ext cx="1726560" cy="15843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选出最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的想法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进行设计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9"/>
            <p:cNvSpPr/>
            <p:nvPr/>
          </p:nvSpPr>
          <p:spPr>
            <a:xfrm>
              <a:off x="6442920" y="2204640"/>
              <a:ext cx="57672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10"/>
          <p:cNvSpPr/>
          <p:nvPr/>
        </p:nvSpPr>
        <p:spPr>
          <a:xfrm>
            <a:off x="7020000" y="1700280"/>
            <a:ext cx="1798560" cy="16574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思考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方案还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做哪些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进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设计我们的小赛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任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车身长不能超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c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用橡皮筋或气球作动力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行驶路程要尽量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阅读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88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页参考资料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600200"/>
          <a:ext cx="8229600" cy="4853160"/>
        </p:xfrm>
        <a:graphic>
          <a:graphicData uri="http://schemas.openxmlformats.org/drawingml/2006/table">
            <a:tbl>
              <a:tblPr/>
              <a:tblGrid>
                <a:gridCol w="514440"/>
                <a:gridCol w="1079280"/>
                <a:gridCol w="2521080"/>
                <a:gridCol w="2057400"/>
                <a:gridCol w="2057400"/>
              </a:tblGrid>
              <a:tr h="676440"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动力材料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车体材料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设计草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 gridSpan="3"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可能遇到的问题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采用的解决方案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6760">
                <a:tc gridSpan="3"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6265800" cy="30240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3"/>
          <p:cNvSpPr/>
          <p:nvPr/>
        </p:nvSpPr>
        <p:spPr>
          <a:xfrm>
            <a:off x="1893960" y="4580640"/>
            <a:ext cx="505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筷子小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在规定的尺度内尽量加长了车身，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就增加了橡皮筋的长度，从而增加了动力，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车只有车架，也减少了不必要的重量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468360" y="33336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思考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这辆小车的前后轮子装中间一点好还是拉开距离，把轮子安装在两端好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2881080" cy="49975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3"/>
          <p:cNvSpPr/>
          <p:nvPr/>
        </p:nvSpPr>
        <p:spPr>
          <a:xfrm>
            <a:off x="3348000" y="322236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立杆式小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构思巧妙，用了一根本身就有弹力的竹条立在车上挂动力橡皮筋，避开了车身对橡皮筋长度的限制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468360" y="33336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思考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这辆小车有什么特别的地方？这样的设计有什么好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3701880" cy="47052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4067280" y="41313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喷气小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用泡沫塑料做车板，使小车重量减到了最轻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067280" y="981000"/>
            <a:ext cx="47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思考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这辆小车的车身是用什么材料做的？为什么要用这种材料来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8064720" cy="365292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3"/>
          <p:cNvSpPr/>
          <p:nvPr/>
        </p:nvSpPr>
        <p:spPr>
          <a:xfrm>
            <a:off x="539640" y="5543280"/>
            <a:ext cx="72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螺旋桨小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用饮料瓶做车身，本身重量轻，在车身上部安螺旋桨又恰到好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468360" y="33336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思考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这辆小车有什么特别的地方？这样的设计有什么有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468360" y="2602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怎样增大小赛车的动力和延长动力作用于小车的时间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684360" y="169920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在规定的尺度内尽量加长了车身，这就增加了橡皮筋的长度，从而增加了动力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79280" y="328464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如果用橡筋驱动轮子来带动小车前进，怎样克服轮子打滑的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3296520" y="4723560"/>
            <a:ext cx="145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车轮粗糙一点，车子稍重一点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3492360" y="76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395280" y="6922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如果用气球作动力，怎样减轻小车的重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4345920" y="16747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选择较轻的材料来做车架，如用泡沫塑料之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1904400" y="285264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小车哪些地方的摩擦力是有害的？怎样减小它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179280" y="3789360"/>
            <a:ext cx="849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转动轴的地方的摩擦力是有害的，这些地方安装时不可卡紧，还可以加润滑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8360" y="2637000"/>
            <a:ext cx="84247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学习了解工程师是怎样设计制造赛车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应用所学知识，体验设计制造自己的赛车的过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4"/>
          <p:cNvSpPr/>
          <p:nvPr/>
        </p:nvSpPr>
        <p:spPr>
          <a:xfrm>
            <a:off x="611280" y="1773360"/>
            <a:ext cx="2232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324000" y="1989000"/>
          <a:ext cx="8569080" cy="3887640"/>
        </p:xfrm>
        <a:graphic>
          <a:graphicData uri="http://schemas.openxmlformats.org/drawingml/2006/table">
            <a:tbl>
              <a:tblPr/>
              <a:tblGrid>
                <a:gridCol w="2068200"/>
                <a:gridCol w="2217600"/>
                <a:gridCol w="2141640"/>
                <a:gridCol w="2141640"/>
              </a:tblGrid>
              <a:tr h="1225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动力材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车体材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计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0" name="Text Box 17"/>
          <p:cNvSpPr/>
          <p:nvPr/>
        </p:nvSpPr>
        <p:spPr>
          <a:xfrm>
            <a:off x="2513160" y="765000"/>
            <a:ext cx="34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飞驰号”小赛车设计方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1"/>
          <p:cNvSpPr/>
          <p:nvPr/>
        </p:nvSpPr>
        <p:spPr>
          <a:xfrm>
            <a:off x="825480" y="399960"/>
            <a:ext cx="559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755640" y="404640"/>
            <a:ext cx="756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赛车做好了，让我们来比一比，谁的赛车最棒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3276720" y="2782800"/>
            <a:ext cx="3590640" cy="1774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"/>
          <p:cNvPicPr/>
          <p:nvPr/>
        </p:nvPicPr>
        <p:blipFill>
          <a:blip r:embed="rId2"/>
          <a:stretch/>
        </p:blipFill>
        <p:spPr>
          <a:xfrm>
            <a:off x="6948360" y="2997360"/>
            <a:ext cx="1909800" cy="3311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"/>
          <p:cNvPicPr/>
          <p:nvPr/>
        </p:nvPicPr>
        <p:blipFill>
          <a:blip r:embed="rId3"/>
          <a:stretch/>
        </p:blipFill>
        <p:spPr>
          <a:xfrm>
            <a:off x="650880" y="3716280"/>
            <a:ext cx="2098800" cy="2665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"/>
          <p:cNvPicPr/>
          <p:nvPr/>
        </p:nvPicPr>
        <p:blipFill>
          <a:blip r:embed="rId4"/>
          <a:stretch/>
        </p:blipFill>
        <p:spPr>
          <a:xfrm>
            <a:off x="2843280" y="4653000"/>
            <a:ext cx="355428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世界上最快的汽车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-Bloodhou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8" name="Picture 8" descr="1345141120084508_2"/>
          <p:cNvPicPr/>
          <p:nvPr/>
        </p:nvPicPr>
        <p:blipFill>
          <a:blip r:embed="rId1"/>
          <a:stretch/>
        </p:blipFill>
        <p:spPr>
          <a:xfrm>
            <a:off x="0" y="1527120"/>
            <a:ext cx="9144000" cy="429732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9"/>
          <p:cNvSpPr/>
          <p:nvPr/>
        </p:nvSpPr>
        <p:spPr>
          <a:xfrm>
            <a:off x="5076720" y="4941720"/>
            <a:ext cx="37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英国正在研制的这款车，时速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千米，将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面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使用规范说明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3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3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3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1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17D8-8E58-40A6-B96F-814D112A980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被设计成不同用途的新型车辆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0" name="Picture 5" descr="2d48073a9355b2fc14cecbaf"/>
          <p:cNvPicPr/>
          <p:nvPr/>
        </p:nvPicPr>
        <p:blipFill>
          <a:blip r:embed="rId1"/>
          <a:stretch/>
        </p:blipFill>
        <p:spPr>
          <a:xfrm>
            <a:off x="0" y="1255680"/>
            <a:ext cx="914400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被设计成不同用途的新型车辆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2" name="Picture 5" descr="03402"/>
          <p:cNvPicPr/>
          <p:nvPr/>
        </p:nvPicPr>
        <p:blipFill>
          <a:blip r:embed="rId1"/>
          <a:stretch/>
        </p:blipFill>
        <p:spPr>
          <a:xfrm>
            <a:off x="611280" y="1044720"/>
            <a:ext cx="7740720" cy="58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6"/>
          <p:cNvSpPr/>
          <p:nvPr/>
        </p:nvSpPr>
        <p:spPr>
          <a:xfrm>
            <a:off x="2411280" y="2781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被设计成不同用途的新型车辆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5" name="Picture 5" descr="dc8d7fdaf9"/>
          <p:cNvPicPr/>
          <p:nvPr/>
        </p:nvPicPr>
        <p:blipFill>
          <a:blip r:embed="rId1"/>
          <a:stretch/>
        </p:blipFill>
        <p:spPr>
          <a:xfrm>
            <a:off x="1403280" y="1341360"/>
            <a:ext cx="698508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被设计成不同用途的新型车辆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7" name="Picture 5" descr="101386365_24084189"/>
          <p:cNvPicPr/>
          <p:nvPr/>
        </p:nvPicPr>
        <p:blipFill>
          <a:blip r:embed="rId1"/>
          <a:stretch/>
        </p:blipFill>
        <p:spPr>
          <a:xfrm>
            <a:off x="1547640" y="1557360"/>
            <a:ext cx="6337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被设计成不同用途的新型车辆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9" name="Picture 5" descr="1242367399371794284"/>
          <p:cNvPicPr/>
          <p:nvPr/>
        </p:nvPicPr>
        <p:blipFill>
          <a:blip r:embed="rId1"/>
          <a:stretch/>
        </p:blipFill>
        <p:spPr>
          <a:xfrm>
            <a:off x="2124000" y="2852640"/>
            <a:ext cx="47624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被设计成不同用途的新型车辆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1" name="Picture 5" descr="bmV3cy54aW5odWFuZXQuY29tL2F1dG8vMjAwOC0xMC8zMS94aW5fMzMyMTAwNTMxMTMyNzQzNzIxODAyMTMwLmpwZw=="/>
          <p:cNvPicPr/>
          <p:nvPr/>
        </p:nvPicPr>
        <p:blipFill>
          <a:blip r:embed="rId1"/>
          <a:stretch/>
        </p:blipFill>
        <p:spPr>
          <a:xfrm>
            <a:off x="468360" y="1187280"/>
            <a:ext cx="820728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705440" cy="422280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3"/>
          <p:cNvSpPr/>
          <p:nvPr/>
        </p:nvSpPr>
        <p:spPr>
          <a:xfrm>
            <a:off x="0" y="0"/>
            <a:ext cx="4500720" cy="1989000"/>
          </a:xfrm>
          <a:prstGeom prst="wedgeRoundRectCallout">
            <a:avLst>
              <a:gd name="adj1" fmla="val -8342"/>
              <a:gd name="adj2" fmla="val 75620"/>
              <a:gd name="adj3" fmla="val 16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轮胎很宽，增加稳定性和抓地力，防止拐弯时因速度快造成事故。轮胎外面很深很多的花纹，增大摩擦力，避免打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4859280" y="333360"/>
            <a:ext cx="2879640" cy="1224000"/>
          </a:xfrm>
          <a:prstGeom prst="wedgeRoundRectCallout">
            <a:avLst>
              <a:gd name="adj1" fmla="val -54685"/>
              <a:gd name="adj2" fmla="val 83722"/>
              <a:gd name="adj3" fmla="val 16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要设计力量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大的发动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324000" y="5084640"/>
            <a:ext cx="4176720" cy="1773360"/>
          </a:xfrm>
          <a:prstGeom prst="wedgeRoundRectCallout">
            <a:avLst>
              <a:gd name="adj1" fmla="val 17425"/>
              <a:gd name="adj2" fmla="val -76143"/>
              <a:gd name="adj3" fmla="val 16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车身重心很低，轮与轮之间的距离较宽，可以使行驶稳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4716360" y="5489640"/>
            <a:ext cx="4176720" cy="1368360"/>
          </a:xfrm>
          <a:prstGeom prst="wedgeRoundRectCallout">
            <a:avLst>
              <a:gd name="adj1" fmla="val -48481"/>
              <a:gd name="adj2" fmla="val -140138"/>
              <a:gd name="adj3" fmla="val 16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设计流线型车身，使空气阻力减到最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0:20:0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9:50Z</dcterms:modified>
  <cp:revision>2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