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5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gif" ContentType="image/gif"/>
  <Override PartName="/ppt/media/320.wav" ContentType="audio/x-wav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32F-FA7A-48BB-B96C-2DFB8AA9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E71-71C0-4B4E-82AB-3AEDB48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1D8-9546-46AE-8DC2-0D3C3F71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4A1-367D-4188-9179-8A6F65B2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D9B-5BA4-44BB-ADC5-28CD1B84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CE6-24BA-4447-B4B9-8E89BB9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5EF-6C14-420D-9FAE-7A5A5B1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69A-BDFF-4557-955D-EAC1D35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A7D-2598-4422-899E-A98FDBD3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81E-7366-437D-BC39-9DBD9C6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F8-76C0-447E-A26D-D167E19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EDD-8882-4F0A-8143-E410CFA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323-BEC7-4398-9E3E-6249DB05B7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320.wav"/><Relationship Id="rId4" Type="http://schemas.openxmlformats.org/officeDocument/2006/relationships/audio" Target="../media/320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../../../Default%20User/Local%20Settings/Temporary%20Internet%20Files/Content.IE5/9BA22DWP/&#28891;&#20809;&#37324;&#30340;&#22920;&#22920;&#65288;&#27611;&#38463;&#25935;&#65289;.mpga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j.exe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金色花"/>
          <p:cNvPicPr/>
          <p:nvPr/>
        </p:nvPicPr>
        <p:blipFill>
          <a:blip r:embed="rId2"/>
          <a:stretch/>
        </p:blipFill>
        <p:spPr>
          <a:xfrm>
            <a:off x="7553160" y="549360"/>
            <a:ext cx="1590840" cy="1574640"/>
          </a:xfrm>
          <a:prstGeom prst="rect">
            <a:avLst/>
          </a:prstGeom>
          <a:ln w="0">
            <a:noFill/>
          </a:ln>
        </p:spPr>
      </p:pic>
      <p:pic>
        <p:nvPicPr>
          <p:cNvPr id="42" name="神秘花园.wma" descr=""/>
          <p:cNvPicPr/>
          <p:nvPr/>
        </p:nvPicPr>
        <p:blipFill>
          <a:blip r:embed="rId3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" descr=""/>
          <p:cNvPicPr/>
          <p:nvPr/>
        </p:nvPicPr>
        <p:blipFill>
          <a:blip r:embed="rId4"/>
          <a:stretch/>
        </p:blipFill>
        <p:spPr>
          <a:xfrm>
            <a:off x="1006560" y="765000"/>
            <a:ext cx="8137440" cy="2646360"/>
          </a:xfrm>
          <a:prstGeom prst="rect">
            <a:avLst/>
          </a:prstGeom>
          <a:ln w="0">
            <a:noFill/>
          </a:ln>
        </p:spPr>
      </p:pic>
      <p:sp>
        <p:nvSpPr>
          <p:cNvPr id="44" name="矩形 8"/>
          <p:cNvSpPr/>
          <p:nvPr/>
        </p:nvSpPr>
        <p:spPr>
          <a:xfrm>
            <a:off x="2365560" y="615312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6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26"/>
          <p:cNvSpPr/>
          <p:nvPr/>
        </p:nvSpPr>
        <p:spPr>
          <a:xfrm>
            <a:off x="1484280" y="1295280"/>
            <a:ext cx="6432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cc"/>
                </a:solidFill>
                <a:latin typeface="Times New Roman"/>
                <a:ea typeface="华文楷体"/>
              </a:rPr>
              <a:t>?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华文楷体"/>
              </a:rPr>
              <a:t>孩子变成金色花为什么向妈妈保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27"/>
          <p:cNvSpPr/>
          <p:nvPr/>
        </p:nvSpPr>
        <p:spPr>
          <a:xfrm>
            <a:off x="1295280" y="3886200"/>
            <a:ext cx="6516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华文楷体"/>
              </a:rPr>
              <a:t>  </a:t>
            </a:r>
            <a:r>
              <a:rPr b="1" lang="en-US" sz="7200" spc="-1" strike="noStrike">
                <a:solidFill>
                  <a:srgbClr val="33cccc"/>
                </a:solidFill>
                <a:latin typeface="Times New Roman"/>
                <a:ea typeface="华文楷体"/>
              </a:rPr>
              <a:t>?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华文楷体"/>
              </a:rPr>
              <a:t>妈妈见到孩子，为什么说“你这坏孩子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028"/>
          <p:cNvSpPr txBox="1"/>
          <p:nvPr/>
        </p:nvSpPr>
        <p:spPr>
          <a:xfrm>
            <a:off x="2514600" y="533520"/>
            <a:ext cx="5029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楷体"/>
              </a:rPr>
              <a:t>想一想，说一说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5" name="WordArt 1029"/>
          <p:cNvSpPr txBox="1"/>
          <p:nvPr/>
        </p:nvSpPr>
        <p:spPr>
          <a:xfrm>
            <a:off x="990720" y="990720"/>
            <a:ext cx="9903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???</a:t>
            </a:r>
            <a:endParaRPr b="0" lang="en-US" sz="2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1030"/>
          <p:cNvSpPr/>
          <p:nvPr/>
        </p:nvSpPr>
        <p:spPr>
          <a:xfrm>
            <a:off x="1828800" y="5410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妈妈不见了孩子，多么着急，一旦见了，又惊又喜，自然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嗔怪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32"/>
          <p:cNvSpPr/>
          <p:nvPr/>
        </p:nvSpPr>
        <p:spPr>
          <a:xfrm>
            <a:off x="1979640" y="256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孩子懂得，母爱的奉献是无私的，对母爱的回报也应该是无私的，他不图妈妈夸奖，但求妈妈生活得更加温馨。所以他只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撒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就是瞒着妈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27"/>
          <p:cNvSpPr/>
          <p:nvPr/>
        </p:nvSpPr>
        <p:spPr>
          <a:xfrm>
            <a:off x="457200" y="685800"/>
            <a:ext cx="4267080" cy="1143000"/>
          </a:xfrm>
          <a:prstGeom prst="wedgeEllipseCallout">
            <a:avLst>
              <a:gd name="adj1" fmla="val 30689"/>
              <a:gd name="adj2" fmla="val 99305"/>
            </a:avLst>
          </a:prstGeom>
          <a:solidFill>
            <a:srgbClr val="ffffff">
              <a:alpha val="50000"/>
            </a:srgbClr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朗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8"/>
          <p:cNvSpPr/>
          <p:nvPr/>
        </p:nvSpPr>
        <p:spPr>
          <a:xfrm>
            <a:off x="3909960" y="3048120"/>
            <a:ext cx="1355760" cy="2288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情：依恋、深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气：撒娇、欣喜、担忧、生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速：快、稍快、慢、稍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重：重音、轻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1371600" y="10666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35280" y="2060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妈妈的生日是哪一天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35280" y="3213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给妈妈送过礼物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908000" y="450864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妈妈最大的心愿是什么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蝴蝶1"/>
          <p:cNvPicPr/>
          <p:nvPr/>
        </p:nvPicPr>
        <p:blipFill>
          <a:blip r:embed="rId2"/>
          <a:stretch/>
        </p:blipFill>
        <p:spPr>
          <a:xfrm rot="7860600">
            <a:off x="290160" y="2761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c_gutt2"/>
          <p:cNvPicPr/>
          <p:nvPr/>
        </p:nvPicPr>
        <p:blipFill>
          <a:blip r:embed="rId2"/>
          <a:stretch/>
        </p:blipFill>
        <p:spPr>
          <a:xfrm>
            <a:off x="763560" y="3429000"/>
            <a:ext cx="2368440" cy="25938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2362320" y="281952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"</a:t>
            </a: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假如我变成了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......"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449360" y="6858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  <a:ea typeface="隶书"/>
              </a:rPr>
              <a:t>体验延伸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37160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母爱就在我们身边，她像一股涓涓的溪流时时刻刻地滋润着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86840" y="2514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宋体"/>
              </a:rPr>
              <a:t>请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124080" y="3809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宋体"/>
              </a:rPr>
              <a:t>来说一句话，表达你对妈妈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5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images"/>
          <p:cNvPicPr/>
          <p:nvPr/>
        </p:nvPicPr>
        <p:blipFill>
          <a:blip r:embed="rId1"/>
          <a:stretch/>
        </p:blipFill>
        <p:spPr>
          <a:xfrm>
            <a:off x="0" y="-24300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>
            <a:hlinkClick r:id="rId2"/>
          </p:cNvPr>
          <p:cNvSpPr/>
          <p:nvPr/>
        </p:nvSpPr>
        <p:spPr>
          <a:xfrm>
            <a:off x="4319640" y="0"/>
            <a:ext cx="4824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宋体"/>
              </a:rPr>
              <a:t>课后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479840" y="2535120"/>
            <a:ext cx="261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114800" y="2514600"/>
            <a:ext cx="4572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诵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金色花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把它作为礼物送给你的妈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课外阅读泰戈尔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新月集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DEA-D1B7-4D96-8930-3006472EC4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5292720" y="12682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xubh-zp12"/>
          <p:cNvPicPr/>
          <p:nvPr/>
        </p:nvPicPr>
        <p:blipFill>
          <a:blip r:embed="rId16"/>
          <a:stretch/>
        </p:blipFill>
        <p:spPr>
          <a:xfrm>
            <a:off x="468000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0"/>
            <a:ext cx="457200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泰戈尔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86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～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94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罗宾德拉纳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·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泰戈尔是印度近代文学史上一位具有里程碑意义的作家。他多才多艺，遍观百家，是位杰出的诗人、小说家、戏剧家。他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9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年获诺贝尔文学奖，成为获得此项荣誉的第一位东方作家，印度人虔敬地把他奉作“诗祖”。他的诗，风格秀丽、感情醇厚、意象生动、韵律优美、文字隽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代表作：诗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新月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园丁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飞鸟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长篇小说有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沙子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沉船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课文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561960" y="5937120"/>
            <a:ext cx="78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765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58920" y="1716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读</a:t>
            </a:r>
            <a:r>
              <a:rPr b="1" lang="zh-CN" sz="2800" spc="-1" strike="noStrike">
                <a:solidFill>
                  <a:srgbClr val="d60093"/>
                </a:solidFill>
                <a:latin typeface="华文中宋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字音      读</a:t>
            </a:r>
            <a:r>
              <a:rPr b="1" lang="zh-CN" sz="2800" spc="-1" strike="noStrike">
                <a:solidFill>
                  <a:srgbClr val="d60093"/>
                </a:solidFill>
                <a:latin typeface="华文中宋"/>
              </a:rPr>
              <a:t>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节奏         读</a:t>
            </a:r>
            <a:r>
              <a:rPr b="1" lang="zh-CN" sz="2800" spc="-1" strike="noStrike">
                <a:solidFill>
                  <a:srgbClr val="d60093"/>
                </a:solidFill>
                <a:latin typeface="华文中宋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258920" y="249228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...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嘻嘻地在空中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摇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又在新叶上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跳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妈妈，你会认识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258920" y="3716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要是叫道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，你在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哪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呀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暗暗地在那里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匿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却一声儿不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116000" y="4869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到哪里去了，你这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116000" y="5661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告诉你，妈妈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蝴蝶2"/>
          <p:cNvPicPr/>
          <p:nvPr/>
        </p:nvPicPr>
        <p:blipFill>
          <a:blip r:embed="rId2"/>
          <a:stretch/>
        </p:blipFill>
        <p:spPr>
          <a:xfrm rot="14098800">
            <a:off x="1547280" y="90360"/>
            <a:ext cx="1177920" cy="1177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76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6"/>
          <p:cNvSpPr/>
          <p:nvPr/>
        </p:nvSpPr>
        <p:spPr>
          <a:xfrm>
            <a:off x="755640" y="549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悟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27"/>
          <p:cNvGrpSpPr/>
          <p:nvPr/>
        </p:nvGrpSpPr>
        <p:grpSpPr>
          <a:xfrm>
            <a:off x="1403280" y="2206800"/>
            <a:ext cx="5905440" cy="2678040"/>
            <a:chOff x="1403280" y="2206800"/>
            <a:chExt cx="5905440" cy="2678040"/>
          </a:xfrm>
        </p:grpSpPr>
        <p:sp>
          <p:nvSpPr>
            <p:cNvPr id="61" name="Text Box 1028"/>
            <p:cNvSpPr/>
            <p:nvPr/>
          </p:nvSpPr>
          <p:spPr>
            <a:xfrm>
              <a:off x="1403280" y="2206800"/>
              <a:ext cx="511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029"/>
            <p:cNvSpPr/>
            <p:nvPr/>
          </p:nvSpPr>
          <p:spPr>
            <a:xfrm>
              <a:off x="1403280" y="3068640"/>
              <a:ext cx="532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30"/>
            <p:cNvSpPr/>
            <p:nvPr/>
          </p:nvSpPr>
          <p:spPr>
            <a:xfrm>
              <a:off x="1403280" y="4365720"/>
              <a:ext cx="5905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031" descr="蝴蝶"/>
          <p:cNvPicPr/>
          <p:nvPr/>
        </p:nvPicPr>
        <p:blipFill>
          <a:blip r:embed="rId2"/>
          <a:stretch/>
        </p:blipFill>
        <p:spPr>
          <a:xfrm rot="14264400">
            <a:off x="1908000" y="2664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33"/>
          <p:cNvSpPr/>
          <p:nvPr/>
        </p:nvSpPr>
        <p:spPr>
          <a:xfrm>
            <a:off x="685800" y="990720"/>
            <a:ext cx="7489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36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我听到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      </a:t>
            </a:r>
            <a:r>
              <a:rPr b="1" lang="zh-CN" sz="3200" spc="-1" strike="noStrike" u="sng">
                <a:solidFill>
                  <a:srgbClr val="360036"/>
                </a:solidFill>
                <a:uFillTx/>
                <a:latin typeface="幼圆"/>
                <a:ea typeface="幼圆"/>
              </a:rPr>
              <a:t>                     </a:t>
            </a: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的孩子。</a:t>
            </a:r>
            <a:r>
              <a:rPr b="1" lang="zh-CN" sz="2800" spc="-1" strike="noStrike" u="sng">
                <a:solidFill>
                  <a:srgbClr val="360036"/>
                </a:solidFill>
                <a:uFillTx/>
                <a:latin typeface="幼圆"/>
                <a:ea typeface="幼圆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34"/>
          <p:cNvSpPr/>
          <p:nvPr/>
        </p:nvSpPr>
        <p:spPr>
          <a:xfrm>
            <a:off x="1981080" y="1981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活泼可爱、热爱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35"/>
          <p:cNvSpPr/>
          <p:nvPr/>
        </p:nvSpPr>
        <p:spPr>
          <a:xfrm>
            <a:off x="2002680" y="2637000"/>
            <a:ext cx="584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36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我听到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 u="sng">
                <a:solidFill>
                  <a:srgbClr val="360036"/>
                </a:solidFill>
                <a:uFillTx/>
                <a:latin typeface="幼圆"/>
                <a:ea typeface="幼圆"/>
              </a:rPr>
              <a:t>                     </a:t>
            </a: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的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36"/>
          <p:cNvSpPr/>
          <p:nvPr/>
        </p:nvSpPr>
        <p:spPr>
          <a:xfrm>
            <a:off x="1981080" y="3505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慈爱善良、喜爱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karts082"/>
          <p:cNvPicPr/>
          <p:nvPr/>
        </p:nvPicPr>
        <p:blipFill>
          <a:blip r:embed="rId1"/>
          <a:stretch/>
        </p:blipFill>
        <p:spPr>
          <a:xfrm>
            <a:off x="-1189080" y="0"/>
            <a:ext cx="11377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979640" y="1628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36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、请问，诗中孩子是</a:t>
            </a:r>
            <a:r>
              <a:rPr b="1" lang="zh-CN" sz="4000" spc="-1" strike="noStrike">
                <a:solidFill>
                  <a:srgbClr val="d60093"/>
                </a:solidFill>
                <a:latin typeface="幼圆"/>
                <a:ea typeface="幼圆"/>
              </a:rPr>
              <a:t>用什么方式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来表达自己对母亲的</a:t>
            </a:r>
            <a:r>
              <a:rPr b="1" lang="zh-CN" sz="4000" spc="-1" strike="noStrike">
                <a:solidFill>
                  <a:srgbClr val="d60093"/>
                </a:solidFill>
                <a:latin typeface="幼圆"/>
                <a:ea typeface="幼圆"/>
              </a:rPr>
              <a:t>爱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138240" y="122400"/>
            <a:ext cx="2057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合作探究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981080" y="350532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36"/>
                </a:solidFill>
                <a:latin typeface="幼圆"/>
                <a:ea typeface="幼圆"/>
              </a:rPr>
              <a:t>2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、散文诗中诗人是</a:t>
            </a:r>
            <a:r>
              <a:rPr b="1" lang="zh-CN" sz="4000" spc="-1" strike="noStrike">
                <a:solidFill>
                  <a:srgbClr val="d60093"/>
                </a:solidFill>
                <a:latin typeface="幼圆"/>
                <a:ea typeface="幼圆"/>
              </a:rPr>
              <a:t>怎样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借金色花来表现</a:t>
            </a:r>
            <a:r>
              <a:rPr b="1" lang="zh-CN" sz="4000" spc="-1" strike="noStrike">
                <a:solidFill>
                  <a:srgbClr val="d60093"/>
                </a:solidFill>
                <a:latin typeface="幼圆"/>
                <a:ea typeface="幼圆"/>
              </a:rPr>
              <a:t>母子情深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8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karts015"/>
          <p:cNvPicPr/>
          <p:nvPr/>
        </p:nvPicPr>
        <p:blipFill>
          <a:blip r:embed="rId1"/>
          <a:stretch/>
        </p:blipFill>
        <p:spPr>
          <a:xfrm>
            <a:off x="0" y="-316080"/>
            <a:ext cx="9396360" cy="763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793240" y="97776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、“</a:t>
            </a:r>
            <a:r>
              <a:rPr b="1" lang="zh-CN" sz="3200" spc="-1" strike="noStrike">
                <a:solidFill>
                  <a:srgbClr val="360036"/>
                </a:solidFill>
                <a:latin typeface="Times New Roman"/>
              </a:rPr>
              <a:t>我”与妈妈进行了哪三次嬉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22560" y="162576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36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360036"/>
                </a:solidFill>
                <a:latin typeface="幼圆"/>
                <a:ea typeface="幼圆"/>
              </a:rPr>
              <a:t>妈妈          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334960" y="23446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做祷告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041560" y="328140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读书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031120" y="4211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拿灯去牛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722400" y="2344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30640" y="2338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散发香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563640" y="3281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572000" y="328140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将影子投在书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793680" y="42181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426280" y="40766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变回孩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0036"/>
                </a:solidFill>
                <a:latin typeface="Times New Roman"/>
                <a:ea typeface="宋体"/>
              </a:rPr>
              <a:t>求妈妈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karts082"/>
          <p:cNvPicPr/>
          <p:nvPr/>
        </p:nvPicPr>
        <p:blipFill>
          <a:blip r:embed="rId1"/>
          <a:stretch/>
        </p:blipFill>
        <p:spPr>
          <a:xfrm>
            <a:off x="-1189080" y="0"/>
            <a:ext cx="11377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979640" y="162864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36"/>
                </a:solidFill>
                <a:latin typeface="幼圆"/>
                <a:ea typeface="幼圆"/>
              </a:rPr>
              <a:t>4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幼圆"/>
              </a:rPr>
              <a:t>、孩子为什么想变成一朵金色花？诗人又为什么把孩子想像成一朵金色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38240" y="122400"/>
            <a:ext cx="2057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合作探究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karts082"/>
          <p:cNvPicPr/>
          <p:nvPr/>
        </p:nvPicPr>
        <p:blipFill>
          <a:blip r:embed="rId1"/>
          <a:stretch/>
        </p:blipFill>
        <p:spPr>
          <a:xfrm>
            <a:off x="-1189080" y="0"/>
            <a:ext cx="11377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138240" y="122400"/>
            <a:ext cx="2057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合作探究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90560" y="1628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36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360036"/>
                </a:solidFill>
                <a:latin typeface="幼圆"/>
                <a:ea typeface="华文行楷"/>
              </a:rPr>
              <a:t>因为金色花是印度圣树上的花，圣洁而美丽，变成金色花，就是意味着自己给予母亲的爱是圣洁而美丽的，正可以表达自己回报母爱的心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1:57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4:37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