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A608-9EC3-473B-A54C-6D9F7FFAB950}" type="datetime">
              <a:rPr b="0" lang="zh-CN" sz="12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A0A7-BA6A-4FA9-AF46-34053992848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页脚占位符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3FA6-382D-4520-B532-42A12D717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B03C-5035-41C9-865D-C0778076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A7D36-67A8-4B21-B750-E662BD10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748F1-A911-46E4-AC5C-65F28BE3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C356A-FC55-417F-8169-7DEA03D4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14E2B-F293-4162-9360-9D3A8517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D99C9-8940-4A90-A599-154C0FD2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711E0-1D43-4F68-AFDE-250AA5EE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1EF0F-2687-46F9-AC56-4101674F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369C5-8578-48BC-A6D6-C3BD97689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7A036-4304-4BEE-AEFC-F6A91E407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462C-24E0-4D6F-8388-FC5808624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8406-17D1-49D8-9B3B-40DCEA08F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DF43-8FE3-4D74-A0C2-2125D7651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DE9B-0C0F-440C-BD47-C991E5E3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F2EB-FE7B-4AC0-ACBE-E2F1792C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A4C8-7C45-4140-B632-C5924C81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30FF-6674-4F27-AF87-4A37A61B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D616-5895-4416-844D-52BBAAA9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25EC-C9BC-4FCD-9D2E-1A2C8CB9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C4C8-16C4-4FFF-A1E7-1F4A373B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C84C-86EF-4679-B338-17B79699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17F9-ED7C-4AFA-AF4D-ED58E551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1510-E42A-48B5-BA82-ED1BD4B2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DB55-4F79-4B06-A233-A23AD2BEB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C41E-2206-462C-B2F4-50CCFCEF3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B1550-A95A-426D-BB45-77463D89A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FB6FC-B5D6-4291-9BEC-3AB297CD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FEBAC-9AAF-4E4D-B582-277D2491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973ED-C8C5-4DB7-8507-414AC223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50045-74B5-4A1C-AB53-3BF6CD00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071E-07E8-4618-9E12-A8C8143C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5908C-9D5B-4EC8-B82D-BC052007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EAA12-8118-4277-93FC-BF690C3D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F7836-E303-49CF-8114-0FDBB9FB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499C0-9C11-41CA-A662-2762725D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5A5F5-8E0A-4A9C-8371-8397E3A1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B1892-8249-4B76-86F2-26212CCFD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05031-782E-4622-BA1B-D225F20F9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DD532-DBC4-4254-A754-15E3C6786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EFF73-DF6E-4652-99B7-5CCFEB4D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76F5F-1993-46F9-BB3A-6AE3119A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CF13-AA81-42A0-965E-092A929E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EB67F-772B-4DBE-AE95-F12AD31F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166F4-1FA8-4B82-A94A-85D8E61B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35291-BBD2-4545-9EF0-4919712C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A48EE-5315-4D8F-BECB-A1B41B4F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C4EC2-333E-432E-99DF-B9E416B3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1747F-46E0-4F25-A21A-826FC484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DB1BE-B0B0-4D94-933E-AA7C8132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2E2EA-B3AA-4BEC-BF11-768D32843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04FCC-B24D-4B3B-A1AE-E2FA787E0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737F0-2903-4C7B-8C36-6BDF25D2F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E530-A71C-4597-B10D-52A9F3F9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0AEFC-9826-44B7-AED6-38F3B68B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C71F8-3892-4301-BA37-09A1AE02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9EA53-46FC-49B2-AE41-824E8BD2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9A895-1438-40F4-9F38-C222B4FA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3FFC2-0F4A-45FD-903B-1E0270C4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C53E3-A12C-4885-8B37-55B7A63F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2A8AD-E247-4F38-BF4A-F744CAB8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171F9-6275-4835-A118-222C2F17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D764B-A4AA-4998-B647-0786140B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F3C2E-99AE-44D2-B785-C15AA54EB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000B-622C-4CFB-B6CF-48CED058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5185C-86F3-4EFA-9447-D937B661B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A31CC-736A-4A36-8ED6-B5A1A2B99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10633-21BE-4F61-99F1-EDCB06EB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2D083-1160-40EC-840D-E87F8875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9E1AE-B347-4442-86F3-395A280A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DF74C-C87D-463C-AEE6-F7759177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3EB52-EAE8-4AF8-8E57-2ACC6E2E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AEB0A-8551-4DF8-8F8F-57E58215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E48C5-EDC7-44C5-B947-C6A76EF2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7E5A5-DA4F-455B-A048-2F44F612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05C1-5722-4273-9E65-C4470CE1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01248-BB66-4C98-94CE-DEF55395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3893E-A3E3-460A-B340-078A77A76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81A8D-0D22-48C1-B858-78755F955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7DB89-5600-4D80-B29D-B1C2C3A3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EA20E-488B-4D84-91D6-809B2C63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AC5B5-577F-49C6-ABBE-CCD2FD42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7241C-2B66-44BF-B35E-E8C316F7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337B0-3C1F-40AF-A632-FAB1571C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18826-BC8D-4017-8BE5-10F7B47A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3335A-551F-47CF-A23D-F05BFAF4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3BF3-A140-49C7-948B-E5702421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0126D-090F-4D49-B166-A1CDFD39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0BA8D-256A-4E52-980C-46FBE22E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62916-2474-4CD8-ADE7-B52DE0AE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9452B-3628-4BA9-BC7D-586119122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A2124-84C6-4CEC-B315-522837159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20CEF-047B-4F42-8BB8-819EB051F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8959E-4DCC-41F9-A8D4-75243F73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4EAFF-24FA-4404-9E7C-C6AF3604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6285B-6D1A-4619-A63B-DC2D6FD8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C0F12-CB68-4FAB-B50F-38E7216D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ED6A-5F73-44D5-A597-10B5DAB3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6C3BB-C720-41A9-8A0C-9076D04A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644E8-22B1-4705-8F3B-E67F3246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E4D8E-8A9A-42E4-AEF4-19C457FE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2ECFD-04A7-4C00-8D79-BB8F864B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872FC-649A-4461-BDF7-11B56D57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062AC-9CDC-4784-AA95-0E30B5C00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A4C37-F3A8-4471-AA38-30A838BD0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E7B66-06BC-4043-ADE2-09ECCCC8C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0FCF1-A3B5-4445-B23A-E454B900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CD554-4AE8-4C54-8788-76FA14E1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B950-649B-4161-858A-74F1DE753E5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6089-C298-4F93-9658-F0A82289805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E:\制作工作\2014\7月\7.10 小数专题模板\模板6-2.png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8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6416-D503-4E13-87F8-D91E3FA72F4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D5D3-6A71-4C2B-BA8E-18C0114BFCB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1" descr="E:\制作工作\2014\7月\7.10 小数专题模板\模板6-2.png"/>
          <p:cNvPicPr/>
          <p:nvPr/>
        </p:nvPicPr>
        <p:blipFill>
          <a:blip r:embed="rId5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E:\制作工作\2014\7月\7.10 小数专题模板\模板6-1.png"/>
          <p:cNvPicPr/>
          <p:nvPr/>
        </p:nvPicPr>
        <p:blipFill>
          <a:blip r:embed="rId6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3C79-1C83-4EEE-B1ED-75D703B2C17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16A3-9ACC-4248-B436-3D9678BBB37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8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19FC-2D51-4A15-A904-D752BA3A7C8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78F8-4B1C-477E-AE09-99FBF538DA1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1" descr="E:\制作工作\2014\7月\7.10 小数专题模板\模板6-2.png"/>
          <p:cNvPicPr/>
          <p:nvPr/>
        </p:nvPicPr>
        <p:blipFill>
          <a:blip r:embed="rId5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E:\制作工作\2014\7月\7.10 小数专题模板\模板6-1.png"/>
          <p:cNvPicPr/>
          <p:nvPr/>
        </p:nvPicPr>
        <p:blipFill>
          <a:blip r:embed="rId6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CB3E-B0B1-4243-8868-8B4446971ED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3A0C-E330-4E45-BC41-2FFA2EBDC53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8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B1F9-773E-42D6-BD68-709476795F3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D146-FF9E-4983-94F9-E7D46D34D73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11" descr="E:\制作工作\2014\7月\7.10 小数专题模板\模板6-2.png"/>
          <p:cNvPicPr/>
          <p:nvPr/>
        </p:nvPicPr>
        <p:blipFill>
          <a:blip r:embed="rId5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E:\制作工作\2014\7月\7.10 小数专题模板\模板6-1.png"/>
          <p:cNvPicPr/>
          <p:nvPr/>
        </p:nvPicPr>
        <p:blipFill>
          <a:blip r:embed="rId6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B5C2-150F-4367-BE4D-E4948394FBF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707B-5843-4193-A11E-4CFE26521B2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7" name="图片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8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EBAF-3189-4BFB-9216-AA9295B6581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2609-17D8-4BB0-9998-AB369D8873A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035A-647F-4457-8987-454F74F49E2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0AD9-5BCC-4CC4-BA73-F4E2D2FF02E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0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492000" y="1773360"/>
            <a:ext cx="52563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Calibri"/>
              </a:rPr>
              <a:t>税率与利率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文本框 1"/>
          <p:cNvSpPr/>
          <p:nvPr/>
        </p:nvSpPr>
        <p:spPr>
          <a:xfrm>
            <a:off x="1335240" y="40464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二单元：百分数（二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10"/>
          <p:cNvSpPr/>
          <p:nvPr/>
        </p:nvSpPr>
        <p:spPr>
          <a:xfrm>
            <a:off x="2103840" y="616572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3"/>
          <p:cNvSpPr/>
          <p:nvPr/>
        </p:nvSpPr>
        <p:spPr>
          <a:xfrm>
            <a:off x="1285920" y="357120"/>
            <a:ext cx="595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结合情境，学习新知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5" descr=""/>
          <p:cNvPicPr/>
          <p:nvPr/>
        </p:nvPicPr>
        <p:blipFill>
          <a:blip r:embed="rId1"/>
          <a:stretch/>
        </p:blipFill>
        <p:spPr>
          <a:xfrm>
            <a:off x="108000" y="1268280"/>
            <a:ext cx="1609560" cy="648000"/>
          </a:xfrm>
          <a:prstGeom prst="rect">
            <a:avLst/>
          </a:prstGeom>
          <a:ln w="0">
            <a:noFill/>
          </a:ln>
        </p:spPr>
      </p:pic>
      <p:sp>
        <p:nvSpPr>
          <p:cNvPr id="478" name="Rectangle 7"/>
          <p:cNvSpPr/>
          <p:nvPr/>
        </p:nvSpPr>
        <p:spPr>
          <a:xfrm>
            <a:off x="324000" y="21916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01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月，张爷爷把儿子寄来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元钱存入银行，存期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，年利率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75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到期支取时，张爷爷可得到多少利息？到期时张爷爷一共能取回多少钱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9"/>
          <p:cNvSpPr/>
          <p:nvPr/>
        </p:nvSpPr>
        <p:spPr>
          <a:xfrm>
            <a:off x="592920" y="4222080"/>
            <a:ext cx="39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8000×4.75%×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9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元）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0"/>
          <p:cNvSpPr/>
          <p:nvPr/>
        </p:nvSpPr>
        <p:spPr>
          <a:xfrm>
            <a:off x="354600" y="4765320"/>
            <a:ext cx="33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8000+1900=99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元）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2"/>
          <p:cNvSpPr/>
          <p:nvPr/>
        </p:nvSpPr>
        <p:spPr>
          <a:xfrm>
            <a:off x="4896720" y="4223520"/>
            <a:ext cx="334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8000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.75%×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9900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3"/>
          <p:cNvSpPr/>
          <p:nvPr/>
        </p:nvSpPr>
        <p:spPr>
          <a:xfrm>
            <a:off x="830520" y="368568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方法一：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4"/>
          <p:cNvSpPr/>
          <p:nvPr/>
        </p:nvSpPr>
        <p:spPr>
          <a:xfrm>
            <a:off x="5159520" y="368892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方法二：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5"/>
          <p:cNvSpPr/>
          <p:nvPr/>
        </p:nvSpPr>
        <p:spPr>
          <a:xfrm>
            <a:off x="2975400" y="5413680"/>
            <a:ext cx="17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答：张爷爷一共能取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99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钱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3"/>
          <p:cNvSpPr/>
          <p:nvPr/>
        </p:nvSpPr>
        <p:spPr>
          <a:xfrm>
            <a:off x="395280" y="1341360"/>
            <a:ext cx="8137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李老师为某杂志审稿，得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元审稿费。为此她需要按照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税率缴纳个人所得税，她应缴纳个人所得税多少元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小明的爸爸得到一笔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0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元的劳务费用。其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元是免税的，其余部分要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税率缴税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笔劳务费用一共要缴税多少元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3"/>
          <p:cNvSpPr/>
          <p:nvPr/>
        </p:nvSpPr>
        <p:spPr>
          <a:xfrm>
            <a:off x="1285920" y="357120"/>
            <a:ext cx="537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三、巩固练习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1403280" y="270828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00×3%=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元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1403280" y="328464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答：她应缴纳个人所得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1187280" y="537372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0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8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×20%=4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元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9"/>
          <p:cNvSpPr/>
          <p:nvPr/>
        </p:nvSpPr>
        <p:spPr>
          <a:xfrm>
            <a:off x="1187280" y="595008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答：这笔劳务费用一共要缴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4"/>
          <p:cNvSpPr/>
          <p:nvPr/>
        </p:nvSpPr>
        <p:spPr>
          <a:xfrm>
            <a:off x="611280" y="143568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．下面是张叔叔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01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日到银行存款时填写的存款凭证。到期时张叔叔可以取回多少钱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5" descr=""/>
          <p:cNvPicPr/>
          <p:nvPr/>
        </p:nvPicPr>
        <p:blipFill>
          <a:blip r:embed="rId1"/>
          <a:srcRect l="0" t="18083" r="0" b="0"/>
          <a:stretch/>
        </p:blipFill>
        <p:spPr>
          <a:xfrm>
            <a:off x="1187280" y="2060640"/>
            <a:ext cx="6336000" cy="1955880"/>
          </a:xfrm>
          <a:prstGeom prst="rect">
            <a:avLst/>
          </a:prstGeom>
          <a:ln w="0">
            <a:noFill/>
          </a:ln>
        </p:spPr>
      </p:pic>
      <p:sp>
        <p:nvSpPr>
          <p:cNvPr id="495" name="TextBox 3"/>
          <p:cNvSpPr/>
          <p:nvPr/>
        </p:nvSpPr>
        <p:spPr>
          <a:xfrm>
            <a:off x="1285920" y="357120"/>
            <a:ext cx="537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三、巩固练习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7" descr=""/>
          <p:cNvPicPr/>
          <p:nvPr/>
        </p:nvPicPr>
        <p:blipFill>
          <a:blip r:embed="rId2"/>
          <a:stretch/>
        </p:blipFill>
        <p:spPr>
          <a:xfrm>
            <a:off x="1258920" y="3789360"/>
            <a:ext cx="6264360" cy="133200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8"/>
          <p:cNvSpPr/>
          <p:nvPr/>
        </p:nvSpPr>
        <p:spPr>
          <a:xfrm>
            <a:off x="1258920" y="515772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000×2.8%×0.5=4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元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9"/>
          <p:cNvSpPr/>
          <p:nvPr/>
        </p:nvSpPr>
        <p:spPr>
          <a:xfrm>
            <a:off x="1258920" y="573264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答：到期时张叔叔可以取回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04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元钱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0"/>
          <p:cNvSpPr/>
          <p:nvPr/>
        </p:nvSpPr>
        <p:spPr>
          <a:xfrm>
            <a:off x="4643280" y="515772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000+42=304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元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11" descr=""/>
          <p:cNvPicPr/>
          <p:nvPr/>
        </p:nvPicPr>
        <p:blipFill>
          <a:blip r:embed="rId3"/>
          <a:stretch/>
        </p:blipFill>
        <p:spPr>
          <a:xfrm>
            <a:off x="0" y="2133720"/>
            <a:ext cx="1511280" cy="1500120"/>
          </a:xfrm>
          <a:prstGeom prst="rect">
            <a:avLst/>
          </a:prstGeom>
          <a:ln w="0">
            <a:noFill/>
          </a:ln>
        </p:spPr>
      </p:pic>
      <p:sp>
        <p:nvSpPr>
          <p:cNvPr id="501" name="AutoShape 12"/>
          <p:cNvSpPr/>
          <p:nvPr/>
        </p:nvSpPr>
        <p:spPr>
          <a:xfrm>
            <a:off x="1692360" y="2133720"/>
            <a:ext cx="3166920" cy="718920"/>
          </a:xfrm>
          <a:prstGeom prst="wedgeRoundRectCallout">
            <a:avLst>
              <a:gd name="adj1" fmla="val -59004"/>
              <a:gd name="adj2" fmla="val 78430"/>
              <a:gd name="adj3" fmla="val 16667"/>
            </a:avLst>
          </a:prstGeom>
          <a:solidFill>
            <a:srgbClr val="ffff99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3"/>
          <p:cNvSpPr/>
          <p:nvPr/>
        </p:nvSpPr>
        <p:spPr>
          <a:xfrm>
            <a:off x="1692360" y="215568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存期为半年，在计算时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注意什么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3"/>
          <p:cNvSpPr/>
          <p:nvPr/>
        </p:nvSpPr>
        <p:spPr>
          <a:xfrm>
            <a:off x="1285920" y="357120"/>
            <a:ext cx="631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四、课堂总结，课外拓展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1116000" y="2767320"/>
            <a:ext cx="681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问一问爸爸妈妈每月收入是否需要缴纳个人所得税？了解我国对个人所得税的税收规定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7"/>
          <p:cNvSpPr/>
          <p:nvPr/>
        </p:nvSpPr>
        <p:spPr>
          <a:xfrm>
            <a:off x="1042920" y="443772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了解家里的储蓄情况，了解我国最新的储蓄利率的信息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8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1511280" cy="1500480"/>
          </a:xfrm>
          <a:prstGeom prst="rect">
            <a:avLst/>
          </a:prstGeom>
          <a:ln w="0">
            <a:noFill/>
          </a:ln>
        </p:spPr>
      </p:pic>
      <p:sp>
        <p:nvSpPr>
          <p:cNvPr id="508" name="WordArt 9"/>
          <p:cNvSpPr txBox="1"/>
          <p:nvPr/>
        </p:nvSpPr>
        <p:spPr>
          <a:xfrm>
            <a:off x="1908000" y="1844640"/>
            <a:ext cx="2141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课后调查：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EF4D-6899-4C62-A266-893920484ED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矩形 14"/>
          <p:cNvSpPr/>
          <p:nvPr/>
        </p:nvSpPr>
        <p:spPr>
          <a:xfrm>
            <a:off x="2411280" y="242100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42"/>
          <p:cNvGrpSpPr/>
          <p:nvPr/>
        </p:nvGrpSpPr>
        <p:grpSpPr>
          <a:xfrm>
            <a:off x="1603440" y="1268280"/>
            <a:ext cx="6568920" cy="5160960"/>
            <a:chOff x="1603440" y="1268280"/>
            <a:chExt cx="6568920" cy="5160960"/>
          </a:xfrm>
        </p:grpSpPr>
        <p:pic>
          <p:nvPicPr>
            <p:cNvPr id="404" name="Picture 32" descr=""/>
            <p:cNvPicPr/>
            <p:nvPr/>
          </p:nvPicPr>
          <p:blipFill>
            <a:blip r:embed="rId1"/>
            <a:stretch/>
          </p:blipFill>
          <p:spPr>
            <a:xfrm>
              <a:off x="1603440" y="1268280"/>
              <a:ext cx="6568920" cy="51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Rectangle 41"/>
            <p:cNvSpPr/>
            <p:nvPr/>
          </p:nvSpPr>
          <p:spPr>
            <a:xfrm>
              <a:off x="5419440" y="5948280"/>
              <a:ext cx="216036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Box 3"/>
          <p:cNvSpPr/>
          <p:nvPr/>
        </p:nvSpPr>
        <p:spPr>
          <a:xfrm>
            <a:off x="1285920" y="357120"/>
            <a:ext cx="659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创设情境，引入新课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43"/>
          <p:cNvGrpSpPr/>
          <p:nvPr/>
        </p:nvGrpSpPr>
        <p:grpSpPr>
          <a:xfrm>
            <a:off x="4284720" y="5950080"/>
            <a:ext cx="2808360" cy="503280"/>
            <a:chOff x="4284720" y="5950080"/>
            <a:chExt cx="2808360" cy="503280"/>
          </a:xfrm>
        </p:grpSpPr>
        <p:sp>
          <p:nvSpPr>
            <p:cNvPr id="408" name="AutoShape 33"/>
            <p:cNvSpPr/>
            <p:nvPr/>
          </p:nvSpPr>
          <p:spPr>
            <a:xfrm>
              <a:off x="4284720" y="5950080"/>
              <a:ext cx="2808360" cy="503280"/>
            </a:xfrm>
            <a:prstGeom prst="wedgeRoundRectCallout">
              <a:avLst>
                <a:gd name="adj1" fmla="val 65231"/>
                <a:gd name="adj2" fmla="val -58453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34"/>
            <p:cNvSpPr/>
            <p:nvPr/>
          </p:nvSpPr>
          <p:spPr>
            <a:xfrm>
              <a:off x="4886280" y="598176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建设的资金从哪里来？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45"/>
          <p:cNvGrpSpPr/>
          <p:nvPr/>
        </p:nvGrpSpPr>
        <p:grpSpPr>
          <a:xfrm>
            <a:off x="0" y="1341360"/>
            <a:ext cx="1800360" cy="865440"/>
            <a:chOff x="0" y="1341360"/>
            <a:chExt cx="1800360" cy="865440"/>
          </a:xfrm>
        </p:grpSpPr>
        <p:pic>
          <p:nvPicPr>
            <p:cNvPr id="411" name="Picture 35" descr=""/>
            <p:cNvPicPr/>
            <p:nvPr/>
          </p:nvPicPr>
          <p:blipFill>
            <a:blip r:embed="rId2"/>
            <a:stretch/>
          </p:blipFill>
          <p:spPr>
            <a:xfrm>
              <a:off x="0" y="1341360"/>
              <a:ext cx="1800360" cy="8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Rectangle 44"/>
            <p:cNvSpPr/>
            <p:nvPr/>
          </p:nvSpPr>
          <p:spPr>
            <a:xfrm>
              <a:off x="395280" y="1557360"/>
              <a:ext cx="936720" cy="431640"/>
            </a:xfrm>
            <a:prstGeom prst="rect">
              <a:avLst/>
            </a:prstGeom>
            <a:solidFill>
              <a:srgbClr val="ffffef"/>
            </a:solidFill>
            <a:ln w="9360">
              <a:solidFill>
                <a:srgbClr val="ffff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36"/>
            <p:cNvSpPr/>
            <p:nvPr/>
          </p:nvSpPr>
          <p:spPr>
            <a:xfrm>
              <a:off x="179280" y="1557360"/>
              <a:ext cx="1224000" cy="398880"/>
            </a:xfrm>
            <a:prstGeom prst="rect">
              <a:avLst/>
            </a:prstGeom>
            <a:solidFill>
              <a:srgbClr val="fff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纳税所得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3"/>
          <p:cNvSpPr/>
          <p:nvPr/>
        </p:nvSpPr>
        <p:spPr>
          <a:xfrm>
            <a:off x="1285920" y="357120"/>
            <a:ext cx="595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结合情境，学习新知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8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8048880" cy="11430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9" descr=""/>
          <p:cNvPicPr/>
          <p:nvPr/>
        </p:nvPicPr>
        <p:blipFill>
          <a:blip r:embed="rId2"/>
          <a:stretch/>
        </p:blipFill>
        <p:spPr>
          <a:xfrm>
            <a:off x="539640" y="2997360"/>
            <a:ext cx="8001000" cy="92376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14"/>
          <p:cNvGrpSpPr/>
          <p:nvPr/>
        </p:nvGrpSpPr>
        <p:grpSpPr>
          <a:xfrm>
            <a:off x="179280" y="3789360"/>
            <a:ext cx="5613480" cy="1511280"/>
            <a:chOff x="179280" y="3789360"/>
            <a:chExt cx="5613480" cy="1511280"/>
          </a:xfrm>
        </p:grpSpPr>
        <p:pic>
          <p:nvPicPr>
            <p:cNvPr id="419" name="Picture 10" descr=""/>
            <p:cNvPicPr/>
            <p:nvPr/>
          </p:nvPicPr>
          <p:blipFill>
            <a:blip r:embed="rId3"/>
            <a:stretch/>
          </p:blipFill>
          <p:spPr>
            <a:xfrm>
              <a:off x="179280" y="3789360"/>
              <a:ext cx="151128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AutoShape 12"/>
            <p:cNvSpPr/>
            <p:nvPr/>
          </p:nvSpPr>
          <p:spPr>
            <a:xfrm>
              <a:off x="2411280" y="4724280"/>
              <a:ext cx="2808360" cy="576360"/>
            </a:xfrm>
            <a:prstGeom prst="wedgeRoundRectCallout">
              <a:avLst>
                <a:gd name="adj1" fmla="val -72328"/>
                <a:gd name="adj2" fmla="val -53143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13"/>
            <p:cNvSpPr/>
            <p:nvPr/>
          </p:nvSpPr>
          <p:spPr>
            <a:xfrm>
              <a:off x="2484360" y="4797360"/>
              <a:ext cx="330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你知道哪些纳税项目？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文本框 1"/>
          <p:cNvSpPr/>
          <p:nvPr/>
        </p:nvSpPr>
        <p:spPr>
          <a:xfrm>
            <a:off x="317520" y="5803920"/>
            <a:ext cx="822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尽在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5"/>
          <p:cNvSpPr/>
          <p:nvPr/>
        </p:nvSpPr>
        <p:spPr>
          <a:xfrm>
            <a:off x="611280" y="1923120"/>
            <a:ext cx="70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家饭店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月份的营业额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万元。如果按营业额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缴纳营业税，这家饭店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月份应缴纳营业税多少万元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3"/>
          <p:cNvSpPr/>
          <p:nvPr/>
        </p:nvSpPr>
        <p:spPr>
          <a:xfrm>
            <a:off x="1285920" y="357120"/>
            <a:ext cx="595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结合情境，学习新知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9"/>
          <p:cNvSpPr/>
          <p:nvPr/>
        </p:nvSpPr>
        <p:spPr>
          <a:xfrm>
            <a:off x="1042920" y="3141720"/>
            <a:ext cx="3889440" cy="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0"/>
          <p:cNvSpPr/>
          <p:nvPr/>
        </p:nvSpPr>
        <p:spPr>
          <a:xfrm>
            <a:off x="2771640" y="317556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402c"/>
                </a:solidFill>
                <a:latin typeface="楷体"/>
                <a:ea typeface="楷体"/>
              </a:rPr>
              <a:t>5%</a:t>
            </a:r>
            <a:r>
              <a:rPr b="1" lang="zh-CN" sz="2000" spc="-1" strike="noStrike">
                <a:solidFill>
                  <a:srgbClr val="fc402c"/>
                </a:solidFill>
                <a:latin typeface="楷体"/>
                <a:ea typeface="楷体"/>
              </a:rPr>
              <a:t>就是税率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3"/>
          <p:cNvSpPr/>
          <p:nvPr/>
        </p:nvSpPr>
        <p:spPr>
          <a:xfrm>
            <a:off x="1187280" y="44380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0×5%=1.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万元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4"/>
          <p:cNvSpPr/>
          <p:nvPr/>
        </p:nvSpPr>
        <p:spPr>
          <a:xfrm>
            <a:off x="1116000" y="515808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答：这家饭店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份应缴纳营业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元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16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79056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3"/>
          <p:cNvSpPr/>
          <p:nvPr/>
        </p:nvSpPr>
        <p:spPr>
          <a:xfrm>
            <a:off x="1285920" y="357120"/>
            <a:ext cx="609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结合情境，学习新知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8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1600200" cy="65736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9"/>
          <p:cNvSpPr/>
          <p:nvPr/>
        </p:nvSpPr>
        <p:spPr>
          <a:xfrm>
            <a:off x="900000" y="2211120"/>
            <a:ext cx="705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李阿姨的月工资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元，扣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5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元个税免征额后的部分需要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税率缴纳个人所得税。她应缴个人所得税多少元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0"/>
          <p:cNvSpPr/>
          <p:nvPr/>
        </p:nvSpPr>
        <p:spPr>
          <a:xfrm>
            <a:off x="5940360" y="2565360"/>
            <a:ext cx="1800360" cy="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2"/>
          <p:cNvSpPr/>
          <p:nvPr/>
        </p:nvSpPr>
        <p:spPr>
          <a:xfrm>
            <a:off x="6227640" y="256464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402c"/>
                </a:solidFill>
                <a:latin typeface="楷体"/>
                <a:ea typeface="楷体"/>
              </a:rPr>
              <a:t>5000</a:t>
            </a:r>
            <a:r>
              <a:rPr b="1" lang="zh-CN" sz="2000" spc="-1" strike="noStrike">
                <a:solidFill>
                  <a:srgbClr val="fc402c"/>
                </a:solidFill>
                <a:latin typeface="楷体"/>
                <a:ea typeface="楷体"/>
              </a:rPr>
              <a:t>－</a:t>
            </a:r>
            <a:r>
              <a:rPr b="1" lang="en-US" sz="2000" spc="-1" strike="noStrike">
                <a:solidFill>
                  <a:srgbClr val="fc402c"/>
                </a:solidFill>
                <a:latin typeface="楷体"/>
                <a:ea typeface="楷体"/>
              </a:rPr>
              <a:t>35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3"/>
          <p:cNvSpPr/>
          <p:nvPr/>
        </p:nvSpPr>
        <p:spPr>
          <a:xfrm>
            <a:off x="1116000" y="3429000"/>
            <a:ext cx="6335640" cy="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4"/>
          <p:cNvSpPr/>
          <p:nvPr/>
        </p:nvSpPr>
        <p:spPr>
          <a:xfrm>
            <a:off x="4284720" y="3427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c402c"/>
                </a:solidFill>
                <a:latin typeface="楷体"/>
                <a:ea typeface="楷体"/>
              </a:rPr>
              <a:t>（</a:t>
            </a:r>
            <a:r>
              <a:rPr b="1" lang="en-US" sz="2000" spc="-1" strike="noStrike">
                <a:solidFill>
                  <a:srgbClr val="fc402c"/>
                </a:solidFill>
                <a:latin typeface="楷体"/>
                <a:ea typeface="楷体"/>
              </a:rPr>
              <a:t>5000</a:t>
            </a:r>
            <a:r>
              <a:rPr b="1" lang="zh-CN" sz="2000" spc="-1" strike="noStrike">
                <a:solidFill>
                  <a:srgbClr val="fc402c"/>
                </a:solidFill>
                <a:latin typeface="楷体"/>
                <a:ea typeface="楷体"/>
              </a:rPr>
              <a:t>－</a:t>
            </a:r>
            <a:r>
              <a:rPr b="1" lang="en-US" sz="2000" spc="-1" strike="noStrike">
                <a:solidFill>
                  <a:srgbClr val="fc402c"/>
                </a:solidFill>
                <a:latin typeface="楷体"/>
                <a:ea typeface="楷体"/>
              </a:rPr>
              <a:t>3500</a:t>
            </a:r>
            <a:r>
              <a:rPr b="1" lang="zh-CN" sz="2000" spc="-1" strike="noStrike">
                <a:solidFill>
                  <a:srgbClr val="fc402c"/>
                </a:solidFill>
                <a:latin typeface="楷体"/>
                <a:ea typeface="楷体"/>
              </a:rPr>
              <a:t>）的</a:t>
            </a:r>
            <a:r>
              <a:rPr b="1" lang="en-US" sz="2000" spc="-1" strike="noStrike">
                <a:solidFill>
                  <a:srgbClr val="fc402c"/>
                </a:solidFill>
                <a:latin typeface="楷体"/>
                <a:ea typeface="楷体"/>
              </a:rPr>
              <a:t>3%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1692360" y="458244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50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500)×3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元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6"/>
          <p:cNvSpPr/>
          <p:nvPr/>
        </p:nvSpPr>
        <p:spPr>
          <a:xfrm>
            <a:off x="1763640" y="530172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答：她应缴个人所得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3"/>
          <p:cNvSpPr/>
          <p:nvPr/>
        </p:nvSpPr>
        <p:spPr>
          <a:xfrm>
            <a:off x="1285920" y="357120"/>
            <a:ext cx="631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结合情境，学习新知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10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1486080" cy="75240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12"/>
          <p:cNvSpPr/>
          <p:nvPr/>
        </p:nvSpPr>
        <p:spPr>
          <a:xfrm>
            <a:off x="5003640" y="3500280"/>
            <a:ext cx="194472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15"/>
          <p:cNvGrpSpPr/>
          <p:nvPr/>
        </p:nvGrpSpPr>
        <p:grpSpPr>
          <a:xfrm>
            <a:off x="468360" y="3141720"/>
            <a:ext cx="7972200" cy="1028520"/>
            <a:chOff x="468360" y="3141720"/>
            <a:chExt cx="7972200" cy="1028520"/>
          </a:xfrm>
        </p:grpSpPr>
        <p:pic>
          <p:nvPicPr>
            <p:cNvPr id="446" name="Picture 13" descr=""/>
            <p:cNvPicPr/>
            <p:nvPr/>
          </p:nvPicPr>
          <p:blipFill>
            <a:blip r:embed="rId2"/>
            <a:stretch/>
          </p:blipFill>
          <p:spPr>
            <a:xfrm>
              <a:off x="468360" y="3141720"/>
              <a:ext cx="7972200" cy="10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Rectangle 14"/>
            <p:cNvSpPr/>
            <p:nvPr/>
          </p:nvSpPr>
          <p:spPr>
            <a:xfrm>
              <a:off x="4932000" y="3789000"/>
              <a:ext cx="194436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3"/>
          <p:cNvSpPr/>
          <p:nvPr/>
        </p:nvSpPr>
        <p:spPr>
          <a:xfrm>
            <a:off x="1285920" y="357120"/>
            <a:ext cx="595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结合情境，学习新知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3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561080" cy="21783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1" descr=""/>
          <p:cNvPicPr/>
          <p:nvPr/>
        </p:nvPicPr>
        <p:blipFill>
          <a:blip r:embed="rId2"/>
          <a:stretch/>
        </p:blipFill>
        <p:spPr>
          <a:xfrm>
            <a:off x="324000" y="3429000"/>
            <a:ext cx="8010360" cy="1990800"/>
          </a:xfrm>
          <a:prstGeom prst="rect">
            <a:avLst/>
          </a:prstGeom>
          <a:ln w="0">
            <a:noFill/>
          </a:ln>
        </p:spPr>
      </p:pic>
      <p:grpSp>
        <p:nvGrpSpPr>
          <p:cNvPr id="452" name="Group 13"/>
          <p:cNvGrpSpPr/>
          <p:nvPr/>
        </p:nvGrpSpPr>
        <p:grpSpPr>
          <a:xfrm>
            <a:off x="251280" y="4797360"/>
            <a:ext cx="4461480" cy="1500120"/>
            <a:chOff x="251280" y="4797360"/>
            <a:chExt cx="4461480" cy="1500120"/>
          </a:xfrm>
        </p:grpSpPr>
        <p:sp>
          <p:nvSpPr>
            <p:cNvPr id="453" name="AutoShape 7"/>
            <p:cNvSpPr/>
            <p:nvPr/>
          </p:nvSpPr>
          <p:spPr>
            <a:xfrm flipH="1">
              <a:off x="1688760" y="4797360"/>
              <a:ext cx="3023640" cy="792000"/>
            </a:xfrm>
            <a:prstGeom prst="wedgeRoundRectCallout">
              <a:avLst>
                <a:gd name="adj1" fmla="val 49685"/>
                <a:gd name="adj2" fmla="val 59217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4" name="Picture 8" descr=""/>
            <p:cNvPicPr/>
            <p:nvPr/>
          </p:nvPicPr>
          <p:blipFill>
            <a:blip r:embed="rId3"/>
            <a:stretch/>
          </p:blipFill>
          <p:spPr>
            <a:xfrm>
              <a:off x="251280" y="4797360"/>
              <a:ext cx="151092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Rectangle 9"/>
            <p:cNvSpPr/>
            <p:nvPr/>
          </p:nvSpPr>
          <p:spPr>
            <a:xfrm flipH="1">
              <a:off x="1688760" y="5011920"/>
              <a:ext cx="302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到期后，王奶奶能拿到的钱包括哪几部分？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6" name="Picture 12" descr=""/>
          <p:cNvPicPr/>
          <p:nvPr/>
        </p:nvPicPr>
        <p:blipFill>
          <a:blip r:embed="rId4"/>
          <a:stretch/>
        </p:blipFill>
        <p:spPr>
          <a:xfrm>
            <a:off x="1476360" y="6021360"/>
            <a:ext cx="7201080" cy="45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3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561080" cy="2178360"/>
          </a:xfrm>
          <a:prstGeom prst="rect">
            <a:avLst/>
          </a:prstGeom>
          <a:ln w="0">
            <a:noFill/>
          </a:ln>
        </p:spPr>
      </p:pic>
      <p:sp>
        <p:nvSpPr>
          <p:cNvPr id="459" name="TextBox 3"/>
          <p:cNvSpPr/>
          <p:nvPr/>
        </p:nvSpPr>
        <p:spPr>
          <a:xfrm>
            <a:off x="1285920" y="357120"/>
            <a:ext cx="623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结合情境，学习新知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10" descr=""/>
          <p:cNvPicPr/>
          <p:nvPr/>
        </p:nvPicPr>
        <p:blipFill>
          <a:blip r:embed="rId2"/>
          <a:stretch/>
        </p:blipFill>
        <p:spPr>
          <a:xfrm>
            <a:off x="611280" y="3284640"/>
            <a:ext cx="8010360" cy="1990800"/>
          </a:xfrm>
          <a:prstGeom prst="rect">
            <a:avLst/>
          </a:prstGeom>
          <a:ln w="0">
            <a:noFill/>
          </a:ln>
        </p:spPr>
      </p:pic>
      <p:sp>
        <p:nvSpPr>
          <p:cNvPr id="461" name="AutoShape 6"/>
          <p:cNvSpPr/>
          <p:nvPr/>
        </p:nvSpPr>
        <p:spPr>
          <a:xfrm>
            <a:off x="1979640" y="4797360"/>
            <a:ext cx="2232000" cy="432000"/>
          </a:xfrm>
          <a:prstGeom prst="wedgeRoundRectCallout">
            <a:avLst>
              <a:gd name="adj1" fmla="val -63013"/>
              <a:gd name="adj2" fmla="val 14411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7" descr=""/>
          <p:cNvPicPr/>
          <p:nvPr/>
        </p:nvPicPr>
        <p:blipFill>
          <a:blip r:embed="rId3"/>
          <a:stretch/>
        </p:blipFill>
        <p:spPr>
          <a:xfrm>
            <a:off x="324000" y="4797360"/>
            <a:ext cx="1511280" cy="150012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8"/>
          <p:cNvSpPr/>
          <p:nvPr/>
        </p:nvSpPr>
        <p:spPr>
          <a:xfrm>
            <a:off x="2124000" y="479664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利息怎样计算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3"/>
          <p:cNvSpPr/>
          <p:nvPr/>
        </p:nvSpPr>
        <p:spPr>
          <a:xfrm>
            <a:off x="1285920" y="357120"/>
            <a:ext cx="602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二、结合情境，学习新知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8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200720" cy="1508400"/>
          </a:xfrm>
          <a:prstGeom prst="rect">
            <a:avLst/>
          </a:prstGeom>
          <a:ln w="0">
            <a:noFill/>
          </a:ln>
        </p:spPr>
      </p:pic>
      <p:grpSp>
        <p:nvGrpSpPr>
          <p:cNvPr id="467" name="Group 21"/>
          <p:cNvGrpSpPr/>
          <p:nvPr/>
        </p:nvGrpSpPr>
        <p:grpSpPr>
          <a:xfrm>
            <a:off x="4427640" y="4941720"/>
            <a:ext cx="4461480" cy="1500120"/>
            <a:chOff x="4427640" y="4941720"/>
            <a:chExt cx="4461480" cy="1500120"/>
          </a:xfrm>
        </p:grpSpPr>
        <p:sp>
          <p:nvSpPr>
            <p:cNvPr id="468" name="AutoShape 13"/>
            <p:cNvSpPr/>
            <p:nvPr/>
          </p:nvSpPr>
          <p:spPr>
            <a:xfrm>
              <a:off x="4427640" y="5086080"/>
              <a:ext cx="3023640" cy="503280"/>
            </a:xfrm>
            <a:prstGeom prst="wedgeRoundRectCallout">
              <a:avLst>
                <a:gd name="adj1" fmla="val 49685"/>
                <a:gd name="adj2" fmla="val 93217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9" name="Picture 12" descr=""/>
            <p:cNvPicPr/>
            <p:nvPr/>
          </p:nvPicPr>
          <p:blipFill>
            <a:blip r:embed="rId2"/>
            <a:stretch/>
          </p:blipFill>
          <p:spPr>
            <a:xfrm flipH="1">
              <a:off x="7378200" y="4941720"/>
              <a:ext cx="151092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Rectangle 14"/>
            <p:cNvSpPr/>
            <p:nvPr/>
          </p:nvSpPr>
          <p:spPr>
            <a:xfrm>
              <a:off x="4869000" y="5156640"/>
              <a:ext cx="209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"/>
                </a:rPr>
                <a:t>利息＝本金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"/>
                </a:rPr>
                <a:t>×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"/>
                </a:rPr>
                <a:t>利率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"/>
                </a:rPr>
                <a:t>×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"/>
                </a:rPr>
                <a:t>存期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Text Box 17"/>
          <p:cNvSpPr/>
          <p:nvPr/>
        </p:nvSpPr>
        <p:spPr>
          <a:xfrm>
            <a:off x="468360" y="465300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000×3.75%×2=37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元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8"/>
          <p:cNvSpPr/>
          <p:nvPr/>
        </p:nvSpPr>
        <p:spPr>
          <a:xfrm>
            <a:off x="468360" y="515772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7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37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元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9"/>
          <p:cNvSpPr/>
          <p:nvPr/>
        </p:nvSpPr>
        <p:spPr>
          <a:xfrm>
            <a:off x="2801520" y="573372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答：到期后，王奶奶一共能取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37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元钱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14" descr=""/>
          <p:cNvPicPr/>
          <p:nvPr/>
        </p:nvPicPr>
        <p:blipFill>
          <a:blip r:embed="rId3"/>
          <a:stretch/>
        </p:blipFill>
        <p:spPr>
          <a:xfrm>
            <a:off x="539640" y="2781360"/>
            <a:ext cx="8010720" cy="199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7:18:5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4:48Z</dcterms:modified>
  <cp:revision>16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