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png" ContentType="image/png"/>
  <Override PartName="/ppt/media/image15.jpeg" ContentType="image/jpeg"/>
  <Override PartName="/ppt/media/type.wav" ContentType="audio/x-wav"/>
  <Override PartName="/ppt/media/image14.gif" ContentType="image/gif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90A1-66AF-4AAD-A67E-899AD4F57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C19E-D043-4DFE-AB55-FD1AB0FD8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514B-E5DE-4AE8-914A-5AF162135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E9A-9FF6-415A-99FE-F675E1EC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CBC6-B79A-4DF6-A666-48C46665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4FB0-39EC-4859-AFF3-A1ED00926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8862-4199-4988-AB5A-007744B8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0B15-5DA8-4BFF-8FA2-CF278714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9920-26F6-42F2-99D1-DB76FC90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516-F55A-4FB2-9F12-398BC35C6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EDAA-1E28-4363-B327-E892CD0B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E14-A4F7-4856-ACDB-FFBC8EF3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C022-43ED-478A-98A9-F59F6F7C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9EEB-2D6A-476A-A941-696D5950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3A01-3D06-43A6-86CF-AFCC9C18D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" Target="slide21.xml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rcRect l="0" t="0" r="0" b="31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779480" y="549360"/>
            <a:ext cx="579132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ff00"/>
                </a:solidFill>
                <a:latin typeface="方正粗活意简体"/>
                <a:ea typeface="方正粗活意简体"/>
              </a:rPr>
              <a:t>生命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ff0000"/>
                </a:solidFill>
                <a:latin typeface="方正粗活意简体"/>
                <a:ea typeface="方正粗活意简体"/>
              </a:rPr>
              <a:t>     </a:t>
            </a:r>
            <a:r>
              <a:rPr b="1" lang="zh-CN" sz="11500" spc="-1" strike="noStrike">
                <a:solidFill>
                  <a:srgbClr val="ff0000"/>
                </a:solidFill>
                <a:latin typeface="方正粗活意简体"/>
                <a:ea typeface="方正粗活意简体"/>
              </a:rPr>
              <a:t>生命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590160" y="411480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Times New Roman"/>
                <a:ea typeface="隶书"/>
              </a:rPr>
              <a:t>杏林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2195640" y="6221520"/>
            <a:ext cx="6414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50920" y="105552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其实，社会生活中有很多事物能引发我们思考“生命”这一话题。下面，就请大家从社会、生活、历史或文学作品中找一些能引起对“生命”这一永恒主题的思考的例子，说说能引发那些思考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179280" y="309528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用下列格式说话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“我感受到，生命因为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而美丽”，我想举的例子是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______________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468360" y="1268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杏林子的弟弟刘侃在一篇怀念姐姐的的文章中说：“我常常自问，你到底怎么活的？不能吃自己想吃的东西，不能去自己想去的地方；不能自己梳个头，甚至化个自己想化的妆，到后来连大笑两声也变得奢侈，因为要带来一阵的咳嗽和气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后他意识到：“原来你把痛苦当成最好的榨汁机，压出最美、最醇的生命之泉，让每个人在灰心绝望、伤心痛苦的时候，再找回生命的勇气、方向和动力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3"/>
          <p:cNvSpPr txBox="1"/>
          <p:nvPr/>
        </p:nvSpPr>
        <p:spPr>
          <a:xfrm>
            <a:off x="3708360" y="620640"/>
            <a:ext cx="136836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事例</a:t>
            </a:r>
            <a:endParaRPr b="0" lang="en-US" sz="32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白底蓝蝴蝶"/>
          <p:cNvPicPr/>
          <p:nvPr/>
        </p:nvPicPr>
        <p:blipFill>
          <a:blip r:embed="rId1"/>
          <a:stretch/>
        </p:blipFill>
        <p:spPr>
          <a:xfrm>
            <a:off x="0" y="0"/>
            <a:ext cx="9144000" cy="2381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白底蓝蝴蝶"/>
          <p:cNvPicPr/>
          <p:nvPr/>
        </p:nvPicPr>
        <p:blipFill>
          <a:blip r:embed="rId2"/>
          <a:stretch/>
        </p:blipFill>
        <p:spPr>
          <a:xfrm>
            <a:off x="0" y="2438280"/>
            <a:ext cx="9144000" cy="2381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白底蓝蝴蝶"/>
          <p:cNvPicPr/>
          <p:nvPr/>
        </p:nvPicPr>
        <p:blipFill>
          <a:blip r:embed="rId3"/>
          <a:stretch/>
        </p:blipFill>
        <p:spPr>
          <a:xfrm>
            <a:off x="0" y="4476600"/>
            <a:ext cx="9144000" cy="23814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304920" y="2286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海伦</a:t>
            </a:r>
            <a:r>
              <a:rPr b="1" lang="en-US" sz="4000" spc="-1" strike="noStrike" u="sng">
                <a:solidFill>
                  <a:srgbClr val="ff3300"/>
                </a:solidFill>
                <a:uFillTx/>
                <a:latin typeface="Times New Roman"/>
                <a:ea typeface="华文新魏"/>
              </a:rPr>
              <a:t>·</a:t>
            </a:r>
            <a:r>
              <a:rPr b="1" lang="zh-CN" sz="40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凯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609480" y="106668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美国盲聋女作家、教育家。幼时患病，两耳失聪，双目失明。七岁时，安妮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沙利文担任她的家庭教师，从此成了她的良师益友，相处达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。在沙利文帮助之下，进入大学学习，以优异成绩毕业。在大学期间，写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我生命的故事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讲述她如何战胜病残，给成千上万的残疾人和正常人带来鼓舞。这本书被译成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种文字，在世界各国流传。以后又写了许多文字和几部自传性小说（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假如给我三天光明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表明黑暗与寂静并不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白底蓝蝴蝶"/>
          <p:cNvPicPr/>
          <p:nvPr/>
        </p:nvPicPr>
        <p:blipFill>
          <a:blip r:embed="rId1"/>
          <a:stretch/>
        </p:blipFill>
        <p:spPr>
          <a:xfrm>
            <a:off x="0" y="0"/>
            <a:ext cx="9144000" cy="23814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白底蓝蝴蝶"/>
          <p:cNvPicPr/>
          <p:nvPr/>
        </p:nvPicPr>
        <p:blipFill>
          <a:blip r:embed="rId2"/>
          <a:stretch/>
        </p:blipFill>
        <p:spPr>
          <a:xfrm>
            <a:off x="0" y="2438280"/>
            <a:ext cx="9144000" cy="2381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白底蓝蝴蝶"/>
          <p:cNvPicPr/>
          <p:nvPr/>
        </p:nvPicPr>
        <p:blipFill>
          <a:blip r:embed="rId3"/>
          <a:stretch/>
        </p:blipFill>
        <p:spPr>
          <a:xfrm>
            <a:off x="0" y="4476600"/>
            <a:ext cx="9144000" cy="2381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5"/>
          <p:cNvSpPr/>
          <p:nvPr/>
        </p:nvSpPr>
        <p:spPr>
          <a:xfrm>
            <a:off x="6019920" y="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后来凯勒成了卓越的社会改革家，到美国各地，到欧洲、亚洲发表演说，为盲人、聋哑人筹集资金。二战期间，又访问多所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SC20030927211358109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5867280" cy="4038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7"/>
          <p:cNvSpPr/>
          <p:nvPr/>
        </p:nvSpPr>
        <p:spPr>
          <a:xfrm>
            <a:off x="304920" y="44197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院，慰问失明士兵，她的精神受人们崇敬。</a:t>
            </a: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64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被授于美国公民最高荣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––––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总统自由勋章，次年又被推选为世界十名杰出妇女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9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白底蓝蝴蝶"/>
          <p:cNvPicPr/>
          <p:nvPr/>
        </p:nvPicPr>
        <p:blipFill>
          <a:blip r:embed="rId1"/>
          <a:stretch/>
        </p:blipFill>
        <p:spPr>
          <a:xfrm>
            <a:off x="0" y="0"/>
            <a:ext cx="9144000" cy="2381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白底蓝蝴蝶"/>
          <p:cNvPicPr/>
          <p:nvPr/>
        </p:nvPicPr>
        <p:blipFill>
          <a:blip r:embed="rId2"/>
          <a:stretch/>
        </p:blipFill>
        <p:spPr>
          <a:xfrm>
            <a:off x="0" y="2438280"/>
            <a:ext cx="9144000" cy="2381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白底蓝蝴蝶"/>
          <p:cNvPicPr/>
          <p:nvPr/>
        </p:nvPicPr>
        <p:blipFill>
          <a:blip r:embed="rId3"/>
          <a:stretch/>
        </p:blipFill>
        <p:spPr>
          <a:xfrm>
            <a:off x="0" y="4476600"/>
            <a:ext cx="9144000" cy="2381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304920" y="838080"/>
            <a:ext cx="8534160" cy="26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51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生于北京。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67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毕业于清华附中初中，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69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去延安地区插队落户。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72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因双腿瘫痪回到北京，在街道工厂工作。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79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发表第一篇小说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法学教授及其夫人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以后陆续发表了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午餐半小时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们的角落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一个冬天的晚上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山顶上的传说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等多篇小说。其中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我的遥远的清平湾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《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奶奶的星星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》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别获得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83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和</a:t>
            </a:r>
            <a:r>
              <a:rPr b="1" lang="en-US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984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年全国优秀短篇小说奖。代表作是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《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我与地坛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》《</a:t>
            </a:r>
            <a:r>
              <a:rPr b="1" lang="zh-CN" sz="34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秋天的怀念</a:t>
            </a:r>
            <a:r>
              <a:rPr b="1" lang="en-US" sz="34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》</a:t>
            </a:r>
            <a:r>
              <a:rPr b="1" lang="zh-CN" sz="3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现其为中国作家协会会员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04920" y="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ff3300"/>
                </a:solidFill>
                <a:uFillTx/>
                <a:latin typeface="华文新魏"/>
                <a:ea typeface="华文新魏"/>
              </a:rPr>
              <a:t>史铁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配乐.mp3" descr=""/>
          <p:cNvPicPr/>
          <p:nvPr/>
        </p:nvPicPr>
        <p:blipFill>
          <a:blip r:embed="rId4"/>
          <a:stretch/>
        </p:blipFill>
        <p:spPr>
          <a:xfrm>
            <a:off x="7308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243592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419640" y="404640"/>
            <a:ext cx="19047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思考讨论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539640" y="177336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．题目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生命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一词，为什么连续用两次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去掉一个行不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39640" y="3716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参考：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仿宋_GB2312"/>
              </a:rPr>
              <a:t>是一种修辞方法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仿宋_GB2312"/>
              </a:rPr>
              <a:t>反复。去掉一个不可以。因为连用表示强调，表达了对生命的强烈的呼唤，表达了强烈的生命意识，去掉就没有这种表达作用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684360" y="32130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、划出自已认为写得好的、最精彩的句子或词语，谈一谈你的体会。或者找出不理解的句子来一起讨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>
            <a:hlinkClick r:id="rId1" action="ppaction://hlinksldjump"/>
          </p:cNvPr>
          <p:cNvSpPr/>
          <p:nvPr/>
        </p:nvSpPr>
        <p:spPr>
          <a:xfrm>
            <a:off x="684360" y="765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Arial Black"/>
                <a:ea typeface="华文中宋"/>
              </a:rPr>
              <a:t>你对哪个事例感触最深？是什么打动了你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39640" y="981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我感到一股生命的力量在我手中跃动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跃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改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跳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行不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为什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95280" y="306864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不行。跳动是一起一伏地动；跃动表达心情急切。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跃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更能表达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生之欲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457200" y="3049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小瓜苗在没有阳光、没有泥土的砖缝中，不屈地向上，茁壮生长，昂然挺立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又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它仅仅活了几天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前后是否矛盾，为什么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468360" y="306864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小瓜苗在没有生长的条件下，靠瓜子本身的养分，确实能茁壮生长、昂然挺立，而瓜子的养分仅仅能供养它活几天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457200" y="6858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那一股足以擎天撼地的生命力，令我肃然起敬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179280" y="234936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仿宋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擎天撼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本来形容力量巨大，这里指小瓜苗在没有生存条件下，竟然冒出了一截，充分表现了小瓜苗的生命力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肃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，形容十分恭敬的样子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肃然起敬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仿宋_GB2312"/>
              </a:rPr>
              <a:t>表达了对顽强的生命力的一种崇敬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310D-AAFF-4BF7-BB23-3C0C0018D5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3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二中照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143000" y="1392120"/>
            <a:ext cx="67215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0" spc="-1" strike="noStrike">
                <a:solidFill>
                  <a:srgbClr val="fd2c09"/>
                </a:solidFill>
                <a:latin typeface="华文行楷"/>
                <a:ea typeface="华文行楷"/>
              </a:rPr>
              <a:t>欢  迎  光  临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00640" y="5653080"/>
            <a:ext cx="1143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lred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684360" y="260280"/>
            <a:ext cx="755964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cc00"/>
                </a:solidFill>
                <a:latin typeface="华文行楷"/>
                <a:ea typeface="华文行楷"/>
              </a:rPr>
              <a:t>课外积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   </a:t>
            </a:r>
            <a:r>
              <a:rPr b="0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关于生命的格言有哪些</a:t>
            </a:r>
            <a:r>
              <a:rPr b="0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3243240" y="2057400"/>
            <a:ext cx="27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、 吾生也有涯，而知也无涯。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-----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庄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148480" y="2895480"/>
            <a:ext cx="516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、 生，亦我所欲也，义，亦我所欲也；二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不可得兼，舍生而取义者也。</a:t>
            </a:r>
            <a:r>
              <a:rPr b="1" lang="en-US" sz="3200" spc="-1" strike="noStrike">
                <a:solidFill>
                  <a:srgbClr val="3333ff"/>
                </a:solidFill>
                <a:latin typeface="Times New Roman"/>
              </a:rPr>
              <a:t>-------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BIRD"/>
          <p:cNvPicPr/>
          <p:nvPr/>
        </p:nvPicPr>
        <p:blipFill>
          <a:blip r:embed="rId2"/>
          <a:stretch/>
        </p:blipFill>
        <p:spPr>
          <a:xfrm>
            <a:off x="5867280" y="3962520"/>
            <a:ext cx="281952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lblue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457200" y="3049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3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、人的生命是有限的，但我要以有限的生命投入到无限的为人民服务中去。          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--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雷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259280" y="2236680"/>
            <a:ext cx="6809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4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、人，最宝贵的是生 命。生命对每个人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有一次。这仅有的一次生命应当怎样度过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每当回忆往事的时候，能够不为虚度年华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悔恨，不因碌碌无为而羞耻；在临死的时候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他能够说：“我的整个 生命和全部精力，都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经献给了世界上最壮丽的事业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——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为人类解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而进行的斗争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                               </a:t>
            </a:r>
            <a:r>
              <a:rPr b="1" lang="en-US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——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奥斯特洛夫斯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-4114800" y="6094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2411280" y="189000"/>
            <a:ext cx="444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顽强的生命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79280" y="119700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爱看，最爱看早春小路边探出头来的第一棵小草；最爱看，最爱看盛夏沙漠里顽强站立的仙人掌；最爱看，最爱看冬日远山上，白雪中挺立的那一片松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68360" y="407664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最爱看它们迎风摇曳的美态，站立着的不屈姿势，傲然挺拔的顽强的生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250920" y="256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读读课后美国作家克伦，沃森的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生命　生命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，比较一下，你更喜欢哪篇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WordArt 3"/>
          <p:cNvSpPr txBox="1"/>
          <p:nvPr/>
        </p:nvSpPr>
        <p:spPr>
          <a:xfrm>
            <a:off x="1042920" y="907920"/>
            <a:ext cx="194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练一练</a:t>
            </a:r>
            <a:endParaRPr b="1" lang="en-US" sz="1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6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http://www.pep.com.cn/images/200306/pic_3167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468360" y="53737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PMingLiU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飞蛾在我手中竭力挣扎，求生欲望之强令人感动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4861080" y="5373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飞蛾：求生之欲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965240" y="20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小幼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466560" y="47959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PMingLiU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、香瓜子在没有阳光、没有泥土的墙角顽强地长出一截瓜苗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4643280" y="4869000"/>
            <a:ext cx="418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香瓜子：生命之顽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279440" y="1087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432080" y="108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w030707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5"/>
          <p:cNvSpPr/>
          <p:nvPr/>
        </p:nvSpPr>
        <p:spPr>
          <a:xfrm>
            <a:off x="1316160" y="5135400"/>
            <a:ext cx="27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聆听心跳　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—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7">
            <a:hlinkClick r:id="rId2" action="ppaction://hlinksldjump"/>
          </p:cNvPr>
          <p:cNvSpPr/>
          <p:nvPr/>
        </p:nvSpPr>
        <p:spPr>
          <a:xfrm>
            <a:off x="4067280" y="6093000"/>
            <a:ext cx="865080" cy="144360"/>
          </a:xfrm>
          <a:prstGeom prst="leftArrow">
            <a:avLst>
              <a:gd name="adj1" fmla="val 50000"/>
              <a:gd name="adj2" fmla="val 1497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4572000" y="5229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心跳：生命之可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0BDB-B4E9-4798-9180-DEB3266AB92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BT186-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"/>
          <p:cNvSpPr/>
          <p:nvPr/>
        </p:nvSpPr>
        <p:spPr>
          <a:xfrm>
            <a:off x="1204920" y="4586400"/>
            <a:ext cx="48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pic08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苗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WordArt 4"/>
          <p:cNvSpPr txBox="1"/>
          <p:nvPr/>
        </p:nvSpPr>
        <p:spPr>
          <a:xfrm>
            <a:off x="324000" y="1197000"/>
            <a:ext cx="861984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从这三幅图片，你感受到的两个字是“</a:t>
            </a:r>
            <a:r>
              <a:rPr b="1" lang="en-US" sz="32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____”</a:t>
            </a:r>
            <a:r>
              <a:rPr b="1" lang="zh-CN" sz="32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！</a:t>
            </a:r>
            <a:endParaRPr b="1" lang="en-US" sz="3200" spc="1" strike="noStrike">
              <a:ln w="12600">
                <a:solidFill>
                  <a:srgbClr val="ffffff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971640" y="189000"/>
            <a:ext cx="41050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杏林子简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51280" y="-5638680"/>
          <a:ext cx="208080" cy="1811952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91476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杏林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7206200">
                <a:tc>
                  <a:txBody>
                    <a:bodyPr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                                  </a:t>
                      </a:r>
                      <a:r>
                        <a:rPr b="0" lang="zh-TW" sz="115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 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Arial"/>
                          <a:ea typeface="PMingLiU"/>
                        </a:rPr>
                        <a:t>                   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12" descr="xinglinzi"/>
          <p:cNvPicPr/>
          <p:nvPr/>
        </p:nvPicPr>
        <p:blipFill>
          <a:blip r:embed="rId1"/>
          <a:stretch/>
        </p:blipFill>
        <p:spPr>
          <a:xfrm>
            <a:off x="6443640" y="1484280"/>
            <a:ext cx="2484360" cy="3816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3"/>
          <p:cNvSpPr/>
          <p:nvPr/>
        </p:nvSpPr>
        <p:spPr>
          <a:xfrm>
            <a:off x="179280" y="1214280"/>
            <a:ext cx="60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杏林子，这一位长期处于痛楚的人，这一位只有小学程度，因类风湿性关节炎而全身关节百分之八十损坏的残障者，不单没有诅咒生命，反而洋溢了对生命的歌颂和热爱。她写作不缀，出版的书深受读者们的喜爱，为引发社会对残障者的关注，不惜冒着生命危险上街请愿，成立了「伊甸残障社会福利基金会」，为台湾的弱势群体谋福利。她一生积极开朗，淡泊名利，她有一句名言：「除了爱我一无所有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0"/>
          <p:cNvSpPr/>
          <p:nvPr/>
        </p:nvSpPr>
        <p:spPr>
          <a:xfrm>
            <a:off x="479520" y="29700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44136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11280" y="349200"/>
            <a:ext cx="769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掌握下列加横线的字的读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066680" y="1219320"/>
            <a:ext cx="903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扰（   ）      小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憩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茁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壮（     ）  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糟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   ）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庸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     ）（   ） 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负（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然挺立（   ）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擎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撼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地（      ）（    ）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Times New Roman"/>
              </a:rPr>
              <a:t>肃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然起敬（   ）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 flipH="1">
            <a:off x="1955160" y="1447920"/>
            <a:ext cx="407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1752480" y="12952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2819520" y="121932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6781680" y="1219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8"/>
          <p:cNvSpPr/>
          <p:nvPr/>
        </p:nvSpPr>
        <p:spPr>
          <a:xfrm>
            <a:off x="2819520" y="19810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hu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6553080" y="196524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ā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8458200" y="196524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2743200" y="266688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ō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 flipH="1">
            <a:off x="4876920" y="272736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8001000" y="266688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4048200" y="342900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5"/>
          <p:cNvSpPr/>
          <p:nvPr/>
        </p:nvSpPr>
        <p:spPr>
          <a:xfrm>
            <a:off x="3048120" y="441972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6"/>
          <p:cNvSpPr/>
          <p:nvPr/>
        </p:nvSpPr>
        <p:spPr>
          <a:xfrm>
            <a:off x="4038480" y="4114800"/>
            <a:ext cx="152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í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6095880" y="41911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5181480" y="4419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9"/>
          <p:cNvSpPr/>
          <p:nvPr/>
        </p:nvSpPr>
        <p:spPr>
          <a:xfrm flipH="1">
            <a:off x="4048920" y="4876920"/>
            <a:ext cx="105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0" descr="book3"/>
          <p:cNvPicPr/>
          <p:nvPr/>
        </p:nvPicPr>
        <p:blipFill>
          <a:blip r:embed="rId1"/>
          <a:stretch/>
        </p:blipFill>
        <p:spPr>
          <a:xfrm>
            <a:off x="7315200" y="5105520"/>
            <a:ext cx="152388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2843280" y="260280"/>
            <a:ext cx="3241440" cy="59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主探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395280" y="3213000"/>
            <a:ext cx="426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飞蛾在我手中竭力挣扎，求生欲望之强令人感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395280" y="429264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香瓜子在没有阳光、没有泥土的墙角顽强地长出一截瓜苗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324000" y="5373720"/>
            <a:ext cx="46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PMingLiU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PMingLiU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静听自己的心跳，为自己的生命所震撼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788000" y="3213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飞蛾：求生之欲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572000" y="4365720"/>
            <a:ext cx="41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香瓜子：生命之顽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076720" y="529128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心跳：生命之可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68360" y="137808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问题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那些事引发了作者对生命的思考？这些事引发了作者对生命怎样的思考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1"/>
          <p:cNvSpPr/>
          <p:nvPr/>
        </p:nvSpPr>
        <p:spPr>
          <a:xfrm>
            <a:off x="971640" y="220428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宋体"/>
              </a:rPr>
              <a:t>要求：语言要简洁，扣住“生命”二字，用“谁</a:t>
            </a:r>
            <a:r>
              <a:rPr b="1" lang="en-US" sz="1800" spc="-1" strike="noStrike">
                <a:solidFill>
                  <a:srgbClr val="ff3300"/>
                </a:solidFill>
                <a:latin typeface="宋体"/>
              </a:rPr>
              <a:t>+</a:t>
            </a:r>
            <a:r>
              <a:rPr b="1" lang="zh-CN" sz="1800" spc="-1" strike="noStrike">
                <a:solidFill>
                  <a:srgbClr val="ff3300"/>
                </a:solidFill>
                <a:latin typeface="宋体"/>
              </a:rPr>
              <a:t>怎么样”的句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57200" y="0"/>
            <a:ext cx="8385120" cy="143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讨论：围绕“生命”，请分别说说这三个事例告诉我们什么道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必须对生命负责，好好地使用生命，让人生更有意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生命短暂，生老病死无法捉摸，我们可以让有限的生命发挥出无限的价值，使我们活得更为光彩有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要珍惜生命，珍惜时光，不论命运如何，都要勇敢地活下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9T09:10:2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2:05Z</dcterms:modified>
  <cp:revision>1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