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C0D-0D7C-4FB6-A930-5B6A5615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063-465F-4376-809C-9EB0D530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312-0F89-470C-AD5A-71D1A172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B0A-7767-45D5-B642-6751E8D2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A4E-1890-443E-9569-934B132D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E40-6F2F-40FD-AE42-B7FEF9DD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DCF0-C00F-4492-A83E-422D2FD1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496-FDA9-4E04-85E2-B78BACE5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3B0-F9E6-4AF5-B20E-DBE40720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C7D-C48F-40FE-83F3-22170D6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BA1-46AD-477E-9FCB-E0076E12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761-79E3-43C2-86AF-5F64E13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C7CB-D18A-46E4-9BF8-5C2F3D70D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2195640" y="6245280"/>
            <a:ext cx="4897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1403280" y="765000"/>
            <a:ext cx="6337440" cy="360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476360" y="1125360"/>
            <a:ext cx="4608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说“屏”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5724360" y="3429000"/>
            <a:ext cx="149256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陈从周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2411280" y="2133720"/>
            <a:ext cx="3745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说扇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611280" y="620640"/>
            <a:ext cx="273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堂拓展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AF20-04A7-47B9-99E9-133FF9102E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5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毛主席书画屏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金底赐福屏风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2421000"/>
            <a:ext cx="8532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文中介绍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哪些知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684360" y="549360"/>
            <a:ext cx="259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整体感知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11280" y="4076640"/>
            <a:ext cx="853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作者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感情是怎样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395280" y="476280"/>
            <a:ext cx="424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我是小小艺术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476360" y="2133720"/>
            <a:ext cx="5183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什么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476360" y="3213000"/>
            <a:ext cx="504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学会使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476360" y="4365720"/>
            <a:ext cx="504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学会欣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32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三扇龙纹屏风"/>
          <p:cNvPicPr/>
          <p:nvPr/>
        </p:nvPicPr>
        <p:blipFill>
          <a:blip r:embed="rId3"/>
          <a:stretch/>
        </p:blipFill>
        <p:spPr>
          <a:xfrm>
            <a:off x="4572000" y="3292560"/>
            <a:ext cx="4572000" cy="356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龙凤纹路屏"/>
          <p:cNvPicPr/>
          <p:nvPr/>
        </p:nvPicPr>
        <p:blipFill>
          <a:blip r:embed="rId4"/>
          <a:stretch/>
        </p:blipFill>
        <p:spPr>
          <a:xfrm>
            <a:off x="4572000" y="-458640"/>
            <a:ext cx="48243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励志屏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2133360"/>
            <a:ext cx="86882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本文运用了怎样的说明方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684360" y="333360"/>
            <a:ext cx="273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研读赏析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50920" y="3573360"/>
            <a:ext cx="8688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本文在语言上有哪些特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138240" y="5506920"/>
            <a:ext cx="66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0:57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15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