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  <p:custShowLst>
    <p:custShow name="自定义放映 1" id="0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A17A-2A54-49A9-9EA8-13DD55CD6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026F-EFE1-4C7C-93A0-CDF217836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82A3-45D8-4CB5-95A5-98D2BA339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56E3-F76A-4B60-9A89-E123CB1A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3551-1316-489A-8623-760EEB8E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E6F0-050D-40F1-87DC-A4E42B7DB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986F-AC8A-4B2E-9DBE-2391C475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A9E3-F5D8-40FD-9F2F-9D0410B0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FD36-7F37-4142-9110-B6EC5D7F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F070-FEC2-4F1A-9B50-B118CDEB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EEA8-E2EB-4F69-9227-6C2176FE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0E98-B608-4C7B-987A-6C619BE9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9E90-D7ED-4CDF-954A-6A0E8211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FDA2-6E74-4948-B9BD-41E8F5B4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B768-910E-4AA6-9E63-B64946DAE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海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7744680" y="4149720"/>
            <a:ext cx="13993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青岛海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158920" y="981000"/>
            <a:ext cx="48261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cc3300"/>
                </a:solidFill>
                <a:latin typeface="Arial"/>
                <a:ea typeface="隶书"/>
              </a:rPr>
              <a:t>山  市 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564000" y="4076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主讲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: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华文行楷"/>
              </a:rPr>
              <a:t>江启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草原之夜" descr=""/>
          <p:cNvPicPr/>
          <p:nvPr/>
        </p:nvPicPr>
        <p:blipFill>
          <a:blip r:embed="rId2"/>
          <a:stretch/>
        </p:blipFill>
        <p:spPr>
          <a:xfrm>
            <a:off x="8723160" y="6541920"/>
            <a:ext cx="420840" cy="316080"/>
          </a:xfrm>
          <a:prstGeom prst="rect">
            <a:avLst/>
          </a:prstGeom>
          <a:ln w="0">
            <a:noFill/>
          </a:ln>
        </p:spPr>
      </p:pic>
      <p:sp>
        <p:nvSpPr>
          <p:cNvPr id="55" name="矩形 11"/>
          <p:cNvSpPr/>
          <p:nvPr/>
        </p:nvSpPr>
        <p:spPr>
          <a:xfrm>
            <a:off x="2391480" y="62928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Arial"/>
                <a:ea typeface="华文新魏"/>
              </a:rPr>
              <a:t>课堂作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一、抄写全文，并将生字注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二、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词语手册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第二大题及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基础训练册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第三大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三、翻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、无何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始悟为山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、中有楼若者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以亿万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、既而风定天清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霄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、而楼上人往来屑屑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不一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01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2843280" y="292428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同学们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再见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晚秋" descr=""/>
          <p:cNvPicPr/>
          <p:nvPr/>
        </p:nvPicPr>
        <p:blipFill>
          <a:blip r:embed="rId2"/>
          <a:stretch/>
        </p:blipFill>
        <p:spPr>
          <a:xfrm>
            <a:off x="8844120" y="765000"/>
            <a:ext cx="299880" cy="2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8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8761-7D8D-4857-9A70-6D5C1E37D53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天津海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-90360" y="4797360"/>
            <a:ext cx="127764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天津海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作者及作品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蒲松龄（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640—1715</a:t>
            </a: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）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字留仙，一字剑臣，别号柳泉居士，世称聊斋先生，山东淄川（今淄博）人。早岁即有文名，但屡应省试皆落第，七十一岁才补为贡生。他用数十年的时间写成的短篇小说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聊斋志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白居易在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华文行楷"/>
              </a:rPr>
              <a:t>香山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／欧阳修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华文行楷"/>
              </a:rPr>
              <a:t>六一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欢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李清照号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华文行楷"/>
              </a:rPr>
              <a:t>易安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／王安石住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华文行楷"/>
              </a:rPr>
              <a:t>半山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苏轼爬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华文行楷"/>
              </a:rPr>
              <a:t>东坡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／李白采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华文行楷"/>
              </a:rPr>
              <a:t>青莲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华文行楷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聊斋志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文言短篇小说集，共收录作品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篇，以短篇小说为主，此外还有散记特写、随笔寓言等，主要写鬼狐精怪的故事，也收录一些奇特的事。构思奇妙，语言生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3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3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05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2556000" y="90792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  <a:ea typeface="隶书"/>
              </a:rPr>
              <a:t>听读课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395280" y="4869000"/>
            <a:ext cx="87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注意字音、停顿、语气和语调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明月几时有曲" descr=""/>
          <p:cNvPicPr/>
          <p:nvPr/>
        </p:nvPicPr>
        <p:blipFill>
          <a:blip r:embed="rId2"/>
          <a:stretch/>
        </p:blipFill>
        <p:spPr>
          <a:xfrm>
            <a:off x="8604360" y="6597720"/>
            <a:ext cx="117360" cy="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c3300"/>
                </a:solidFill>
                <a:latin typeface="Arial"/>
                <a:ea typeface="隶书"/>
              </a:rPr>
              <a:t>自读课文要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一、根据</a:t>
            </a: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《</a:t>
            </a: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词语手册</a:t>
            </a: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》</a:t>
            </a: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及课文下面的注解疏通全文内容，并画出自己难懂的句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二、小组交流难解的句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3300"/>
                </a:solidFill>
                <a:latin typeface="Arial"/>
                <a:ea typeface="楷体_GB2312"/>
              </a:rPr>
              <a:t>重点实虚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邑：县；然：但是，却；恒：经常；顾：看；念：想；无何：不久，不一会儿；悟：明白；为：是；未几：不久；垣：墙；居然：竟然；若：像；坊：街巷、店铺；计：计算；而已：罢了；既而：不久；乌：同“无”；危：高；扉：门；裁：同“才”；或：有的人；逾：超过；肆：店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楷体_GB2312"/>
              </a:rPr>
              <a:t>山市全过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141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200000"/>
              </a:lnSpc>
              <a:spcBef>
                <a:spcPts val="45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初生阶段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孤塔高耸、宫殿入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200000"/>
              </a:lnSpc>
              <a:spcBef>
                <a:spcPts val="45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</a:rPr>
              <a:t>发展阶段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城郭历历在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200000"/>
              </a:lnSpc>
              <a:spcBef>
                <a:spcPts val="45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高潮阶段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危楼参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"/>
          <p:cNvSpPr/>
          <p:nvPr/>
        </p:nvSpPr>
        <p:spPr>
          <a:xfrm>
            <a:off x="457200" y="6300720"/>
            <a:ext cx="64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3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Arial"/>
                <a:ea typeface="隶书"/>
              </a:rPr>
              <a:t>表示时间的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376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ff"/>
                </a:solidFill>
                <a:latin typeface="Arial"/>
              </a:rPr>
              <a:t>忽</a:t>
            </a:r>
            <a:r>
              <a:rPr b="0" lang="en-US" sz="5400" spc="-1" strike="noStrike">
                <a:solidFill>
                  <a:srgbClr val="3333ff"/>
                </a:solidFill>
                <a:latin typeface="Arial"/>
              </a:rPr>
              <a:t>——</a:t>
            </a:r>
            <a:r>
              <a:rPr b="0" lang="zh-CN" sz="5400" spc="-1" strike="noStrike">
                <a:solidFill>
                  <a:srgbClr val="3333ff"/>
                </a:solidFill>
                <a:latin typeface="Arial"/>
              </a:rPr>
              <a:t>无何</a:t>
            </a:r>
            <a:r>
              <a:rPr b="0" lang="en-US" sz="5400" spc="-1" strike="noStrike">
                <a:solidFill>
                  <a:srgbClr val="3333ff"/>
                </a:solidFill>
                <a:latin typeface="Arial"/>
              </a:rPr>
              <a:t>——</a:t>
            </a:r>
            <a:r>
              <a:rPr b="0" lang="zh-CN" sz="5400" spc="-1" strike="noStrike">
                <a:solidFill>
                  <a:srgbClr val="3333ff"/>
                </a:solidFill>
                <a:latin typeface="Arial"/>
              </a:rPr>
              <a:t>未几</a:t>
            </a:r>
            <a:r>
              <a:rPr b="0" lang="en-US" sz="5400" spc="-1" strike="noStrike">
                <a:solidFill>
                  <a:srgbClr val="3333ff"/>
                </a:solidFill>
                <a:latin typeface="Arial"/>
              </a:rPr>
              <a:t>——</a:t>
            </a:r>
            <a:r>
              <a:rPr b="0" lang="zh-CN" sz="5400" spc="-1" strike="noStrike">
                <a:solidFill>
                  <a:srgbClr val="3333ff"/>
                </a:solidFill>
                <a:latin typeface="Arial"/>
              </a:rPr>
              <a:t>忽</a:t>
            </a:r>
            <a:r>
              <a:rPr b="0" lang="en-US" sz="5400" spc="-1" strike="noStrike">
                <a:solidFill>
                  <a:srgbClr val="3333ff"/>
                </a:solidFill>
                <a:latin typeface="Arial"/>
              </a:rPr>
              <a:t>——</a:t>
            </a:r>
            <a:r>
              <a:rPr b="0" lang="zh-CN" sz="5400" spc="-1" strike="noStrike">
                <a:solidFill>
                  <a:srgbClr val="3333ff"/>
                </a:solidFill>
                <a:latin typeface="Arial"/>
              </a:rPr>
              <a:t>既而</a:t>
            </a:r>
            <a:r>
              <a:rPr b="0" lang="en-US" sz="5400" spc="-1" strike="noStrike">
                <a:solidFill>
                  <a:srgbClr val="3333ff"/>
                </a:solidFill>
                <a:latin typeface="Arial"/>
              </a:rPr>
              <a:t>——</a:t>
            </a:r>
            <a:r>
              <a:rPr b="0" lang="zh-CN" sz="5400" spc="-1" strike="noStrike">
                <a:solidFill>
                  <a:srgbClr val="3333ff"/>
                </a:solidFill>
                <a:latin typeface="Arial"/>
              </a:rPr>
              <a:t>逾时</a:t>
            </a:r>
            <a:r>
              <a:rPr b="0" lang="en-US" sz="5400" spc="-1" strike="noStrike">
                <a:solidFill>
                  <a:srgbClr val="3333ff"/>
                </a:solidFill>
                <a:latin typeface="Arial"/>
              </a:rPr>
              <a:t>——</a:t>
            </a:r>
            <a:r>
              <a:rPr b="0" lang="zh-CN" sz="5400" spc="-1" strike="noStrike">
                <a:solidFill>
                  <a:srgbClr val="3333ff"/>
                </a:solidFill>
                <a:latin typeface="Arial"/>
              </a:rPr>
              <a:t>倏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隶书"/>
              </a:rPr>
              <a:t>海市蜃楼的真正成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空气本身并不是一个均匀的。当光线穿过不同高度的空气层时，总会引起些折射，但这种折射现象在我们日常生活中已习惯了，所以不觉得有什么异样，可是当空气温度在垂直方向布反常时，就会引起密度垂直变化反常，并会导致与通常不同的折射和反射。这就会产生海市蜃楼的现象。总之，“海市”“山市”是一种折光反射而形成的自然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08:43:2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0:02Z</dcterms:modified>
  <cp:revision>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