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EE6-321A-4836-B1AF-36156EA4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54E-CE34-4434-83C4-7BCD192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536-F425-4B71-9529-34BE8EF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A99-5C5C-48D2-B0DE-1F71767D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B564-73EA-450B-9C0A-F69A1D8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AF54-840A-47BE-AE15-C5C8E383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BDF-0E26-4468-93F0-F257C2A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BB83-0E8A-44E4-84F3-8B83C649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7F06-9A5D-42DE-A736-2A200AF8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1C2-4462-4B31-B9AF-A5673432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2D8-2A73-43D0-BCC3-76B8DE1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6C5-BE46-4575-9B87-332F9DDE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9DAF-335C-4459-ABF1-F9A0A6B7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7BC-5215-408E-9FB3-FFEAB14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69DE-F6EB-4114-BB71-9E72ED1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027-F895-41DF-A57A-832D97F1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9D89-1C6E-4F69-B246-3CA2A2A5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8917-6236-4FBF-BC4A-98537F4F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01742-B04D-490F-9E2E-6B2BDFBB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29B1-19DE-4119-92EA-B2B3116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6289B-EFC9-4489-90ED-632A66D3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7E4C3-2F0B-497B-B33A-6AE1AD12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080-5B38-49D4-9940-BAE8C65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BF54-01EE-4C7C-BB7C-26684641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233B-D3B0-4D8E-BDF9-AF8B071A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376F-9A24-49C3-9986-B66A752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F470-7AEA-4704-9984-548FBB8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1D8A-5C18-4CA5-B3C7-6FC0BFA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F8CE-1598-4CA9-B025-7A7E33E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3531-502C-42C1-BBEA-32B3174D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8020-9F52-4948-90F6-4539963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ED9C-0C0B-4063-ACE9-C48AF888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AD77-06D2-48ED-A4C5-6BE50B57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EB9-1488-4F5E-A610-D4542D3D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B85B-E4CF-41BB-943D-AF7DD7A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9F5B-8CCB-44CC-AC76-75FAB099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D80A-EE73-4883-9EF3-8018A0DD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BBC1-15C0-4545-A83E-8D99C9E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237B-E1ED-4298-95D7-9DD5416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9D5F-73B1-4E40-ABBB-10750FB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A1DA-1404-4491-9F24-B13E2316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3533-06BB-4313-9724-6C76E0C2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2D4F-4DAF-4E73-A990-7106818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B44F4-D750-4B03-B04B-7BD41B08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576-FD9F-4CED-AAB6-A62E458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482A-0DEA-4F40-BD4C-FA5111F4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F11F-A251-40CA-94BC-085CCBA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6088E-7F4F-4852-896C-BACCF28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D2D0-72F0-4B33-9444-1E778766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448E-F1AA-4CAE-9304-FC341484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2135-5007-434E-8884-BD4074A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9C52-D39C-4FD9-A5AF-18B6865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5D64E-B069-4E5E-92B8-39F73AD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660A-40DE-4DFA-A3B2-4241A56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2A5F-B0CF-472E-818A-E0832E85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467-C151-4022-85AE-4EDB5AA2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6DA2-A7D5-4A62-9271-0DA06689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F3A59-C179-47D3-BA31-4B7D378E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37210-FD03-4484-A4DD-E7F6EC7D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744D2-96FE-4BFE-8783-3A888F17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6F686-7ABF-4F4A-8305-B176A9D5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D1CA-1C76-47D9-AB8B-27F1213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B883-51BE-4F71-8FBB-60686DAD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DEC8-6A43-452F-BE4F-4D8CA28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7E28-D6CC-4B38-A426-2DF1E011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F531-2E99-4857-A366-271C738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AD6-5DF6-4144-9B07-77DE0DA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E64C-4E45-4244-9295-8BA25AA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8233-E8A2-4052-926F-A6215BE1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C53C-CF08-4D6A-A20B-A7D305C9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7A0-65AC-4394-AF5A-3DF47A1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B27-F978-4DEC-8241-E2C996D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54ED-5B61-43B5-8A1C-7CC1E2241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8926-7FBD-40A9-8408-3B98168A1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6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97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98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8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19" name="Freeform 39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8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49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70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82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63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66" name="Freeform 86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69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91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72" name="Freeform 92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4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75" name="Freeform 95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6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7"/>
                <p:cNvGrpSpPr/>
                <p:nvPr/>
              </p:nvGrpSpPr>
              <p:grpSpPr>
                <a:xfrm>
                  <a:off x="7312680" y="1001160"/>
                  <a:ext cx="363240" cy="1217880"/>
                  <a:chOff x="7312680" y="1001160"/>
                  <a:chExt cx="363240" cy="1217880"/>
                </a:xfrm>
              </p:grpSpPr>
              <p:sp>
                <p:nvSpPr>
                  <p:cNvPr id="178" name="Freeform 98"/>
                  <p:cNvSpPr/>
                  <p:nvPr/>
                </p:nvSpPr>
                <p:spPr>
                  <a:xfrm flipH="1" rot="16870800">
                    <a:off x="7136280" y="1328400"/>
                    <a:ext cx="7855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9"/>
                  <p:cNvSpPr/>
                  <p:nvPr/>
                </p:nvSpPr>
                <p:spPr>
                  <a:xfrm flipH="1" rot="16870800">
                    <a:off x="7253280" y="187704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00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8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2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184" name="Freeform 104"/>
                  <p:cNvSpPr/>
                  <p:nvPr/>
                </p:nvSpPr>
                <p:spPr>
                  <a:xfrm rot="3745200">
                    <a:off x="7627320" y="1289880"/>
                    <a:ext cx="8463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 rot="3745200">
                    <a:off x="8079840" y="1841040"/>
                    <a:ext cx="4539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8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0" name="Freeform 110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12"/>
                <p:cNvGrpSpPr/>
                <p:nvPr/>
              </p:nvGrpSpPr>
              <p:grpSpPr>
                <a:xfrm>
                  <a:off x="7500600" y="1077480"/>
                  <a:ext cx="276120" cy="1131840"/>
                  <a:chOff x="7500600" y="1077480"/>
                  <a:chExt cx="276120" cy="1131840"/>
                </a:xfrm>
              </p:grpSpPr>
              <p:sp>
                <p:nvSpPr>
                  <p:cNvPr id="193" name="Freeform 113"/>
                  <p:cNvSpPr/>
                  <p:nvPr/>
                </p:nvSpPr>
                <p:spPr>
                  <a:xfrm rot="5755200">
                    <a:off x="7322040" y="1400760"/>
                    <a:ext cx="737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4"/>
                  <p:cNvSpPr/>
                  <p:nvPr/>
                </p:nvSpPr>
                <p:spPr>
                  <a:xfrm rot="5755200">
                    <a:off x="7398360" y="1928880"/>
                    <a:ext cx="3956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375-C0EF-4685-BB62-B89B32EE64C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980-AF3A-4002-B080-F70B95F43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62C-5828-410C-91AF-F67852212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34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4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34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4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4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50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351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5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6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3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372" name="Freeform 34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5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7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8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9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402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0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77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416" name="Freeform 78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419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422" name="Freeform 84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5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425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8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28" name="Freeform 90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91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92"/>
                  <p:cNvGrpSpPr/>
                  <p:nvPr/>
                </p:nvGrpSpPr>
                <p:grpSpPr>
                  <a:xfrm>
                    <a:off x="4508280" y="2703600"/>
                    <a:ext cx="875160" cy="2926800"/>
                    <a:chOff x="4508280" y="2703600"/>
                    <a:chExt cx="875160" cy="2926800"/>
                  </a:xfrm>
                </p:grpSpPr>
                <p:sp>
                  <p:nvSpPr>
                    <p:cNvPr id="431" name="Freeform 93"/>
                    <p:cNvSpPr/>
                    <p:nvPr/>
                  </p:nvSpPr>
                  <p:spPr>
                    <a:xfrm flipH="1" rot="16870800">
                      <a:off x="4086720" y="3489840"/>
                      <a:ext cx="188748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4"/>
                    <p:cNvSpPr/>
                    <p:nvPr/>
                  </p:nvSpPr>
                  <p:spPr>
                    <a:xfrm flipH="1" rot="16870800">
                      <a:off x="4365720" y="4809240"/>
                      <a:ext cx="101268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434" name="Freeform 96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8"/>
                  <p:cNvGrpSpPr/>
                  <p:nvPr/>
                </p:nvGrpSpPr>
                <p:grpSpPr>
                  <a:xfrm>
                    <a:off x="5648400" y="2593440"/>
                    <a:ext cx="1757880" cy="3032640"/>
                    <a:chOff x="5648400" y="2593440"/>
                    <a:chExt cx="1757880" cy="3032640"/>
                  </a:xfrm>
                </p:grpSpPr>
                <p:sp>
                  <p:nvSpPr>
                    <p:cNvPr id="437" name="Freeform 99"/>
                    <p:cNvSpPr/>
                    <p:nvPr/>
                  </p:nvSpPr>
                  <p:spPr>
                    <a:xfrm rot="3745200">
                      <a:off x="5265360" y="3395520"/>
                      <a:ext cx="203328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44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4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443" name="Freeform 105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6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7"/>
                  <p:cNvGrpSpPr/>
                  <p:nvPr/>
                </p:nvGrpSpPr>
                <p:grpSpPr>
                  <a:xfrm>
                    <a:off x="4961160" y="2887200"/>
                    <a:ext cx="663480" cy="2717640"/>
                    <a:chOff x="4961160" y="2887200"/>
                    <a:chExt cx="663480" cy="2717640"/>
                  </a:xfrm>
                </p:grpSpPr>
                <p:sp>
                  <p:nvSpPr>
                    <p:cNvPr id="446" name="Freeform 108"/>
                    <p:cNvSpPr/>
                    <p:nvPr/>
                  </p:nvSpPr>
                  <p:spPr>
                    <a:xfrm rot="5755200">
                      <a:off x="4532400" y="3663720"/>
                      <a:ext cx="1770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9"/>
                    <p:cNvSpPr/>
                    <p:nvPr/>
                  </p:nvSpPr>
                  <p:spPr>
                    <a:xfrm rot="5755200">
                      <a:off x="4716360" y="4931280"/>
                      <a:ext cx="95004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4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5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5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7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第一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PT</a:t>
            </a: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模板网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646-A63E-4FCD-8306-0BD802A7D05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2627280" y="6245280"/>
            <a:ext cx="4105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WordArt 22"/>
          <p:cNvSpPr txBox="1"/>
          <p:nvPr/>
        </p:nvSpPr>
        <p:spPr>
          <a:xfrm>
            <a:off x="1187280" y="1052640"/>
            <a:ext cx="59058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游山西村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6" name="WordArt 23"/>
          <p:cNvSpPr txBox="1"/>
          <p:nvPr/>
        </p:nvSpPr>
        <p:spPr>
          <a:xfrm>
            <a:off x="4716360" y="3716280"/>
            <a:ext cx="273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陆游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17" name="梅花三弄 古筝版.mp3" descr=""/>
          <p:cNvPicPr/>
          <p:nvPr/>
        </p:nvPicPr>
        <p:blipFill>
          <a:blip r:embed="rId2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56260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54064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楷体_GB2312"/>
              </a:rPr>
              <a:t>此联展开了一幅春光明媚的山水图，描摹了南宋初年的农村风俗画卷．读者不难体味出诗人所要表达的热爱传统文化的深情，显示了他对吾土吾民的热爱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WordArt 7"/>
          <p:cNvSpPr txBox="1"/>
          <p:nvPr/>
        </p:nvSpPr>
        <p:spPr>
          <a:xfrm>
            <a:off x="395280" y="692280"/>
            <a:ext cx="8424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姚体"/>
              </a:rPr>
              <a:t>箫鼓追随春社近，衣冠简朴古风存．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64" name="Picture 4" descr="clip_image012"/>
          <p:cNvPicPr/>
          <p:nvPr/>
        </p:nvPicPr>
        <p:blipFill>
          <a:blip r:embed="rId2"/>
          <a:stretch/>
        </p:blipFill>
        <p:spPr>
          <a:xfrm>
            <a:off x="7093080" y="5661000"/>
            <a:ext cx="1511280" cy="8762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08720" cy="38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华文新魏"/>
              </a:rPr>
              <a:t>写诗人的愿望．诗人盼望着以后能够有时间趁月夜出游，随时拄着手杖敲门拜访，恋恋不舍之情益于言表．一个热爱农村，与农民亲密无间的诗人形象跃然纸      上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WordArt 7"/>
          <p:cNvSpPr txBox="1"/>
          <p:nvPr/>
        </p:nvSpPr>
        <p:spPr>
          <a:xfrm>
            <a:off x="611280" y="189000"/>
            <a:ext cx="76024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仿宋_GB2312"/>
              </a:rPr>
              <a:t>从今若许闲乘月，拄杖无时夜叩门．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68" name="Picture 4" descr="clip_image003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1125360"/>
            <a:ext cx="851832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  <a:ea typeface="楷体_GB2312"/>
              </a:rPr>
              <a:t>游山西村在行文上有什么特点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＜游山西村＞全诗紧扣“游”字，按时间推移展开记叙，层次清晰，语言生动．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在一个丰收的年景，诗人受到邀请，来到农家．走在通往山西村的小路上，“山重水复疑无路，柳暗花明又一村”，路疑无而实有，景似绝而复出，终于来到山西村．这里山环水绕，柳暗花明，一派花团锦簇的景象，这两句诗蕴涵着生活的哲理，比喻困境中也往往蕴涵着希望．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WordArt 7"/>
          <p:cNvSpPr txBox="1"/>
          <p:nvPr/>
        </p:nvSpPr>
        <p:spPr>
          <a:xfrm>
            <a:off x="755640" y="40464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整体感悟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2" name="Picture 10" descr="clip_image003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874872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山西村，正植社日临近，农民们衣着简朴，吹箫击鼓，结队往来，热闹非凡．诗人陶醉在山野风光和农村的人情美里，对这次郊游发出了由衷的感叹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1600560" y="3990960"/>
            <a:ext cx="5953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i="1" lang="zh-CN" sz="3600" spc="-1" strike="noStrike">
                <a:solidFill>
                  <a:srgbClr val="720817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生路上并非一帆风顺，当你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到困难和挫折时，只要你鼓足勇气挺挺，你就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越过道道坎坷，体会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．的真正含义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4956120" y="494028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山重水复疑无路　　柳暗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1646280" y="537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明又一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 Black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 Black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 Black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6000" y="-45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 Black"/>
              </a:rPr>
              <a:t>讨论下列问题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47592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 Black"/>
              </a:rPr>
              <a:t>，全诗围绕哪个字展开？用自己的话说说这首诗的主要内容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围绕一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游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</a:rPr>
              <a:t>字展开。在一个丰收的年景，诗人受到邀请，来到农家。走在通往山西村的山路上，山环水绕，柳暗花明，一派花团锦簇的景象，终于来到山西村。在山西村，正值社日临近，农民们衣着简朴，吹箫击鼓，结队往来，热闹非凡。诗人盼望着以后能够有时间乘月色出游，随时拄着手杖来敲门拜访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167120" y="2852640"/>
            <a:ext cx="678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诗歌表现了诗人怎样的心情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表现了诗人陶醉，留恋之情，（作者陶醉在山野风光和农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人情美中，留恋村民的好客，热情，淳朴，对此次郊游发出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衷的感叹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932840" y="4508640"/>
            <a:ext cx="57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游山西村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，哪两句诗流传最广？你是怎样理解这两句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866680" y="4869000"/>
            <a:ext cx="35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山重水复疑无路，柳暗花明又一村。”山西村山环水绕，柳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花明，一派花团锦簇的景象。用来说明困境中仍然蕴涵着希望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1000080" y="56707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为什么会成为千古名句？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因其富于生活哲理，给人以鼓舞和希望，所以千百年来一直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人们喜爱，流传甚广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7" name="Picture 4" descr="http://it1.baidu.com/it/u=3517547884,2506084085&amp;gp=1.jpg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WordArt 7"/>
          <p:cNvSpPr txBox="1"/>
          <p:nvPr/>
        </p:nvSpPr>
        <p:spPr>
          <a:xfrm>
            <a:off x="1835280" y="2205000"/>
            <a:ext cx="561636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观看！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9" name="文本框 1"/>
          <p:cNvSpPr/>
          <p:nvPr/>
        </p:nvSpPr>
        <p:spPr>
          <a:xfrm>
            <a:off x="514440" y="599760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8B90-5C3C-4BE5-87E3-581DB8D5B1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19" name="Picture 18" descr="http://it0.baidu.com/it/u=523218791,1042877657&amp;gp=1.jpg"/>
          <p:cNvPicPr/>
          <p:nvPr/>
        </p:nvPicPr>
        <p:blipFill>
          <a:blip r:embed="rId2"/>
          <a:stretch/>
        </p:blipFill>
        <p:spPr>
          <a:xfrm>
            <a:off x="6300720" y="2565360"/>
            <a:ext cx="2484360" cy="33847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1405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00ccff"/>
                </a:solidFill>
                <a:uFillTx/>
                <a:latin typeface="Arial"/>
                <a:ea typeface="华文彩云"/>
              </a:rPr>
              <a:t>作者轶事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686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起文人，就使人想起肩不能挑、手不能提的文弱书生。然而陆游既是文人之佼佼者，又有非凡的武艺。为了实现收复失地的心愿，他曾经千里投师学习剑术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岁时，他应邀到了抗金前线南郑。有一天，他带兵到山中围猎，天色渐暗，大家准备回营了，。猛然见袭来一阵腥风，传来一声怒吼，随着扑出一只吊睛白额猛虎。大家见了无不惊慌失色，纷纷逃避；只有陆游毫不惧怕，挺身仗剑，向虎刺了去，于是人虎之间展开了一场殊死搏斗。最后，陆游一剑刺中了老虎的咽喉。陆兄如此骁勇，怎不令人咋舌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0"/>
          <p:cNvSpPr/>
          <p:nvPr/>
        </p:nvSpPr>
        <p:spPr>
          <a:xfrm>
            <a:off x="7308720" y="16351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169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行楷"/>
              </a:rPr>
              <a:t>文言知识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5092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衣沾不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惜（值得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丰年留客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鸡豚（丰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古今异义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近：古义“土地神”，今义一种集体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拄杖无时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扣门：名词作状语，在夜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26" name="Picture 4" descr="clip_image001"/>
          <p:cNvPicPr/>
          <p:nvPr/>
        </p:nvPicPr>
        <p:blipFill>
          <a:blip r:embed="rId17"/>
          <a:stretch/>
        </p:blipFill>
        <p:spPr>
          <a:xfrm>
            <a:off x="6443640" y="874800"/>
            <a:ext cx="2376360" cy="2808360"/>
          </a:xfrm>
          <a:prstGeom prst="rect">
            <a:avLst/>
          </a:prstGeom>
          <a:ln w="0">
            <a:noFill/>
          </a:ln>
        </p:spPr>
      </p:pic>
      <p:sp>
        <p:nvSpPr>
          <p:cNvPr id="527" name="WordArt 7"/>
          <p:cNvSpPr txBox="1"/>
          <p:nvPr/>
        </p:nvSpPr>
        <p:spPr>
          <a:xfrm>
            <a:off x="684360" y="1484280"/>
            <a:ext cx="7920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足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8" name="WordArt 8"/>
          <p:cNvSpPr txBox="1"/>
          <p:nvPr/>
        </p:nvSpPr>
        <p:spPr>
          <a:xfrm>
            <a:off x="684360" y="3716280"/>
            <a:ext cx="609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社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9" name="WordArt 9"/>
          <p:cNvSpPr txBox="1"/>
          <p:nvPr/>
        </p:nvSpPr>
        <p:spPr>
          <a:xfrm>
            <a:off x="755640" y="5300640"/>
            <a:ext cx="5619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夜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591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33cc"/>
                </a:solidFill>
                <a:uFillTx/>
                <a:latin typeface="Arial"/>
                <a:ea typeface="幼圆"/>
              </a:rPr>
              <a:t>诗词赏析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708000" y="1844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 笑 农 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腊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浑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|      |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头年腊月所酿的酒   浑浊，酒以清为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笑话农家酒味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年留客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|      |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丰足  泛指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释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待客的情意却十分深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575280" y="1342080"/>
            <a:ext cx="66780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首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农家盛情款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5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5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710040" y="685440"/>
            <a:ext cx="2135160" cy="51814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山重水复疑无路，</a:t>
            </a:r>
            <a:br>
              <a:rPr sz="4800"/>
            </a:b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柳暗花明又一村。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685440"/>
            <a:ext cx="6256440" cy="518148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在青翠的山峦见漫步，清碧的山泉在曲折的溪流中淙淙穿行，草木愈渐浓茂，蜿蜒的山径也愈渐依稀难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正在迷茫之际突然看见前面花明柳暗，几家农舍，隐现于花木空疏之间，顿觉豁然开朗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7" name="Picture 6" descr="clip_image010"/>
          <p:cNvPicPr/>
          <p:nvPr/>
        </p:nvPicPr>
        <p:blipFill>
          <a:blip r:embed="rId2"/>
          <a:stretch/>
        </p:blipFill>
        <p:spPr>
          <a:xfrm>
            <a:off x="2627280" y="1197000"/>
            <a:ext cx="1657440" cy="43196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7"/>
          <p:cNvSpPr/>
          <p:nvPr/>
        </p:nvSpPr>
        <p:spPr>
          <a:xfrm>
            <a:off x="2224800" y="580536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颔联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村庄景色诱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近社日，村里忙着迎神赛会，村民们在迎神的箫鼓声中来来往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家虽衣冠简朴，但古老的乡俗却很盛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箫鼓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吹箫击鼓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风：古老的乡俗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-8317080" y="-36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WordArt 12"/>
          <p:cNvSpPr txBox="1"/>
          <p:nvPr/>
        </p:nvSpPr>
        <p:spPr>
          <a:xfrm>
            <a:off x="250920" y="404640"/>
            <a:ext cx="42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箫鼓追随春社近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3" name="WordArt 13"/>
          <p:cNvSpPr txBox="1"/>
          <p:nvPr/>
        </p:nvSpPr>
        <p:spPr>
          <a:xfrm>
            <a:off x="4859280" y="404640"/>
            <a:ext cx="410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衣冠简朴古风存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2204280" y="579600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颈联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乡村民风古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46" name="梅花三弄 古筝版.mp3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-1476360" y="3068640"/>
            <a:ext cx="101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但愿从今以后，趁着月明之夜来闲游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2142360" y="3933720"/>
            <a:ext cx="56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dc59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能随时拄杖，轻扣柴扉，与老农亲切絮语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708920" y="15876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从今若许闲乘月，拄杖无时夜叩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835280" y="55166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尾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2516040" y="5373720"/>
            <a:ext cx="27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尾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再来农家作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356260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3" name="Picture 5" descr="clip_image006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394920" cy="72626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莫笑农家腊酒浑，丰年留客足鸡豚．鉴赏：首联渲染出丰收之年农村一片宁静，欢跃的情景．这两句是说农家酒味虽薄，而待客情意却十分深厚．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足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字表达了农家款客尽其所有的盛情；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莫笑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二字，道出了诗人对农村淳朴民风的赞赏．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324000" y="404640"/>
            <a:ext cx="40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诗词鉴赏</a:t>
            </a:r>
            <a:endParaRPr b="0" lang="en-US" sz="2400" spc="-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57" name="Picture 4" descr="0001@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"/>
          <p:cNvSpPr/>
          <p:nvPr/>
        </p:nvSpPr>
        <p:spPr>
          <a:xfrm>
            <a:off x="971640" y="198900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颔联写山间水畔的景色，写景中富含哲理，千百年来广泛被人引用．这里描写的是诗人置身山阴道上，信步而行，疑若无路，忽而又开朗的情景．不仅反映了诗人对前途所抱的希望，也道出了世间事物消长变化的哲理，体现了宋诗特有的理趣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WordArt 6"/>
          <p:cNvSpPr txBox="1"/>
          <p:nvPr/>
        </p:nvSpPr>
        <p:spPr>
          <a:xfrm>
            <a:off x="611280" y="476280"/>
            <a:ext cx="74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9966ff">
                    <a:alpha val="76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山重水复疑无路，柳暗花明又一村．</a:t>
            </a:r>
            <a:endParaRPr b="0" lang="en-US" sz="2400" spc="-1" strike="noStrike">
              <a:ln w="0">
                <a:noFill/>
              </a:ln>
              <a:solidFill>
                <a:srgbClr val="9966ff">
                  <a:alpha val="76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8:21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10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