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4.gif" ContentType="image/gif"/>
  <Override PartName="/ppt/media/image17.png" ContentType="image/png"/>
  <Override PartName="/ppt/media/image22.gif" ContentType="image/gif"/>
  <Override PartName="/ppt/media/image21.jpeg" ContentType="image/jpeg"/>
  <Override PartName="/ppt/media/image6.gif" ContentType="image/gif"/>
  <Override PartName="/ppt/media/chimes.wav" ContentType="audio/x-wav"/>
  <Override PartName="/ppt/media/image20.jpeg" ContentType="image/jpeg"/>
  <Override PartName="/ppt/media/image19.wmf" ContentType="image/x-wmf"/>
  <Override PartName="/ppt/media/image18.gif" ContentType="image/gif"/>
  <Override PartName="/ppt/media/image7.gif" ContentType="image/gif"/>
  <Override PartName="/ppt/media/image35.png" ContentType="image/png"/>
  <Override PartName="/ppt/media/image32.gif" ContentType="image/gif"/>
  <Override PartName="/ppt/media/image26.jpeg" ContentType="image/jpeg"/>
  <Override PartName="/ppt/media/image12.gif" ContentType="image/gif"/>
  <Override PartName="/ppt/media/image9.jpeg" ContentType="image/jpeg"/>
  <Override PartName="/ppt/media/image13.gif" ContentType="image/gif"/>
  <Override PartName="/ppt/media/image28.jpeg" ContentType="image/jpeg"/>
  <Override PartName="/ppt/media/image15.gif" ContentType="image/gif"/>
  <Override PartName="/ppt/media/image29.gif" ContentType="image/gif"/>
  <Override PartName="/ppt/media/image30.gif" ContentType="image/gif"/>
  <Override PartName="/ppt/media/image33.png" ContentType="image/png"/>
  <Override PartName="/ppt/media/image5.gif" ContentType="image/gif"/>
  <Override PartName="/ppt/media/image8.jpeg" ContentType="image/jpeg"/>
  <Override PartName="/ppt/media/image36.png" ContentType="image/png"/>
  <Override PartName="/ppt/media/image37.png" ContentType="image/png"/>
  <Override PartName="/ppt/media/image11.gif" ContentType="image/gif"/>
  <Override PartName="/ppt/media/image10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31.jpeg" ContentType="image/jpeg"/>
  <Override PartName="/ppt/media/image14.gif" ContentType="image/gif"/>
  <Override PartName="/ppt/media/image25.gif" ContentType="image/gif"/>
  <Override PartName="/ppt/media/type.wav" ContentType="audio/x-wav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E5F-790C-492D-8A00-8DFE6B63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F4C-8206-4A2D-A440-8EBC308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EEDDF-A0D9-4786-B367-C738528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ED42A-C08C-410D-8DCF-BEAC4CD3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A8F7-B6D0-4281-A3F2-03AF3B3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BE920-C038-4414-B018-728743D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D6E08-961F-487B-99A7-897A775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B3E66-0C5D-422B-B2B5-283237E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488B4-57D4-4990-82D9-41CBBE9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9CBD5-B24D-4B66-8CEA-6B2DDE9D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2DD28-C7B0-4E5D-94FC-1D60E5F2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1682B-56C4-4D17-AF67-7AF8502A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2C3-0F0F-47D1-9634-A8915E63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D10A7-864B-4F92-B6E3-4B60CFB0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D71A0-6404-48A8-8E5D-785B108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7EC08-F9E2-40B3-BAEB-CD122DB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EF7DB-5705-49F8-A40A-E35CFA7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6C3A1-1B8E-4FC3-9245-A2DD9FC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0ACD5-B33C-4D89-8C1B-B166D7E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1A857-BECE-4465-B4BB-B32CC82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78F5-EA73-456C-BA97-106E08A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E05B1-A0FF-4623-B845-20FC887F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AA5BB-35E4-4BE2-ABC6-BD2D1915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9DA-7A7B-4885-B3AB-9D45C0D8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0304-3C21-4659-8B23-4492B2C7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FE13B-D867-4EA5-A13D-FC627EF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6566E-C450-48BE-85DC-FE58698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38EDC-5181-499B-A5B5-9AD580F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5BD2A-7094-4D38-BEDD-DC1791B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0344-D6A5-4DB3-A9BA-87F246C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CF9A8-9144-48B5-A870-5D7A2CBA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F6743-1FBE-40A2-91EB-E1C0779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FC42-531A-4525-BC94-0CCF4AB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0A93D-EB93-4497-A933-FAE3089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E48B-41A2-4654-BE6D-2E37C6F6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CF1B-A0B5-45D7-AAAA-6185EB2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3AEC-6B5B-4A91-856F-54EE6DCB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43CA-6539-4821-9431-BBD7BEC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51BA-BE9D-4C26-82B9-25C5D7E2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6448F-B4D9-43FB-A879-7F67656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DDFFB-83A9-4DF8-AC68-34411953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91DDD-6604-4E75-8B0E-E3C39D2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46F1D-3F27-44FA-9D6E-DB2025B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C63E9-6963-40FE-934F-697F5EAE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9D62B-C577-422A-9CBB-A1BC5E9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C13-BD5B-4B48-A171-4D9A6145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A43D5-4B7B-41FB-A9B8-701CABD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A40EA-BEA6-4E34-B7C7-34FD0B5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F6B87-B8BF-42A2-8A5F-00CD0BFF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42C35-A23D-4D29-8923-9ED50181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561E-BFC1-49EB-A2FC-D0955072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CA74C-B9A9-41F1-AA12-BC30A6E8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B21BE-D2E6-48AB-B18C-4330AB6A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9191E-2288-4B1A-92C3-205AD2C2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4F4D6-66FE-417D-A437-5CF60FA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AE8CB-0589-4ADF-9208-91626F05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0BBF-58C8-4118-98D4-CE5F008E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71FCB-A328-4807-B01A-5111437F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0E299-420B-4282-9CC3-70996713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77E27-2F64-42A5-9899-B24364C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F4B69-372D-44CB-A86B-C2ED2DD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9193D-3508-47A7-A30D-961DCF6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B3D73-46E3-45F1-94B8-2BF5C0D6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0EA13-E8AA-4B58-B659-0CE54187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3C5-0D83-4596-B555-4FA0C0D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B4BD-2CB9-4D4F-83DB-835A50E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3526-C609-43A6-85BB-62BB4307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3F1-1AD3-4001-9067-84ADD17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246-3830-4438-931F-E6003F9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DB0-DD6F-4BC6-B080-5389D414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462E-9970-4E7A-9695-F7E26D5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DB36-CA68-44B2-947F-1ADFD1B7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6B2-F030-4D8F-BEE4-CF3401C3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5E1B-C182-43F6-A7D0-930595BF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82DD-C0D0-40BF-ACB7-F3203BB5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C26A-0ABA-4BCA-9E7B-37414CF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F173-54B8-4F6B-8BC9-BB66930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9AF3-CFAE-4BF1-AD97-8E3905A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AA97-AF30-4862-97F7-DBC7CAEA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83C-1618-4A18-B2B6-31B6C937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6CA5-3406-4F26-A4A5-8C2B152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93AA-530C-4226-B26D-64464A8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812E-9528-4FC4-8AC5-A9548BE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C089-B216-4332-88D8-1A58F3F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F2DC-9FB4-479F-94A7-B0A3A91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6B3F-B9D7-493C-819D-C3923522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68B3-D396-4217-9C73-3BAAAB2A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8B08-425D-4197-A91B-817F3C8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4B3D-3562-456F-98D5-C363C9D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E2C3-ABBE-4D2D-BB48-5ABD863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86D-1C4E-44A1-83D1-0451FF8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386D-F755-447E-9CE4-B4519D7D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1158-00F0-4574-A940-9601D3E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20EB-561D-4177-BC08-BA450A71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5516-0355-4107-ABA2-8AC7759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F421-0398-416B-91DC-9BAD640E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049B-C8C6-422F-80D5-4C7DE6B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4DCA-FB50-471B-BFA2-4B5AF40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5C87-3A92-4CB1-ABB5-F645DF8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19F2-22F0-4763-87BE-50498BF2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B28DF-E386-42B8-9198-522F33C2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2C8-BE57-4BB2-9E4E-3451D662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FAAD-8522-4939-8AFB-354D31F5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DBAF-7298-42F8-A98C-C6BED7B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97A3-8970-440A-A5DD-2FC2CE7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332F-B158-40AC-9672-E92F0986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D425-CF44-415B-A1E1-CD612B4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ADB5E-9B1A-48F6-96E8-50C747A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8887B-FE76-46C0-99EA-EA68401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DED9-2BC1-4206-B6BF-E46EAFBD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2DB3-33E6-4995-B026-A0FD35EB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D861-53B2-4150-B0C7-248EF186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0FF-A602-4DC1-A155-5583732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DA0A-501A-418E-BD63-0A96BD41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BBA7-A783-4432-BB6B-8463A611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3E0A-6439-4DAD-9134-D1C0A32C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0400-3A31-482D-97B1-EF005C1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5160-EEAE-4A02-8A6D-904AAD2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44C2-7A79-433E-A852-AFF1BAB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09EA-CD0D-41F3-B5EF-3EFA059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E6E8-6DF1-4E37-8725-7C12E09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C7B0-EAA4-4346-B8CA-AAB5784E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A06B-9948-492C-98F7-DF0F1C3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DCA-854F-492C-89BC-3C23EC9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D18D-290D-4F1F-B349-A9C2365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0A32-234F-4438-B449-64444EE2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0E8F-B2DF-41DF-BC01-6F29DA17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A4712-AFA3-448D-9086-9BF8D1B8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1DEE-EB45-45D4-B6F9-257DAC9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712B-A63C-44BC-82D3-DCC06E6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59EF-F3DC-4707-A3A3-053C3A01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95CA-1BA9-4DF9-A17A-250D354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C1B9-8664-4C18-BC5E-A0746B8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2417-2287-4406-B9F5-8197EE9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109-72FC-409B-9E52-CCC6B10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071D-0461-4F85-A2ED-C246CE1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E6F0-C66F-405E-95FC-362F7CB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5178-C103-4974-9128-E2E88B2B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027F-6BD8-40A6-A060-6F7280DC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776D-3DA3-4946-A889-3AE69960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3929D-D7C6-4F3E-AF26-0862CA1C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7C3CC-F8E4-44EA-A50A-833E9A6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B805-DA86-4501-9C42-A95172D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A617-3282-45BA-B42B-FF3F4A0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7DE3-C491-48B0-BBE8-385164B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E3D-9C92-414D-ACBD-F4DCC74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17FA-F256-4432-95A8-B00BCD9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8FF9-4E8F-4BA4-A4F3-4E886F5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9906E-0CC9-49A4-B9FF-BFE2764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FAAB2-BEC2-4B32-BA88-BF473CD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4083-4AFD-425A-A566-4352ABE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524F2-5557-4EAF-8C30-DF69A0BE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9697-9B83-419B-BA41-940569C3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B9F7-B3E6-4CD7-87C7-F48703C5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6F158-675F-48A4-B8F4-93A6EEB9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934FE-AECB-4E7A-9E67-7CE36BF4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5F7-B593-4899-B9F5-19A8E98BC1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B2F-154E-48F7-8D69-7C343D45707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5EE-9844-44E1-9ECF-147C1A48F91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5D0-D1ED-4DE6-B32E-36DC432B323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3D3-D73B-4242-B594-2B1CB6F3D2F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E38-868B-4D7A-B6E3-334F5CAACA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3F6E-DB7A-410F-A8E2-7DEE5BFC731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5B4C-A08E-479C-B3DC-77EFE14DE83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B05-29EE-4885-9A97-EC7B5C8CD6C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BCD-BFFA-4E32-9DC1-B564324B3CD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F5E-6A25-4FE1-92BE-132F68570C0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8F6-64F6-4FEB-BCED-AD425D5894F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A86F-FF5B-4BCD-8B8A-A420D28513F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idu.com/ir?u=http://www.hongen.com/art/gdyy/bmrhc/img/gb201.gif&amp;f=http://www.hongen.com/art/gdyy/bmrhc/gb201.htm&amp;c=baidu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aidu.com/ir?u=http://suanming.myrice.com/images/Shakespeare.gif&amp;f=http://suanming.myrice.com/English/e_shaname.html&amp;c=baidu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hyperlink" Target="http://www.baidu.com/ir?u=http://www.hongen.com/art/twdg/htwxj/img/th1019a.jpg&amp;f=http://www.hongen.com/art/twdg/htwxj/th1019.htm&amp;c=baidu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gif"/><Relationship Id="rId18" Type="http://schemas.openxmlformats.org/officeDocument/2006/relationships/image" Target="../media/image4.gif"/><Relationship Id="rId19" Type="http://schemas.openxmlformats.org/officeDocument/2006/relationships/image" Target="../media/image5.gi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485795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534" name="页脚占位符 3"/>
          <p:cNvSpPr/>
          <p:nvPr/>
        </p:nvSpPr>
        <p:spPr>
          <a:xfrm>
            <a:off x="2700360" y="6248520"/>
            <a:ext cx="38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彩云"/>
              </a:rPr>
              <a:t>事物的正确答案不止一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1"/>
          <p:cNvSpPr/>
          <p:nvPr/>
        </p:nvSpPr>
        <p:spPr>
          <a:xfrm>
            <a:off x="263520" y="6248520"/>
            <a:ext cx="67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gb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2898720" cy="3644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971640" y="5229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贝多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19640" y="907920"/>
            <a:ext cx="546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他幼年早慧，在年轻时就确立了作曲家的地位。也许是命运的捉弄，在人生最辉煌的时刻，他却失聪了。但是，在这之后的八年中，他依旧继续着音乐家的生命，大大发展和改变了古典音乐 。他是德国最伟大的乐曲家之一，创作了如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英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命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田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交响曲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热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黎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钢琴奏鸣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5" descr="{4E923F4C-E43F-4B31-A948-C28D790D2014}"/>
          <p:cNvPicPr/>
          <p:nvPr/>
        </p:nvPicPr>
        <p:blipFill>
          <a:blip r:embed="rId3"/>
          <a:stretch/>
        </p:blipFill>
        <p:spPr>
          <a:xfrm>
            <a:off x="7734240" y="5092560"/>
            <a:ext cx="1409760" cy="1765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{3F6F41D0-B20F-4C4B-BC90-136EA180FC97}0"/>
          <p:cNvPicPr/>
          <p:nvPr/>
        </p:nvPicPr>
        <p:blipFill>
          <a:blip r:embed="rId4"/>
          <a:stretch/>
        </p:blipFill>
        <p:spPr>
          <a:xfrm>
            <a:off x="0" y="0"/>
            <a:ext cx="533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2" descr="Shakespe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2795400" cy="320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468360" y="49417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莎士比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203640" y="476280"/>
            <a:ext cx="5545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英国文艺复兴时期最伟大的戏剧家、诗人。他重要的喜剧作品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仲夏夜之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威尼斯商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事生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皆大欢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十二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等；历史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理查三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亨利四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四大悲剧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哈姆雷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奥赛罗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李尔王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麦克白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莎士比亚被马克思誉为“人类最伟大的戏剧天才。”“在过去的几千年人类历史中，最独领风骚者为成吉思汗，而最具才华者是莎士比亚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伟大的德国诗人歌德有一句名言“说不尽的莎士比亚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国戏剧家曹禺曾赞叹：“莎士比亚是一位使人类永久又惊又喜的巨人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5" descr="{8CFD98D6-669A-4B6F-BD5D-77A58E2B4990}"/>
          <p:cNvPicPr/>
          <p:nvPr/>
        </p:nvPicPr>
        <p:blipFill>
          <a:blip r:embed="rId3"/>
          <a:stretch/>
        </p:blipFill>
        <p:spPr>
          <a:xfrm>
            <a:off x="0" y="5837400"/>
            <a:ext cx="17002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{B0B5788A-4406-4E35-A3C0-ED25EFCFFCDF}0"/>
          <p:cNvPicPr/>
          <p:nvPr/>
        </p:nvPicPr>
        <p:blipFill>
          <a:blip r:embed="rId1"/>
          <a:stretch/>
        </p:blipFill>
        <p:spPr>
          <a:xfrm>
            <a:off x="0" y="5627520"/>
            <a:ext cx="2914560" cy="12304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th1019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268280"/>
            <a:ext cx="2438640" cy="32767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"/>
          <p:cNvSpPr/>
          <p:nvPr/>
        </p:nvSpPr>
        <p:spPr>
          <a:xfrm>
            <a:off x="539640" y="508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爱因斯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059280" y="404640"/>
            <a:ext cx="5715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世纪最伟大的物理学家，科学革命的旗手。他从小脑中就充满许多奇思妙想，例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岁时就奇怪为什么罗盘针总是转向南方？它周围有什么东西推动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爱因斯坦是人类历史上最具创造性才智的人物之一．他一生中开创了物理学的四个领域：狭义相对论、广义相对论、宇宙学和统一论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他是量子理论的主要创建者之一．他在分子运动论和量子统计理论等方面也作出重大贡献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68360" y="328464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读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9~1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段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圈划富有创造力的人和缺乏创造力的人的区别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Object 4" descr=""/>
          <p:cNvPicPr/>
          <p:nvPr/>
        </p:nvPicPr>
        <p:blipFill>
          <a:blip r:embed="rId1"/>
          <a:stretch/>
        </p:blipFill>
        <p:spPr>
          <a:xfrm>
            <a:off x="5292720" y="4797360"/>
            <a:ext cx="2666880" cy="13636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395280" y="1341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有人觉得创造力仅仅是他们的，作者是这样认为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6" descr="u=3840140242,1515311032&amp;fm=0&amp;gp=2"/>
          <p:cNvPicPr/>
          <p:nvPr/>
        </p:nvPicPr>
        <p:blipFill>
          <a:blip r:embed="rId2"/>
          <a:stretch/>
        </p:blipFill>
        <p:spPr>
          <a:xfrm>
            <a:off x="0" y="0"/>
            <a:ext cx="1359000" cy="1104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{8133534C-DDAE-4AC6-85AB-932B860A8083}"/>
          <p:cNvPicPr/>
          <p:nvPr/>
        </p:nvPicPr>
        <p:blipFill>
          <a:blip r:embed="rId3"/>
          <a:stretch/>
        </p:blipFill>
        <p:spPr>
          <a:xfrm>
            <a:off x="5940360" y="50133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8" descr="{B7B0CBEA-4C0A-4FC4-9A78-1D6053AA6A87}"/>
          <p:cNvPicPr/>
          <p:nvPr/>
        </p:nvPicPr>
        <p:blipFill>
          <a:blip r:embed="rId4"/>
          <a:stretch/>
        </p:blipFill>
        <p:spPr>
          <a:xfrm>
            <a:off x="0" y="5819760"/>
            <a:ext cx="9525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621440" y="0"/>
            <a:ext cx="5950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富有创造力的人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缺乏创造力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为自己具有创造力      不认为自己具有创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自信）                                  （不自信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注极其普通、甚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闪念的想法，                        进行自我压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对它反复推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逐渐充实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WordArt 4"/>
          <p:cNvSpPr txBox="1"/>
          <p:nvPr/>
        </p:nvSpPr>
        <p:spPr>
          <a:xfrm>
            <a:off x="2340000" y="501336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对比论证</a:t>
            </a:r>
            <a:endParaRPr b="0" lang="en-US" sz="2400" spc="1" strike="noStrike">
              <a:ln w="1260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7" name="Picture 5" descr="u=2145485764,629516353&amp;fm=0&amp;gp=12"/>
          <p:cNvPicPr/>
          <p:nvPr/>
        </p:nvPicPr>
        <p:blipFill>
          <a:blip r:embed="rId1"/>
          <a:stretch/>
        </p:blipFill>
        <p:spPr>
          <a:xfrm>
            <a:off x="324000" y="5661000"/>
            <a:ext cx="1054080" cy="927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{C38C602B-7BDA-4980-97DB-0A66F8E23E5F}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9640" y="549000"/>
            <a:ext cx="8136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国时，曹操手下有个主簿官杨修，聪明过人。一次，北方有个国家的使节、给曹操送来一盒精制糕点。曹操接过糕点来，随手在盒盖竖着写了三个大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合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完后曹操将糕点放在桌子上就出去了。杨修进来，看见这盒糕点后以及曹操的手迹，灵机一动，就自作主张把这盒糕点分给大家吃了。大家一下子就莫名其妙，只好听从杨修的吩咐。不一会儿，曹操回来了，见桌子上只留下空盒子，便查问是谁的主意。杨修不慌不忙地答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曹操听了这话，连声称赞杨修聪明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请你想一想，杨修是如何回答的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971640" y="4941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盒上写着’一人一口酥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8" descr="无标题2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"/>
          <p:cNvSpPr/>
          <p:nvPr/>
        </p:nvSpPr>
        <p:spPr>
          <a:xfrm>
            <a:off x="2340000" y="170028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971640" y="836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请同学们找出文中所有的设问句，体会其表达效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仿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042920" y="2276640"/>
            <a:ext cx="73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章开篇对四种图形的选择，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是怎么回答的呢？要是你选择的是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，Ｄ又怎样呢？这是唯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1042920" y="3573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４段段尾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，创造性思维又有哪些必需的要素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1042920" y="4508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９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创造性的思维是否任何人都具备呢？存在富有创造力和缺乏创造力的区别有哪些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7" descr="Gif0405_073"/>
          <p:cNvPicPr/>
          <p:nvPr/>
        </p:nvPicPr>
        <p:blipFill>
          <a:blip r:embed="rId2"/>
          <a:stretch/>
        </p:blipFill>
        <p:spPr>
          <a:xfrm>
            <a:off x="5796000" y="5229360"/>
            <a:ext cx="20923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755640" y="333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设问是一种无疑而问、自问自答的修辞方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826920" y="191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它的作用有：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①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提醒注意，引发思考，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②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突出某些内容，使文势有变化，起波澜；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③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在结构上起承接、过渡的作用，使文章结构紧密，条理清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826920" y="501336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上面三例均有引发读者思考的作用，后两例的承接、过渡作用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24C-69AA-4880-B51C-965C25A18F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3"/>
          <p:cNvSpPr/>
          <p:nvPr/>
        </p:nvSpPr>
        <p:spPr>
          <a:xfrm>
            <a:off x="7020000" y="33066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8360" y="162828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给重点字注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根深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孜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而不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700360" y="2421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708360" y="3284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ì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419640" y="407664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ī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3708360" y="4869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i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8" descr="hunqing14"/>
          <p:cNvPicPr/>
          <p:nvPr/>
        </p:nvPicPr>
        <p:blipFill>
          <a:blip r:embed="rId16"/>
          <a:stretch/>
        </p:blipFill>
        <p:spPr>
          <a:xfrm>
            <a:off x="5435640" y="15238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333"/>
          <p:cNvPicPr/>
          <p:nvPr/>
        </p:nvPicPr>
        <p:blipFill>
          <a:blip r:embed="rId17"/>
          <a:stretch/>
        </p:blipFill>
        <p:spPr>
          <a:xfrm>
            <a:off x="0" y="57340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1" descr="475"/>
          <p:cNvPicPr/>
          <p:nvPr/>
        </p:nvPicPr>
        <p:blipFill>
          <a:blip r:embed="rId18"/>
          <a:stretch/>
        </p:blipFill>
        <p:spPr>
          <a:xfrm>
            <a:off x="8101080" y="26028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1234996+"/>
          <p:cNvPicPr/>
          <p:nvPr/>
        </p:nvPicPr>
        <p:blipFill>
          <a:blip r:embed="rId19"/>
          <a:stretch/>
        </p:blipFill>
        <p:spPr>
          <a:xfrm>
            <a:off x="8191440" y="5734080"/>
            <a:ext cx="952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6" descr="5555555"/>
          <p:cNvPicPr/>
          <p:nvPr/>
        </p:nvPicPr>
        <p:blipFill>
          <a:blip r:embed="rId1"/>
          <a:stretch/>
        </p:blipFill>
        <p:spPr>
          <a:xfrm>
            <a:off x="8001000" y="549360"/>
            <a:ext cx="1143000" cy="1238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"/>
          <p:cNvSpPr/>
          <p:nvPr/>
        </p:nvSpPr>
        <p:spPr>
          <a:xfrm>
            <a:off x="611280" y="549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汲（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j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幼圆"/>
              </a:rPr>
              <a:t>í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取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吸取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推敲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比喻斟酌字句，反复琢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根深蒂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(d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幼圆"/>
              </a:rPr>
              <a:t>ì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固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比喻基础稳固，不容易动    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孜孜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(zīzī)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不倦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勤勉的样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持之以恒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有恒心地坚持下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锲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(qi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幼圆"/>
              </a:rPr>
              <a:t>è</a:t>
            </a:r>
            <a:r>
              <a:rPr b="1" lang="en-US" sz="3200" spc="-1" strike="noStrike">
                <a:solidFill>
                  <a:srgbClr val="990033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990033"/>
                </a:solidFill>
                <a:latin typeface="幼圆"/>
                <a:ea typeface="幼圆"/>
              </a:rPr>
              <a:t>而不舍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雕刻一件东西，一直刻下去不放手，比喻有恒心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有毅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不言而喻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不用说就可以明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轻而易举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形容事情容易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幼圆"/>
              </a:rPr>
              <a:t>一事无成：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连一样事情也没做成；什么事情都做不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468360" y="260280"/>
            <a:ext cx="8280360" cy="6597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7308720" y="0"/>
            <a:ext cx="15624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字词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53" name="Picture 5" descr="未命名66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9" descr="{8DDF8154-AB70-4DEB-B843-20817B04843F}"/>
          <p:cNvPicPr/>
          <p:nvPr/>
        </p:nvPicPr>
        <p:blipFill>
          <a:blip r:embed="rId1"/>
          <a:stretch/>
        </p:blipFill>
        <p:spPr>
          <a:xfrm>
            <a:off x="4648320" y="765000"/>
            <a:ext cx="4313160" cy="6093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根据释义写出相应的成语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形容事情容易做，不用费力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一件事都没有做成功，形容事业上毫无成就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实行起来有成效。多指方法或措施被实践证明生效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不用说就可以明白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400800" y="57150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14400" y="18288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轻而易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27672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一事无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4800600" y="45720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行之有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1219320" y="586728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不言而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21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304920" y="3429000"/>
            <a:ext cx="1523880" cy="1523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2362320" y="3276720"/>
            <a:ext cx="1447560" cy="167616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7238880" y="3809880"/>
            <a:ext cx="1676520" cy="1676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ecff"/>
                </a:solidFill>
                <a:latin typeface="黑体"/>
                <a:ea typeface="黑体"/>
              </a:rPr>
              <a:t>从下列图形中，找一个性质与其他三个不同的来</a:t>
            </a:r>
            <a:r>
              <a:rPr b="1" lang="en-US" sz="3600" spc="-1" strike="noStrike">
                <a:solidFill>
                  <a:srgbClr val="ccec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762120" y="1523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764280" y="249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2821320" y="249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11"/>
          <p:cNvSpPr/>
          <p:nvPr/>
        </p:nvSpPr>
        <p:spPr>
          <a:xfrm rot="1671000">
            <a:off x="4354200" y="3795480"/>
            <a:ext cx="2519280" cy="13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5257800" y="2971800"/>
            <a:ext cx="685800" cy="1905120"/>
          </a:xfrm>
          <a:prstGeom prst="ellipse">
            <a:avLst/>
          </a:prstGeom>
          <a:solidFill>
            <a:srgbClr val="421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3"/>
          <p:cNvSpPr/>
          <p:nvPr/>
        </p:nvSpPr>
        <p:spPr>
          <a:xfrm>
            <a:off x="5107680" y="241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7698240" y="234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7010280" y="4629240"/>
            <a:ext cx="2133720" cy="914400"/>
          </a:xfrm>
          <a:prstGeom prst="rect">
            <a:avLst/>
          </a:prstGeom>
          <a:solidFill>
            <a:srgbClr val="421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9" descr="{CAD65344-94C9-4D16-B498-0D28B67074F2}"/>
          <p:cNvPicPr/>
          <p:nvPr/>
        </p:nvPicPr>
        <p:blipFill>
          <a:blip r:embed="rId5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100000">
              <a:srgbClr val="99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1219320" y="220968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403280" y="184464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非常善于联想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道题让他得出了什么结论呢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大家读第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思考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2" descr="%EST0QAF14[WOZF8_HL9E7T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{00859D6F-965D-4800-A5A4-97996EBD68BD}"/>
          <p:cNvPicPr/>
          <p:nvPr/>
        </p:nvPicPr>
        <p:blipFill>
          <a:blip r:embed="rId2"/>
          <a:stretch/>
        </p:blipFill>
        <p:spPr>
          <a:xfrm>
            <a:off x="0" y="0"/>
            <a:ext cx="812880" cy="768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4" descr="{4FA12F4F-5A1C-41AD-BBB5-7849D8BDB751}"/>
          <p:cNvPicPr/>
          <p:nvPr/>
        </p:nvPicPr>
        <p:blipFill>
          <a:blip r:embed="rId3"/>
          <a:stretch/>
        </p:blipFill>
        <p:spPr>
          <a:xfrm>
            <a:off x="0" y="5916600"/>
            <a:ext cx="1116000" cy="94140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1"/>
          <p:cNvSpPr/>
          <p:nvPr/>
        </p:nvSpPr>
        <p:spPr>
          <a:xfrm>
            <a:off x="152280" y="5459400"/>
            <a:ext cx="76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1116000" y="2133720"/>
            <a:ext cx="714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不满足于一个答案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寻求第二种答案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赖于什么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WordArt 15"/>
          <p:cNvSpPr txBox="1"/>
          <p:nvPr/>
        </p:nvSpPr>
        <p:spPr>
          <a:xfrm>
            <a:off x="3276720" y="4005360"/>
            <a:ext cx="26175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创新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89" name="Picture 17" descr="_IIM68H8ZSV5(7$1P)A41K3"/>
          <p:cNvPicPr/>
          <p:nvPr/>
        </p:nvPicPr>
        <p:blipFill>
          <a:blip r:embed="rId1"/>
          <a:stretch/>
        </p:blipFill>
        <p:spPr>
          <a:xfrm>
            <a:off x="6804000" y="4149720"/>
            <a:ext cx="2124000" cy="25052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{9EF4400D-58E2-47DE-98BC-F5E5E3E1055E}0"/>
          <p:cNvPicPr/>
          <p:nvPr/>
        </p:nvPicPr>
        <p:blipFill>
          <a:blip r:embed="rId2"/>
          <a:stretch/>
        </p:blipFill>
        <p:spPr>
          <a:xfrm>
            <a:off x="179280" y="5705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{4A7E0AE7-9747-4E2B-9933-75DCBDD92E0A}"/>
          <p:cNvPicPr/>
          <p:nvPr/>
        </p:nvPicPr>
        <p:blipFill>
          <a:blip r:embed="rId3"/>
          <a:stretch/>
        </p:blipFill>
        <p:spPr>
          <a:xfrm>
            <a:off x="6877080" y="5781600"/>
            <a:ext cx="2266920" cy="1076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{024F87D5-8BA4-43C0-A638-0C555E1B33E8}2"/>
          <p:cNvPicPr/>
          <p:nvPr/>
        </p:nvPicPr>
        <p:blipFill>
          <a:blip r:embed="rId4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{101075B5-3BE8-4544-A607-273800C94D38}"/>
          <p:cNvPicPr/>
          <p:nvPr/>
        </p:nvPicPr>
        <p:blipFill>
          <a:blip r:embed="rId5"/>
          <a:stretch/>
        </p:blipFill>
        <p:spPr>
          <a:xfrm>
            <a:off x="7534440" y="0"/>
            <a:ext cx="16095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200400" y="3108240"/>
            <a:ext cx="5943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有渊博的知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有探求新事物，并为此而活用知识的态度和意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有持之以恒的精神和毅力（不断地尝试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BD05299_"/>
          <p:cNvPicPr/>
          <p:nvPr/>
        </p:nvPicPr>
        <p:blipFill>
          <a:blip r:embed="rId1"/>
          <a:stretch/>
        </p:blipFill>
        <p:spPr>
          <a:xfrm>
            <a:off x="304920" y="152280"/>
            <a:ext cx="2819160" cy="670572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4"/>
          <p:cNvSpPr/>
          <p:nvPr/>
        </p:nvSpPr>
        <p:spPr>
          <a:xfrm>
            <a:off x="7543800" y="3809880"/>
            <a:ext cx="15228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7391520" y="3657600"/>
            <a:ext cx="15228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7696080" y="3962520"/>
            <a:ext cx="15264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7848720" y="4114800"/>
            <a:ext cx="15228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8001000" y="4267080"/>
            <a:ext cx="15228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8153280" y="4419720"/>
            <a:ext cx="15264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305920" y="4660920"/>
            <a:ext cx="152280" cy="11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3276720" y="1341360"/>
            <a:ext cx="55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~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创造性的思维有哪些必需的要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75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0666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611280" y="1844640"/>
            <a:ext cx="8305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约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登贝尔克将毫不相关的两种机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压榨机和硬币打制器组合起来，创造了印刷机和排版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罗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歇内尔把电视接受器作为试验对象，发明了乒乓球游戏，从此开始了游戏机的革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684360" y="10731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要素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段中就已呈现，那么是否能删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节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WordArt 5"/>
          <p:cNvSpPr txBox="1"/>
          <p:nvPr/>
        </p:nvSpPr>
        <p:spPr>
          <a:xfrm>
            <a:off x="3059280" y="3141720"/>
            <a:ext cx="388764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举例论证</a:t>
            </a:r>
            <a:endParaRPr b="0" lang="en-US" sz="2400" spc="1" strike="noStrike">
              <a:ln w="1260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0" name="WordArt 7"/>
          <p:cNvSpPr txBox="1"/>
          <p:nvPr/>
        </p:nvSpPr>
        <p:spPr>
          <a:xfrm>
            <a:off x="900000" y="5877000"/>
            <a:ext cx="770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有力地证明了发挥创造力的关键在于如何运用知识。</a:t>
            </a:r>
            <a:endParaRPr b="0" lang="en-US" sz="2400" spc="1" strike="noStrike">
              <a:ln w="1260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6:27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8:25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