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DB19-D75C-4A62-9BDE-AD37148E92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9EDA-A8CB-4EF4-ABC2-AB87721C97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DC9-FBA0-49C0-B6A7-923255CF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7E5-7386-45FB-B24B-7E7A0703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499-2C27-4E7E-8AB7-15EB4EB7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ECE-6D13-44B7-B47D-15AF6F89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7B0-8535-4745-A807-9D89A206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7EE-9621-4A17-A63A-7F9AC29E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8BB-4C5A-406C-819A-B9DE22FE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699-EB7B-4F87-BDC2-98C5E3B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85C-12C4-4776-B287-43406C80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67D-EDF0-4515-A677-7E837BCC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0ED-F6A3-4DBF-A1C3-9B98B7D8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2D5-94EE-4F1D-BA6D-54C08AC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EBC5-8AD1-4363-8EBA-98F2A8AFD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604960" y="8571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Arial"/>
                <a:ea typeface="华文彩云"/>
              </a:rPr>
              <a:t>数学广角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83400" y="5661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14" name="Oval 3"/>
          <p:cNvSpPr/>
          <p:nvPr/>
        </p:nvSpPr>
        <p:spPr>
          <a:xfrm>
            <a:off x="632448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4038480" y="175248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20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>
            <a:off x="1676520" y="2819520"/>
            <a:ext cx="457200" cy="380880"/>
          </a:xfrm>
          <a:custGeom>
            <a:avLst/>
            <a:gdLst>
              <a:gd name="textAreaLeft" fmla="*/ 76320 w 457200"/>
              <a:gd name="textAreaRight" fmla="*/ 33588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00" hR="21600" stAng="10800000" swAng="5400000"/>
                <a:lnTo>
                  <a:pt x="12240" y="0"/>
                </a:lnTo>
                <a:arcTo wR="7200" hR="21600" stAng="-5400000" swAng="2406017"/>
                <a:lnTo>
                  <a:pt x="21095" y="13650"/>
                </a:lnTo>
                <a:lnTo>
                  <a:pt x="16920" y="21600"/>
                </a:lnTo>
                <a:lnTo>
                  <a:pt x="11735" y="13650"/>
                </a:lnTo>
                <a:lnTo>
                  <a:pt x="13895" y="13650"/>
                </a:lnTo>
                <a:arcTo wR="7200" hR="21600" stAng="-2993983" swAng="-1980059"/>
                <a:lnTo>
                  <a:pt x="9720" y="1366"/>
                </a:lnTo>
                <a:arcTo wR="7200" hR="21600" stAng="-5825958" swAng="-4974042"/>
                <a:close/>
              </a:path>
              <a:path fill="darkenLess" w="21600" h="21600">
                <a:moveTo>
                  <a:pt x="0" y="21600"/>
                </a:moveTo>
                <a:arcTo wR="7200" hR="21600" stAng="10800000" swAng="5400000"/>
                <a:lnTo>
                  <a:pt x="7200" y="0"/>
                </a:lnTo>
                <a:arcTo wR="7200" hR="21600" stAng="-5400000" swAng="425958"/>
                <a:lnTo>
                  <a:pt x="9720" y="1366"/>
                </a:lnTo>
                <a:arcTo wR="7200" hR="21600" stAng="-5825958" swAng="-4974042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26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 rot="5400000">
            <a:off x="1866600" y="255276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33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2590920" y="1447920"/>
            <a:ext cx="11430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800600" y="1676520"/>
            <a:ext cx="11430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41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3352680" y="14479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5562720" y="13716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 flipH="1">
            <a:off x="3048120" y="2971800"/>
            <a:ext cx="457200" cy="380880"/>
          </a:xfrm>
          <a:custGeom>
            <a:avLst/>
            <a:gdLst>
              <a:gd name="textAreaLeft" fmla="*/ 76320 w 457200"/>
              <a:gd name="textAreaRight" fmla="*/ 33588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00" hR="21600" stAng="10800000" swAng="5400000"/>
                <a:lnTo>
                  <a:pt x="12240" y="0"/>
                </a:lnTo>
                <a:arcTo wR="7200" hR="21600" stAng="-5400000" swAng="2406017"/>
                <a:lnTo>
                  <a:pt x="21095" y="13650"/>
                </a:lnTo>
                <a:lnTo>
                  <a:pt x="16920" y="21600"/>
                </a:lnTo>
                <a:lnTo>
                  <a:pt x="11735" y="13650"/>
                </a:lnTo>
                <a:lnTo>
                  <a:pt x="13895" y="13650"/>
                </a:lnTo>
                <a:arcTo wR="7200" hR="21600" stAng="-2993983" swAng="-1980059"/>
                <a:lnTo>
                  <a:pt x="9720" y="1366"/>
                </a:lnTo>
                <a:arcTo wR="7200" hR="21600" stAng="-5825958" swAng="-4974042"/>
                <a:close/>
              </a:path>
              <a:path fill="darkenLess" w="21600" h="21600">
                <a:moveTo>
                  <a:pt x="0" y="21600"/>
                </a:moveTo>
                <a:arcTo wR="7200" hR="21600" stAng="10800000" swAng="5400000"/>
                <a:lnTo>
                  <a:pt x="7200" y="0"/>
                </a:lnTo>
                <a:arcTo wR="7200" hR="21600" stAng="-5400000" swAng="425958"/>
                <a:lnTo>
                  <a:pt x="9720" y="1366"/>
                </a:lnTo>
                <a:arcTo wR="7200" hR="21600" stAng="-5825958" swAng="-4974042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50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 rot="16246200">
            <a:off x="3085920" y="270468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43008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65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3962520" y="1676520"/>
            <a:ext cx="11430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73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4572000" y="1600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 flipH="1">
            <a:off x="1676520" y="2819520"/>
            <a:ext cx="457200" cy="380880"/>
          </a:xfrm>
          <a:custGeom>
            <a:avLst/>
            <a:gdLst>
              <a:gd name="textAreaLeft" fmla="*/ 76320 w 457200"/>
              <a:gd name="textAreaRight" fmla="*/ 33588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00" hR="21600" stAng="10800000" swAng="5400000"/>
                <a:lnTo>
                  <a:pt x="12240" y="0"/>
                </a:lnTo>
                <a:arcTo wR="7200" hR="21600" stAng="-5400000" swAng="2406017"/>
                <a:lnTo>
                  <a:pt x="21095" y="13650"/>
                </a:lnTo>
                <a:lnTo>
                  <a:pt x="16920" y="21600"/>
                </a:lnTo>
                <a:lnTo>
                  <a:pt x="11735" y="13650"/>
                </a:lnTo>
                <a:lnTo>
                  <a:pt x="13895" y="13650"/>
                </a:lnTo>
                <a:arcTo wR="7200" hR="21600" stAng="-2993983" swAng="-1980059"/>
                <a:lnTo>
                  <a:pt x="9720" y="1366"/>
                </a:lnTo>
                <a:arcTo wR="7200" hR="21600" stAng="-5825958" swAng="-4974042"/>
                <a:close/>
              </a:path>
              <a:path fill="darkenLess" w="21600" h="21600">
                <a:moveTo>
                  <a:pt x="0" y="21600"/>
                </a:moveTo>
                <a:arcTo wR="7200" hR="21600" stAng="10800000" swAng="5400000"/>
                <a:lnTo>
                  <a:pt x="7200" y="0"/>
                </a:lnTo>
                <a:arcTo wR="7200" hR="21600" stAng="-5400000" swAng="425958"/>
                <a:lnTo>
                  <a:pt x="9720" y="1366"/>
                </a:lnTo>
                <a:arcTo wR="7200" hR="21600" stAng="-5825958" swAng="-4974042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82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 rot="16221000">
            <a:off x="1866600" y="270468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35268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611280" y="6365880"/>
            <a:ext cx="65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"/>
                            </p:stCondLst>
                            <p:childTnLst>
                              <p:par>
                                <p:cTn id="21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75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92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335268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210760" y="28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430080" y="28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80060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9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1258920" y="836280"/>
            <a:ext cx="611964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张饼需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钟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张饼的最佳方案需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64440" y="3141000"/>
            <a:ext cx="7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每次烙饼，锅里都有两张饼，速度最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619280" y="6237360"/>
            <a:ext cx="431640" cy="28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2556000" y="616572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RM_0746"/>
          <p:cNvPicPr/>
          <p:nvPr/>
        </p:nvPicPr>
        <p:blipFill>
          <a:blip r:embed="rId1"/>
          <a:stretch/>
        </p:blipFill>
        <p:spPr>
          <a:xfrm>
            <a:off x="2050920" y="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RM_0729"/>
          <p:cNvPicPr/>
          <p:nvPr/>
        </p:nvPicPr>
        <p:blipFill>
          <a:blip r:embed="rId2"/>
          <a:stretch/>
        </p:blipFill>
        <p:spPr>
          <a:xfrm>
            <a:off x="4643280" y="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贺卡１"/>
          <p:cNvPicPr/>
          <p:nvPr/>
        </p:nvPicPr>
        <p:blipFill>
          <a:blip r:embed="rId3"/>
          <a:srcRect l="0" t="0" r="7019" b="0"/>
          <a:stretch/>
        </p:blipFill>
        <p:spPr>
          <a:xfrm>
            <a:off x="1979640" y="1916280"/>
            <a:ext cx="4537080" cy="3659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2408040" y="5661000"/>
            <a:ext cx="383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两个人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合作完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三张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正反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贺卡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要怎样分工合作好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EA88-267E-43E3-BABD-AECA808CAB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例题２图片"/>
          <p:cNvPicPr/>
          <p:nvPr/>
        </p:nvPicPr>
        <p:blipFill>
          <a:blip r:embed="rId1"/>
          <a:srcRect l="18299" t="30619" r="61048" b="56830"/>
          <a:stretch/>
        </p:blipFill>
        <p:spPr>
          <a:xfrm>
            <a:off x="1042920" y="19162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例题２图片"/>
          <p:cNvPicPr/>
          <p:nvPr/>
        </p:nvPicPr>
        <p:blipFill>
          <a:blip r:embed="rId2"/>
          <a:srcRect l="39483" t="30934" r="37958" b="56806"/>
          <a:stretch/>
        </p:blipFill>
        <p:spPr>
          <a:xfrm>
            <a:off x="3203640" y="2060640"/>
            <a:ext cx="1584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9"/>
          <p:cNvGrpSpPr/>
          <p:nvPr/>
        </p:nvGrpSpPr>
        <p:grpSpPr>
          <a:xfrm>
            <a:off x="5508720" y="1557360"/>
            <a:ext cx="1728720" cy="1726920"/>
            <a:chOff x="5508720" y="1557360"/>
            <a:chExt cx="1728720" cy="1726920"/>
          </a:xfrm>
        </p:grpSpPr>
        <p:pic>
          <p:nvPicPr>
            <p:cNvPr id="55" name="Picture 7" descr="例题２图片"/>
            <p:cNvPicPr/>
            <p:nvPr/>
          </p:nvPicPr>
          <p:blipFill>
            <a:blip r:embed="rId3"/>
            <a:srcRect l="70645" t="29045" r="11901" b="60341"/>
            <a:stretch/>
          </p:blipFill>
          <p:spPr>
            <a:xfrm>
              <a:off x="5653080" y="1557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8" descr="例题２图片"/>
            <p:cNvPicPr/>
            <p:nvPr/>
          </p:nvPicPr>
          <p:blipFill>
            <a:blip r:embed="rId4"/>
            <a:srcRect l="65738" t="38750" r="12050" b="57354"/>
            <a:stretch/>
          </p:blipFill>
          <p:spPr>
            <a:xfrm>
              <a:off x="5508720" y="2852640"/>
              <a:ext cx="172872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10" descr="例题２图片"/>
          <p:cNvPicPr/>
          <p:nvPr/>
        </p:nvPicPr>
        <p:blipFill>
          <a:blip r:embed="rId5"/>
          <a:srcRect l="19261" t="43485" r="59274" b="43485"/>
          <a:stretch/>
        </p:blipFill>
        <p:spPr>
          <a:xfrm>
            <a:off x="826920" y="35002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例题２图片"/>
          <p:cNvPicPr/>
          <p:nvPr/>
        </p:nvPicPr>
        <p:blipFill>
          <a:blip r:embed="rId6"/>
          <a:srcRect l="40859" t="42284" r="35952" b="44022"/>
          <a:stretch/>
        </p:blipFill>
        <p:spPr>
          <a:xfrm>
            <a:off x="3203640" y="3840120"/>
            <a:ext cx="1655640" cy="1389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例题２图片"/>
          <p:cNvPicPr/>
          <p:nvPr/>
        </p:nvPicPr>
        <p:blipFill>
          <a:blip r:embed="rId7"/>
          <a:srcRect l="66203" t="41876" r="12415" b="43567"/>
          <a:stretch/>
        </p:blipFill>
        <p:spPr>
          <a:xfrm>
            <a:off x="5651640" y="3767040"/>
            <a:ext cx="1584360" cy="1533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2875320" y="692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沏茶前要做些什么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979640" y="6308640"/>
            <a:ext cx="288720" cy="333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2700360" y="6308640"/>
            <a:ext cx="360360" cy="3333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3708360" y="6308640"/>
            <a:ext cx="216000" cy="405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4572000" y="6380280"/>
            <a:ext cx="216000" cy="333360"/>
          </a:xfrm>
          <a:custGeom>
            <a:avLst/>
            <a:gdLst>
              <a:gd name="textAreaLeft" fmla="*/ 0 w 216000"/>
              <a:gd name="textAreaRight" fmla="*/ 216360 w 216000"/>
              <a:gd name="textAreaTop" fmla="*/ 86760 h 333360"/>
              <a:gd name="textAreaBottom" fmla="*/ 2466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5364000" y="6380280"/>
            <a:ext cx="21600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6229440" y="6380280"/>
            <a:ext cx="287280" cy="3333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例题２图片"/>
          <p:cNvPicPr/>
          <p:nvPr/>
        </p:nvPicPr>
        <p:blipFill>
          <a:blip r:embed="rId1"/>
          <a:srcRect l="21382" t="0" r="10990" b="68692"/>
          <a:stretch/>
        </p:blipFill>
        <p:spPr>
          <a:xfrm>
            <a:off x="144360" y="117360"/>
            <a:ext cx="896472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例题２图片"/>
          <p:cNvPicPr/>
          <p:nvPr/>
        </p:nvPicPr>
        <p:blipFill>
          <a:blip r:embed="rId1"/>
          <a:srcRect l="18299" t="30619" r="61048" b="56830"/>
          <a:stretch/>
        </p:blipFill>
        <p:spPr>
          <a:xfrm>
            <a:off x="1042920" y="19162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例题２图片"/>
          <p:cNvPicPr/>
          <p:nvPr/>
        </p:nvPicPr>
        <p:blipFill>
          <a:blip r:embed="rId2"/>
          <a:srcRect l="39483" t="30934" r="37958" b="56806"/>
          <a:stretch/>
        </p:blipFill>
        <p:spPr>
          <a:xfrm>
            <a:off x="3203640" y="2060640"/>
            <a:ext cx="1584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4"/>
          <p:cNvGrpSpPr/>
          <p:nvPr/>
        </p:nvGrpSpPr>
        <p:grpSpPr>
          <a:xfrm>
            <a:off x="5508720" y="1557360"/>
            <a:ext cx="1728720" cy="1726920"/>
            <a:chOff x="5508720" y="1557360"/>
            <a:chExt cx="1728720" cy="1726920"/>
          </a:xfrm>
        </p:grpSpPr>
        <p:pic>
          <p:nvPicPr>
            <p:cNvPr id="71" name="Picture 5" descr="例题２图片"/>
            <p:cNvPicPr/>
            <p:nvPr/>
          </p:nvPicPr>
          <p:blipFill>
            <a:blip r:embed="rId3"/>
            <a:srcRect l="70645" t="29045" r="11901" b="60341"/>
            <a:stretch/>
          </p:blipFill>
          <p:spPr>
            <a:xfrm>
              <a:off x="5653080" y="1557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例题２图片"/>
            <p:cNvPicPr/>
            <p:nvPr/>
          </p:nvPicPr>
          <p:blipFill>
            <a:blip r:embed="rId4"/>
            <a:srcRect l="65738" t="38750" r="12050" b="57354"/>
            <a:stretch/>
          </p:blipFill>
          <p:spPr>
            <a:xfrm>
              <a:off x="5508720" y="2852640"/>
              <a:ext cx="172872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7" descr="例题２图片"/>
          <p:cNvPicPr/>
          <p:nvPr/>
        </p:nvPicPr>
        <p:blipFill>
          <a:blip r:embed="rId5"/>
          <a:srcRect l="19261" t="43485" r="59274" b="43485"/>
          <a:stretch/>
        </p:blipFill>
        <p:spPr>
          <a:xfrm>
            <a:off x="826920" y="35002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例题２图片"/>
          <p:cNvPicPr/>
          <p:nvPr/>
        </p:nvPicPr>
        <p:blipFill>
          <a:blip r:embed="rId6"/>
          <a:srcRect l="40859" t="42284" r="35952" b="44022"/>
          <a:stretch/>
        </p:blipFill>
        <p:spPr>
          <a:xfrm>
            <a:off x="3203640" y="3840120"/>
            <a:ext cx="1655640" cy="138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例题２图片"/>
          <p:cNvPicPr/>
          <p:nvPr/>
        </p:nvPicPr>
        <p:blipFill>
          <a:blip r:embed="rId7"/>
          <a:srcRect l="66203" t="41876" r="12415" b="43567"/>
          <a:stretch/>
        </p:blipFill>
        <p:spPr>
          <a:xfrm>
            <a:off x="5435640" y="3716280"/>
            <a:ext cx="1584360" cy="1533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2544840" y="549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才能让客人尽快喝上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698040" y="1843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217320" y="1843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5233320" y="1772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769320" y="3572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3145680" y="36442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5377680" y="3572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华罗庚"/>
          <p:cNvPicPr/>
          <p:nvPr/>
        </p:nvPicPr>
        <p:blipFill>
          <a:blip r:embed="rId1"/>
          <a:stretch/>
        </p:blipFill>
        <p:spPr>
          <a:xfrm>
            <a:off x="2700360" y="692280"/>
            <a:ext cx="3168720" cy="41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256480" y="5031720"/>
            <a:ext cx="240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数学家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中国科学院院士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60200" y="4941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华罗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479400" y="5877000"/>
            <a:ext cx="140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500" spc="-1" strike="noStrike">
                <a:solidFill>
                  <a:srgbClr val="ff0000"/>
                </a:solidFill>
                <a:latin typeface="Arial"/>
              </a:rPr>
              <a:t>统筹法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卖烧饼3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1341360"/>
            <a:ext cx="5292720" cy="38703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6"/>
          <p:cNvGrpSpPr/>
          <p:nvPr/>
        </p:nvGrpSpPr>
        <p:grpSpPr>
          <a:xfrm>
            <a:off x="3492360" y="260280"/>
            <a:ext cx="4047120" cy="550800"/>
            <a:chOff x="3492360" y="260280"/>
            <a:chExt cx="4047120" cy="550800"/>
          </a:xfrm>
        </p:grpSpPr>
        <p:sp>
          <p:nvSpPr>
            <p:cNvPr id="89" name="Text Box 5"/>
            <p:cNvSpPr/>
            <p:nvPr/>
          </p:nvSpPr>
          <p:spPr>
            <a:xfrm>
              <a:off x="4844160" y="260280"/>
              <a:ext cx="269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时间只剩１０分钟！！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3492360" y="33228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5364000" y="1051560"/>
            <a:ext cx="2851200" cy="1947240"/>
            <a:chOff x="5364000" y="1051560"/>
            <a:chExt cx="2851200" cy="1947240"/>
          </a:xfrm>
        </p:grpSpPr>
        <p:pic>
          <p:nvPicPr>
            <p:cNvPr id="92" name="Picture 6" descr=""/>
            <p:cNvPicPr/>
            <p:nvPr/>
          </p:nvPicPr>
          <p:blipFill>
            <a:blip r:embed="rId2"/>
            <a:stretch/>
          </p:blipFill>
          <p:spPr>
            <a:xfrm>
              <a:off x="5867280" y="1125360"/>
              <a:ext cx="2347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6669000" y="2630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次能放两个烧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5364000" y="105156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②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5455800" y="3331080"/>
            <a:ext cx="2573640" cy="1474200"/>
            <a:chOff x="5455800" y="3331080"/>
            <a:chExt cx="2573640" cy="1474200"/>
          </a:xfrm>
        </p:grpSpPr>
        <p:pic>
          <p:nvPicPr>
            <p:cNvPr id="96" name="Picture 8" descr=""/>
            <p:cNvPicPr/>
            <p:nvPr/>
          </p:nvPicPr>
          <p:blipFill>
            <a:blip r:embed="rId3"/>
            <a:stretch/>
          </p:blipFill>
          <p:spPr>
            <a:xfrm>
              <a:off x="5867280" y="3500280"/>
              <a:ext cx="100836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6877080" y="3476520"/>
              <a:ext cx="115236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6406560" y="44370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每个饼要烙两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5455800" y="33310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③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9"/>
          <p:cNvGrpSpPr/>
          <p:nvPr/>
        </p:nvGrpSpPr>
        <p:grpSpPr>
          <a:xfrm>
            <a:off x="4087440" y="5563080"/>
            <a:ext cx="4336560" cy="486360"/>
            <a:chOff x="4087440" y="5563080"/>
            <a:chExt cx="4336560" cy="486360"/>
          </a:xfrm>
        </p:grpSpPr>
        <p:sp>
          <p:nvSpPr>
            <p:cNvPr id="101" name="Text Box 11"/>
            <p:cNvSpPr/>
            <p:nvPr/>
          </p:nvSpPr>
          <p:spPr>
            <a:xfrm>
              <a:off x="5500080" y="558972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每个饼每面要烙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黑体"/>
                </a:rPr>
                <a:t>３分钟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才熟！！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4087440" y="55630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④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04" name="Oval 3"/>
          <p:cNvSpPr/>
          <p:nvPr/>
        </p:nvSpPr>
        <p:spPr>
          <a:xfrm>
            <a:off x="502920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632448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08" name="Oval 3"/>
          <p:cNvSpPr/>
          <p:nvPr/>
        </p:nvSpPr>
        <p:spPr>
          <a:xfrm>
            <a:off x="502920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632448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3352680" y="152388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9:51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4:06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