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png" ContentType="image/png"/>
  <Override PartName="/ppt/media/image3.jpeg" ContentType="image/jpeg"/>
  <Override PartName="/ppt/media/image2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9.jpeg" ContentType="image/jpeg"/>
  <Override PartName="/ppt/media/image11.jpeg" ContentType="image/jpeg"/>
  <Override PartName="/ppt/media/image2.jpeg" ContentType="image/jpeg"/>
  <Override PartName="/ppt/media/image23.jpeg" ContentType="image/jpeg"/>
  <Override PartName="/ppt/media/image4.jpeg" ContentType="image/jpeg"/>
  <Override PartName="/ppt/media/image25.jpeg" ContentType="image/jpeg"/>
  <Override PartName="/ppt/media/image1.jpeg" ContentType="image/jpeg"/>
  <Override PartName="/ppt/media/cashreg.wav" ContentType="audio/x-wav"/>
  <Override PartName="/ppt/media/image22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66EE-7E0D-4066-949C-575478198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BE63-0FC7-4F9E-A77B-A40E810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6F3B-F2B6-4592-92A3-1301D57EA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7334-064E-4664-A78D-59838ACE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C2F0-0E52-4FB2-B9F0-D6365AD2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DFD0-14F6-4592-8356-B22A2CEC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356-C39D-4492-8868-D98A7DEE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35FB-13A8-4E14-B9AF-2FCFBCC5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715C-FD77-40E6-AA3D-40CD79B0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157D-23AB-43F8-95DA-4E301F41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7C0E-4F9D-4BC9-9B70-76D383F7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8B5B-B4F5-4306-B8BF-4C8B49653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9CA7F-202D-4917-B4A8-AECA7B597AE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3CF-736E-446B-AA46-89A382B18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E:\&#29976;&#38182;&#36149;\&#26032;&#24314;&#25991;&#20214;&#22841;\Microsoft word\&#28436;&#31034;&#25991;&#31295;8.ppt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audio" Target="../media/cashreg.wav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audio" Target="../media/cashreg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audio" Target="../media/cashreg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9.jpeg"/><Relationship Id="rId3" Type="http://schemas.openxmlformats.org/officeDocument/2006/relationships/image" Target="../media/image15.jpeg"/><Relationship Id="rId4" Type="http://schemas.openxmlformats.org/officeDocument/2006/relationships/image" Target="../media/image20.jpeg"/><Relationship Id="rId5" Type="http://schemas.openxmlformats.org/officeDocument/2006/relationships/image" Target="../media/image15.jpeg"/><Relationship Id="rId6" Type="http://schemas.openxmlformats.org/officeDocument/2006/relationships/image" Target="../media/image20.jpeg"/><Relationship Id="rId7" Type="http://schemas.openxmlformats.org/officeDocument/2006/relationships/image" Target="../media/image15.jpeg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3890-00C0-4F45-8208-482FED2CDD9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E821-5DB5-43A1-BBDE-531F4347C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4" descr="未命名1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2556000" y="1341360"/>
            <a:ext cx="4680000" cy="185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统计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小学 二年级数学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2448000" y="616572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001DC-FC65-4E26-86B4-1B6B18664D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E4D9-DFC3-427B-8366-7E1D76D6C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hgdkt2_0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4920" y="3212640"/>
            <a:ext cx="8218440" cy="23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喜欢（      ）的人最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喜欢跳绳的比喜欢游泳的（         ）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你还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1600200"/>
          <a:ext cx="8291520" cy="1036800"/>
        </p:xfrm>
        <a:graphic>
          <a:graphicData uri="http://schemas.openxmlformats.org/drawingml/2006/table">
            <a:tbl>
              <a:tblPr/>
              <a:tblGrid>
                <a:gridCol w="2073240"/>
                <a:gridCol w="2073240"/>
                <a:gridCol w="2071800"/>
                <a:gridCol w="2073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体育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跑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跳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游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喜欢的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26"/>
          <p:cNvSpPr/>
          <p:nvPr/>
        </p:nvSpPr>
        <p:spPr>
          <a:xfrm>
            <a:off x="2411280" y="3213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跳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529272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1547640" y="4005360"/>
            <a:ext cx="410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-8=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喜欢跳绳的比喜欢游泳的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7308720" y="220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6640560" y="2786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543564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3419640" y="2133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000"/>
                            </p:stCondLst>
                            <p:childTnLst>
                              <p:par>
                                <p:cTn id="39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500"/>
                            </p:stCondLst>
                            <p:childTnLst>
                              <p:par>
                                <p:cTn id="39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00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0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1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50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2B3F3-611D-48B8-8A48-3A5FFDE42A6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0A4F2-3D00-4286-873E-1647326F5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汽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包车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大客车比小汽车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00360" y="2276280"/>
            <a:ext cx="259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哪种车最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哪种车最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面包车和大客车一共有多少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先要知道什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907920"/>
          <a:ext cx="8507160" cy="1181160"/>
        </p:xfrm>
        <a:graphic>
          <a:graphicData uri="http://schemas.openxmlformats.org/drawingml/2006/table">
            <a:tbl>
              <a:tblPr/>
              <a:tblGrid>
                <a:gridCol w="2126880"/>
                <a:gridCol w="2127240"/>
                <a:gridCol w="2125800"/>
                <a:gridCol w="21272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种    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辆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324000" y="2276640"/>
          <a:ext cx="5688000" cy="4603680"/>
        </p:xfrm>
        <a:graphic>
          <a:graphicData uri="http://schemas.openxmlformats.org/drawingml/2006/table">
            <a:tbl>
              <a:tblPr/>
              <a:tblGrid>
                <a:gridCol w="711360"/>
                <a:gridCol w="711000"/>
                <a:gridCol w="711360"/>
                <a:gridCol w="711000"/>
                <a:gridCol w="709560"/>
                <a:gridCol w="711360"/>
                <a:gridCol w="711000"/>
                <a:gridCol w="711360"/>
              </a:tblGrid>
              <a:tr h="52056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辆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3" name="Picture 144" descr="xiao qi che 1"/>
          <p:cNvPicPr/>
          <p:nvPr/>
        </p:nvPicPr>
        <p:blipFill>
          <a:blip r:embed="rId1"/>
          <a:stretch/>
        </p:blipFill>
        <p:spPr>
          <a:xfrm>
            <a:off x="2484360" y="907920"/>
            <a:ext cx="2087640" cy="57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45" descr="mian bao che 1"/>
          <p:cNvPicPr/>
          <p:nvPr/>
        </p:nvPicPr>
        <p:blipFill>
          <a:blip r:embed="rId2"/>
          <a:stretch/>
        </p:blipFill>
        <p:spPr>
          <a:xfrm>
            <a:off x="4572000" y="907920"/>
            <a:ext cx="2087640" cy="57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6" descr="da ke che 2"/>
          <p:cNvPicPr/>
          <p:nvPr/>
        </p:nvPicPr>
        <p:blipFill>
          <a:blip r:embed="rId3"/>
          <a:stretch/>
        </p:blipFill>
        <p:spPr>
          <a:xfrm>
            <a:off x="6732720" y="907920"/>
            <a:ext cx="2087280" cy="576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47" descr="xiao qi che 1"/>
          <p:cNvPicPr/>
          <p:nvPr/>
        </p:nvPicPr>
        <p:blipFill>
          <a:blip r:embed="rId4"/>
          <a:stretch/>
        </p:blipFill>
        <p:spPr>
          <a:xfrm>
            <a:off x="1763640" y="5950080"/>
            <a:ext cx="647640" cy="718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8" descr="mian bao che 1"/>
          <p:cNvPicPr/>
          <p:nvPr/>
        </p:nvPicPr>
        <p:blipFill>
          <a:blip r:embed="rId5"/>
          <a:stretch/>
        </p:blipFill>
        <p:spPr>
          <a:xfrm>
            <a:off x="3203640" y="5950080"/>
            <a:ext cx="647640" cy="718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49" descr="da ke che 2"/>
          <p:cNvPicPr/>
          <p:nvPr/>
        </p:nvPicPr>
        <p:blipFill>
          <a:blip r:embed="rId6"/>
          <a:stretch/>
        </p:blipFill>
        <p:spPr>
          <a:xfrm>
            <a:off x="4643280" y="5950080"/>
            <a:ext cx="648000" cy="71892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151">
            <a:hlinkClick r:id="" action="ppaction://hlinkshowjump?jump=nextslide"/>
            <a:hlinkClick r:id="rId7"/>
          </p:cNvPr>
          <p:cNvSpPr/>
          <p:nvPr/>
        </p:nvSpPr>
        <p:spPr>
          <a:xfrm>
            <a:off x="6732720" y="6093000"/>
            <a:ext cx="1511280" cy="360360"/>
          </a:xfrm>
          <a:custGeom>
            <a:avLst/>
            <a:gdLst>
              <a:gd name="textAreaLeft" fmla="*/ 23040 w 1511280"/>
              <a:gd name="textAreaRight" fmla="*/ 1488240 w 1511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90517" h="21600">
                <a:moveTo>
                  <a:pt x="0" y="0"/>
                </a:moveTo>
                <a:lnTo>
                  <a:pt x="90517" y="0"/>
                </a:lnTo>
                <a:lnTo>
                  <a:pt x="90517" y="21600"/>
                </a:lnTo>
                <a:lnTo>
                  <a:pt x="0" y="21600"/>
                </a:lnTo>
                <a:close/>
              </a:path>
              <a:path fill="lightenLess" w="90517" h="21600">
                <a:moveTo>
                  <a:pt x="0" y="0"/>
                </a:moveTo>
                <a:lnTo>
                  <a:pt x="90517" y="0"/>
                </a:lnTo>
                <a:lnTo>
                  <a:pt x="89117" y="1400"/>
                </a:lnTo>
                <a:lnTo>
                  <a:pt x="1400" y="1400"/>
                </a:lnTo>
                <a:close/>
              </a:path>
              <a:path fill="darken" w="90517" h="21600">
                <a:moveTo>
                  <a:pt x="90517" y="0"/>
                </a:moveTo>
                <a:lnTo>
                  <a:pt x="90517" y="21600"/>
                </a:lnTo>
                <a:lnTo>
                  <a:pt x="89117" y="20200"/>
                </a:lnTo>
                <a:lnTo>
                  <a:pt x="89117" y="1400"/>
                </a:lnTo>
                <a:close/>
              </a:path>
              <a:path fill="darkenLess" w="90517" h="21600">
                <a:moveTo>
                  <a:pt x="905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117" y="20200"/>
                </a:lnTo>
                <a:close/>
              </a:path>
              <a:path fill="lighten" w="905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517" h="21600">
                <a:moveTo>
                  <a:pt x="4525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90517" h="21600">
                <a:moveTo>
                  <a:pt x="4525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90517" h="21600">
                <a:moveTo>
                  <a:pt x="42682" y="8224"/>
                </a:moveTo>
                <a:lnTo>
                  <a:pt x="46547" y="8224"/>
                </a:lnTo>
                <a:lnTo>
                  <a:pt x="46547" y="15221"/>
                </a:lnTo>
                <a:lnTo>
                  <a:pt x="47835" y="15221"/>
                </a:lnTo>
                <a:lnTo>
                  <a:pt x="47835" y="16144"/>
                </a:lnTo>
                <a:lnTo>
                  <a:pt x="42682" y="16144"/>
                </a:lnTo>
                <a:lnTo>
                  <a:pt x="42682" y="15221"/>
                </a:lnTo>
                <a:lnTo>
                  <a:pt x="43971" y="15221"/>
                </a:lnTo>
                <a:lnTo>
                  <a:pt x="43971" y="9129"/>
                </a:lnTo>
                <a:lnTo>
                  <a:pt x="42682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2"/>
          <p:cNvSpPr/>
          <p:nvPr/>
        </p:nvSpPr>
        <p:spPr>
          <a:xfrm>
            <a:off x="9448920" y="4299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53"/>
          <p:cNvSpPr/>
          <p:nvPr/>
        </p:nvSpPr>
        <p:spPr>
          <a:xfrm>
            <a:off x="6516720" y="28526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小汽车最多，大客车最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4"/>
          <p:cNvSpPr/>
          <p:nvPr/>
        </p:nvSpPr>
        <p:spPr>
          <a:xfrm>
            <a:off x="6659640" y="4365720"/>
            <a:ext cx="20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55"/>
          <p:cNvSpPr/>
          <p:nvPr/>
        </p:nvSpPr>
        <p:spPr>
          <a:xfrm>
            <a:off x="6443640" y="3933720"/>
            <a:ext cx="20160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4=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面包车和大客车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56"/>
          <p:cNvSpPr/>
          <p:nvPr/>
        </p:nvSpPr>
        <p:spPr>
          <a:xfrm>
            <a:off x="3276720" y="1628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57"/>
          <p:cNvSpPr/>
          <p:nvPr/>
        </p:nvSpPr>
        <p:spPr>
          <a:xfrm>
            <a:off x="5580000" y="155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58"/>
          <p:cNvSpPr/>
          <p:nvPr/>
        </p:nvSpPr>
        <p:spPr>
          <a:xfrm>
            <a:off x="7667640" y="1557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8" name="cashreg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500"/>
                            </p:stCondLst>
                            <p:childTnLst>
                              <p:par>
                                <p:cTn id="4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500"/>
                            </p:stCondLst>
                            <p:childTnLst>
                              <p:par>
                                <p:cTn id="4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0"/>
                            </p:stCondLst>
                            <p:childTnLst>
                              <p:par>
                                <p:cTn id="4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6000"/>
                            </p:stCondLst>
                            <p:childTnLst>
                              <p:par>
                                <p:cTn id="5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500"/>
                            </p:stCondLst>
                            <p:childTnLst>
                              <p:par>
                                <p:cTn id="5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3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0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1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5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C71EC-73FD-423A-AC8A-D71BC5B65A5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39BB-BEF7-4932-9D5D-7B31ACA017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000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练习题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nextslide"/>
            <a:hlinkClick r:id="rId2"/>
          </p:cNvPr>
          <p:cNvSpPr/>
          <p:nvPr/>
        </p:nvSpPr>
        <p:spPr>
          <a:xfrm>
            <a:off x="3635280" y="3716280"/>
            <a:ext cx="2232000" cy="792360"/>
          </a:xfrm>
          <a:custGeom>
            <a:avLst/>
            <a:gdLst>
              <a:gd name="textAreaLeft" fmla="*/ 51120 w 2232000"/>
              <a:gd name="textAreaRight" fmla="*/ 2180880 w 223200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60827" h="21600">
                <a:moveTo>
                  <a:pt x="0" y="0"/>
                </a:moveTo>
                <a:lnTo>
                  <a:pt x="60827" y="0"/>
                </a:lnTo>
                <a:lnTo>
                  <a:pt x="60827" y="21600"/>
                </a:lnTo>
                <a:lnTo>
                  <a:pt x="0" y="21600"/>
                </a:lnTo>
                <a:close/>
              </a:path>
              <a:path fill="lightenLess" w="60827" h="21600">
                <a:moveTo>
                  <a:pt x="0" y="0"/>
                </a:moveTo>
                <a:lnTo>
                  <a:pt x="60827" y="0"/>
                </a:lnTo>
                <a:lnTo>
                  <a:pt x="59427" y="1400"/>
                </a:lnTo>
                <a:lnTo>
                  <a:pt x="1400" y="1400"/>
                </a:lnTo>
                <a:close/>
              </a:path>
              <a:path fill="darken" w="60827" h="21600">
                <a:moveTo>
                  <a:pt x="60827" y="0"/>
                </a:moveTo>
                <a:lnTo>
                  <a:pt x="60827" y="21600"/>
                </a:lnTo>
                <a:lnTo>
                  <a:pt x="59427" y="20200"/>
                </a:lnTo>
                <a:lnTo>
                  <a:pt x="59427" y="1400"/>
                </a:lnTo>
                <a:close/>
              </a:path>
              <a:path fill="darkenLess" w="60827" h="21600">
                <a:moveTo>
                  <a:pt x="60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427" y="20200"/>
                </a:lnTo>
                <a:close/>
              </a:path>
              <a:path fill="lighten" w="60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827" h="21600">
                <a:moveTo>
                  <a:pt x="30414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60827" h="21600">
                <a:moveTo>
                  <a:pt x="30414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60827" h="21600">
                <a:moveTo>
                  <a:pt x="27837" y="8224"/>
                </a:moveTo>
                <a:lnTo>
                  <a:pt x="31702" y="8224"/>
                </a:lnTo>
                <a:lnTo>
                  <a:pt x="31702" y="15221"/>
                </a:lnTo>
                <a:lnTo>
                  <a:pt x="32990" y="15221"/>
                </a:lnTo>
                <a:lnTo>
                  <a:pt x="32990" y="16144"/>
                </a:lnTo>
                <a:lnTo>
                  <a:pt x="27837" y="16144"/>
                </a:lnTo>
                <a:lnTo>
                  <a:pt x="27837" y="15221"/>
                </a:lnTo>
                <a:lnTo>
                  <a:pt x="29125" y="15221"/>
                </a:lnTo>
                <a:lnTo>
                  <a:pt x="29125" y="9129"/>
                </a:lnTo>
                <a:lnTo>
                  <a:pt x="27837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3" name="cashreg.wav"/>
      </p:stSnd>
    </p:sndAc>
  </p:transition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2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330D9-CE45-44FE-A5A5-9FA97ECABC1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66F3-931E-4AD6-AB0F-59770661D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73200" y="490680"/>
          <a:ext cx="8229600" cy="6217920"/>
        </p:xfrm>
        <a:graphic>
          <a:graphicData uri="http://schemas.openxmlformats.org/drawingml/2006/table">
            <a:tbl>
              <a:tblPr/>
              <a:tblGrid>
                <a:gridCol w="1019160"/>
                <a:gridCol w="1038240"/>
                <a:gridCol w="1028880"/>
                <a:gridCol w="1028520"/>
                <a:gridCol w="1028880"/>
                <a:gridCol w="1028520"/>
                <a:gridCol w="1028880"/>
                <a:gridCol w="1028520"/>
              </a:tblGrid>
              <a:tr h="520560">
                <a:tc rowSpan="1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人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      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（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班学生选择情况如下：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1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跑步                      跳绳                       游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5" name="AutoShape 99">
            <a:hlinkClick r:id="rId1"/>
          </p:cNvPr>
          <p:cNvSpPr/>
          <p:nvPr/>
        </p:nvSpPr>
        <p:spPr>
          <a:xfrm>
            <a:off x="7093080" y="549360"/>
            <a:ext cx="1224000" cy="287280"/>
          </a:xfrm>
          <a:custGeom>
            <a:avLst/>
            <a:gdLst>
              <a:gd name="textAreaLeft" fmla="*/ 18360 w 1224000"/>
              <a:gd name="textAreaRight" fmla="*/ 1205640 w 122400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91942" h="21600">
                <a:moveTo>
                  <a:pt x="0" y="0"/>
                </a:moveTo>
                <a:lnTo>
                  <a:pt x="91942" y="0"/>
                </a:lnTo>
                <a:lnTo>
                  <a:pt x="91942" y="21600"/>
                </a:lnTo>
                <a:lnTo>
                  <a:pt x="0" y="21600"/>
                </a:lnTo>
                <a:close/>
              </a:path>
              <a:path fill="lightenLess" w="91942" h="21600">
                <a:moveTo>
                  <a:pt x="0" y="0"/>
                </a:moveTo>
                <a:lnTo>
                  <a:pt x="91942" y="0"/>
                </a:lnTo>
                <a:lnTo>
                  <a:pt x="90542" y="1400"/>
                </a:lnTo>
                <a:lnTo>
                  <a:pt x="1400" y="1400"/>
                </a:lnTo>
                <a:close/>
              </a:path>
              <a:path fill="darken" w="91942" h="21600">
                <a:moveTo>
                  <a:pt x="91942" y="0"/>
                </a:moveTo>
                <a:lnTo>
                  <a:pt x="91942" y="21600"/>
                </a:lnTo>
                <a:lnTo>
                  <a:pt x="90542" y="20200"/>
                </a:lnTo>
                <a:lnTo>
                  <a:pt x="90542" y="1400"/>
                </a:lnTo>
                <a:close/>
              </a:path>
              <a:path fill="darkenLess" w="91942" h="21600">
                <a:moveTo>
                  <a:pt x="919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0542" y="20200"/>
                </a:lnTo>
                <a:close/>
              </a:path>
              <a:path fill="lighten" w="919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1942" h="21600">
                <a:moveTo>
                  <a:pt x="45971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91942" h="21600">
                <a:moveTo>
                  <a:pt x="47076" y="14281"/>
                </a:moveTo>
                <a:lnTo>
                  <a:pt x="47076" y="12323"/>
                </a:lnTo>
                <a:cubicBezTo>
                  <a:pt x="47076" y="11496"/>
                  <a:pt x="47407" y="10800"/>
                  <a:pt x="48008" y="10800"/>
                </a:cubicBezTo>
                <a:cubicBezTo>
                  <a:pt x="49139" y="10800"/>
                  <a:pt x="50036" y="9434"/>
                  <a:pt x="50036" y="7849"/>
                </a:cubicBezTo>
                <a:cubicBezTo>
                  <a:pt x="50036" y="5534"/>
                  <a:pt x="48182" y="3794"/>
                  <a:pt x="45971" y="3794"/>
                </a:cubicBezTo>
                <a:cubicBezTo>
                  <a:pt x="43760" y="3794"/>
                  <a:pt x="42089" y="5534"/>
                  <a:pt x="42089" y="7849"/>
                </a:cubicBezTo>
                <a:lnTo>
                  <a:pt x="43943" y="7849"/>
                </a:lnTo>
                <a:cubicBezTo>
                  <a:pt x="43943" y="6709"/>
                  <a:pt x="44866" y="5821"/>
                  <a:pt x="45971" y="5821"/>
                </a:cubicBezTo>
                <a:cubicBezTo>
                  <a:pt x="47076" y="5821"/>
                  <a:pt x="48008" y="6709"/>
                  <a:pt x="48008" y="7849"/>
                </a:cubicBezTo>
                <a:cubicBezTo>
                  <a:pt x="48008" y="8589"/>
                  <a:pt x="47538" y="9320"/>
                  <a:pt x="47076" y="9320"/>
                </a:cubicBezTo>
                <a:cubicBezTo>
                  <a:pt x="45971" y="9320"/>
                  <a:pt x="44866" y="10800"/>
                  <a:pt x="44866" y="12323"/>
                </a:cubicBezTo>
                <a:lnTo>
                  <a:pt x="44866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EA3D-565E-478D-9812-7FD9AF1690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B9C83-5FA7-4758-97BE-3DE7DCBD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428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下面是二年级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班同学体育成绩统计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13080" y="777600"/>
            <a:ext cx="280836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1)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每格代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2)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人数最多的成绩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       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3)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有多少人考试及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4)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全班一共有多少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706320"/>
          <a:ext cx="5329080" cy="5616720"/>
        </p:xfrm>
        <a:graphic>
          <a:graphicData uri="http://schemas.openxmlformats.org/drawingml/2006/table">
            <a:tbl>
              <a:tblPr/>
              <a:tblGrid>
                <a:gridCol w="649440"/>
                <a:gridCol w="676080"/>
                <a:gridCol w="666720"/>
                <a:gridCol w="668520"/>
                <a:gridCol w="666720"/>
                <a:gridCol w="666720"/>
                <a:gridCol w="668160"/>
                <a:gridCol w="666720"/>
              </a:tblGrid>
              <a:tr h="52056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          良          差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71" name="Text Box 81"/>
          <p:cNvSpPr/>
          <p:nvPr/>
        </p:nvSpPr>
        <p:spPr>
          <a:xfrm>
            <a:off x="7667640" y="8366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2"/>
          <p:cNvSpPr/>
          <p:nvPr/>
        </p:nvSpPr>
        <p:spPr>
          <a:xfrm>
            <a:off x="6588000" y="148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3"/>
          <p:cNvSpPr/>
          <p:nvPr/>
        </p:nvSpPr>
        <p:spPr>
          <a:xfrm>
            <a:off x="6227640" y="234936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+21=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考试及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84"/>
          <p:cNvSpPr/>
          <p:nvPr/>
        </p:nvSpPr>
        <p:spPr>
          <a:xfrm>
            <a:off x="6300720" y="4221000"/>
            <a:ext cx="2374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+21+6=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全班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ashreg.wav"/>
      </p:stSnd>
    </p:sndAc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4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5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A4A3-FF2D-4F20-A516-0BC1FA6DDFA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0399E-5889-45FE-BA94-162FA4AC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在下表中表示出喜爱各项运动的人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300360" y="2276280"/>
            <a:ext cx="2592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喜爱的体育是什么项目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跑步的同学比滑冰的多几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跑步的和游泳的一共有多少人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24000" y="907920"/>
          <a:ext cx="8507160" cy="1138320"/>
        </p:xfrm>
        <a:graphic>
          <a:graphicData uri="http://schemas.openxmlformats.org/drawingml/2006/table">
            <a:tbl>
              <a:tblPr/>
              <a:tblGrid>
                <a:gridCol w="2126880"/>
                <a:gridCol w="2127240"/>
                <a:gridCol w="2125800"/>
                <a:gridCol w="21272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滑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跑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游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量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324000" y="2276640"/>
          <a:ext cx="5688000" cy="4603680"/>
        </p:xfrm>
        <a:graphic>
          <a:graphicData uri="http://schemas.openxmlformats.org/drawingml/2006/table">
            <a:tbl>
              <a:tblPr/>
              <a:tblGrid>
                <a:gridCol w="711360"/>
                <a:gridCol w="711000"/>
                <a:gridCol w="711360"/>
                <a:gridCol w="711000"/>
                <a:gridCol w="709560"/>
                <a:gridCol w="711360"/>
                <a:gridCol w="711000"/>
                <a:gridCol w="711360"/>
              </a:tblGrid>
              <a:tr h="52056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 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辆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滑冰       跑步        游泳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1" name="Text Box 97"/>
          <p:cNvSpPr/>
          <p:nvPr/>
        </p:nvSpPr>
        <p:spPr>
          <a:xfrm>
            <a:off x="2771640" y="162864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98"/>
          <p:cNvSpPr/>
          <p:nvPr/>
        </p:nvSpPr>
        <p:spPr>
          <a:xfrm>
            <a:off x="5076720" y="1628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9"/>
          <p:cNvSpPr/>
          <p:nvPr/>
        </p:nvSpPr>
        <p:spPr>
          <a:xfrm>
            <a:off x="7020000" y="1557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6"/>
          <p:cNvSpPr/>
          <p:nvPr/>
        </p:nvSpPr>
        <p:spPr>
          <a:xfrm>
            <a:off x="6588000" y="2997360"/>
            <a:ext cx="187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7"/>
          <p:cNvSpPr/>
          <p:nvPr/>
        </p:nvSpPr>
        <p:spPr>
          <a:xfrm>
            <a:off x="7250040" y="2924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答：跑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08"/>
          <p:cNvSpPr/>
          <p:nvPr/>
        </p:nvSpPr>
        <p:spPr>
          <a:xfrm>
            <a:off x="6516720" y="3933720"/>
            <a:ext cx="2195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–8=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（人）答：跑步的同学比滑冰的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9"/>
          <p:cNvSpPr/>
          <p:nvPr/>
        </p:nvSpPr>
        <p:spPr>
          <a:xfrm>
            <a:off x="6588000" y="5516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+4=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人）答：跑步的和游泳的一共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" name="cashreg.wav"/>
      </p:stSnd>
    </p:sndAc>
  </p:transition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5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16A40-241E-47B2-B1E7-3F148D05D43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36E5-854D-4548-B216-B27073564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统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9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我们了统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谁知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今天学习的统计与过去的有什么不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去我们学习的统计是一个格子代表一个单位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今天学习的统计是统计图中一个格子代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单位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同学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见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"/>
          <p:cNvSpPr/>
          <p:nvPr/>
        </p:nvSpPr>
        <p:spPr>
          <a:xfrm>
            <a:off x="1725480" y="6300720"/>
            <a:ext cx="569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0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4905-99DD-4011-888F-8F81A311B2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17" name="cashreg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C3CF-3F8C-4F19-8DC3-6C3AB0A87FD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DFD2-A218-48D0-BA0A-F363501372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0" y="1125360"/>
          <a:ext cx="9105840" cy="5732640"/>
        </p:xfrm>
        <a:graphic>
          <a:graphicData uri="http://schemas.openxmlformats.org/drawingml/2006/table">
            <a:tbl>
              <a:tblPr/>
              <a:tblGrid>
                <a:gridCol w="3035160"/>
                <a:gridCol w="3035520"/>
                <a:gridCol w="3035160"/>
              </a:tblGrid>
              <a:tr h="14367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条形统计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扇形统计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折线统计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1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4"/>
          <p:cNvSpPr/>
          <p:nvPr/>
        </p:nvSpPr>
        <p:spPr>
          <a:xfrm>
            <a:off x="468360" y="0"/>
            <a:ext cx="81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统计图的种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5" descr="tongji12"/>
          <p:cNvPicPr/>
          <p:nvPr/>
        </p:nvPicPr>
        <p:blipFill>
          <a:blip r:embed="rId1"/>
          <a:stretch/>
        </p:blipFill>
        <p:spPr>
          <a:xfrm>
            <a:off x="0" y="2376360"/>
            <a:ext cx="2987640" cy="1366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6" descr="tongji7"/>
          <p:cNvPicPr/>
          <p:nvPr/>
        </p:nvPicPr>
        <p:blipFill>
          <a:blip r:embed="rId2"/>
          <a:stretch/>
        </p:blipFill>
        <p:spPr>
          <a:xfrm>
            <a:off x="3059280" y="2376360"/>
            <a:ext cx="2952720" cy="136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tongji9"/>
          <p:cNvPicPr/>
          <p:nvPr/>
        </p:nvPicPr>
        <p:blipFill>
          <a:blip r:embed="rId3"/>
          <a:stretch/>
        </p:blipFill>
        <p:spPr>
          <a:xfrm>
            <a:off x="6084720" y="2376360"/>
            <a:ext cx="3059280" cy="136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8" descr="tongji13"/>
          <p:cNvPicPr/>
          <p:nvPr/>
        </p:nvPicPr>
        <p:blipFill>
          <a:blip r:embed="rId4"/>
          <a:stretch/>
        </p:blipFill>
        <p:spPr>
          <a:xfrm>
            <a:off x="0" y="3816360"/>
            <a:ext cx="2987640" cy="1295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9" descr="tongji1"/>
          <p:cNvPicPr/>
          <p:nvPr/>
        </p:nvPicPr>
        <p:blipFill>
          <a:blip r:embed="rId5"/>
          <a:stretch/>
        </p:blipFill>
        <p:spPr>
          <a:xfrm>
            <a:off x="0" y="5256360"/>
            <a:ext cx="2987640" cy="1412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0" descr="tongji6"/>
          <p:cNvPicPr/>
          <p:nvPr/>
        </p:nvPicPr>
        <p:blipFill>
          <a:blip r:embed="rId6"/>
          <a:stretch/>
        </p:blipFill>
        <p:spPr>
          <a:xfrm>
            <a:off x="3059280" y="3816360"/>
            <a:ext cx="2952720" cy="1368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1" descr="tongji15"/>
          <p:cNvPicPr/>
          <p:nvPr/>
        </p:nvPicPr>
        <p:blipFill>
          <a:blip r:embed="rId7"/>
          <a:stretch/>
        </p:blipFill>
        <p:spPr>
          <a:xfrm>
            <a:off x="3059280" y="5256360"/>
            <a:ext cx="2952720" cy="1412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2" descr="tongji10"/>
          <p:cNvPicPr/>
          <p:nvPr/>
        </p:nvPicPr>
        <p:blipFill>
          <a:blip r:embed="rId8"/>
          <a:stretch/>
        </p:blipFill>
        <p:spPr>
          <a:xfrm>
            <a:off x="6084720" y="3816360"/>
            <a:ext cx="3059280" cy="136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3" descr="tongji11"/>
          <p:cNvPicPr/>
          <p:nvPr/>
        </p:nvPicPr>
        <p:blipFill>
          <a:blip r:embed="rId9"/>
          <a:stretch/>
        </p:blipFill>
        <p:spPr>
          <a:xfrm>
            <a:off x="6084720" y="5256360"/>
            <a:ext cx="3059280" cy="14126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10" name="cashreg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1042920" y="1125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18C86-E4C8-448D-A1C0-6C282F989EE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3C9CD-958B-4A86-8DDD-87CA182EF3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72410363727279"/>
          <p:cNvPicPr/>
          <p:nvPr/>
        </p:nvPicPr>
        <p:blipFill>
          <a:blip r:embed="rId1"/>
          <a:stretch/>
        </p:blipFill>
        <p:spPr>
          <a:xfrm>
            <a:off x="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统计时用的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: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正   正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:  ●●●●●●●●●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3):  ☺☺☺☺☺☺☺☺☺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方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):  1, 2 ,3 ,4, 5, 6, 7, 8, 9,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各种统计方法有什么不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一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种统计方法最简单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5" dur="20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005A0-575D-4235-8B5B-C761BA1FCB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1E25-D182-4F72-935E-46E349775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7012612221144531"/>
          <p:cNvPicPr/>
          <p:nvPr/>
        </p:nvPicPr>
        <p:blipFill>
          <a:blip r:embed="rId1"/>
          <a:stretch/>
        </p:blipFill>
        <p:spPr>
          <a:xfrm>
            <a:off x="-181080" y="-2430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统计图的知识</a:t>
            </a:r>
            <a:br>
              <a:rPr sz="4400"/>
            </a:b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本例题的讲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95280" y="1700280"/>
            <a:ext cx="822960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卡片动物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老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狗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白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乌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求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每人找一张自己最喜欢的动物                      卡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cashreg.wav"/>
      </p:stSnd>
    </p:sndAc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500"/>
                            </p:stCondLst>
                            <p:childTnLst>
                              <p:par>
                                <p:cTn id="1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FC23-507A-438C-9CF2-A58A070A255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DF4D-E1B9-484C-A764-FCB134CAE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最喜欢的动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700280"/>
          <a:ext cx="8604360" cy="3600360"/>
        </p:xfrm>
        <a:graphic>
          <a:graphicData uri="http://schemas.openxmlformats.org/drawingml/2006/table">
            <a:tbl>
              <a:tblPr/>
              <a:tblGrid>
                <a:gridCol w="2151000"/>
                <a:gridCol w="2151000"/>
                <a:gridCol w="2151360"/>
                <a:gridCol w="2151000"/>
              </a:tblGrid>
              <a:tr h="226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  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 正 正 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正 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31" descr="xiafuxiang"/>
          <p:cNvPicPr/>
          <p:nvPr/>
        </p:nvPicPr>
        <p:blipFill>
          <a:blip r:embed="rId1"/>
          <a:stretch/>
        </p:blipFill>
        <p:spPr>
          <a:xfrm>
            <a:off x="0" y="1700280"/>
            <a:ext cx="2124000" cy="22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2" descr="gou"/>
          <p:cNvPicPr/>
          <p:nvPr/>
        </p:nvPicPr>
        <p:blipFill>
          <a:blip r:embed="rId2"/>
          <a:stretch/>
        </p:blipFill>
        <p:spPr>
          <a:xfrm>
            <a:off x="2195640" y="1700280"/>
            <a:ext cx="2016000" cy="22334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3" descr="xiao tu"/>
          <p:cNvPicPr/>
          <p:nvPr/>
        </p:nvPicPr>
        <p:blipFill>
          <a:blip r:embed="rId3"/>
          <a:stretch/>
        </p:blipFill>
        <p:spPr>
          <a:xfrm>
            <a:off x="4356000" y="1700280"/>
            <a:ext cx="2087640" cy="2233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4" descr="wu gui"/>
          <p:cNvPicPr/>
          <p:nvPr/>
        </p:nvPicPr>
        <p:blipFill>
          <a:blip r:embed="rId4"/>
          <a:stretch/>
        </p:blipFill>
        <p:spPr>
          <a:xfrm>
            <a:off x="6443640" y="1700280"/>
            <a:ext cx="2160720" cy="22334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611280" y="58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问：有谁知道为什么写“正”字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5" descr=""/>
          <p:cNvPicPr/>
          <p:nvPr/>
        </p:nvPicPr>
        <p:blipFill>
          <a:blip r:embed="rId5"/>
          <a:stretch/>
        </p:blipFill>
        <p:spPr>
          <a:xfrm>
            <a:off x="611280" y="4076640"/>
            <a:ext cx="409320" cy="362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6" descr=""/>
          <p:cNvPicPr/>
          <p:nvPr/>
        </p:nvPicPr>
        <p:blipFill>
          <a:blip r:embed="rId6"/>
          <a:stretch/>
        </p:blipFill>
        <p:spPr>
          <a:xfrm>
            <a:off x="611280" y="4076640"/>
            <a:ext cx="409320" cy="36216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7" name="cashreg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E208-6E58-479D-840D-EAB87FCEF9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072A-3343-4E03-8877-04258E59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未命名012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4" name=""/>
          <p:cNvGraphicFramePr/>
          <p:nvPr/>
        </p:nvGraphicFramePr>
        <p:xfrm>
          <a:off x="2124000" y="866880"/>
          <a:ext cx="6095880" cy="410508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41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答：“正”字共有五笔构成，每有一人选一个运动的名称就在相应的卡片下面写“正”字的一个笔画，一共有多少笔画就有多少人喜欢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newsflash/>
    <p:sndAc>
      <p:stSnd>
        <p:snd r:embed="rId2" name="cashreg.wav"/>
      </p:stSnd>
    </p:sndAc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C9E25-419F-42DA-BE76-AA31308714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28F-841B-4154-AC5F-CBFDAF546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最喜欢的动物</a:t>
            </a:r>
            <a:br>
              <a:rPr sz="2000"/>
            </a:b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“正”的笔画数目转换成数字形式如下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600200"/>
          <a:ext cx="8229600" cy="45165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28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9" name="Picture 45" descr="xiafuxiang"/>
          <p:cNvPicPr/>
          <p:nvPr/>
        </p:nvPicPr>
        <p:blipFill>
          <a:blip r:embed="rId1"/>
          <a:stretch/>
        </p:blipFill>
        <p:spPr>
          <a:xfrm>
            <a:off x="468360" y="162864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6" descr="gou"/>
          <p:cNvPicPr/>
          <p:nvPr/>
        </p:nvPicPr>
        <p:blipFill>
          <a:blip r:embed="rId2"/>
          <a:stretch/>
        </p:blipFill>
        <p:spPr>
          <a:xfrm>
            <a:off x="2556000" y="1628640"/>
            <a:ext cx="2016000" cy="2808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7" descr="xiao tu"/>
          <p:cNvPicPr/>
          <p:nvPr/>
        </p:nvPicPr>
        <p:blipFill>
          <a:blip r:embed="rId3"/>
          <a:stretch/>
        </p:blipFill>
        <p:spPr>
          <a:xfrm>
            <a:off x="4572000" y="1628640"/>
            <a:ext cx="2016000" cy="2737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8" descr="wu gui"/>
          <p:cNvPicPr/>
          <p:nvPr/>
        </p:nvPicPr>
        <p:blipFill>
          <a:blip r:embed="rId4"/>
          <a:stretch/>
        </p:blipFill>
        <p:spPr>
          <a:xfrm>
            <a:off x="6659640" y="1628640"/>
            <a:ext cx="201600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0"/>
          <p:cNvSpPr/>
          <p:nvPr/>
        </p:nvSpPr>
        <p:spPr>
          <a:xfrm>
            <a:off x="97164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1"/>
          <p:cNvSpPr/>
          <p:nvPr/>
        </p:nvSpPr>
        <p:spPr>
          <a:xfrm>
            <a:off x="3132000" y="5013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2"/>
          <p:cNvSpPr/>
          <p:nvPr/>
        </p:nvSpPr>
        <p:spPr>
          <a:xfrm>
            <a:off x="5148360" y="508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3"/>
          <p:cNvSpPr/>
          <p:nvPr/>
        </p:nvSpPr>
        <p:spPr>
          <a:xfrm>
            <a:off x="592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4"/>
          <p:cNvSpPr/>
          <p:nvPr/>
        </p:nvSpPr>
        <p:spPr>
          <a:xfrm>
            <a:off x="3033720" y="3141720"/>
            <a:ext cx="45864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5"/>
          <p:cNvSpPr/>
          <p:nvPr/>
        </p:nvSpPr>
        <p:spPr>
          <a:xfrm>
            <a:off x="7236000" y="501336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5" name="cashreg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3654-248F-44FA-AF87-1DFAAE77893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灯片编号占位符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83FC6-F960-45D8-80B7-511E79CBC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85"/>
          <p:cNvSpPr/>
          <p:nvPr/>
        </p:nvSpPr>
        <p:spPr>
          <a:xfrm>
            <a:off x="8361360" y="1700280"/>
            <a:ext cx="458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435280" y="907920"/>
            <a:ext cx="352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每格代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人数最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喜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比喜欢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 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条形统计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68360" y="836640"/>
          <a:ext cx="4751280" cy="5657760"/>
        </p:xfrm>
        <a:graphic>
          <a:graphicData uri="http://schemas.openxmlformats.org/drawingml/2006/table">
            <a:tbl>
              <a:tblPr/>
              <a:tblGrid>
                <a:gridCol w="474840"/>
                <a:gridCol w="475920"/>
                <a:gridCol w="474840"/>
                <a:gridCol w="474480"/>
                <a:gridCol w="476280"/>
                <a:gridCol w="474840"/>
                <a:gridCol w="474480"/>
                <a:gridCol w="474840"/>
                <a:gridCol w="476280"/>
                <a:gridCol w="47448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最喜欢的动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3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05" name="Picture 784" descr="xiafuxiang"/>
          <p:cNvPicPr/>
          <p:nvPr/>
        </p:nvPicPr>
        <p:blipFill>
          <a:blip r:embed="rId1"/>
          <a:stretch/>
        </p:blipFill>
        <p:spPr>
          <a:xfrm>
            <a:off x="1403280" y="5516640"/>
            <a:ext cx="460440" cy="61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85" descr="gou"/>
          <p:cNvPicPr/>
          <p:nvPr/>
        </p:nvPicPr>
        <p:blipFill>
          <a:blip r:embed="rId2"/>
          <a:stretch/>
        </p:blipFill>
        <p:spPr>
          <a:xfrm>
            <a:off x="2340000" y="5535720"/>
            <a:ext cx="503280" cy="63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86" descr="xiao tu"/>
          <p:cNvPicPr/>
          <p:nvPr/>
        </p:nvPicPr>
        <p:blipFill>
          <a:blip r:embed="rId3"/>
          <a:stretch/>
        </p:blipFill>
        <p:spPr>
          <a:xfrm>
            <a:off x="3276720" y="5516640"/>
            <a:ext cx="468360" cy="649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88" descr="wu gui"/>
          <p:cNvPicPr/>
          <p:nvPr/>
        </p:nvPicPr>
        <p:blipFill>
          <a:blip r:embed="rId4"/>
          <a:stretch/>
        </p:blipFill>
        <p:spPr>
          <a:xfrm>
            <a:off x="4284720" y="5516640"/>
            <a:ext cx="461880" cy="649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93" descr="xiao tu"/>
          <p:cNvPicPr/>
          <p:nvPr/>
        </p:nvPicPr>
        <p:blipFill>
          <a:blip r:embed="rId5"/>
          <a:stretch/>
        </p:blipFill>
        <p:spPr>
          <a:xfrm>
            <a:off x="6443640" y="2133720"/>
            <a:ext cx="468360" cy="649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94" descr="wu gui"/>
          <p:cNvPicPr/>
          <p:nvPr/>
        </p:nvPicPr>
        <p:blipFill>
          <a:blip r:embed="rId6"/>
          <a:stretch/>
        </p:blipFill>
        <p:spPr>
          <a:xfrm>
            <a:off x="8172360" y="2205000"/>
            <a:ext cx="461880" cy="64944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99"/>
          <p:cNvSpPr/>
          <p:nvPr/>
        </p:nvSpPr>
        <p:spPr>
          <a:xfrm>
            <a:off x="6877080" y="98100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801"/>
          <p:cNvSpPr/>
          <p:nvPr/>
        </p:nvSpPr>
        <p:spPr>
          <a:xfrm>
            <a:off x="6372360" y="134136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03"/>
          <p:cNvSpPr/>
          <p:nvPr/>
        </p:nvSpPr>
        <p:spPr>
          <a:xfrm>
            <a:off x="6516720" y="1557360"/>
            <a:ext cx="43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04" descr="xiao tu"/>
          <p:cNvPicPr/>
          <p:nvPr/>
        </p:nvPicPr>
        <p:blipFill>
          <a:blip r:embed="rId7"/>
          <a:stretch/>
        </p:blipFill>
        <p:spPr>
          <a:xfrm>
            <a:off x="6443640" y="1413000"/>
            <a:ext cx="468360" cy="6490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06"/>
          <p:cNvSpPr/>
          <p:nvPr/>
        </p:nvSpPr>
        <p:spPr>
          <a:xfrm>
            <a:off x="6443640" y="29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8" name="cashreg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69D9-8623-4797-8A13-6BF2BC3A57C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灯片编号占位符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1479E-D8B0-4256-B719-FD2C922F2E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你喜欢什么体育运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20404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(1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请在你喜欢的体育运动项目下投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投票方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每投一个项目的名称就在相应的卡片下面写“正”字的一个笔面，最后再计算笔画总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684360" y="836640"/>
          <a:ext cx="7920000" cy="1108080"/>
        </p:xfrm>
        <a:graphic>
          <a:graphicData uri="http://schemas.openxmlformats.org/drawingml/2006/table">
            <a:tbl>
              <a:tblPr/>
              <a:tblGrid>
                <a:gridCol w="1979640"/>
                <a:gridCol w="1981080"/>
                <a:gridCol w="1979640"/>
                <a:gridCol w="1979640"/>
              </a:tblGrid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育项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喜欢的人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Picture 23" descr="pao bu"/>
          <p:cNvPicPr/>
          <p:nvPr/>
        </p:nvPicPr>
        <p:blipFill>
          <a:blip r:embed="rId1"/>
          <a:stretch/>
        </p:blipFill>
        <p:spPr>
          <a:xfrm>
            <a:off x="2700360" y="836640"/>
            <a:ext cx="1800360" cy="504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4" descr="tiao sheng"/>
          <p:cNvPicPr/>
          <p:nvPr/>
        </p:nvPicPr>
        <p:blipFill>
          <a:blip r:embed="rId2"/>
          <a:stretch/>
        </p:blipFill>
        <p:spPr>
          <a:xfrm>
            <a:off x="4716360" y="836640"/>
            <a:ext cx="180036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5" descr="you yong"/>
          <p:cNvPicPr/>
          <p:nvPr/>
        </p:nvPicPr>
        <p:blipFill>
          <a:blip r:embed="rId3"/>
          <a:stretch/>
        </p:blipFill>
        <p:spPr>
          <a:xfrm>
            <a:off x="6659640" y="836640"/>
            <a:ext cx="1873080" cy="50472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4" name="cashreg.wav"/>
      </p:stSnd>
    </p:sndAc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500"/>
                            </p:stCondLst>
                            <p:childTnLst>
                              <p:par>
                                <p:cTn id="3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000"/>
                            </p:stCondLst>
                            <p:childTnLst>
                              <p:par>
                                <p:cTn id="3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5:07:5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3:27Z</dcterms:modified>
  <cp:revision>15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