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C6A-7AC7-4310-8E83-F7C1B38CDF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BFB2-F5BE-4072-923A-41824A301FE3}" type="slidenum">
              <a:rPr b="0" lang="zh-CN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1458-1B95-4954-A3BB-DBFEB1A940E8}" type="slidenum">
              <a:rPr b="0" lang="zh-CN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392-76FE-4041-8A2E-9A7E843C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7D2-4390-4AC4-99B3-6F7903E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91B-C30C-46FB-8036-6CEF326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3E9-7839-419F-A546-50AF24DF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65E-D552-4D76-A8EF-D5BBEED0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8EE-F368-482C-8552-676D96D7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077-FE14-4A5E-AD33-7AE61B6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660-5D05-4D19-9887-E2B56EA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9AF-8320-4613-B177-FB1DE68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994-E598-4D82-9D9C-688D6C1E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57C-126C-44BF-958E-C3713118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F94-AF31-4C29-9B21-1932F8BC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3B86-ACF2-4F49-8472-75DD66D5820F}" type="slidenum">
              <a:rPr b="0" lang="zh-CN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646280" y="170028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5a42"/>
                </a:solidFill>
                <a:latin typeface="微软雅黑"/>
                <a:ea typeface="微软雅黑"/>
              </a:rPr>
              <a:t>天气日历</a:t>
            </a:r>
            <a:endParaRPr b="0" lang="en-US" sz="9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122920" y="582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a42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695a42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-162000" y="-196920"/>
            <a:ext cx="9468000" cy="72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187280" y="1413000"/>
          <a:ext cx="2952720" cy="32605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26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日</a:t>
                      </a: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星期</a:t>
                      </a: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-22</a:t>
                      </a:r>
                      <a:r>
                        <a:rPr b="0" lang="zh-CN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℃</a:t>
                      </a: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solidFill>
                      <a:srgbClr val="9aba60"/>
                    </a:solidFill>
                  </a:tcPr>
                </a:tc>
              </a:tr>
            </a:tbl>
          </a:graphicData>
        </a:graphic>
      </p:graphicFrame>
      <p:sp>
        <p:nvSpPr>
          <p:cNvPr id="219" name="Text Box 13"/>
          <p:cNvSpPr/>
          <p:nvPr/>
        </p:nvSpPr>
        <p:spPr>
          <a:xfrm>
            <a:off x="0" y="115920"/>
            <a:ext cx="7236000" cy="9169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制作天气日历</a:t>
            </a:r>
            <a:endParaRPr b="0" lang="en-US" sz="5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1908000" y="14209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9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2268360" y="21398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日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22" name="Picture 21" descr="阴"/>
          <p:cNvPicPr/>
          <p:nvPr/>
        </p:nvPicPr>
        <p:blipFill>
          <a:blip r:embed="rId1"/>
          <a:stretch/>
        </p:blipFill>
        <p:spPr>
          <a:xfrm>
            <a:off x="1285920" y="3643200"/>
            <a:ext cx="936720" cy="70344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31"/>
          <p:cNvGrpSpPr/>
          <p:nvPr/>
        </p:nvGrpSpPr>
        <p:grpSpPr>
          <a:xfrm>
            <a:off x="2714760" y="3643200"/>
            <a:ext cx="720720" cy="719280"/>
            <a:chOff x="2714760" y="3643200"/>
            <a:chExt cx="720720" cy="719280"/>
          </a:xfrm>
        </p:grpSpPr>
        <p:sp>
          <p:nvSpPr>
            <p:cNvPr id="224" name="Rectangle 22"/>
            <p:cNvSpPr/>
            <p:nvPr/>
          </p:nvSpPr>
          <p:spPr>
            <a:xfrm>
              <a:off x="2714760" y="3643200"/>
              <a:ext cx="72072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25" name="Group 30"/>
            <p:cNvGrpSpPr/>
            <p:nvPr/>
          </p:nvGrpSpPr>
          <p:grpSpPr>
            <a:xfrm>
              <a:off x="2786400" y="3714480"/>
              <a:ext cx="431640" cy="465120"/>
              <a:chOff x="2786400" y="3714480"/>
              <a:chExt cx="431640" cy="465120"/>
            </a:xfrm>
          </p:grpSpPr>
          <p:grpSp>
            <p:nvGrpSpPr>
              <p:cNvPr id="226" name="Group 28"/>
              <p:cNvGrpSpPr/>
              <p:nvPr/>
            </p:nvGrpSpPr>
            <p:grpSpPr>
              <a:xfrm>
                <a:off x="2786400" y="3714480"/>
                <a:ext cx="431640" cy="465120"/>
                <a:chOff x="2786400" y="3714480"/>
                <a:chExt cx="431640" cy="465120"/>
              </a:xfrm>
            </p:grpSpPr>
            <p:sp>
              <p:nvSpPr>
                <p:cNvPr id="227" name="Line 23"/>
                <p:cNvSpPr/>
                <p:nvPr/>
              </p:nvSpPr>
              <p:spPr>
                <a:xfrm>
                  <a:off x="2786400" y="3930480"/>
                  <a:ext cx="431640" cy="249120"/>
                </a:xfrm>
                <a:prstGeom prst="line">
                  <a:avLst/>
                </a:prstGeom>
                <a:ln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24"/>
                <p:cNvSpPr/>
                <p:nvPr/>
              </p:nvSpPr>
              <p:spPr>
                <a:xfrm flipV="1">
                  <a:off x="2786400" y="3714480"/>
                  <a:ext cx="123840" cy="216000"/>
                </a:xfrm>
                <a:prstGeom prst="line">
                  <a:avLst/>
                </a:prstGeom>
                <a:ln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Line 29"/>
              <p:cNvSpPr/>
              <p:nvPr/>
            </p:nvSpPr>
            <p:spPr>
              <a:xfrm flipV="1">
                <a:off x="2859480" y="3858840"/>
                <a:ext cx="82440" cy="14436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30" name=""/>
          <p:cNvGraphicFramePr/>
          <p:nvPr/>
        </p:nvGraphicFramePr>
        <p:xfrm>
          <a:off x="4714920" y="1413000"/>
          <a:ext cx="2952720" cy="32605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26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月  </a:t>
                      </a: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日</a:t>
                      </a: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4d4d4d"/>
                          </a:solidFill>
                          <a:latin typeface="Times New Roman"/>
                          <a:ea typeface="宋体"/>
                        </a:rPr>
                        <a:t>星期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一</a:t>
                      </a: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-20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℃</a:t>
                      </a: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solidFill>
                      <a:srgbClr val="bcd195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38"/>
          <p:cNvSpPr/>
          <p:nvPr/>
        </p:nvSpPr>
        <p:spPr>
          <a:xfrm>
            <a:off x="5435640" y="1420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9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6000840" y="2143080"/>
            <a:ext cx="504720" cy="642600"/>
          </a:xfrm>
          <a:prstGeom prst="rect">
            <a:avLst/>
          </a:prstGeom>
          <a:solidFill>
            <a:srgbClr val="bcd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一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33" name="Picture 49" descr="小雨"/>
          <p:cNvPicPr/>
          <p:nvPr/>
        </p:nvPicPr>
        <p:blipFill>
          <a:blip r:embed="rId2"/>
          <a:stretch/>
        </p:blipFill>
        <p:spPr>
          <a:xfrm>
            <a:off x="5143680" y="357192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58"/>
          <p:cNvGrpSpPr/>
          <p:nvPr/>
        </p:nvGrpSpPr>
        <p:grpSpPr>
          <a:xfrm>
            <a:off x="6572160" y="3714840"/>
            <a:ext cx="720720" cy="718920"/>
            <a:chOff x="6572160" y="3714840"/>
            <a:chExt cx="720720" cy="718920"/>
          </a:xfrm>
        </p:grpSpPr>
        <p:sp>
          <p:nvSpPr>
            <p:cNvPr id="235" name="Rectangle 51"/>
            <p:cNvSpPr/>
            <p:nvPr/>
          </p:nvSpPr>
          <p:spPr>
            <a:xfrm>
              <a:off x="6572160" y="3714840"/>
              <a:ext cx="72072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36" name="Group 52"/>
            <p:cNvGrpSpPr/>
            <p:nvPr/>
          </p:nvGrpSpPr>
          <p:grpSpPr>
            <a:xfrm>
              <a:off x="6828120" y="3804480"/>
              <a:ext cx="276120" cy="498240"/>
              <a:chOff x="6828120" y="3804480"/>
              <a:chExt cx="276120" cy="498240"/>
            </a:xfrm>
          </p:grpSpPr>
          <p:grpSp>
            <p:nvGrpSpPr>
              <p:cNvPr id="237" name="Group 53"/>
              <p:cNvGrpSpPr/>
              <p:nvPr/>
            </p:nvGrpSpPr>
            <p:grpSpPr>
              <a:xfrm>
                <a:off x="6852600" y="3804480"/>
                <a:ext cx="251640" cy="498240"/>
                <a:chOff x="6852600" y="3804480"/>
                <a:chExt cx="251640" cy="498240"/>
              </a:xfrm>
            </p:grpSpPr>
            <p:sp>
              <p:nvSpPr>
                <p:cNvPr id="238" name="Line 54"/>
                <p:cNvSpPr/>
                <p:nvPr/>
              </p:nvSpPr>
              <p:spPr>
                <a:xfrm flipH="1">
                  <a:off x="6852600" y="3804480"/>
                  <a:ext cx="2520" cy="498240"/>
                </a:xfrm>
                <a:prstGeom prst="line">
                  <a:avLst/>
                </a:prstGeom>
                <a:ln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55"/>
                <p:cNvSpPr/>
                <p:nvPr/>
              </p:nvSpPr>
              <p:spPr>
                <a:xfrm>
                  <a:off x="6855120" y="3804480"/>
                  <a:ext cx="249120" cy="360"/>
                </a:xfrm>
                <a:prstGeom prst="line">
                  <a:avLst/>
                </a:prstGeom>
                <a:ln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Line 56"/>
              <p:cNvSpPr/>
              <p:nvPr/>
            </p:nvSpPr>
            <p:spPr>
              <a:xfrm>
                <a:off x="6828120" y="3903840"/>
                <a:ext cx="166320" cy="36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Text Box 57"/>
          <p:cNvSpPr/>
          <p:nvPr/>
        </p:nvSpPr>
        <p:spPr>
          <a:xfrm>
            <a:off x="5143680" y="41432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毫米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Text Box 59"/>
          <p:cNvSpPr/>
          <p:nvPr/>
        </p:nvSpPr>
        <p:spPr>
          <a:xfrm>
            <a:off x="468360" y="4781520"/>
            <a:ext cx="8353440" cy="703440"/>
          </a:xfrm>
          <a:prstGeom prst="rect">
            <a:avLst/>
          </a:prstGeom>
          <a:solidFill>
            <a:srgbClr val="9ab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4d4d4d"/>
                </a:solidFill>
                <a:latin typeface="黑体"/>
                <a:ea typeface="黑体"/>
              </a:rPr>
              <a:t>天气日历中，一般要记录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日期</a:t>
            </a:r>
            <a:r>
              <a:rPr b="1" lang="zh-CN" sz="4000" spc="-1" strike="noStrike">
                <a:solidFill>
                  <a:srgbClr val="4d4d4d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时间</a:t>
            </a:r>
            <a:r>
              <a:rPr b="1" lang="zh-CN" sz="4000" spc="-1" strike="noStrike">
                <a:solidFill>
                  <a:srgbClr val="4d4d4d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云量</a:t>
            </a:r>
            <a:r>
              <a:rPr b="1" lang="zh-CN" sz="4000" spc="-1" strike="noStrike">
                <a:solidFill>
                  <a:srgbClr val="4d4d4d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降水情况</a:t>
            </a:r>
            <a:r>
              <a:rPr b="1" lang="zh-CN" sz="4000" spc="-1" strike="noStrike">
                <a:solidFill>
                  <a:srgbClr val="4d4d4d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风速和风向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43" name="Object 40" descr=""/>
          <p:cNvPicPr/>
          <p:nvPr/>
        </p:nvPicPr>
        <p:blipFill>
          <a:blip r:embed="rId3"/>
          <a:stretch/>
        </p:blipFill>
        <p:spPr>
          <a:xfrm>
            <a:off x="3071880" y="3000240"/>
            <a:ext cx="3657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3708360" y="98100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d4d4d"/>
                </a:solidFill>
                <a:latin typeface="Verdana"/>
                <a:ea typeface="楷体_GB2312"/>
              </a:rPr>
              <a:t>月气象员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46" name="Picture 4" descr="2007124173159806"/>
          <p:cNvPicPr/>
          <p:nvPr/>
        </p:nvPicPr>
        <p:blipFill>
          <a:blip r:embed="rId2"/>
          <a:stretch/>
        </p:blipFill>
        <p:spPr>
          <a:xfrm>
            <a:off x="1835280" y="170028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115920"/>
            <a:ext cx="7236000" cy="9169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气温图</a:t>
            </a:r>
            <a:endParaRPr b="0" lang="en-US" sz="5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48" name="Group 196"/>
          <p:cNvGrpSpPr/>
          <p:nvPr/>
        </p:nvGrpSpPr>
        <p:grpSpPr>
          <a:xfrm>
            <a:off x="250920" y="1676520"/>
            <a:ext cx="4392360" cy="4228200"/>
            <a:chOff x="250920" y="1676520"/>
            <a:chExt cx="4392360" cy="4228200"/>
          </a:xfrm>
        </p:grpSpPr>
        <p:grpSp>
          <p:nvGrpSpPr>
            <p:cNvPr id="249" name="Group 105"/>
            <p:cNvGrpSpPr/>
            <p:nvPr/>
          </p:nvGrpSpPr>
          <p:grpSpPr>
            <a:xfrm>
              <a:off x="1116000" y="2133720"/>
              <a:ext cx="3096720" cy="3384360"/>
              <a:chOff x="1116000" y="2133720"/>
              <a:chExt cx="3096720" cy="3384360"/>
            </a:xfrm>
          </p:grpSpPr>
          <p:grpSp>
            <p:nvGrpSpPr>
              <p:cNvPr id="250" name="Group 102"/>
              <p:cNvGrpSpPr/>
              <p:nvPr/>
            </p:nvGrpSpPr>
            <p:grpSpPr>
              <a:xfrm>
                <a:off x="1116000" y="2133720"/>
                <a:ext cx="2447640" cy="3382920"/>
                <a:chOff x="1116000" y="2133720"/>
                <a:chExt cx="2447640" cy="3382920"/>
              </a:xfrm>
            </p:grpSpPr>
            <p:sp>
              <p:nvSpPr>
                <p:cNvPr id="251" name="Rectangle 74"/>
                <p:cNvSpPr/>
                <p:nvPr/>
              </p:nvSpPr>
              <p:spPr>
                <a:xfrm>
                  <a:off x="3212640" y="510372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73"/>
                <p:cNvSpPr/>
                <p:nvPr/>
              </p:nvSpPr>
              <p:spPr>
                <a:xfrm>
                  <a:off x="2865240" y="5103720"/>
                  <a:ext cx="3470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72"/>
                <p:cNvSpPr/>
                <p:nvPr/>
              </p:nvSpPr>
              <p:spPr>
                <a:xfrm>
                  <a:off x="2514240" y="510372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71"/>
                <p:cNvSpPr/>
                <p:nvPr/>
              </p:nvSpPr>
              <p:spPr>
                <a:xfrm>
                  <a:off x="2165040" y="5103720"/>
                  <a:ext cx="3488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70"/>
                <p:cNvSpPr/>
                <p:nvPr/>
              </p:nvSpPr>
              <p:spPr>
                <a:xfrm>
                  <a:off x="1814040" y="510372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69"/>
                <p:cNvSpPr/>
                <p:nvPr/>
              </p:nvSpPr>
              <p:spPr>
                <a:xfrm>
                  <a:off x="1466640" y="5103720"/>
                  <a:ext cx="3470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Rectangle 68"/>
                <p:cNvSpPr/>
                <p:nvPr/>
              </p:nvSpPr>
              <p:spPr>
                <a:xfrm>
                  <a:off x="1116000" y="510372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Rectangle 67"/>
                <p:cNvSpPr/>
                <p:nvPr/>
              </p:nvSpPr>
              <p:spPr>
                <a:xfrm>
                  <a:off x="3212640" y="47257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66"/>
                <p:cNvSpPr/>
                <p:nvPr/>
              </p:nvSpPr>
              <p:spPr>
                <a:xfrm>
                  <a:off x="2865240" y="472572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65"/>
                <p:cNvSpPr/>
                <p:nvPr/>
              </p:nvSpPr>
              <p:spPr>
                <a:xfrm>
                  <a:off x="2514240" y="47257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Rectangle 64"/>
                <p:cNvSpPr/>
                <p:nvPr/>
              </p:nvSpPr>
              <p:spPr>
                <a:xfrm>
                  <a:off x="2165040" y="4725720"/>
                  <a:ext cx="3488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63"/>
                <p:cNvSpPr/>
                <p:nvPr/>
              </p:nvSpPr>
              <p:spPr>
                <a:xfrm>
                  <a:off x="1814040" y="47257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62"/>
                <p:cNvSpPr/>
                <p:nvPr/>
              </p:nvSpPr>
              <p:spPr>
                <a:xfrm>
                  <a:off x="1466640" y="472572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61"/>
                <p:cNvSpPr/>
                <p:nvPr/>
              </p:nvSpPr>
              <p:spPr>
                <a:xfrm>
                  <a:off x="1116000" y="47257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60"/>
                <p:cNvSpPr/>
                <p:nvPr/>
              </p:nvSpPr>
              <p:spPr>
                <a:xfrm>
                  <a:off x="3212640" y="434808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Rectangle 59"/>
                <p:cNvSpPr/>
                <p:nvPr/>
              </p:nvSpPr>
              <p:spPr>
                <a:xfrm>
                  <a:off x="2865240" y="434808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Rectangle 58"/>
                <p:cNvSpPr/>
                <p:nvPr/>
              </p:nvSpPr>
              <p:spPr>
                <a:xfrm>
                  <a:off x="2514240" y="434808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57"/>
                <p:cNvSpPr/>
                <p:nvPr/>
              </p:nvSpPr>
              <p:spPr>
                <a:xfrm>
                  <a:off x="2165040" y="4348080"/>
                  <a:ext cx="3488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Rectangle 56"/>
                <p:cNvSpPr/>
                <p:nvPr/>
              </p:nvSpPr>
              <p:spPr>
                <a:xfrm>
                  <a:off x="1814040" y="434808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55"/>
                <p:cNvSpPr/>
                <p:nvPr/>
              </p:nvSpPr>
              <p:spPr>
                <a:xfrm>
                  <a:off x="1466640" y="434808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54"/>
                <p:cNvSpPr/>
                <p:nvPr/>
              </p:nvSpPr>
              <p:spPr>
                <a:xfrm>
                  <a:off x="1116000" y="434808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53"/>
                <p:cNvSpPr/>
                <p:nvPr/>
              </p:nvSpPr>
              <p:spPr>
                <a:xfrm>
                  <a:off x="3212640" y="397008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Rectangle 52"/>
                <p:cNvSpPr/>
                <p:nvPr/>
              </p:nvSpPr>
              <p:spPr>
                <a:xfrm>
                  <a:off x="2865240" y="397008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1"/>
                <p:cNvSpPr/>
                <p:nvPr/>
              </p:nvSpPr>
              <p:spPr>
                <a:xfrm>
                  <a:off x="2514240" y="397008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Rectangle 50"/>
                <p:cNvSpPr/>
                <p:nvPr/>
              </p:nvSpPr>
              <p:spPr>
                <a:xfrm>
                  <a:off x="2165040" y="3970080"/>
                  <a:ext cx="3488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Rectangle 49"/>
                <p:cNvSpPr/>
                <p:nvPr/>
              </p:nvSpPr>
              <p:spPr>
                <a:xfrm>
                  <a:off x="1814040" y="397008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48"/>
                <p:cNvSpPr/>
                <p:nvPr/>
              </p:nvSpPr>
              <p:spPr>
                <a:xfrm>
                  <a:off x="1466640" y="397008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Rectangle 47"/>
                <p:cNvSpPr/>
                <p:nvPr/>
              </p:nvSpPr>
              <p:spPr>
                <a:xfrm>
                  <a:off x="1116000" y="397008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46"/>
                <p:cNvSpPr/>
                <p:nvPr/>
              </p:nvSpPr>
              <p:spPr>
                <a:xfrm>
                  <a:off x="3212640" y="359100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45"/>
                <p:cNvSpPr/>
                <p:nvPr/>
              </p:nvSpPr>
              <p:spPr>
                <a:xfrm>
                  <a:off x="2865240" y="3591000"/>
                  <a:ext cx="3470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44"/>
                <p:cNvSpPr/>
                <p:nvPr/>
              </p:nvSpPr>
              <p:spPr>
                <a:xfrm>
                  <a:off x="2514240" y="359100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43"/>
                <p:cNvSpPr/>
                <p:nvPr/>
              </p:nvSpPr>
              <p:spPr>
                <a:xfrm>
                  <a:off x="2165040" y="3591000"/>
                  <a:ext cx="3488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42"/>
                <p:cNvSpPr/>
                <p:nvPr/>
              </p:nvSpPr>
              <p:spPr>
                <a:xfrm>
                  <a:off x="1814040" y="359100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41"/>
                <p:cNvSpPr/>
                <p:nvPr/>
              </p:nvSpPr>
              <p:spPr>
                <a:xfrm>
                  <a:off x="1466640" y="3591000"/>
                  <a:ext cx="3470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40"/>
                <p:cNvSpPr/>
                <p:nvPr/>
              </p:nvSpPr>
              <p:spPr>
                <a:xfrm>
                  <a:off x="1116000" y="359100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39"/>
                <p:cNvSpPr/>
                <p:nvPr/>
              </p:nvSpPr>
              <p:spPr>
                <a:xfrm>
                  <a:off x="3212640" y="321300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38"/>
                <p:cNvSpPr/>
                <p:nvPr/>
              </p:nvSpPr>
              <p:spPr>
                <a:xfrm>
                  <a:off x="2865240" y="321300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Rectangle 37"/>
                <p:cNvSpPr/>
                <p:nvPr/>
              </p:nvSpPr>
              <p:spPr>
                <a:xfrm>
                  <a:off x="2514240" y="321300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36"/>
                <p:cNvSpPr/>
                <p:nvPr/>
              </p:nvSpPr>
              <p:spPr>
                <a:xfrm>
                  <a:off x="2165040" y="3213000"/>
                  <a:ext cx="3488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35"/>
                <p:cNvSpPr/>
                <p:nvPr/>
              </p:nvSpPr>
              <p:spPr>
                <a:xfrm>
                  <a:off x="1814040" y="321300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34"/>
                <p:cNvSpPr/>
                <p:nvPr/>
              </p:nvSpPr>
              <p:spPr>
                <a:xfrm>
                  <a:off x="1466640" y="321300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33"/>
                <p:cNvSpPr/>
                <p:nvPr/>
              </p:nvSpPr>
              <p:spPr>
                <a:xfrm>
                  <a:off x="1116000" y="321300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32"/>
                <p:cNvSpPr/>
                <p:nvPr/>
              </p:nvSpPr>
              <p:spPr>
                <a:xfrm>
                  <a:off x="3212640" y="279864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31"/>
                <p:cNvSpPr/>
                <p:nvPr/>
              </p:nvSpPr>
              <p:spPr>
                <a:xfrm>
                  <a:off x="2865240" y="2798640"/>
                  <a:ext cx="3470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30"/>
                <p:cNvSpPr/>
                <p:nvPr/>
              </p:nvSpPr>
              <p:spPr>
                <a:xfrm>
                  <a:off x="2514240" y="279864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29"/>
                <p:cNvSpPr/>
                <p:nvPr/>
              </p:nvSpPr>
              <p:spPr>
                <a:xfrm>
                  <a:off x="2165040" y="2798640"/>
                  <a:ext cx="3488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28"/>
                <p:cNvSpPr/>
                <p:nvPr/>
              </p:nvSpPr>
              <p:spPr>
                <a:xfrm>
                  <a:off x="1814040" y="279864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7"/>
                <p:cNvSpPr/>
                <p:nvPr/>
              </p:nvSpPr>
              <p:spPr>
                <a:xfrm>
                  <a:off x="1466640" y="2798640"/>
                  <a:ext cx="3470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26"/>
                <p:cNvSpPr/>
                <p:nvPr/>
              </p:nvSpPr>
              <p:spPr>
                <a:xfrm>
                  <a:off x="1116000" y="279864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Rectangle 25"/>
                <p:cNvSpPr/>
                <p:nvPr/>
              </p:nvSpPr>
              <p:spPr>
                <a:xfrm>
                  <a:off x="3212640" y="242100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24"/>
                <p:cNvSpPr/>
                <p:nvPr/>
              </p:nvSpPr>
              <p:spPr>
                <a:xfrm>
                  <a:off x="2865240" y="242100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23"/>
                <p:cNvSpPr/>
                <p:nvPr/>
              </p:nvSpPr>
              <p:spPr>
                <a:xfrm>
                  <a:off x="2514240" y="242100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Rectangle 22"/>
                <p:cNvSpPr/>
                <p:nvPr/>
              </p:nvSpPr>
              <p:spPr>
                <a:xfrm>
                  <a:off x="2165040" y="2421000"/>
                  <a:ext cx="3488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21"/>
                <p:cNvSpPr/>
                <p:nvPr/>
              </p:nvSpPr>
              <p:spPr>
                <a:xfrm>
                  <a:off x="1814040" y="242100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20"/>
                <p:cNvSpPr/>
                <p:nvPr/>
              </p:nvSpPr>
              <p:spPr>
                <a:xfrm>
                  <a:off x="1466640" y="242100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Rectangle 19"/>
                <p:cNvSpPr/>
                <p:nvPr/>
              </p:nvSpPr>
              <p:spPr>
                <a:xfrm>
                  <a:off x="1116000" y="242100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5"/>
                <p:cNvSpPr/>
                <p:nvPr/>
              </p:nvSpPr>
              <p:spPr>
                <a:xfrm>
                  <a:off x="1116000" y="2421000"/>
                  <a:ext cx="2447640" cy="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76"/>
                <p:cNvSpPr/>
                <p:nvPr/>
              </p:nvSpPr>
              <p:spPr>
                <a:xfrm>
                  <a:off x="1116000" y="279864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77"/>
                <p:cNvSpPr/>
                <p:nvPr/>
              </p:nvSpPr>
              <p:spPr>
                <a:xfrm>
                  <a:off x="1116000" y="321300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8"/>
                <p:cNvSpPr/>
                <p:nvPr/>
              </p:nvSpPr>
              <p:spPr>
                <a:xfrm>
                  <a:off x="1116000" y="359100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9"/>
                <p:cNvSpPr/>
                <p:nvPr/>
              </p:nvSpPr>
              <p:spPr>
                <a:xfrm>
                  <a:off x="1116000" y="397008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80"/>
                <p:cNvSpPr/>
                <p:nvPr/>
              </p:nvSpPr>
              <p:spPr>
                <a:xfrm>
                  <a:off x="1116000" y="434808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1"/>
                <p:cNvSpPr/>
                <p:nvPr/>
              </p:nvSpPr>
              <p:spPr>
                <a:xfrm>
                  <a:off x="1116000" y="472572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2"/>
                <p:cNvSpPr/>
                <p:nvPr/>
              </p:nvSpPr>
              <p:spPr>
                <a:xfrm>
                  <a:off x="1116000" y="510372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3"/>
                <p:cNvSpPr/>
                <p:nvPr/>
              </p:nvSpPr>
              <p:spPr>
                <a:xfrm>
                  <a:off x="1116000" y="5516640"/>
                  <a:ext cx="2447640" cy="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4"/>
                <p:cNvSpPr/>
                <p:nvPr/>
              </p:nvSpPr>
              <p:spPr>
                <a:xfrm>
                  <a:off x="1116000" y="2421000"/>
                  <a:ext cx="0" cy="309528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5"/>
                <p:cNvSpPr/>
                <p:nvPr/>
              </p:nvSpPr>
              <p:spPr>
                <a:xfrm>
                  <a:off x="1466640" y="242100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6"/>
                <p:cNvSpPr/>
                <p:nvPr/>
              </p:nvSpPr>
              <p:spPr>
                <a:xfrm>
                  <a:off x="1814040" y="242100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7"/>
                <p:cNvSpPr/>
                <p:nvPr/>
              </p:nvSpPr>
              <p:spPr>
                <a:xfrm>
                  <a:off x="2165040" y="242100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8"/>
                <p:cNvSpPr/>
                <p:nvPr/>
              </p:nvSpPr>
              <p:spPr>
                <a:xfrm>
                  <a:off x="2514240" y="242100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9"/>
                <p:cNvSpPr/>
                <p:nvPr/>
              </p:nvSpPr>
              <p:spPr>
                <a:xfrm>
                  <a:off x="2865240" y="242100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90"/>
                <p:cNvSpPr/>
                <p:nvPr/>
              </p:nvSpPr>
              <p:spPr>
                <a:xfrm>
                  <a:off x="3212640" y="242100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1"/>
                <p:cNvSpPr/>
                <p:nvPr/>
              </p:nvSpPr>
              <p:spPr>
                <a:xfrm>
                  <a:off x="3563640" y="2421000"/>
                  <a:ext cx="0" cy="309528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01"/>
                <p:cNvSpPr/>
                <p:nvPr/>
              </p:nvSpPr>
              <p:spPr>
                <a:xfrm flipV="1">
                  <a:off x="1116000" y="2133720"/>
                  <a:ext cx="0" cy="358560"/>
                </a:xfrm>
                <a:prstGeom prst="line">
                  <a:avLst/>
                </a:prstGeom>
                <a:ln w="28440">
                  <a:solidFill>
                    <a:srgbClr val="4d4d4d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Line 103"/>
              <p:cNvSpPr/>
              <p:nvPr/>
            </p:nvSpPr>
            <p:spPr>
              <a:xfrm flipV="1">
                <a:off x="3492360" y="5516640"/>
                <a:ext cx="720360" cy="144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326" name="Text Box 183"/>
            <p:cNvSpPr/>
            <p:nvPr/>
          </p:nvSpPr>
          <p:spPr>
            <a:xfrm>
              <a:off x="1187280" y="1676520"/>
              <a:ext cx="25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日期气温柱状图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27" name="Text Box 185"/>
            <p:cNvSpPr/>
            <p:nvPr/>
          </p:nvSpPr>
          <p:spPr>
            <a:xfrm>
              <a:off x="250920" y="20606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温度</a:t>
              </a:r>
              <a:r>
                <a:rPr b="1" lang="zh-CN" sz="20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℃</a:t>
              </a:r>
              <a:endParaRPr b="0" lang="en-US" sz="2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28" name="Text Box 186"/>
            <p:cNvSpPr/>
            <p:nvPr/>
          </p:nvSpPr>
          <p:spPr>
            <a:xfrm>
              <a:off x="3562200" y="55166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日期</a:t>
              </a:r>
              <a:r>
                <a:rPr b="1" lang="en-US" sz="1600" spc="-1" strike="noStrike">
                  <a:solidFill>
                    <a:srgbClr val="4d4d4d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日</a:t>
              </a:r>
              <a:r>
                <a:rPr b="1" lang="en-US" sz="1600" spc="-1" strike="noStrike">
                  <a:solidFill>
                    <a:srgbClr val="4d4d4d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29" name="Text Box 187"/>
            <p:cNvSpPr/>
            <p:nvPr/>
          </p:nvSpPr>
          <p:spPr>
            <a:xfrm>
              <a:off x="1116000" y="544500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1   2  3   4   5  6   7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0" name="Text Box 188"/>
            <p:cNvSpPr/>
            <p:nvPr/>
          </p:nvSpPr>
          <p:spPr>
            <a:xfrm>
              <a:off x="612720" y="52768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1" name="Text Box 189"/>
            <p:cNvSpPr/>
            <p:nvPr/>
          </p:nvSpPr>
          <p:spPr>
            <a:xfrm>
              <a:off x="611280" y="48690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2" name="Text Box 190"/>
            <p:cNvSpPr/>
            <p:nvPr/>
          </p:nvSpPr>
          <p:spPr>
            <a:xfrm>
              <a:off x="611280" y="44845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3" name="Text Box 191"/>
            <p:cNvSpPr/>
            <p:nvPr/>
          </p:nvSpPr>
          <p:spPr>
            <a:xfrm>
              <a:off x="611280" y="40766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4" name="Text Box 192"/>
            <p:cNvSpPr/>
            <p:nvPr/>
          </p:nvSpPr>
          <p:spPr>
            <a:xfrm>
              <a:off x="611280" y="3716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5" name="Text Box 193"/>
            <p:cNvSpPr/>
            <p:nvPr/>
          </p:nvSpPr>
          <p:spPr>
            <a:xfrm>
              <a:off x="611280" y="33321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6" name="Text Box 194"/>
            <p:cNvSpPr/>
            <p:nvPr/>
          </p:nvSpPr>
          <p:spPr>
            <a:xfrm>
              <a:off x="611280" y="29718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7" name="Text Box 195"/>
            <p:cNvSpPr/>
            <p:nvPr/>
          </p:nvSpPr>
          <p:spPr>
            <a:xfrm>
              <a:off x="611280" y="25653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38" name="Group 197"/>
          <p:cNvGrpSpPr/>
          <p:nvPr/>
        </p:nvGrpSpPr>
        <p:grpSpPr>
          <a:xfrm>
            <a:off x="4427640" y="1650960"/>
            <a:ext cx="4392360" cy="4228200"/>
            <a:chOff x="4427640" y="1650960"/>
            <a:chExt cx="4392360" cy="4228200"/>
          </a:xfrm>
        </p:grpSpPr>
        <p:grpSp>
          <p:nvGrpSpPr>
            <p:cNvPr id="339" name="Group 198"/>
            <p:cNvGrpSpPr/>
            <p:nvPr/>
          </p:nvGrpSpPr>
          <p:grpSpPr>
            <a:xfrm>
              <a:off x="5292720" y="2108160"/>
              <a:ext cx="3096720" cy="3384360"/>
              <a:chOff x="5292720" y="2108160"/>
              <a:chExt cx="3096720" cy="3384360"/>
            </a:xfrm>
          </p:grpSpPr>
          <p:grpSp>
            <p:nvGrpSpPr>
              <p:cNvPr id="340" name="Group 199"/>
              <p:cNvGrpSpPr/>
              <p:nvPr/>
            </p:nvGrpSpPr>
            <p:grpSpPr>
              <a:xfrm>
                <a:off x="5292720" y="2108160"/>
                <a:ext cx="2447640" cy="3382920"/>
                <a:chOff x="5292720" y="2108160"/>
                <a:chExt cx="2447640" cy="3382920"/>
              </a:xfrm>
            </p:grpSpPr>
            <p:sp>
              <p:nvSpPr>
                <p:cNvPr id="341" name="Rectangle 200"/>
                <p:cNvSpPr/>
                <p:nvPr/>
              </p:nvSpPr>
              <p:spPr>
                <a:xfrm>
                  <a:off x="7389360" y="507816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Rectangle 201"/>
                <p:cNvSpPr/>
                <p:nvPr/>
              </p:nvSpPr>
              <p:spPr>
                <a:xfrm>
                  <a:off x="7041960" y="5078160"/>
                  <a:ext cx="3470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202"/>
                <p:cNvSpPr/>
                <p:nvPr/>
              </p:nvSpPr>
              <p:spPr>
                <a:xfrm>
                  <a:off x="6690960" y="507816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203"/>
                <p:cNvSpPr/>
                <p:nvPr/>
              </p:nvSpPr>
              <p:spPr>
                <a:xfrm>
                  <a:off x="6341760" y="5078160"/>
                  <a:ext cx="3488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Rectangle 204"/>
                <p:cNvSpPr/>
                <p:nvPr/>
              </p:nvSpPr>
              <p:spPr>
                <a:xfrm>
                  <a:off x="5990760" y="507816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205"/>
                <p:cNvSpPr/>
                <p:nvPr/>
              </p:nvSpPr>
              <p:spPr>
                <a:xfrm>
                  <a:off x="5643360" y="5078160"/>
                  <a:ext cx="3470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206"/>
                <p:cNvSpPr/>
                <p:nvPr/>
              </p:nvSpPr>
              <p:spPr>
                <a:xfrm>
                  <a:off x="5292720" y="5078160"/>
                  <a:ext cx="3506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207"/>
                <p:cNvSpPr/>
                <p:nvPr/>
              </p:nvSpPr>
              <p:spPr>
                <a:xfrm>
                  <a:off x="7389360" y="470016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208"/>
                <p:cNvSpPr/>
                <p:nvPr/>
              </p:nvSpPr>
              <p:spPr>
                <a:xfrm>
                  <a:off x="7041960" y="470016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209"/>
                <p:cNvSpPr/>
                <p:nvPr/>
              </p:nvSpPr>
              <p:spPr>
                <a:xfrm>
                  <a:off x="6690960" y="470016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210"/>
                <p:cNvSpPr/>
                <p:nvPr/>
              </p:nvSpPr>
              <p:spPr>
                <a:xfrm>
                  <a:off x="6341760" y="4700160"/>
                  <a:ext cx="3488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211"/>
                <p:cNvSpPr/>
                <p:nvPr/>
              </p:nvSpPr>
              <p:spPr>
                <a:xfrm>
                  <a:off x="5990760" y="470016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212"/>
                <p:cNvSpPr/>
                <p:nvPr/>
              </p:nvSpPr>
              <p:spPr>
                <a:xfrm>
                  <a:off x="5643360" y="470016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Rectangle 213"/>
                <p:cNvSpPr/>
                <p:nvPr/>
              </p:nvSpPr>
              <p:spPr>
                <a:xfrm>
                  <a:off x="5292720" y="470016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14"/>
                <p:cNvSpPr/>
                <p:nvPr/>
              </p:nvSpPr>
              <p:spPr>
                <a:xfrm>
                  <a:off x="7389360" y="432252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215"/>
                <p:cNvSpPr/>
                <p:nvPr/>
              </p:nvSpPr>
              <p:spPr>
                <a:xfrm>
                  <a:off x="7041960" y="432252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Rectangle 216"/>
                <p:cNvSpPr/>
                <p:nvPr/>
              </p:nvSpPr>
              <p:spPr>
                <a:xfrm>
                  <a:off x="6690960" y="432252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217"/>
                <p:cNvSpPr/>
                <p:nvPr/>
              </p:nvSpPr>
              <p:spPr>
                <a:xfrm>
                  <a:off x="6341760" y="4322520"/>
                  <a:ext cx="3488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218"/>
                <p:cNvSpPr/>
                <p:nvPr/>
              </p:nvSpPr>
              <p:spPr>
                <a:xfrm>
                  <a:off x="5990760" y="432252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Rectangle 219"/>
                <p:cNvSpPr/>
                <p:nvPr/>
              </p:nvSpPr>
              <p:spPr>
                <a:xfrm>
                  <a:off x="5643360" y="432252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20"/>
                <p:cNvSpPr/>
                <p:nvPr/>
              </p:nvSpPr>
              <p:spPr>
                <a:xfrm>
                  <a:off x="5292720" y="432252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221"/>
                <p:cNvSpPr/>
                <p:nvPr/>
              </p:nvSpPr>
              <p:spPr>
                <a:xfrm>
                  <a:off x="7389360" y="39445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Rectangle 222"/>
                <p:cNvSpPr/>
                <p:nvPr/>
              </p:nvSpPr>
              <p:spPr>
                <a:xfrm>
                  <a:off x="7041960" y="394452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23"/>
                <p:cNvSpPr/>
                <p:nvPr/>
              </p:nvSpPr>
              <p:spPr>
                <a:xfrm>
                  <a:off x="6690960" y="39445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224"/>
                <p:cNvSpPr/>
                <p:nvPr/>
              </p:nvSpPr>
              <p:spPr>
                <a:xfrm>
                  <a:off x="6341760" y="3944520"/>
                  <a:ext cx="3488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Rectangle 225"/>
                <p:cNvSpPr/>
                <p:nvPr/>
              </p:nvSpPr>
              <p:spPr>
                <a:xfrm>
                  <a:off x="5990760" y="39445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226"/>
                <p:cNvSpPr/>
                <p:nvPr/>
              </p:nvSpPr>
              <p:spPr>
                <a:xfrm>
                  <a:off x="5643360" y="394452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227"/>
                <p:cNvSpPr/>
                <p:nvPr/>
              </p:nvSpPr>
              <p:spPr>
                <a:xfrm>
                  <a:off x="5292720" y="394452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Rectangle 228"/>
                <p:cNvSpPr/>
                <p:nvPr/>
              </p:nvSpPr>
              <p:spPr>
                <a:xfrm>
                  <a:off x="7389360" y="356544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229"/>
                <p:cNvSpPr/>
                <p:nvPr/>
              </p:nvSpPr>
              <p:spPr>
                <a:xfrm>
                  <a:off x="7041960" y="3565440"/>
                  <a:ext cx="3470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230"/>
                <p:cNvSpPr/>
                <p:nvPr/>
              </p:nvSpPr>
              <p:spPr>
                <a:xfrm>
                  <a:off x="6690960" y="356544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Rectangle 231"/>
                <p:cNvSpPr/>
                <p:nvPr/>
              </p:nvSpPr>
              <p:spPr>
                <a:xfrm>
                  <a:off x="6341760" y="3565440"/>
                  <a:ext cx="3488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32"/>
                <p:cNvSpPr/>
                <p:nvPr/>
              </p:nvSpPr>
              <p:spPr>
                <a:xfrm>
                  <a:off x="5990760" y="356544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233"/>
                <p:cNvSpPr/>
                <p:nvPr/>
              </p:nvSpPr>
              <p:spPr>
                <a:xfrm>
                  <a:off x="5643360" y="3565440"/>
                  <a:ext cx="3470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Rectangle 234"/>
                <p:cNvSpPr/>
                <p:nvPr/>
              </p:nvSpPr>
              <p:spPr>
                <a:xfrm>
                  <a:off x="5292720" y="3565440"/>
                  <a:ext cx="35064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235"/>
                <p:cNvSpPr/>
                <p:nvPr/>
              </p:nvSpPr>
              <p:spPr>
                <a:xfrm>
                  <a:off x="7389360" y="318744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236"/>
                <p:cNvSpPr/>
                <p:nvPr/>
              </p:nvSpPr>
              <p:spPr>
                <a:xfrm>
                  <a:off x="7041960" y="318744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Rectangle 237"/>
                <p:cNvSpPr/>
                <p:nvPr/>
              </p:nvSpPr>
              <p:spPr>
                <a:xfrm>
                  <a:off x="6690960" y="318744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238"/>
                <p:cNvSpPr/>
                <p:nvPr/>
              </p:nvSpPr>
              <p:spPr>
                <a:xfrm>
                  <a:off x="6341760" y="3187440"/>
                  <a:ext cx="3488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239"/>
                <p:cNvSpPr/>
                <p:nvPr/>
              </p:nvSpPr>
              <p:spPr>
                <a:xfrm>
                  <a:off x="5990760" y="318744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Rectangle 240"/>
                <p:cNvSpPr/>
                <p:nvPr/>
              </p:nvSpPr>
              <p:spPr>
                <a:xfrm>
                  <a:off x="5643360" y="3187440"/>
                  <a:ext cx="3470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241"/>
                <p:cNvSpPr/>
                <p:nvPr/>
              </p:nvSpPr>
              <p:spPr>
                <a:xfrm>
                  <a:off x="5292720" y="3187440"/>
                  <a:ext cx="35064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242"/>
                <p:cNvSpPr/>
                <p:nvPr/>
              </p:nvSpPr>
              <p:spPr>
                <a:xfrm>
                  <a:off x="7389360" y="277308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Rectangle 243"/>
                <p:cNvSpPr/>
                <p:nvPr/>
              </p:nvSpPr>
              <p:spPr>
                <a:xfrm>
                  <a:off x="7041960" y="2773080"/>
                  <a:ext cx="3470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244"/>
                <p:cNvSpPr/>
                <p:nvPr/>
              </p:nvSpPr>
              <p:spPr>
                <a:xfrm>
                  <a:off x="6690960" y="277308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245"/>
                <p:cNvSpPr/>
                <p:nvPr/>
              </p:nvSpPr>
              <p:spPr>
                <a:xfrm>
                  <a:off x="6341760" y="2773080"/>
                  <a:ext cx="3488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Rectangle 246"/>
                <p:cNvSpPr/>
                <p:nvPr/>
              </p:nvSpPr>
              <p:spPr>
                <a:xfrm>
                  <a:off x="5990760" y="277308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247"/>
                <p:cNvSpPr/>
                <p:nvPr/>
              </p:nvSpPr>
              <p:spPr>
                <a:xfrm>
                  <a:off x="5643360" y="2773080"/>
                  <a:ext cx="3470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248"/>
                <p:cNvSpPr/>
                <p:nvPr/>
              </p:nvSpPr>
              <p:spPr>
                <a:xfrm>
                  <a:off x="5292720" y="2773080"/>
                  <a:ext cx="35064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Rectangle 249"/>
                <p:cNvSpPr/>
                <p:nvPr/>
              </p:nvSpPr>
              <p:spPr>
                <a:xfrm>
                  <a:off x="7389360" y="239544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250"/>
                <p:cNvSpPr/>
                <p:nvPr/>
              </p:nvSpPr>
              <p:spPr>
                <a:xfrm>
                  <a:off x="7041960" y="239544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251"/>
                <p:cNvSpPr/>
                <p:nvPr/>
              </p:nvSpPr>
              <p:spPr>
                <a:xfrm>
                  <a:off x="6690960" y="239544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Rectangle 252"/>
                <p:cNvSpPr/>
                <p:nvPr/>
              </p:nvSpPr>
              <p:spPr>
                <a:xfrm>
                  <a:off x="6341760" y="2395440"/>
                  <a:ext cx="3488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253"/>
                <p:cNvSpPr/>
                <p:nvPr/>
              </p:nvSpPr>
              <p:spPr>
                <a:xfrm>
                  <a:off x="5990760" y="239544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254"/>
                <p:cNvSpPr/>
                <p:nvPr/>
              </p:nvSpPr>
              <p:spPr>
                <a:xfrm>
                  <a:off x="5643360" y="2395440"/>
                  <a:ext cx="3470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Rectangle 255"/>
                <p:cNvSpPr/>
                <p:nvPr/>
              </p:nvSpPr>
              <p:spPr>
                <a:xfrm>
                  <a:off x="5292720" y="2395440"/>
                  <a:ext cx="35064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256"/>
                <p:cNvSpPr/>
                <p:nvPr/>
              </p:nvSpPr>
              <p:spPr>
                <a:xfrm>
                  <a:off x="5292720" y="2395440"/>
                  <a:ext cx="2447640" cy="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257"/>
                <p:cNvSpPr/>
                <p:nvPr/>
              </p:nvSpPr>
              <p:spPr>
                <a:xfrm>
                  <a:off x="5292720" y="277308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258"/>
                <p:cNvSpPr/>
                <p:nvPr/>
              </p:nvSpPr>
              <p:spPr>
                <a:xfrm>
                  <a:off x="5292720" y="318744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259"/>
                <p:cNvSpPr/>
                <p:nvPr/>
              </p:nvSpPr>
              <p:spPr>
                <a:xfrm>
                  <a:off x="5292720" y="356544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260"/>
                <p:cNvSpPr/>
                <p:nvPr/>
              </p:nvSpPr>
              <p:spPr>
                <a:xfrm>
                  <a:off x="5292720" y="394452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261"/>
                <p:cNvSpPr/>
                <p:nvPr/>
              </p:nvSpPr>
              <p:spPr>
                <a:xfrm>
                  <a:off x="5292720" y="432252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62"/>
                <p:cNvSpPr/>
                <p:nvPr/>
              </p:nvSpPr>
              <p:spPr>
                <a:xfrm>
                  <a:off x="5292720" y="470016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63"/>
                <p:cNvSpPr/>
                <p:nvPr/>
              </p:nvSpPr>
              <p:spPr>
                <a:xfrm>
                  <a:off x="5292720" y="5078160"/>
                  <a:ext cx="244764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64"/>
                <p:cNvSpPr/>
                <p:nvPr/>
              </p:nvSpPr>
              <p:spPr>
                <a:xfrm>
                  <a:off x="5292720" y="5491080"/>
                  <a:ext cx="2447640" cy="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65"/>
                <p:cNvSpPr/>
                <p:nvPr/>
              </p:nvSpPr>
              <p:spPr>
                <a:xfrm>
                  <a:off x="5292720" y="2395440"/>
                  <a:ext cx="0" cy="309528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266"/>
                <p:cNvSpPr/>
                <p:nvPr/>
              </p:nvSpPr>
              <p:spPr>
                <a:xfrm>
                  <a:off x="5643360" y="239544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267"/>
                <p:cNvSpPr/>
                <p:nvPr/>
              </p:nvSpPr>
              <p:spPr>
                <a:xfrm>
                  <a:off x="5990760" y="239544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268"/>
                <p:cNvSpPr/>
                <p:nvPr/>
              </p:nvSpPr>
              <p:spPr>
                <a:xfrm>
                  <a:off x="6341760" y="239544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269"/>
                <p:cNvSpPr/>
                <p:nvPr/>
              </p:nvSpPr>
              <p:spPr>
                <a:xfrm>
                  <a:off x="6690960" y="239544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270"/>
                <p:cNvSpPr/>
                <p:nvPr/>
              </p:nvSpPr>
              <p:spPr>
                <a:xfrm>
                  <a:off x="7041960" y="239544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Line 271"/>
                <p:cNvSpPr/>
                <p:nvPr/>
              </p:nvSpPr>
              <p:spPr>
                <a:xfrm>
                  <a:off x="7389360" y="2395440"/>
                  <a:ext cx="0" cy="30952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272"/>
                <p:cNvSpPr/>
                <p:nvPr/>
              </p:nvSpPr>
              <p:spPr>
                <a:xfrm>
                  <a:off x="7740360" y="2395440"/>
                  <a:ext cx="0" cy="3095280"/>
                </a:xfrm>
                <a:prstGeom prst="line">
                  <a:avLst/>
                </a:prstGeom>
                <a:ln cap="sq" w="284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73"/>
                <p:cNvSpPr/>
                <p:nvPr/>
              </p:nvSpPr>
              <p:spPr>
                <a:xfrm flipV="1">
                  <a:off x="5292720" y="2108160"/>
                  <a:ext cx="0" cy="358560"/>
                </a:xfrm>
                <a:prstGeom prst="line">
                  <a:avLst/>
                </a:prstGeom>
                <a:ln w="28440">
                  <a:solidFill>
                    <a:srgbClr val="4d4d4d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Line 274"/>
              <p:cNvSpPr/>
              <p:nvPr/>
            </p:nvSpPr>
            <p:spPr>
              <a:xfrm flipV="1">
                <a:off x="7669080" y="5491080"/>
                <a:ext cx="720360" cy="144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416" name="Text Box 275"/>
            <p:cNvSpPr/>
            <p:nvPr/>
          </p:nvSpPr>
          <p:spPr>
            <a:xfrm>
              <a:off x="5364000" y="1650960"/>
              <a:ext cx="25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日期气温折线图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17" name="Text Box 276"/>
            <p:cNvSpPr/>
            <p:nvPr/>
          </p:nvSpPr>
          <p:spPr>
            <a:xfrm>
              <a:off x="4427640" y="203508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温度</a:t>
              </a:r>
              <a:r>
                <a:rPr b="1" lang="zh-CN" sz="20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℃</a:t>
              </a:r>
              <a:endParaRPr b="0" lang="en-US" sz="2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18" name="Text Box 277"/>
            <p:cNvSpPr/>
            <p:nvPr/>
          </p:nvSpPr>
          <p:spPr>
            <a:xfrm>
              <a:off x="7738920" y="549108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日期</a:t>
              </a:r>
              <a:r>
                <a:rPr b="1" lang="en-US" sz="1600" spc="-1" strike="noStrike">
                  <a:solidFill>
                    <a:srgbClr val="4d4d4d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日</a:t>
              </a:r>
              <a:r>
                <a:rPr b="1" lang="en-US" sz="1600" spc="-1" strike="noStrike">
                  <a:solidFill>
                    <a:srgbClr val="4d4d4d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19" name="Text Box 278"/>
            <p:cNvSpPr/>
            <p:nvPr/>
          </p:nvSpPr>
          <p:spPr>
            <a:xfrm>
              <a:off x="5292720" y="54194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1   2   3  4   5  6   7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0" name="Text Box 279"/>
            <p:cNvSpPr/>
            <p:nvPr/>
          </p:nvSpPr>
          <p:spPr>
            <a:xfrm>
              <a:off x="4789440" y="52513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1" name="Text Box 280"/>
            <p:cNvSpPr/>
            <p:nvPr/>
          </p:nvSpPr>
          <p:spPr>
            <a:xfrm>
              <a:off x="4788000" y="48434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2" name="Text Box 281"/>
            <p:cNvSpPr/>
            <p:nvPr/>
          </p:nvSpPr>
          <p:spPr>
            <a:xfrm>
              <a:off x="4788000" y="44589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3" name="Text Box 282"/>
            <p:cNvSpPr/>
            <p:nvPr/>
          </p:nvSpPr>
          <p:spPr>
            <a:xfrm>
              <a:off x="4788000" y="40510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4" name="Text Box 283"/>
            <p:cNvSpPr/>
            <p:nvPr/>
          </p:nvSpPr>
          <p:spPr>
            <a:xfrm>
              <a:off x="4788000" y="3690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5" name="Text Box 284"/>
            <p:cNvSpPr/>
            <p:nvPr/>
          </p:nvSpPr>
          <p:spPr>
            <a:xfrm>
              <a:off x="4788000" y="33066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6" name="Text Box 285"/>
            <p:cNvSpPr/>
            <p:nvPr/>
          </p:nvSpPr>
          <p:spPr>
            <a:xfrm>
              <a:off x="4788000" y="294624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27" name="Text Box 286"/>
            <p:cNvSpPr/>
            <p:nvPr/>
          </p:nvSpPr>
          <p:spPr>
            <a:xfrm>
              <a:off x="4788000" y="25398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428" name="Rectangle 287"/>
          <p:cNvSpPr/>
          <p:nvPr/>
        </p:nvSpPr>
        <p:spPr>
          <a:xfrm>
            <a:off x="1116000" y="3933720"/>
            <a:ext cx="287280" cy="158292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9" name="Rectangle 293"/>
          <p:cNvSpPr/>
          <p:nvPr/>
        </p:nvSpPr>
        <p:spPr>
          <a:xfrm>
            <a:off x="1476360" y="3573360"/>
            <a:ext cx="287280" cy="194328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0" name="Rectangle 294"/>
          <p:cNvSpPr/>
          <p:nvPr/>
        </p:nvSpPr>
        <p:spPr>
          <a:xfrm>
            <a:off x="1835280" y="3213000"/>
            <a:ext cx="288720" cy="230364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1" name="Rectangle 295"/>
          <p:cNvSpPr/>
          <p:nvPr/>
        </p:nvSpPr>
        <p:spPr>
          <a:xfrm>
            <a:off x="2195640" y="2781360"/>
            <a:ext cx="287280" cy="273528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2" name="Rectangle 296"/>
          <p:cNvSpPr/>
          <p:nvPr/>
        </p:nvSpPr>
        <p:spPr>
          <a:xfrm>
            <a:off x="2556000" y="3573360"/>
            <a:ext cx="287280" cy="194328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3" name="Rectangle 297"/>
          <p:cNvSpPr/>
          <p:nvPr/>
        </p:nvSpPr>
        <p:spPr>
          <a:xfrm>
            <a:off x="2916360" y="4365720"/>
            <a:ext cx="287280" cy="115092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4" name="Rectangle 298"/>
          <p:cNvSpPr/>
          <p:nvPr/>
        </p:nvSpPr>
        <p:spPr>
          <a:xfrm>
            <a:off x="3276720" y="3933720"/>
            <a:ext cx="287280" cy="1582920"/>
          </a:xfrm>
          <a:prstGeom prst="rect">
            <a:avLst/>
          </a:prstGeom>
          <a:solidFill>
            <a:srgbClr val="485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5" name="Oval 299"/>
          <p:cNvSpPr/>
          <p:nvPr/>
        </p:nvSpPr>
        <p:spPr>
          <a:xfrm>
            <a:off x="5578560" y="3933720"/>
            <a:ext cx="73080" cy="7164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6" name="Oval 301"/>
          <p:cNvSpPr/>
          <p:nvPr/>
        </p:nvSpPr>
        <p:spPr>
          <a:xfrm>
            <a:off x="5938920" y="3502080"/>
            <a:ext cx="73080" cy="7128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7" name="Oval 302"/>
          <p:cNvSpPr/>
          <p:nvPr/>
        </p:nvSpPr>
        <p:spPr>
          <a:xfrm>
            <a:off x="6299280" y="3141720"/>
            <a:ext cx="73080" cy="7128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8" name="Oval 303"/>
          <p:cNvSpPr/>
          <p:nvPr/>
        </p:nvSpPr>
        <p:spPr>
          <a:xfrm>
            <a:off x="6659640" y="2709720"/>
            <a:ext cx="73080" cy="7164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9" name="Oval 304"/>
          <p:cNvSpPr/>
          <p:nvPr/>
        </p:nvSpPr>
        <p:spPr>
          <a:xfrm>
            <a:off x="7020000" y="3502080"/>
            <a:ext cx="73080" cy="7128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0" name="Oval 305"/>
          <p:cNvSpPr/>
          <p:nvPr/>
        </p:nvSpPr>
        <p:spPr>
          <a:xfrm>
            <a:off x="7378560" y="4294080"/>
            <a:ext cx="73080" cy="7164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1" name="Oval 306"/>
          <p:cNvSpPr/>
          <p:nvPr/>
        </p:nvSpPr>
        <p:spPr>
          <a:xfrm>
            <a:off x="7667640" y="3933720"/>
            <a:ext cx="73080" cy="71640"/>
          </a:xfrm>
          <a:prstGeom prst="ellipse">
            <a:avLst/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2" name="Line 308"/>
          <p:cNvSpPr/>
          <p:nvPr/>
        </p:nvSpPr>
        <p:spPr>
          <a:xfrm flipV="1">
            <a:off x="5580000" y="3573360"/>
            <a:ext cx="360360" cy="432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3" name="Line 309"/>
          <p:cNvSpPr/>
          <p:nvPr/>
        </p:nvSpPr>
        <p:spPr>
          <a:xfrm flipV="1">
            <a:off x="5940360" y="321264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4" name="Line 310"/>
          <p:cNvSpPr/>
          <p:nvPr/>
        </p:nvSpPr>
        <p:spPr>
          <a:xfrm flipV="1">
            <a:off x="6300720" y="2781000"/>
            <a:ext cx="358920" cy="4316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5" name="Line 311"/>
          <p:cNvSpPr/>
          <p:nvPr/>
        </p:nvSpPr>
        <p:spPr>
          <a:xfrm>
            <a:off x="6732720" y="2708280"/>
            <a:ext cx="287280" cy="792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6" name="Line 312"/>
          <p:cNvSpPr/>
          <p:nvPr/>
        </p:nvSpPr>
        <p:spPr>
          <a:xfrm>
            <a:off x="7093080" y="3573360"/>
            <a:ext cx="287280" cy="7192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7" name="Line 313"/>
          <p:cNvSpPr/>
          <p:nvPr/>
        </p:nvSpPr>
        <p:spPr>
          <a:xfrm flipV="1">
            <a:off x="7451640" y="400500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0" y="115920"/>
            <a:ext cx="7236000" cy="642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50920" y="1413000"/>
            <a:ext cx="8893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  <a:ea typeface="黑体"/>
              </a:rPr>
              <a:t>一、填空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天气日历是记录每天各种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的表格。有了天气日历，在做长时间的天气观察时就可以用一些简单的方法进行记录，并利用这些记录分析一段时间内的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，找到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的规律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在天气日历中，我们可以使用一些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来记录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等。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64000" y="213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天气现象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3421080" y="35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天气变化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6661080" y="3641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天气变化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732720" y="4865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天气符号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118728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气温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270036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云量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4211640" y="52974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降水量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6154560" y="530064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风速和风向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108000" y="1397160"/>
            <a:ext cx="8856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在我们的天气日历中，一般要记录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在坚持每天观察、记录天气的同时，还要注意（                         ）当地的天预报并与自己的记录作比较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经过一个月的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后，我们要对天气日历中的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       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进行分析，了解这段时间天气变化的特点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0" y="115920"/>
            <a:ext cx="7236000" cy="642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553080" y="146988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日期和时间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24000" y="1916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气温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122560" y="1916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云量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3780000" y="1916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降水量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5796000" y="19130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风速和风向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61128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收听、收看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3143160" y="42861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天气观察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1547640" y="47862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天气数据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0" y="115920"/>
            <a:ext cx="7236000" cy="642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08000" y="1506600"/>
            <a:ext cx="889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  <a:ea typeface="黑体"/>
              </a:rPr>
              <a:t>二、判断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阴雨天我们可以看到燕子在高空自由飞行。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观察天气变化，要尽量每天同一时刻进行。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双休日和假期里也不能间断观察天气。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播报天气预报时，观察天气什么时候都可以。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8244000" y="220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8244000" y="29322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745164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435640" y="443700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0" y="115920"/>
            <a:ext cx="7236000" cy="642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250920" y="965160"/>
            <a:ext cx="8893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  <a:ea typeface="黑体"/>
              </a:rPr>
              <a:t>三、选择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在天气日历中，简化的风速等级为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)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.1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级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B.12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级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C.10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级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D.13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级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气温用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表示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.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℃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 ℃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F     C.N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气温的变化是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规律的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无法确定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有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没有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下面说法正确的是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(    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天气每天都在发生变化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一个月天气变化可以代表一年的变化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天气在一年四季中几乎没有变化莫测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6877080" y="1274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979640" y="23558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320364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399564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115920"/>
            <a:ext cx="7236000" cy="642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50920" y="965160"/>
            <a:ext cx="88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  <a:ea typeface="黑体"/>
              </a:rPr>
              <a:t>四、问答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在秋季，人们的生产、生活有什么特点？这些特点与天气变化有关吗？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430200" y="306864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答：秋天的天气逐渐转凉，人们天始穿上秋装，地里的庄稼也开始成熟了，人们开始忙着收获等。这些特点与天气变化密切相关。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3" name="文本框 1"/>
          <p:cNvSpPr/>
          <p:nvPr/>
        </p:nvSpPr>
        <p:spPr>
          <a:xfrm>
            <a:off x="0" y="5697360"/>
            <a:ext cx="84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4d4d4d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4d4d4d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4d4d4d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0" y="115920"/>
            <a:ext cx="7236000" cy="642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250920" y="96516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  <a:ea typeface="黑体"/>
              </a:rPr>
              <a:t>五、动手操作题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画几种天气符号简图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制作天气日历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制作日历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气温表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557360"/>
            <a:ext cx="129528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风采展示台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132000" y="1125360"/>
            <a:ext cx="511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928040" y="40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、天气的主要特征包括：（四要素）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424320" y="11970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云量） （ 降水量） （ 风） （ 气温）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68360" y="3429000"/>
            <a:ext cx="561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0"/>
            <a:ext cx="93672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复习回顾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763640" y="2492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能用自己的话描述今天的天气吗？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21804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识他们吗？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4" name="Picture 11" descr="冰雹"/>
          <p:cNvPicPr/>
          <p:nvPr/>
        </p:nvPicPr>
        <p:blipFill>
          <a:blip r:embed="rId1"/>
          <a:stretch/>
        </p:blipFill>
        <p:spPr>
          <a:xfrm>
            <a:off x="4140360" y="494172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大雪"/>
          <p:cNvPicPr/>
          <p:nvPr/>
        </p:nvPicPr>
        <p:blipFill>
          <a:blip r:embed="rId2"/>
          <a:stretch/>
        </p:blipFill>
        <p:spPr>
          <a:xfrm>
            <a:off x="2124000" y="501336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雾"/>
          <p:cNvPicPr/>
          <p:nvPr/>
        </p:nvPicPr>
        <p:blipFill>
          <a:blip r:embed="rId3"/>
          <a:stretch/>
        </p:blipFill>
        <p:spPr>
          <a:xfrm>
            <a:off x="5867280" y="494172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大雨"/>
          <p:cNvPicPr/>
          <p:nvPr/>
        </p:nvPicPr>
        <p:blipFill>
          <a:blip r:embed="rId4"/>
          <a:stretch/>
        </p:blipFill>
        <p:spPr>
          <a:xfrm>
            <a:off x="7596360" y="501336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5"/>
          <p:cNvSpPr/>
          <p:nvPr/>
        </p:nvSpPr>
        <p:spPr>
          <a:xfrm>
            <a:off x="1403280" y="6021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（达到暴雪   ） （冰雹   ）     （ 雾  ）    （ 大雨   ）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d5f35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808b3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808b3d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808b3d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4E5-163C-4BB8-BEED-AE3179FC87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9"/>
          <p:cNvSpPr/>
          <p:nvPr/>
        </p:nvSpPr>
        <p:spPr>
          <a:xfrm>
            <a:off x="0" y="353880"/>
            <a:ext cx="6300720" cy="9169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天气符号</a:t>
            </a:r>
            <a:endParaRPr b="0" lang="en-US" sz="5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40" name="Picture 10" descr="晴"/>
          <p:cNvPicPr/>
          <p:nvPr/>
        </p:nvPicPr>
        <p:blipFill>
          <a:blip r:embed="rId1"/>
          <a:stretch/>
        </p:blipFill>
        <p:spPr>
          <a:xfrm>
            <a:off x="900000" y="1652760"/>
            <a:ext cx="790560" cy="6379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1" name="Picture 11" descr="小雨"/>
          <p:cNvPicPr/>
          <p:nvPr/>
        </p:nvPicPr>
        <p:blipFill>
          <a:blip r:embed="rId2"/>
          <a:stretch/>
        </p:blipFill>
        <p:spPr>
          <a:xfrm>
            <a:off x="7308720" y="1604880"/>
            <a:ext cx="914400" cy="685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2" name="Picture 12" descr="暴雨"/>
          <p:cNvPicPr/>
          <p:nvPr/>
        </p:nvPicPr>
        <p:blipFill>
          <a:blip r:embed="rId3"/>
          <a:stretch/>
        </p:blipFill>
        <p:spPr>
          <a:xfrm>
            <a:off x="5656320" y="3011400"/>
            <a:ext cx="933480" cy="733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3" name="Picture 13" descr="雾"/>
          <p:cNvPicPr/>
          <p:nvPr/>
        </p:nvPicPr>
        <p:blipFill>
          <a:blip r:embed="rId4"/>
          <a:stretch/>
        </p:blipFill>
        <p:spPr>
          <a:xfrm>
            <a:off x="5665680" y="1633680"/>
            <a:ext cx="847800" cy="657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4" name="Picture 14" descr="多云"/>
          <p:cNvPicPr/>
          <p:nvPr/>
        </p:nvPicPr>
        <p:blipFill>
          <a:blip r:embed="rId5"/>
          <a:stretch/>
        </p:blipFill>
        <p:spPr>
          <a:xfrm>
            <a:off x="4041720" y="1700280"/>
            <a:ext cx="828720" cy="59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5" name="Picture 15" descr="雷阵雨"/>
          <p:cNvPicPr/>
          <p:nvPr/>
        </p:nvPicPr>
        <p:blipFill>
          <a:blip r:embed="rId6"/>
          <a:stretch/>
        </p:blipFill>
        <p:spPr>
          <a:xfrm>
            <a:off x="4137120" y="3049560"/>
            <a:ext cx="799920" cy="695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6" name="Picture 16" descr="沙尘暴"/>
          <p:cNvPicPr/>
          <p:nvPr/>
        </p:nvPicPr>
        <p:blipFill>
          <a:blip r:embed="rId7"/>
          <a:stretch/>
        </p:blipFill>
        <p:spPr>
          <a:xfrm>
            <a:off x="7385040" y="4657680"/>
            <a:ext cx="838080" cy="657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7" name="Picture 17" descr="小雪"/>
          <p:cNvPicPr/>
          <p:nvPr/>
        </p:nvPicPr>
        <p:blipFill>
          <a:blip r:embed="rId8"/>
          <a:stretch/>
        </p:blipFill>
        <p:spPr>
          <a:xfrm>
            <a:off x="7308720" y="3116160"/>
            <a:ext cx="914400" cy="6289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8" name="Picture 18" descr="阴"/>
          <p:cNvPicPr/>
          <p:nvPr/>
        </p:nvPicPr>
        <p:blipFill>
          <a:blip r:embed="rId9"/>
          <a:stretch/>
        </p:blipFill>
        <p:spPr>
          <a:xfrm>
            <a:off x="2484360" y="1700280"/>
            <a:ext cx="762120" cy="59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9" name="Picture 19" descr="中雨"/>
          <p:cNvPicPr/>
          <p:nvPr/>
        </p:nvPicPr>
        <p:blipFill>
          <a:blip r:embed="rId10"/>
          <a:stretch/>
        </p:blipFill>
        <p:spPr>
          <a:xfrm>
            <a:off x="900000" y="3049560"/>
            <a:ext cx="866880" cy="695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50" name="Picture 20" descr="大雨"/>
          <p:cNvPicPr/>
          <p:nvPr/>
        </p:nvPicPr>
        <p:blipFill>
          <a:blip r:embed="rId11"/>
          <a:stretch/>
        </p:blipFill>
        <p:spPr>
          <a:xfrm>
            <a:off x="2484360" y="3087720"/>
            <a:ext cx="933480" cy="657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51" name="Picture 21" descr="扬沙"/>
          <p:cNvPicPr/>
          <p:nvPr/>
        </p:nvPicPr>
        <p:blipFill>
          <a:blip r:embed="rId12"/>
          <a:stretch/>
        </p:blipFill>
        <p:spPr>
          <a:xfrm>
            <a:off x="5727600" y="4667400"/>
            <a:ext cx="895320" cy="647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52" name="Picture 22" descr="大雪"/>
          <p:cNvPicPr/>
          <p:nvPr/>
        </p:nvPicPr>
        <p:blipFill>
          <a:blip r:embed="rId13"/>
          <a:stretch/>
        </p:blipFill>
        <p:spPr>
          <a:xfrm>
            <a:off x="2508120" y="4591080"/>
            <a:ext cx="866880" cy="7239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53" name="Picture 23" descr="暴雪"/>
          <p:cNvPicPr/>
          <p:nvPr/>
        </p:nvPicPr>
        <p:blipFill>
          <a:blip r:embed="rId14"/>
          <a:stretch/>
        </p:blipFill>
        <p:spPr>
          <a:xfrm>
            <a:off x="4137120" y="4657680"/>
            <a:ext cx="828720" cy="657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54" name="Picture 24" descr="中雪"/>
          <p:cNvPicPr/>
          <p:nvPr/>
        </p:nvPicPr>
        <p:blipFill>
          <a:blip r:embed="rId15"/>
          <a:stretch/>
        </p:blipFill>
        <p:spPr>
          <a:xfrm>
            <a:off x="900000" y="4629240"/>
            <a:ext cx="847800" cy="685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55" name="Text Box 25"/>
          <p:cNvSpPr/>
          <p:nvPr/>
        </p:nvSpPr>
        <p:spPr>
          <a:xfrm>
            <a:off x="1044720" y="2324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晴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557440" y="2324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阴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140360" y="23241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多云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869080" y="2324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雾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7381800" y="2324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小雨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900000" y="383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中雨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2411280" y="383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大雨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3997440" y="38368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雷阵雨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5726160" y="383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暴雨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7381800" y="383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小雪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900000" y="5348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中雪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2557440" y="5348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大雪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4141800" y="5348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暴雪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5797440" y="5348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扬沙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7310520" y="5348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沙尘暴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187280" y="2097000"/>
          <a:ext cx="7345440" cy="2052720"/>
        </p:xfrm>
        <a:graphic>
          <a:graphicData uri="http://schemas.openxmlformats.org/drawingml/2006/table">
            <a:tbl>
              <a:tblPr/>
              <a:tblGrid>
                <a:gridCol w="1862280"/>
                <a:gridCol w="831600"/>
                <a:gridCol w="831960"/>
                <a:gridCol w="1036800"/>
                <a:gridCol w="1036440"/>
                <a:gridCol w="846000"/>
                <a:gridCol w="90036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天气现象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晴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阴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多云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大雨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雾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雪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d4d4d"/>
                          </a:solidFill>
                          <a:latin typeface="楷体_GB2312"/>
                          <a:ea typeface="楷体_GB2312"/>
                        </a:rPr>
                        <a:t>天气符号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29" descr="qing"/>
          <p:cNvPicPr/>
          <p:nvPr/>
        </p:nvPicPr>
        <p:blipFill>
          <a:blip r:embed="rId2"/>
          <a:stretch/>
        </p:blipFill>
        <p:spPr>
          <a:xfrm>
            <a:off x="1655640" y="4689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0" descr="u=2957757734,444815033&amp;gp=-6"/>
          <p:cNvPicPr/>
          <p:nvPr/>
        </p:nvPicPr>
        <p:blipFill>
          <a:blip r:embed="rId3"/>
          <a:stretch/>
        </p:blipFill>
        <p:spPr>
          <a:xfrm>
            <a:off x="7128000" y="465300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1" descr="u=3574770663,1842963075&amp;gp=12"/>
          <p:cNvPicPr/>
          <p:nvPr/>
        </p:nvPicPr>
        <p:blipFill>
          <a:blip r:embed="rId4"/>
          <a:stretch/>
        </p:blipFill>
        <p:spPr>
          <a:xfrm>
            <a:off x="2484360" y="4653000"/>
            <a:ext cx="754200" cy="73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2"/>
          <p:cNvSpPr/>
          <p:nvPr/>
        </p:nvSpPr>
        <p:spPr>
          <a:xfrm>
            <a:off x="719280" y="1472400"/>
            <a:ext cx="32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小小气象员</a:t>
            </a:r>
            <a:r>
              <a:rPr b="0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76" name="Picture 33" descr="n_阴.tga (11422 字节)"/>
          <p:cNvPicPr/>
          <p:nvPr/>
        </p:nvPicPr>
        <p:blipFill>
          <a:blip r:embed="rId5"/>
          <a:stretch/>
        </p:blipFill>
        <p:spPr>
          <a:xfrm>
            <a:off x="5867280" y="47260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4" descr="n_大雨.tga (10801 字节)"/>
          <p:cNvPicPr/>
          <p:nvPr/>
        </p:nvPicPr>
        <p:blipFill>
          <a:blip r:embed="rId6"/>
          <a:stretch/>
        </p:blipFill>
        <p:spPr>
          <a:xfrm>
            <a:off x="3672000" y="4653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5" descr="n_雾.tga (5406 字节)"/>
          <p:cNvPicPr/>
          <p:nvPr/>
        </p:nvPicPr>
        <p:blipFill>
          <a:blip r:embed="rId7"/>
          <a:stretch/>
        </p:blipFill>
        <p:spPr>
          <a:xfrm>
            <a:off x="4788000" y="4689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50867E-006 C 0.01649 -0.00856 0.03351 -0.01573 0.05052 -0.0222 C 0.07986 -0.03376 0.0467 -0.02243 0.07309 -0.03399 C 0.08507 -0.03931 0.09826 -0.04139 0.1092 -0.04995 C 0.11927 -0.05804 0.13212 -0.07029 0.14201 -0.07977 C 0.15625 -0.11099 0.16042 -0.14613 0.16944 -0.17966 C 0.16719 -0.19006 0.16406 -0.19237 0.15868 -0.19931 E">
                                      <p:cBhvr>
                                        <p:cTn id="28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20231E-007 C 0.00451 -0.00694 0.01024 -0.00925 0.01649 -0.01272 C 0.03628 -0.02405 0.021 -0.01896 0.03628 -0.02289 C 0.04201 -0.02728 0.04809 -0.03121 0.05434 -0.03353 C 0.0585 -0.03491 0.06666 -0.03769 0.06666 -0.03746 C 0.06875 -0.03954 0.07031 -0.04231 0.07257 -0.04393 C 0.07448 -0.04509 0.07656 -0.04486 0.07882 -0.04555 C 0.0875 -0.04902 0.09722 -0.05642 0.10625 -0.05804 C 0.11215 -0.05919 0.11823 -0.05919 0.12448 -0.06035 C 0.12743 -0.06058 0.13055 -0.0615 0.13333 -0.0622 C 0.14253 -0.06636 0.15121 -0.07052 0.16093 -0.07237 C 0.16944 -0.07838 0.17899 -0.08023 0.18837 -0.08301 C 0.19618 -0.08832 0.20538 -0.09249 0.21423 -0.09526 C 0.22135 -0.10173 0.22916 -0.10474 0.2368 -0.1096 C 0.24097 -0.11214 0.246 -0.11977 0.25069 -0.11977 C 0.27222 -0.12116 0.29427 -0.12139 0.31632 -0.12208 C 0.32361 -0.12416 0.32968 -0.12786 0.3375 -0.13017 C 0.34305 -0.13387 0.34843 -0.1348 0.35416 -0.1385 C 0.36284 -0.14382 0.37222 -0.15376 0.38142 -0.15723 C 0.42639 -0.19676 0.48021 -0.1748 0.53524 -0.17549 C 0.55243 -0.15977 0.52778 -0.18173 0.54444 -0.16925 C 0.54757 -0.16671 0.5533 -0.16116 0.5533 -0.16093 C 0.55659 -0.16231 0.55972 -0.1637 0.56267 -0.16509 C 0.56406 -0.16578 0.56718 -0.1674 0.56718 -0.16694 C 0.56996 -0.17295 0.57118 -0.17873 0.57482 -0.18382 C 0.57691 -0.20347 0.57639 -0.19584 0.57639 -0.20578 E">
                                      <p:cBhvr>
                                        <p:cTn id="28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8208E-006 C 0.00972 -0.00971 0.0191 -0.01364 0.03143 -0.01641 C 0.03369 -0.01849 0.03577 -0.02034 0.03803 -0.02242 C 0.04046 -0.02427 0.04358 -0.02589 0.04619 -0.02797 C 0.0481 -0.02982 0.04914 -0.03283 0.05122 -0.03398 C 0.054 -0.03606 0.05712 -0.03653 0.05973 -0.03815 C 0.06615 -0.04231 0.0691 -0.04855 0.07622 -0.05179 C 0.08247 -0.05734 0.09045 -0.06242 0.09601 -0.06959 C 0.0974 -0.07098 0.09792 -0.07375 0.0993 -0.07537 C 0.10626 -0.08231 0.11546 -0.08716 0.12257 -0.09317 C 0.12448 -0.09479 0.12553 -0.09757 0.12744 -0.09919 C 0.13369 -0.10427 0.14132 -0.10774 0.14757 -0.11306 C 0.15382 -0.11838 0.15955 -0.12763 0.16754 -0.1304 C 0.17292 -0.13294 0.17587 -0.13664 0.18073 -0.14011 C 0.18282 -0.14196 0.18525 -0.14219 0.18716 -0.14427 C 0.19653 -0.15283 0.19775 -0.15699 0.20365 -0.16763 C 0.20869 -0.17618 0.21876 -0.18219 0.22691 -0.18543 C 0.22969 -0.18867 0.23351 -0.18982 0.23507 -0.19352 C 0.23803 -0.19861 0.23785 -0.20832 0.24219 -0.21248 E">
                                      <p:cBhvr>
                                        <p:cTn id="28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5607E-007 C 0.00573 -0.00971 0.02205 -0.01988 0.03177 -0.02566 C 0.0368 -0.02844 0.04305 -0.02867 0.04826 -0.03168 C 0.05833 -0.03746 0.07014 -0.04763 0.07882 -0.05434 C 0.08663 -0.06081 0.0967 -0.06566 0.10503 -0.07121 C 0.10729 -0.0726 0.10885 -0.07584 0.11111 -0.07746 C 0.11788 -0.08254 0.125 -0.08694 0.13159 -0.09202 C 0.13541 -0.1059 0.146 -0.11792 0.15364 -0.12948 C 0.16458 -0.14636 0.15087 -0.12578 0.16198 -0.14197 C 0.16337 -0.14405 0.16597 -0.14821 0.16597 -0.14798 C 0.16805 -0.16023 0.17135 -0.17873 0.18003 -0.18775 C 0.18281 -0.19584 0.18507 -0.20763 0.19236 -0.21272 C 0.2 -0.21803 0.19653 -0.2148 0.20243 -0.22127 C 0.23246 -0.21803 0.2184 -0.22543 0.22465 -0.21272 C 0.22934 -0.20324 0.22864 -0.20948 0.22864 -0.20416 E">
                                      <p:cBhvr>
                                        <p:cTn id="29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96532E-006 C -0.00208 -0.00971 -0.00694 -0.01364 -0.01232 -0.01711 C -0.01962 -0.02937 -0.01146 -0.01711 -0.01823 -0.02382 C -0.02396 -0.0289 -0.0283 -0.03723 -0.03437 -0.04023 C -0.03698 -0.04694 -0.03993 -0.04948 -0.04444 -0.05179 C -0.04965 -0.05873 -0.05468 -0.06729 -0.06128 -0.07006 C -0.06979 -0.07908 -0.07882 -0.08555 -0.08732 -0.09364 C -0.09149 -0.09734 -0.09409 -0.10266 -0.09843 -0.10544 C -0.10225 -0.11006 -0.10503 -0.11492 -0.10955 -0.11838 C -0.11232 -0.1237 -0.11562 -0.12624 -0.11944 -0.12856 C -0.12569 -0.13942 -0.1184 -0.12763 -0.13055 -0.14174 C -0.13541 -0.14775 -0.14027 -0.15492 -0.14652 -0.15815 C -0.15399 -0.17087 -0.15729 -0.17156 -0.16649 -0.17642 C -0.17048 -0.18613 -0.17812 -0.19052 -0.18455 -0.19492 C -0.18628 -0.19607 -0.19566 -0.2044 -0.19843 -0.2044 C -0.20451 -0.2044 -0.21059 -0.2044 -0.21632 -0.2044 E">
                                      <p:cBhvr>
                                        <p:cTn id="29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42775E-006 C -0.00208 -0.00717 -0.01145 -0.01804 -0.01614 -0.01989 C -0.01875 -0.02243 -0.02083 -0.02752 -0.02413 -0.02844 C -0.03211 -0.03168 -0.03975 -0.03677 -0.04774 -0.03977 C -0.0559 -0.0474 -0.06423 -0.05364 -0.07413 -0.05572 C -0.08333 -0.06312 -0.09461 -0.06405 -0.10347 -0.07214 C -0.11406 -0.08093 -0.10555 -0.07445 -0.11232 -0.08255 C -0.11545 -0.08601 -0.11597 -0.08509 -0.12014 -0.08833 C -0.12569 -0.09226 -0.13073 -0.09781 -0.1368 -0.10104 C -0.14166 -0.10867 -0.14739 -0.11283 -0.15329 -0.11838 C -0.16371 -0.12786 -0.17413 -0.14035 -0.18576 -0.1459 C -0.19166 -0.15237 -0.19774 -0.1607 -0.20416 -0.16509 C -0.2118 -0.17596 -0.22239 -0.18636 -0.23298 -0.18867 C -0.23923 -0.18867 -0.246 -0.18636 -0.25191 -0.18636 E">
                                      <p:cBhvr>
                                        <p:cTn id="30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0" y="620640"/>
            <a:ext cx="7236000" cy="9169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设计天气符号</a:t>
            </a:r>
            <a:endParaRPr b="0" lang="en-US" sz="5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80" name="Picture 4" descr="天气图标"/>
          <p:cNvPicPr/>
          <p:nvPr/>
        </p:nvPicPr>
        <p:blipFill>
          <a:blip r:embed="rId1"/>
          <a:stretch/>
        </p:blipFill>
        <p:spPr>
          <a:xfrm>
            <a:off x="826920" y="1916280"/>
            <a:ext cx="77043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晴"/>
          <p:cNvPicPr/>
          <p:nvPr/>
        </p:nvPicPr>
        <p:blipFill>
          <a:blip r:embed="rId1"/>
          <a:stretch/>
        </p:blipFill>
        <p:spPr>
          <a:xfrm>
            <a:off x="1335240" y="1341360"/>
            <a:ext cx="790560" cy="6382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82" name="Picture 5" descr="小雨"/>
          <p:cNvPicPr/>
          <p:nvPr/>
        </p:nvPicPr>
        <p:blipFill>
          <a:blip r:embed="rId2"/>
          <a:stretch/>
        </p:blipFill>
        <p:spPr>
          <a:xfrm>
            <a:off x="1262160" y="2567160"/>
            <a:ext cx="914400" cy="685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83" name="Picture 6" descr="多云"/>
          <p:cNvPicPr/>
          <p:nvPr/>
        </p:nvPicPr>
        <p:blipFill>
          <a:blip r:embed="rId3"/>
          <a:stretch/>
        </p:blipFill>
        <p:spPr>
          <a:xfrm>
            <a:off x="4476600" y="1389240"/>
            <a:ext cx="828720" cy="59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84" name="Picture 7" descr="阴"/>
          <p:cNvPicPr/>
          <p:nvPr/>
        </p:nvPicPr>
        <p:blipFill>
          <a:blip r:embed="rId4"/>
          <a:stretch/>
        </p:blipFill>
        <p:spPr>
          <a:xfrm>
            <a:off x="2919240" y="1389240"/>
            <a:ext cx="762120" cy="59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85" name="Picture 8" descr="中雨"/>
          <p:cNvPicPr/>
          <p:nvPr/>
        </p:nvPicPr>
        <p:blipFill>
          <a:blip r:embed="rId5"/>
          <a:stretch/>
        </p:blipFill>
        <p:spPr>
          <a:xfrm>
            <a:off x="2846520" y="2565360"/>
            <a:ext cx="866520" cy="695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86" name="Picture 9" descr="大雨"/>
          <p:cNvPicPr/>
          <p:nvPr/>
        </p:nvPicPr>
        <p:blipFill>
          <a:blip r:embed="rId6"/>
          <a:stretch/>
        </p:blipFill>
        <p:spPr>
          <a:xfrm>
            <a:off x="4430880" y="2567160"/>
            <a:ext cx="933120" cy="657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87" name="Picture 10" descr="天气图标"/>
          <p:cNvPicPr/>
          <p:nvPr/>
        </p:nvPicPr>
        <p:blipFill>
          <a:blip r:embed="rId7"/>
          <a:stretch/>
        </p:blipFill>
        <p:spPr>
          <a:xfrm>
            <a:off x="3780000" y="3932280"/>
            <a:ext cx="1655640" cy="187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天气图标"/>
          <p:cNvPicPr/>
          <p:nvPr/>
        </p:nvPicPr>
        <p:blipFill>
          <a:blip r:embed="rId8"/>
          <a:stretch/>
        </p:blipFill>
        <p:spPr>
          <a:xfrm>
            <a:off x="1187280" y="3932280"/>
            <a:ext cx="1656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1187280" y="1125360"/>
            <a:ext cx="4537080" cy="1079640"/>
            <a:chOff x="1187280" y="1125360"/>
            <a:chExt cx="4537080" cy="1079640"/>
          </a:xfrm>
        </p:grpSpPr>
        <p:sp>
          <p:nvSpPr>
            <p:cNvPr id="190" name="Rectangle 12"/>
            <p:cNvSpPr/>
            <p:nvPr/>
          </p:nvSpPr>
          <p:spPr>
            <a:xfrm>
              <a:off x="1187280" y="1125360"/>
              <a:ext cx="4321440" cy="107964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5508720" y="1628640"/>
              <a:ext cx="2156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5722920" y="12272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云量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1187280" y="2349360"/>
            <a:ext cx="4537080" cy="1079640"/>
            <a:chOff x="1187280" y="2349360"/>
            <a:chExt cx="4537080" cy="1079640"/>
          </a:xfrm>
        </p:grpSpPr>
        <p:sp>
          <p:nvSpPr>
            <p:cNvPr id="194" name="Rectangle 17"/>
            <p:cNvSpPr/>
            <p:nvPr/>
          </p:nvSpPr>
          <p:spPr>
            <a:xfrm>
              <a:off x="1187280" y="2349360"/>
              <a:ext cx="4321440" cy="107964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5" name="Line 18"/>
            <p:cNvSpPr/>
            <p:nvPr/>
          </p:nvSpPr>
          <p:spPr>
            <a:xfrm>
              <a:off x="5508720" y="2852640"/>
              <a:ext cx="2156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96" name="Text Box 19"/>
          <p:cNvSpPr/>
          <p:nvPr/>
        </p:nvSpPr>
        <p:spPr>
          <a:xfrm>
            <a:off x="5724360" y="2451240"/>
            <a:ext cx="18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降水量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97" name="Group 20"/>
          <p:cNvGrpSpPr/>
          <p:nvPr/>
        </p:nvGrpSpPr>
        <p:grpSpPr>
          <a:xfrm>
            <a:off x="1187280" y="3860640"/>
            <a:ext cx="4537080" cy="2016000"/>
            <a:chOff x="1187280" y="3860640"/>
            <a:chExt cx="4537080" cy="2016000"/>
          </a:xfrm>
        </p:grpSpPr>
        <p:sp>
          <p:nvSpPr>
            <p:cNvPr id="198" name="Rectangle 21"/>
            <p:cNvSpPr/>
            <p:nvPr/>
          </p:nvSpPr>
          <p:spPr>
            <a:xfrm>
              <a:off x="1187280" y="3860640"/>
              <a:ext cx="4321440" cy="201600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>
              <a:off x="5508720" y="4800240"/>
              <a:ext cx="2156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0" name="Text Box 23"/>
          <p:cNvSpPr/>
          <p:nvPr/>
        </p:nvSpPr>
        <p:spPr>
          <a:xfrm>
            <a:off x="5724360" y="439416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风力风向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0" y="66600"/>
            <a:ext cx="6300720" cy="9169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黑体"/>
              </a:rPr>
              <a:t>小知识</a:t>
            </a:r>
            <a:endParaRPr b="0" lang="en-US" sz="5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11280" y="998640"/>
            <a:ext cx="8064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雨量等级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雨量等级是这样规定的：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在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24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小时内，雨量不超过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，叫小雨；雨量在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为小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中雨；雨量在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为中雨；雨量在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38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为中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大雨；雨量在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为大雨；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24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小时雨量超过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为暴雨，超过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为大暴雨，超过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4d4d4d"/>
                </a:solidFill>
                <a:latin typeface="Times New Roman"/>
              </a:rPr>
              <a:t>毫米的为特大暴雨。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799640" y="1557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今天天气怎么样，谁能具体说说？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579320" y="2133720"/>
            <a:ext cx="358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9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en-US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开学那天又是怎样的天气？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273200" y="2636640"/>
            <a:ext cx="5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记录着每天的各种天气现象的表格称为天气日历。</a:t>
            </a:r>
            <a:r>
              <a:rPr b="0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366920" y="3516120"/>
            <a:ext cx="30337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天气日历作用：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记录和分析气象信息；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总结以往的气象规律；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预测今后的天气变化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  <a:ea typeface="楷体_GB2312"/>
              </a:rPr>
              <a:t>……</a:t>
            </a:r>
            <a:r>
              <a:rPr b="0" lang="en-US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08" name="Picture 7" descr="百叶箱观测2"/>
          <p:cNvPicPr/>
          <p:nvPr/>
        </p:nvPicPr>
        <p:blipFill>
          <a:blip r:embed="rId2"/>
          <a:stretch/>
        </p:blipFill>
        <p:spPr>
          <a:xfrm>
            <a:off x="5040360" y="330372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3348000" y="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天 气 日  历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9280" y="620640"/>
          <a:ext cx="8785080" cy="5996160"/>
        </p:xfrm>
        <a:graphic>
          <a:graphicData uri="http://schemas.openxmlformats.org/drawingml/2006/table">
            <a:tbl>
              <a:tblPr/>
              <a:tblGrid>
                <a:gridCol w="1225440"/>
                <a:gridCol w="1258920"/>
                <a:gridCol w="1262160"/>
                <a:gridCol w="1257120"/>
                <a:gridCol w="1262160"/>
                <a:gridCol w="1258920"/>
                <a:gridCol w="126036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8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8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四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4-32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℃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8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9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日星期五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6-36</a:t>
                      </a:r>
                      <a:r>
                        <a:rPr b="1" lang="zh-CN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℃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</a:t>
                      </a: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30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六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星期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51" descr="晴"/>
          <p:cNvPicPr/>
          <p:nvPr/>
        </p:nvPicPr>
        <p:blipFill>
          <a:blip r:embed="rId1"/>
          <a:stretch/>
        </p:blipFill>
        <p:spPr>
          <a:xfrm>
            <a:off x="714240" y="1500120"/>
            <a:ext cx="400320" cy="544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2" descr="多云"/>
          <p:cNvPicPr/>
          <p:nvPr/>
        </p:nvPicPr>
        <p:blipFill>
          <a:blip r:embed="rId2"/>
          <a:stretch/>
        </p:blipFill>
        <p:spPr>
          <a:xfrm>
            <a:off x="500040" y="1643040"/>
            <a:ext cx="539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8"/>
          <p:cNvSpPr/>
          <p:nvPr/>
        </p:nvSpPr>
        <p:spPr>
          <a:xfrm>
            <a:off x="2286000" y="1428840"/>
            <a:ext cx="287280" cy="720720"/>
          </a:xfrm>
          <a:custGeom>
            <a:avLst/>
            <a:gdLst>
              <a:gd name="textAreaLeft" fmla="*/ 57240 w 287280"/>
              <a:gd name="textAreaRight" fmla="*/ 344880 w 287280"/>
              <a:gd name="textAreaTop" fmla="*/ 187200 h 720720"/>
              <a:gd name="textAreaBottom" fmla="*/ 533520 h 720720"/>
            </a:gdLst>
            <a:ahLst/>
            <a:rect l="textAreaLeft" t="textAreaTop" r="textAreaRight" b="textAreaBottom"/>
            <a:pathLst>
              <a:path w="21600" h="21600">
                <a:moveTo>
                  <a:pt x="4320" y="2809"/>
                </a:moveTo>
                <a:cubicBezTo>
                  <a:pt x="9360" y="-7142"/>
                  <a:pt x="16560" y="12760"/>
                  <a:pt x="21600" y="2809"/>
                </a:cubicBezTo>
                <a:lnTo>
                  <a:pt x="17280" y="18791"/>
                </a:lnTo>
                <a:cubicBezTo>
                  <a:pt x="12240" y="28742"/>
                  <a:pt x="5040" y="8840"/>
                  <a:pt x="0" y="1879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Rectangle 61"/>
          <p:cNvSpPr/>
          <p:nvPr/>
        </p:nvSpPr>
        <p:spPr>
          <a:xfrm>
            <a:off x="47520" y="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老师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15" name="Picture 51" descr="晴"/>
          <p:cNvPicPr/>
          <p:nvPr/>
        </p:nvPicPr>
        <p:blipFill>
          <a:blip r:embed="rId3"/>
          <a:stretch/>
        </p:blipFill>
        <p:spPr>
          <a:xfrm>
            <a:off x="1643040" y="1500120"/>
            <a:ext cx="399960" cy="5446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8"/>
          <p:cNvSpPr/>
          <p:nvPr/>
        </p:nvSpPr>
        <p:spPr>
          <a:xfrm>
            <a:off x="1071720" y="1357200"/>
            <a:ext cx="287280" cy="720720"/>
          </a:xfrm>
          <a:custGeom>
            <a:avLst/>
            <a:gdLst>
              <a:gd name="textAreaLeft" fmla="*/ 57240 w 287280"/>
              <a:gd name="textAreaRight" fmla="*/ 344880 w 287280"/>
              <a:gd name="textAreaTop" fmla="*/ 187200 h 720720"/>
              <a:gd name="textAreaBottom" fmla="*/ 533520 h 720720"/>
            </a:gdLst>
            <a:ahLst/>
            <a:rect l="textAreaLeft" t="textAreaTop" r="textAreaRight" b="textAreaBottom"/>
            <a:pathLst>
              <a:path w="21600" h="21600">
                <a:moveTo>
                  <a:pt x="4320" y="2809"/>
                </a:moveTo>
                <a:cubicBezTo>
                  <a:pt x="9360" y="-7142"/>
                  <a:pt x="16560" y="12760"/>
                  <a:pt x="21600" y="2809"/>
                </a:cubicBezTo>
                <a:lnTo>
                  <a:pt x="17280" y="18791"/>
                </a:lnTo>
                <a:cubicBezTo>
                  <a:pt x="12240" y="28742"/>
                  <a:pt x="5040" y="8840"/>
                  <a:pt x="0" y="1879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11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7:03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