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BD31-2CFF-4E76-B953-9D8B86BB7C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A6BB-D1A1-4FB2-A7CF-E0CF056E04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ACD-CCEE-452F-9306-1FA22858D0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0CF-1AEE-4DDF-8D6F-3F49FCA4A5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8DE07-E36F-40BA-98DA-1CB8BD8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77165F-3364-4DDC-8E81-BE2C5BA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3D904-3541-47DF-BA4D-945AD158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BA196-1A6A-43CD-8A05-987BED2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E2D2DD-D47C-4211-8C50-8940294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C4EDC-BC91-41FF-9AC9-B2924F2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8C67D5-0CD1-4D9C-B6AF-5CBEA23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484792-0468-4A48-BF6E-A0B308F7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FEB00E-413B-40BE-9CD4-E53091A1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8D2F3-26B4-4B79-8EB1-3DEC0DF5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9FF62-1E50-4418-87F2-E479DAB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61E31-AEBB-438F-9B24-3EB8F10A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358F51-EB22-4310-A70D-C1CA1407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50BD7-C523-4231-970D-3C6D78E8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94B4CE-F0E9-4C71-927F-F78C1801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15F8C0-F3DB-45CF-AD84-9FEE088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42A9DF-2049-4038-A632-B98403C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01A86-3524-4711-8FF1-2A5CF2A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E99461-1488-48BB-8539-0DAAAA4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76700-31E1-4851-B65A-057B2E3C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3CFD41-3261-4BC5-A8D7-98984A2B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14E88-6A1B-4C77-8F25-858DE587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0B645-EA2E-4C76-809C-7D473C3A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ECAEEC-E712-4C22-9CCA-6B18AB2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13779A-F21F-4CC9-A12C-CE86CA9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775552-5330-405C-931E-ABBDBF8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125947-1099-4CC4-9D51-4E0A456F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299AF-E41E-43B7-9D5F-F877F69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EA9DA0-230C-4DD3-BFF0-31CA3F2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133DD4-1638-4A78-9497-D6F73FC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418E1-4C7B-4846-B396-F33E485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4FDB44-0227-4C01-A48F-79DF0A8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0F48E9-F1BB-4219-993B-2F43818A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FC4E0A-CCB6-42F6-9B46-4D5060AE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BDBA5F-3571-4865-B18E-4A63313F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2FD02B-40F3-429D-B00E-66BFAAC2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7B1844-8BAE-43C2-B0B7-A7578AEA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91B7C6-3A6E-4251-9C1C-425C3CB7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5C061C-8A49-4D88-8085-6783747E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E00CB4-31E7-47B0-8784-7B7EFA6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F8187-CBB2-47E1-B7FB-1F3E2D4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2E8D-1DE5-45C8-99BE-BB59CBD7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57C629-2C3F-4417-ADCB-921D604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3931B-67FF-450F-B803-B027C83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B90C17-BBA3-440C-A852-02B043E4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911EEF-C03A-418C-96A8-7FA86995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ECF1E5-7075-457D-B01C-B76345CA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F4C9A-1788-4C2A-AF7C-8BF40763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2111A3-891D-481B-A0D5-65AA8BA0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B4D0B6-D627-4AD1-972F-0AFA40E3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CA8881-CED7-4FBC-B4E8-A26A82A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8FD5C-3D73-465A-ADDE-780A6120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5CE90-F634-4ED8-B971-C62B2766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E2D7F0-D098-4C70-A348-9D11176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911EED-C68C-4F4E-919D-401E206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F7BA52-699F-42D2-9A1A-FF3B9EA3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3ED0C-F943-456F-B106-6BEE290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E05A04-97E3-4B56-A44B-9716F81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5614D3-0F85-45A2-9FDE-81058468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628104-6FE6-4CA6-B042-3CFE5290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D0AB-89B4-49BA-A3C7-656A9424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F7A5E-9A55-452A-95AF-869A7F5B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73764-C93C-4949-96AE-A4D79357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D397A-D412-4148-BEBD-2919F15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FDCD4-3B2E-4495-A840-040DD3D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43E73-9292-4A92-A1CA-32465AA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97AC-EE5A-424D-90F2-088B41F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AAF7A-E5A0-4D8A-90DF-6076926E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0114-571F-4075-B9D7-15D6F688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E7AAE-9B63-4B2D-B3AB-F0186FCD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43921-71B7-4624-A191-EBD79B9F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FC1EC-D374-4CD3-9A6A-4E240B84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41F36-D814-4D48-9B07-1ACCFFAF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AB734-37B7-4464-AA3B-895EE58D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C1A29-FC4A-46B2-8DC5-16CCC198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7A822-CCE3-4FD9-820C-0E4ACA7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D8159-09CA-4264-B0DE-1F9862F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4503E-93D7-4FAC-B761-2E76AEF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135D9-2F98-4C84-9377-4AA012E3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F6A58-084E-48D6-9324-13366D3A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F7F6E-53D0-4215-BC9F-F3235093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9531A-37BF-42F5-BB05-5DE04256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EA53E-E60C-4922-A35E-E431462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120D0-A693-4723-9525-91C4DAA0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6F225-9997-4F11-8C05-15E9F9F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DD4B9-2EA9-4547-8DA3-0BE67057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D7D33-F746-44DC-9106-9CF9DAEF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23BA3-1150-4142-83EF-266A34D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C6EE0-760C-4ACB-A5DF-FEEB86B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AEA94-BCA4-4EE5-B467-17BF89B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87CAF-C291-4A9C-9A5C-3906A10F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7E8BA-D79B-40FB-A388-A5F9E4BF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4D541-C011-44D9-BCE4-A81CED57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F0F45-E8DC-4398-A141-F694FBEA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0DAF4-2C44-4D14-A50B-82B1026D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ED4E4-C43A-4FA0-BC88-1F50AB17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B0F5A-491D-432B-9DA7-B180D58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F55EE-553C-472A-8FEB-EF52704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C0832-03E9-445E-9540-5D36AE6B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D71E0-2CD4-4D3C-A3D8-130F1397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916F6-EE37-4B2E-AD51-88052027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9D0D8-AAD3-4031-9BD0-35E7B49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5494E-5AEC-40A1-AA7C-4CD98971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1B907-ED34-4AF3-A782-E55EC0E4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6FB09-DA73-4911-A973-F92D3BB6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BB04E-634A-476C-A4C2-BF8E4FCC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DD555-A09F-4B3A-8D3B-D2D7A880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A2177-5A7B-421E-B003-E9C6882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FDDEC-5843-4661-8A78-30016FF3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D9AE6-82A6-4C51-849E-D31DF4F1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53BEB-B0FF-4437-89E7-65EE098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C1063-C89A-49B8-B268-EF45DBE7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2C37C-967A-498C-87C5-C889B70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91EA4-A7B8-49C5-9AFE-76FA2D9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3D919-C9B7-496A-B9F4-44701FC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22408-7E54-4794-85DB-60E2E145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26EFA-C510-476E-AA92-3FF651DE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4DB78-3003-48FA-9FE2-9AE9FAED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34A8F-A60E-425B-BEDD-09E96127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3EDA6-7199-4B4E-8CF7-7F2F38B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D48CA-E32C-4158-AA23-7554459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C6266-9FC0-4B14-95A5-4031BA74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1BF34-90B3-404B-8CB5-BABCB0C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8CA8E3-00EC-4E32-A2AD-34D40CE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E28CC-B802-4AAC-B050-D36AC21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CC2F8-EA1A-46B2-A229-434B8A7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4343A-417C-455D-86C3-F1EC934C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75687-A3D2-4E19-9EF9-54E8F81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146BB-E19E-48E3-95C7-2109D456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4472D-5FF4-4FE8-A5EE-0BD1FEE0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8FE5A-C20C-46D4-BFB0-77B5CFAA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40096C-9CEE-4207-9D2B-75A7037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7A955-C7D1-4F5F-BFBC-1147FE3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8D92A-7A26-4963-934A-6B6696A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FEE82C-21B7-490D-8230-AE3AF1D2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6F8A0-F91D-43C7-BE4E-F520EFB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88A06-DE09-4E21-8CD1-DD77DB5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92907-ABC4-4DB7-B868-2D0732D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6DE3C-8A3A-4F24-8294-4728BD6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B30FC-5515-4CC1-A2C4-3487D46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C335A-C6D1-4858-977E-B916AD42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385BD6-7D7B-4BB4-834B-609A1860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BE7F07-3CE5-4D9F-A31B-FDFE328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34F44-F9F3-4374-AA38-897E0473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0CDF-18DA-420F-81D7-CA13E6844C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F9A-3EC9-465A-80AB-629E4962C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FAFA-A514-40D4-9D59-8491E50C1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C65-3C18-4009-A823-F41CEB4184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B24B-89BB-431C-8EE4-BC6B8E40C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003-7F82-451E-B575-F383797F7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3AE-054B-4A3E-95CC-5550EBA9BE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7EB-3E94-4724-8D3A-40308713C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3A8A-EE0F-4677-8BE0-3DC0F64A22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B177-A799-473C-89C0-A21F56F01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DB2B-0382-4497-8CB0-157A4A06A2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64D-D704-4A96-B277-EBB437125E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468360" y="18446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度与气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矩形 2" descr=""/>
          <p:cNvPicPr/>
          <p:nvPr/>
        </p:nvPicPr>
        <p:blipFill>
          <a:blip r:embed="rId2"/>
          <a:stretch/>
        </p:blipFill>
        <p:spPr>
          <a:xfrm>
            <a:off x="2371680" y="6021360"/>
            <a:ext cx="4768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111111111111"/>
          <p:cNvPicPr/>
          <p:nvPr/>
        </p:nvPicPr>
        <p:blipFill>
          <a:blip r:embed="rId2"/>
          <a:stretch/>
        </p:blipFill>
        <p:spPr>
          <a:xfrm>
            <a:off x="971640" y="907920"/>
            <a:ext cx="7056360" cy="34578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2"/>
          <p:cNvSpPr/>
          <p:nvPr/>
        </p:nvSpPr>
        <p:spPr>
          <a:xfrm>
            <a:off x="2773440" y="4511520"/>
            <a:ext cx="590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时间气温最高？什么时间气温最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天中气温的变化有什么规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2627280" y="6890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气温数据柱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9"/>
          <p:cNvSpPr/>
          <p:nvPr/>
        </p:nvSpPr>
        <p:spPr>
          <a:xfrm>
            <a:off x="2281320" y="378936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晨      上午       中午      下午      傍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0"/>
          <p:cNvSpPr/>
          <p:nvPr/>
        </p:nvSpPr>
        <p:spPr>
          <a:xfrm>
            <a:off x="1908000" y="3429000"/>
            <a:ext cx="432000" cy="431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1"/>
          <p:cNvSpPr/>
          <p:nvPr/>
        </p:nvSpPr>
        <p:spPr>
          <a:xfrm>
            <a:off x="1835280" y="3141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2"/>
          <p:cNvSpPr/>
          <p:nvPr/>
        </p:nvSpPr>
        <p:spPr>
          <a:xfrm>
            <a:off x="2700360" y="2997360"/>
            <a:ext cx="431640" cy="863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3"/>
          <p:cNvSpPr/>
          <p:nvPr/>
        </p:nvSpPr>
        <p:spPr>
          <a:xfrm>
            <a:off x="2629080" y="2732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6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5"/>
          <p:cNvSpPr/>
          <p:nvPr/>
        </p:nvSpPr>
        <p:spPr>
          <a:xfrm>
            <a:off x="3564000" y="2205000"/>
            <a:ext cx="431640" cy="1655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3492360" y="191628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25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4427640" y="2637000"/>
            <a:ext cx="431640" cy="1223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8"/>
          <p:cNvSpPr/>
          <p:nvPr/>
        </p:nvSpPr>
        <p:spPr>
          <a:xfrm>
            <a:off x="4356000" y="23716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20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5292720" y="2997360"/>
            <a:ext cx="431640" cy="863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0"/>
          <p:cNvSpPr/>
          <p:nvPr/>
        </p:nvSpPr>
        <p:spPr>
          <a:xfrm>
            <a:off x="5219640" y="2732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15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8" descr="Snap3"/>
          <p:cNvPicPr/>
          <p:nvPr/>
        </p:nvPicPr>
        <p:blipFill>
          <a:blip r:embed="rId2"/>
          <a:stretch/>
        </p:blipFill>
        <p:spPr>
          <a:xfrm>
            <a:off x="1546200" y="896760"/>
            <a:ext cx="6697800" cy="38275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9"/>
          <p:cNvSpPr/>
          <p:nvPr/>
        </p:nvSpPr>
        <p:spPr>
          <a:xfrm>
            <a:off x="3938760" y="691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气温变化折线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0"/>
          <p:cNvSpPr/>
          <p:nvPr/>
        </p:nvSpPr>
        <p:spPr>
          <a:xfrm>
            <a:off x="2771640" y="4868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你能从图中发现什么有价值的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1"/>
          <p:cNvSpPr/>
          <p:nvPr/>
        </p:nvSpPr>
        <p:spPr>
          <a:xfrm>
            <a:off x="1631880" y="6019920"/>
            <a:ext cx="50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179280" y="47628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对天气的影响很大，是天气日历中重要的记录数据。通过观察和测量我们周围大气的温度，可以知道当地气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计上，以零度为界，零上度数越大，表示温度越高；零下度数数越大，表示温度越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教室里的气温，温度计挂在既不被太阳直射又通风的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2"/>
          <p:cNvSpPr/>
          <p:nvPr/>
        </p:nvSpPr>
        <p:spPr>
          <a:xfrm>
            <a:off x="108000" y="765000"/>
            <a:ext cx="8785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量一天中清晨、上午、中午、下午、傍晚的气温，下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的气温最高，清晨温度最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时间气温表中，要以看出一天中气温最高、最低的时间和及气温的变化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同一时刻，室内和室外的温度是一样的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温的变化随着区域的不同而存在差异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108000" y="765000"/>
            <a:ext cx="878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中，气温往往不会发生变化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天气状况，都会影响气温的高低变化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下雨时，测量量当地的气温比较准确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中最高气温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最低气温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午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午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傍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108000" y="520560"/>
            <a:ext cx="878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温度计时，视线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度计内液柱的顶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于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低于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测气温时，把温度计放在阳光下，测得的结果和实际气温相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等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偏高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偏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用温度计测得当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气温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那么由此可知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季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季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季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08000" y="982800"/>
            <a:ext cx="87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简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想一想，气温的高度与那些因素有关？气温的变化有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108000" y="299880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答：气温的高低与季节、天气状况以及一天中的不同时刻等因素有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08000" y="353052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气温的变化规律是：夏季气温较高，冬季气温较低；晴天气温较高，阴雨天气温较低；中午气温较高，早晚气温较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4"/>
          <p:cNvSpPr/>
          <p:nvPr/>
        </p:nvSpPr>
        <p:spPr>
          <a:xfrm>
            <a:off x="495360" y="765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828720" y="1555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数据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684360" y="2340000"/>
            <a:ext cx="41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℃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℃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傍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179280" y="40035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温度计上标出上面的温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179280" y="45655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上面的气温，画出气温数据柱形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9" descr="温度计"/>
          <p:cNvPicPr/>
          <p:nvPr/>
        </p:nvPicPr>
        <p:blipFill>
          <a:blip r:embed="rId2"/>
          <a:stretch/>
        </p:blipFill>
        <p:spPr>
          <a:xfrm>
            <a:off x="6141960" y="907920"/>
            <a:ext cx="1382760" cy="331164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0"/>
          <p:cNvSpPr/>
          <p:nvPr/>
        </p:nvSpPr>
        <p:spPr>
          <a:xfrm>
            <a:off x="6516720" y="2708280"/>
            <a:ext cx="360360" cy="136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2A53-3365-435C-936B-85A72584D3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5"/>
          <p:cNvSpPr/>
          <p:nvPr/>
        </p:nvSpPr>
        <p:spPr>
          <a:xfrm>
            <a:off x="539640" y="16905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方正少儿简体"/>
                <a:ea typeface="方正少儿简体"/>
              </a:rPr>
              <a:t>    </a:t>
            </a:r>
            <a:r>
              <a:rPr b="0" lang="zh-CN" sz="4000" spc="-1" strike="noStrike">
                <a:solidFill>
                  <a:srgbClr val="009900"/>
                </a:solidFill>
                <a:latin typeface="方正少儿简体"/>
                <a:ea typeface="方正少儿简体"/>
              </a:rPr>
              <a:t>温度对大气的影响很大，是天气日历中重要的数据。通过观察和测量我们周围大气的温度，就可以知道当地的气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2" descr="未命名"/>
          <p:cNvPicPr/>
          <p:nvPr/>
        </p:nvPicPr>
        <p:blipFill>
          <a:blip r:embed="rId2"/>
          <a:stretch/>
        </p:blipFill>
        <p:spPr>
          <a:xfrm>
            <a:off x="395280" y="1054080"/>
            <a:ext cx="5616720" cy="3743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543" name="Text Box 45"/>
          <p:cNvSpPr/>
          <p:nvPr/>
        </p:nvSpPr>
        <p:spPr>
          <a:xfrm>
            <a:off x="5867280" y="1413000"/>
            <a:ext cx="266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00"/>
                </a:solidFill>
                <a:latin typeface="方正少儿简体"/>
                <a:ea typeface="方正少儿简体"/>
              </a:rPr>
              <a:t>测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00"/>
                </a:solidFill>
                <a:latin typeface="方正少儿简体"/>
                <a:ea typeface="方正少儿简体"/>
              </a:rPr>
              <a:t>温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7" descr="11111111"/>
          <p:cNvPicPr/>
          <p:nvPr/>
        </p:nvPicPr>
        <p:blipFill>
          <a:blip r:embed="rId2"/>
          <a:stretch/>
        </p:blipFill>
        <p:spPr>
          <a:xfrm>
            <a:off x="5467320" y="836640"/>
            <a:ext cx="2273400" cy="43927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8"/>
          <p:cNvGrpSpPr/>
          <p:nvPr/>
        </p:nvGrpSpPr>
        <p:grpSpPr>
          <a:xfrm>
            <a:off x="1623960" y="1052640"/>
            <a:ext cx="197280" cy="4104360"/>
            <a:chOff x="1623960" y="1052640"/>
            <a:chExt cx="197280" cy="4104360"/>
          </a:xfrm>
        </p:grpSpPr>
        <p:grpSp>
          <p:nvGrpSpPr>
            <p:cNvPr id="546" name="Group 9"/>
            <p:cNvGrpSpPr/>
            <p:nvPr/>
          </p:nvGrpSpPr>
          <p:grpSpPr>
            <a:xfrm>
              <a:off x="1623960" y="1052640"/>
              <a:ext cx="197280" cy="4104360"/>
              <a:chOff x="1623960" y="1052640"/>
              <a:chExt cx="197280" cy="4104360"/>
            </a:xfrm>
          </p:grpSpPr>
          <p:grpSp>
            <p:nvGrpSpPr>
              <p:cNvPr id="547" name="Group 10"/>
              <p:cNvGrpSpPr/>
              <p:nvPr/>
            </p:nvGrpSpPr>
            <p:grpSpPr>
              <a:xfrm>
                <a:off x="1623960" y="1178280"/>
                <a:ext cx="197280" cy="3978720"/>
                <a:chOff x="1623960" y="1178280"/>
                <a:chExt cx="197280" cy="3978720"/>
              </a:xfrm>
            </p:grpSpPr>
            <p:sp>
              <p:nvSpPr>
                <p:cNvPr id="548" name="Freeform 11"/>
                <p:cNvSpPr/>
                <p:nvPr/>
              </p:nvSpPr>
              <p:spPr>
                <a:xfrm>
                  <a:off x="1623960" y="1178280"/>
                  <a:ext cx="197280" cy="3978720"/>
                </a:xfrm>
                <a:custGeom>
                  <a:avLst/>
                  <a:gdLst/>
                  <a:ahLst/>
                  <a:rect l="l" t="t" r="r" b="b"/>
                  <a:pathLst>
                    <a:path w="111" h="2940">
                      <a:moveTo>
                        <a:pt x="101" y="20"/>
                      </a:moveTo>
                      <a:cubicBezTo>
                        <a:pt x="101" y="0"/>
                        <a:pt x="111" y="2876"/>
                        <a:pt x="109" y="2876"/>
                      </a:cubicBezTo>
                      <a:cubicBezTo>
                        <a:pt x="106" y="2876"/>
                        <a:pt x="103" y="2918"/>
                        <a:pt x="60" y="2931"/>
                      </a:cubicBezTo>
                      <a:cubicBezTo>
                        <a:pt x="33" y="2940"/>
                        <a:pt x="0" y="2892"/>
                        <a:pt x="3" y="2868"/>
                      </a:cubicBezTo>
                      <a:cubicBezTo>
                        <a:pt x="6" y="1431"/>
                        <a:pt x="13" y="17"/>
                        <a:pt x="12" y="19"/>
                      </a:cubicBezTo>
                      <a:cubicBezTo>
                        <a:pt x="13" y="15"/>
                        <a:pt x="101" y="20"/>
                        <a:pt x="101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Oval 12"/>
                <p:cNvSpPr/>
                <p:nvPr/>
              </p:nvSpPr>
              <p:spPr>
                <a:xfrm>
                  <a:off x="1645200" y="4948560"/>
                  <a:ext cx="162000" cy="18396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13"/>
                <p:cNvSpPr/>
                <p:nvPr/>
              </p:nvSpPr>
              <p:spPr>
                <a:xfrm>
                  <a:off x="1698480" y="3045960"/>
                  <a:ext cx="33840" cy="20257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4"/>
                <p:cNvSpPr/>
                <p:nvPr/>
              </p:nvSpPr>
              <p:spPr>
                <a:xfrm>
                  <a:off x="1753920" y="433548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5"/>
                <p:cNvSpPr/>
                <p:nvPr/>
              </p:nvSpPr>
              <p:spPr>
                <a:xfrm>
                  <a:off x="1753920" y="423540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6"/>
                <p:cNvSpPr/>
                <p:nvPr/>
              </p:nvSpPr>
              <p:spPr>
                <a:xfrm>
                  <a:off x="1753920" y="39362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7"/>
                <p:cNvSpPr/>
                <p:nvPr/>
              </p:nvSpPr>
              <p:spPr>
                <a:xfrm>
                  <a:off x="1753920" y="37371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8"/>
                <p:cNvSpPr/>
                <p:nvPr/>
              </p:nvSpPr>
              <p:spPr>
                <a:xfrm>
                  <a:off x="1753920" y="35384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9"/>
                <p:cNvSpPr/>
                <p:nvPr/>
              </p:nvSpPr>
              <p:spPr>
                <a:xfrm>
                  <a:off x="1753920" y="324072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0"/>
                <p:cNvSpPr/>
                <p:nvPr/>
              </p:nvSpPr>
              <p:spPr>
                <a:xfrm>
                  <a:off x="1753920" y="383760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21"/>
                <p:cNvSpPr/>
                <p:nvPr/>
              </p:nvSpPr>
              <p:spPr>
                <a:xfrm>
                  <a:off x="1753920" y="34394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2"/>
                <p:cNvSpPr/>
                <p:nvPr/>
              </p:nvSpPr>
              <p:spPr>
                <a:xfrm>
                  <a:off x="1753920" y="30416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23"/>
                <p:cNvSpPr/>
                <p:nvPr/>
              </p:nvSpPr>
              <p:spPr>
                <a:xfrm>
                  <a:off x="1753920" y="28425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4"/>
                <p:cNvSpPr/>
                <p:nvPr/>
              </p:nvSpPr>
              <p:spPr>
                <a:xfrm>
                  <a:off x="1753920" y="26438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5"/>
                <p:cNvSpPr/>
                <p:nvPr/>
              </p:nvSpPr>
              <p:spPr>
                <a:xfrm>
                  <a:off x="1753920" y="24447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26"/>
                <p:cNvSpPr/>
                <p:nvPr/>
              </p:nvSpPr>
              <p:spPr>
                <a:xfrm>
                  <a:off x="1753920" y="413532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7"/>
                <p:cNvSpPr/>
                <p:nvPr/>
              </p:nvSpPr>
              <p:spPr>
                <a:xfrm>
                  <a:off x="1753920" y="403632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8"/>
                <p:cNvSpPr/>
                <p:nvPr/>
              </p:nvSpPr>
              <p:spPr>
                <a:xfrm>
                  <a:off x="1753920" y="363852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29"/>
                <p:cNvSpPr/>
                <p:nvPr/>
              </p:nvSpPr>
              <p:spPr>
                <a:xfrm>
                  <a:off x="1753920" y="33393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0"/>
                <p:cNvSpPr/>
                <p:nvPr/>
              </p:nvSpPr>
              <p:spPr>
                <a:xfrm>
                  <a:off x="1753920" y="31406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1"/>
                <p:cNvSpPr/>
                <p:nvPr/>
              </p:nvSpPr>
              <p:spPr>
                <a:xfrm>
                  <a:off x="1753920" y="29415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2"/>
                <p:cNvSpPr/>
                <p:nvPr/>
              </p:nvSpPr>
              <p:spPr>
                <a:xfrm>
                  <a:off x="1753920" y="25437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3"/>
                <p:cNvSpPr/>
                <p:nvPr/>
              </p:nvSpPr>
              <p:spPr>
                <a:xfrm>
                  <a:off x="1753920" y="22460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4"/>
                <p:cNvSpPr/>
                <p:nvPr/>
              </p:nvSpPr>
              <p:spPr>
                <a:xfrm>
                  <a:off x="1753920" y="204732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35"/>
                <p:cNvSpPr/>
                <p:nvPr/>
              </p:nvSpPr>
              <p:spPr>
                <a:xfrm>
                  <a:off x="1753920" y="184788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6"/>
                <p:cNvSpPr/>
                <p:nvPr/>
              </p:nvSpPr>
              <p:spPr>
                <a:xfrm>
                  <a:off x="1753920" y="16491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7"/>
                <p:cNvSpPr/>
                <p:nvPr/>
              </p:nvSpPr>
              <p:spPr>
                <a:xfrm>
                  <a:off x="1753920" y="14504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8"/>
                <p:cNvSpPr/>
                <p:nvPr/>
              </p:nvSpPr>
              <p:spPr>
                <a:xfrm>
                  <a:off x="1753920" y="274248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39"/>
                <p:cNvSpPr/>
                <p:nvPr/>
              </p:nvSpPr>
              <p:spPr>
                <a:xfrm>
                  <a:off x="1753920" y="234504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"/>
                <p:cNvSpPr/>
                <p:nvPr/>
              </p:nvSpPr>
              <p:spPr>
                <a:xfrm>
                  <a:off x="1753920" y="214560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41"/>
                <p:cNvSpPr/>
                <p:nvPr/>
              </p:nvSpPr>
              <p:spPr>
                <a:xfrm>
                  <a:off x="1753920" y="194688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2"/>
                <p:cNvSpPr/>
                <p:nvPr/>
              </p:nvSpPr>
              <p:spPr>
                <a:xfrm>
                  <a:off x="1753920" y="174816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3"/>
                <p:cNvSpPr/>
                <p:nvPr/>
              </p:nvSpPr>
              <p:spPr>
                <a:xfrm>
                  <a:off x="1753920" y="1549080"/>
                  <a:ext cx="532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44"/>
                <p:cNvSpPr/>
                <p:nvPr/>
              </p:nvSpPr>
              <p:spPr>
                <a:xfrm>
                  <a:off x="1698480" y="1266120"/>
                  <a:ext cx="33840" cy="3682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AutoShape 45"/>
              <p:cNvSpPr/>
              <p:nvPr/>
            </p:nvSpPr>
            <p:spPr>
              <a:xfrm>
                <a:off x="1641600" y="1052640"/>
                <a:ext cx="162000" cy="183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46"/>
            <p:cNvSpPr/>
            <p:nvPr/>
          </p:nvSpPr>
          <p:spPr>
            <a:xfrm>
              <a:off x="1710720" y="3052440"/>
              <a:ext cx="6120" cy="1901160"/>
            </a:xfrm>
            <a:custGeom>
              <a:avLst/>
              <a:gdLst/>
              <a:ahLst/>
              <a:rect l="l" t="t" r="r" b="b"/>
              <a:pathLst>
                <a:path w="2" h="1195">
                  <a:moveTo>
                    <a:pt x="0" y="1195"/>
                  </a:move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99"/>
          <p:cNvGrpSpPr/>
          <p:nvPr/>
        </p:nvGrpSpPr>
        <p:grpSpPr>
          <a:xfrm>
            <a:off x="1920600" y="1268280"/>
            <a:ext cx="1928880" cy="520560"/>
            <a:chOff x="1920600" y="1268280"/>
            <a:chExt cx="1928880" cy="520560"/>
          </a:xfrm>
        </p:grpSpPr>
        <p:sp>
          <p:nvSpPr>
            <p:cNvPr id="585" name="Text Box 51"/>
            <p:cNvSpPr/>
            <p:nvPr/>
          </p:nvSpPr>
          <p:spPr>
            <a:xfrm>
              <a:off x="3028680" y="126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玻璃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52"/>
            <p:cNvSpPr/>
            <p:nvPr/>
          </p:nvSpPr>
          <p:spPr>
            <a:xfrm flipH="1">
              <a:off x="1920600" y="1555560"/>
              <a:ext cx="89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98"/>
          <p:cNvGrpSpPr/>
          <p:nvPr/>
        </p:nvGrpSpPr>
        <p:grpSpPr>
          <a:xfrm>
            <a:off x="1920600" y="2060640"/>
            <a:ext cx="2124360" cy="520560"/>
            <a:chOff x="1920600" y="2060640"/>
            <a:chExt cx="2124360" cy="520560"/>
          </a:xfrm>
        </p:grpSpPr>
        <p:sp>
          <p:nvSpPr>
            <p:cNvPr id="588" name="Text Box 50"/>
            <p:cNvSpPr/>
            <p:nvPr/>
          </p:nvSpPr>
          <p:spPr>
            <a:xfrm>
              <a:off x="2811240" y="2060640"/>
              <a:ext cx="12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刻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53"/>
            <p:cNvSpPr/>
            <p:nvPr/>
          </p:nvSpPr>
          <p:spPr>
            <a:xfrm flipH="1">
              <a:off x="1920600" y="2347920"/>
              <a:ext cx="89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97"/>
          <p:cNvGrpSpPr/>
          <p:nvPr/>
        </p:nvGrpSpPr>
        <p:grpSpPr>
          <a:xfrm>
            <a:off x="1920600" y="2779560"/>
            <a:ext cx="1643400" cy="520560"/>
            <a:chOff x="1920600" y="2779560"/>
            <a:chExt cx="1643400" cy="520560"/>
          </a:xfrm>
        </p:grpSpPr>
        <p:sp>
          <p:nvSpPr>
            <p:cNvPr id="591" name="Text Box 49"/>
            <p:cNvSpPr/>
            <p:nvPr/>
          </p:nvSpPr>
          <p:spPr>
            <a:xfrm>
              <a:off x="2956680" y="277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液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54"/>
            <p:cNvSpPr/>
            <p:nvPr/>
          </p:nvSpPr>
          <p:spPr>
            <a:xfrm flipH="1">
              <a:off x="1920600" y="3068640"/>
              <a:ext cx="89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96"/>
          <p:cNvGrpSpPr/>
          <p:nvPr/>
        </p:nvGrpSpPr>
        <p:grpSpPr>
          <a:xfrm>
            <a:off x="1920600" y="4710240"/>
            <a:ext cx="1743480" cy="520560"/>
            <a:chOff x="1920600" y="4710240"/>
            <a:chExt cx="1743480" cy="520560"/>
          </a:xfrm>
        </p:grpSpPr>
        <p:sp>
          <p:nvSpPr>
            <p:cNvPr id="594" name="Text Box 48"/>
            <p:cNvSpPr/>
            <p:nvPr/>
          </p:nvSpPr>
          <p:spPr>
            <a:xfrm>
              <a:off x="3056760" y="4710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液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5"/>
            <p:cNvSpPr/>
            <p:nvPr/>
          </p:nvSpPr>
          <p:spPr>
            <a:xfrm flipH="1">
              <a:off x="1920600" y="5013360"/>
              <a:ext cx="89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1598400" y="578520"/>
            <a:ext cx="2375280" cy="7642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长城新艺体"/>
                <a:ea typeface="长城新艺体"/>
              </a:rPr>
              <a:t>温度计的使用</a:t>
            </a:r>
            <a:r>
              <a:rPr b="0" lang="zh-CN" sz="2400" spc="-1" strike="noStrike">
                <a:solidFill>
                  <a:srgbClr val="009900"/>
                </a:solidFill>
                <a:latin typeface="长城新艺体"/>
                <a:ea typeface="长城新艺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54"/>
          <p:cNvGrpSpPr/>
          <p:nvPr/>
        </p:nvGrpSpPr>
        <p:grpSpPr>
          <a:xfrm>
            <a:off x="468360" y="1628640"/>
            <a:ext cx="4824000" cy="720720"/>
            <a:chOff x="468360" y="1628640"/>
            <a:chExt cx="4824000" cy="720720"/>
          </a:xfrm>
        </p:grpSpPr>
        <p:sp>
          <p:nvSpPr>
            <p:cNvPr id="598" name="Text Box 52"/>
            <p:cNvSpPr/>
            <p:nvPr/>
          </p:nvSpPr>
          <p:spPr>
            <a:xfrm>
              <a:off x="808560" y="1706400"/>
              <a:ext cx="444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方正少儿简体"/>
                </a:rPr>
                <a:t>小活动：测量手心温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53"/>
            <p:cNvSpPr/>
            <p:nvPr/>
          </p:nvSpPr>
          <p:spPr>
            <a:xfrm>
              <a:off x="468360" y="1628640"/>
              <a:ext cx="482400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Rectangle 55"/>
          <p:cNvSpPr/>
          <p:nvPr/>
        </p:nvSpPr>
        <p:spPr>
          <a:xfrm>
            <a:off x="2854080" y="2641680"/>
            <a:ext cx="175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把温度计放在手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温度计的液柱稳定时再读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数时，视线要与温度计的液柱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95" descr="pic"/>
          <p:cNvPicPr/>
          <p:nvPr/>
        </p:nvPicPr>
        <p:blipFill>
          <a:blip r:embed="rId2"/>
          <a:stretch/>
        </p:blipFill>
        <p:spPr>
          <a:xfrm>
            <a:off x="6588000" y="4437000"/>
            <a:ext cx="216072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56"/>
          <p:cNvGrpSpPr/>
          <p:nvPr/>
        </p:nvGrpSpPr>
        <p:grpSpPr>
          <a:xfrm>
            <a:off x="7308720" y="765000"/>
            <a:ext cx="104760" cy="4095360"/>
            <a:chOff x="7308720" y="765000"/>
            <a:chExt cx="104760" cy="4095360"/>
          </a:xfrm>
        </p:grpSpPr>
        <p:grpSp>
          <p:nvGrpSpPr>
            <p:cNvPr id="603" name="Group 57"/>
            <p:cNvGrpSpPr/>
            <p:nvPr/>
          </p:nvGrpSpPr>
          <p:grpSpPr>
            <a:xfrm>
              <a:off x="7308720" y="765000"/>
              <a:ext cx="104760" cy="4095360"/>
              <a:chOff x="7308720" y="765000"/>
              <a:chExt cx="104760" cy="4095360"/>
            </a:xfrm>
          </p:grpSpPr>
          <p:grpSp>
            <p:nvGrpSpPr>
              <p:cNvPr id="604" name="Group 58"/>
              <p:cNvGrpSpPr/>
              <p:nvPr/>
            </p:nvGrpSpPr>
            <p:grpSpPr>
              <a:xfrm>
                <a:off x="7308720" y="890280"/>
                <a:ext cx="104760" cy="3970080"/>
                <a:chOff x="7308720" y="890280"/>
                <a:chExt cx="104760" cy="3970080"/>
              </a:xfrm>
            </p:grpSpPr>
            <p:sp>
              <p:nvSpPr>
                <p:cNvPr id="605" name="Freeform 59"/>
                <p:cNvSpPr/>
                <p:nvPr/>
              </p:nvSpPr>
              <p:spPr>
                <a:xfrm>
                  <a:off x="7308720" y="890280"/>
                  <a:ext cx="104760" cy="3970080"/>
                </a:xfrm>
                <a:custGeom>
                  <a:avLst/>
                  <a:gdLst/>
                  <a:ahLst/>
                  <a:rect l="l" t="t" r="r" b="b"/>
                  <a:pathLst>
                    <a:path w="111" h="2940">
                      <a:moveTo>
                        <a:pt x="101" y="20"/>
                      </a:moveTo>
                      <a:cubicBezTo>
                        <a:pt x="101" y="0"/>
                        <a:pt x="111" y="2876"/>
                        <a:pt x="109" y="2876"/>
                      </a:cubicBezTo>
                      <a:cubicBezTo>
                        <a:pt x="106" y="2876"/>
                        <a:pt x="103" y="2918"/>
                        <a:pt x="60" y="2931"/>
                      </a:cubicBezTo>
                      <a:cubicBezTo>
                        <a:pt x="33" y="2940"/>
                        <a:pt x="0" y="2892"/>
                        <a:pt x="3" y="2868"/>
                      </a:cubicBezTo>
                      <a:cubicBezTo>
                        <a:pt x="6" y="1431"/>
                        <a:pt x="13" y="17"/>
                        <a:pt x="12" y="19"/>
                      </a:cubicBezTo>
                      <a:cubicBezTo>
                        <a:pt x="13" y="15"/>
                        <a:pt x="101" y="20"/>
                        <a:pt x="101" y="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Oval 60"/>
                <p:cNvSpPr/>
                <p:nvPr/>
              </p:nvSpPr>
              <p:spPr>
                <a:xfrm>
                  <a:off x="7319880" y="4652280"/>
                  <a:ext cx="85680" cy="183600"/>
                </a:xfrm>
                <a:prstGeom prst="ellipse">
                  <a:avLst/>
                </a:prstGeom>
                <a:solidFill>
                  <a:srgbClr val="ff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Rectangle 61"/>
                <p:cNvSpPr/>
                <p:nvPr/>
              </p:nvSpPr>
              <p:spPr>
                <a:xfrm>
                  <a:off x="7348320" y="2753640"/>
                  <a:ext cx="18000" cy="20210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2"/>
                <p:cNvSpPr/>
                <p:nvPr/>
              </p:nvSpPr>
              <p:spPr>
                <a:xfrm>
                  <a:off x="7377480" y="40406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63"/>
                <p:cNvSpPr/>
                <p:nvPr/>
              </p:nvSpPr>
              <p:spPr>
                <a:xfrm>
                  <a:off x="7377480" y="39405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64"/>
                <p:cNvSpPr/>
                <p:nvPr/>
              </p:nvSpPr>
              <p:spPr>
                <a:xfrm>
                  <a:off x="7377480" y="36421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65"/>
                <p:cNvSpPr/>
                <p:nvPr/>
              </p:nvSpPr>
              <p:spPr>
                <a:xfrm>
                  <a:off x="7377480" y="34437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66"/>
                <p:cNvSpPr/>
                <p:nvPr/>
              </p:nvSpPr>
              <p:spPr>
                <a:xfrm>
                  <a:off x="7377480" y="324540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67"/>
                <p:cNvSpPr/>
                <p:nvPr/>
              </p:nvSpPr>
              <p:spPr>
                <a:xfrm>
                  <a:off x="7377480" y="29480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68"/>
                <p:cNvSpPr/>
                <p:nvPr/>
              </p:nvSpPr>
              <p:spPr>
                <a:xfrm>
                  <a:off x="7377480" y="35438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69"/>
                <p:cNvSpPr/>
                <p:nvPr/>
              </p:nvSpPr>
              <p:spPr>
                <a:xfrm>
                  <a:off x="7377480" y="31467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70"/>
                <p:cNvSpPr/>
                <p:nvPr/>
              </p:nvSpPr>
              <p:spPr>
                <a:xfrm>
                  <a:off x="7377480" y="27496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71"/>
                <p:cNvSpPr/>
                <p:nvPr/>
              </p:nvSpPr>
              <p:spPr>
                <a:xfrm>
                  <a:off x="7377480" y="25509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72"/>
                <p:cNvSpPr/>
                <p:nvPr/>
              </p:nvSpPr>
              <p:spPr>
                <a:xfrm>
                  <a:off x="7377480" y="235260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73"/>
                <p:cNvSpPr/>
                <p:nvPr/>
              </p:nvSpPr>
              <p:spPr>
                <a:xfrm>
                  <a:off x="7377480" y="21542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74"/>
                <p:cNvSpPr/>
                <p:nvPr/>
              </p:nvSpPr>
              <p:spPr>
                <a:xfrm>
                  <a:off x="7377480" y="38408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75"/>
                <p:cNvSpPr/>
                <p:nvPr/>
              </p:nvSpPr>
              <p:spPr>
                <a:xfrm>
                  <a:off x="7377480" y="374220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76"/>
                <p:cNvSpPr/>
                <p:nvPr/>
              </p:nvSpPr>
              <p:spPr>
                <a:xfrm>
                  <a:off x="7377480" y="33451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77"/>
                <p:cNvSpPr/>
                <p:nvPr/>
              </p:nvSpPr>
              <p:spPr>
                <a:xfrm>
                  <a:off x="7377480" y="30466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78"/>
                <p:cNvSpPr/>
                <p:nvPr/>
              </p:nvSpPr>
              <p:spPr>
                <a:xfrm>
                  <a:off x="7377480" y="28483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79"/>
                <p:cNvSpPr/>
                <p:nvPr/>
              </p:nvSpPr>
              <p:spPr>
                <a:xfrm>
                  <a:off x="7377480" y="264960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Line 80"/>
                <p:cNvSpPr/>
                <p:nvPr/>
              </p:nvSpPr>
              <p:spPr>
                <a:xfrm>
                  <a:off x="7377480" y="22528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81"/>
                <p:cNvSpPr/>
                <p:nvPr/>
              </p:nvSpPr>
              <p:spPr>
                <a:xfrm>
                  <a:off x="7377480" y="19558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82"/>
                <p:cNvSpPr/>
                <p:nvPr/>
              </p:nvSpPr>
              <p:spPr>
                <a:xfrm>
                  <a:off x="7377480" y="17571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83"/>
                <p:cNvSpPr/>
                <p:nvPr/>
              </p:nvSpPr>
              <p:spPr>
                <a:xfrm>
                  <a:off x="7377480" y="15584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84"/>
                <p:cNvSpPr/>
                <p:nvPr/>
              </p:nvSpPr>
              <p:spPr>
                <a:xfrm>
                  <a:off x="7377480" y="13600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85"/>
                <p:cNvSpPr/>
                <p:nvPr/>
              </p:nvSpPr>
              <p:spPr>
                <a:xfrm>
                  <a:off x="7377480" y="11617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86"/>
                <p:cNvSpPr/>
                <p:nvPr/>
              </p:nvSpPr>
              <p:spPr>
                <a:xfrm>
                  <a:off x="7377480" y="24512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87"/>
                <p:cNvSpPr/>
                <p:nvPr/>
              </p:nvSpPr>
              <p:spPr>
                <a:xfrm>
                  <a:off x="7377480" y="20545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88"/>
                <p:cNvSpPr/>
                <p:nvPr/>
              </p:nvSpPr>
              <p:spPr>
                <a:xfrm>
                  <a:off x="7377480" y="185544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89"/>
                <p:cNvSpPr/>
                <p:nvPr/>
              </p:nvSpPr>
              <p:spPr>
                <a:xfrm>
                  <a:off x="7377480" y="165708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90"/>
                <p:cNvSpPr/>
                <p:nvPr/>
              </p:nvSpPr>
              <p:spPr>
                <a:xfrm>
                  <a:off x="7377480" y="145872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91"/>
                <p:cNvSpPr/>
                <p:nvPr/>
              </p:nvSpPr>
              <p:spPr>
                <a:xfrm>
                  <a:off x="7377480" y="1260360"/>
                  <a:ext cx="2808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92"/>
                <p:cNvSpPr/>
                <p:nvPr/>
              </p:nvSpPr>
              <p:spPr>
                <a:xfrm>
                  <a:off x="7348320" y="978120"/>
                  <a:ext cx="18000" cy="36741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AutoShape 93"/>
              <p:cNvSpPr/>
              <p:nvPr/>
            </p:nvSpPr>
            <p:spPr>
              <a:xfrm>
                <a:off x="7318080" y="765000"/>
                <a:ext cx="85680" cy="18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Freeform 94"/>
            <p:cNvSpPr/>
            <p:nvPr/>
          </p:nvSpPr>
          <p:spPr>
            <a:xfrm>
              <a:off x="7354800" y="2760480"/>
              <a:ext cx="3240" cy="1896840"/>
            </a:xfrm>
            <a:custGeom>
              <a:avLst/>
              <a:gdLst/>
              <a:ahLst/>
              <a:rect l="l" t="t" r="r" b="b"/>
              <a:pathLst>
                <a:path w="2" h="1195">
                  <a:moveTo>
                    <a:pt x="0" y="1195"/>
                  </a:move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27753 L 0.00209 0.0555 E">
                                      <p:cBhvr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324000" y="1773360"/>
          <a:ext cx="8281800" cy="1295280"/>
        </p:xfrm>
        <a:graphic>
          <a:graphicData uri="http://schemas.openxmlformats.org/drawingml/2006/table">
            <a:tbl>
              <a:tblPr/>
              <a:tblGrid>
                <a:gridCol w="1380600"/>
                <a:gridCol w="1378080"/>
                <a:gridCol w="1382760"/>
                <a:gridCol w="1380960"/>
                <a:gridCol w="1378080"/>
                <a:gridCol w="13813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测量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走廊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阳光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树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温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Rectangle 33"/>
          <p:cNvSpPr/>
          <p:nvPr/>
        </p:nvSpPr>
        <p:spPr>
          <a:xfrm>
            <a:off x="3636360" y="620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室内外温度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5"/>
          <p:cNvSpPr/>
          <p:nvPr/>
        </p:nvSpPr>
        <p:spPr>
          <a:xfrm>
            <a:off x="5219640" y="13032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年     月     日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6"/>
          <p:cNvSpPr/>
          <p:nvPr/>
        </p:nvSpPr>
        <p:spPr>
          <a:xfrm>
            <a:off x="395280" y="35049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测量室内温度。把温度计放在桌面（或手持于身前）两分钟，读出温度计上的温度，并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30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测量室外温度。选择室外不同的地点测量气温。记录测得的气温和地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Oval 2"/>
          <p:cNvSpPr/>
          <p:nvPr/>
        </p:nvSpPr>
        <p:spPr>
          <a:xfrm>
            <a:off x="3419640" y="140184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"/>
          <p:cNvSpPr/>
          <p:nvPr/>
        </p:nvSpPr>
        <p:spPr>
          <a:xfrm>
            <a:off x="3728880" y="1703520"/>
            <a:ext cx="1624320" cy="16221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700440" y="20844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室内外温度的比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5"/>
          <p:cNvSpPr/>
          <p:nvPr/>
        </p:nvSpPr>
        <p:spPr>
          <a:xfrm>
            <a:off x="6121440" y="3051000"/>
            <a:ext cx="1440000" cy="1425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14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cir_lighteffect0"/>
          <p:cNvPicPr/>
          <p:nvPr/>
        </p:nvPicPr>
        <p:blipFill>
          <a:blip r:embed="rId2"/>
          <a:stretch/>
        </p:blipFill>
        <p:spPr>
          <a:xfrm>
            <a:off x="6078600" y="30542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7"/>
          <p:cNvSpPr/>
          <p:nvPr/>
        </p:nvSpPr>
        <p:spPr>
          <a:xfrm>
            <a:off x="6102360" y="360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华文细黑"/>
                <a:ea typeface="华文细黑"/>
              </a:rPr>
              <a:t>大树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6018120" y="2933640"/>
            <a:ext cx="1649520" cy="164772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3276720" y="1262160"/>
            <a:ext cx="2481120" cy="248292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 flipV="1">
            <a:off x="3022560" y="3228480"/>
            <a:ext cx="48744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1"/>
          <p:cNvSpPr/>
          <p:nvPr/>
        </p:nvSpPr>
        <p:spPr>
          <a:xfrm flipV="1">
            <a:off x="2938320" y="3077640"/>
            <a:ext cx="48600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2"/>
          <p:cNvSpPr/>
          <p:nvPr/>
        </p:nvSpPr>
        <p:spPr>
          <a:xfrm flipV="1">
            <a:off x="5589720" y="1588680"/>
            <a:ext cx="48708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3"/>
          <p:cNvSpPr/>
          <p:nvPr/>
        </p:nvSpPr>
        <p:spPr>
          <a:xfrm flipV="1">
            <a:off x="5504040" y="1437840"/>
            <a:ext cx="48888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1538280" y="335448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31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5" descr="cir_lighteffect0"/>
          <p:cNvPicPr/>
          <p:nvPr/>
        </p:nvPicPr>
        <p:blipFill>
          <a:blip r:embed="rId3"/>
          <a:stretch/>
        </p:blipFill>
        <p:spPr>
          <a:xfrm>
            <a:off x="1474920" y="3286080"/>
            <a:ext cx="1511280" cy="129528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6"/>
          <p:cNvSpPr/>
          <p:nvPr/>
        </p:nvSpPr>
        <p:spPr>
          <a:xfrm>
            <a:off x="1546200" y="382428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走廊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474920" y="321300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488960" y="379440"/>
            <a:ext cx="1440000" cy="142380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9" descr="cir_lighteffect0"/>
          <p:cNvPicPr/>
          <p:nvPr/>
        </p:nvPicPr>
        <p:blipFill>
          <a:blip r:embed="rId4"/>
          <a:stretch/>
        </p:blipFill>
        <p:spPr>
          <a:xfrm>
            <a:off x="1447920" y="3142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20"/>
          <p:cNvSpPr/>
          <p:nvPr/>
        </p:nvSpPr>
        <p:spPr>
          <a:xfrm>
            <a:off x="1465200" y="83196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99"/>
                </a:solidFill>
                <a:latin typeface="华文细黑"/>
                <a:ea typeface="华文细黑"/>
              </a:rPr>
              <a:t>教室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1407960" y="260280"/>
            <a:ext cx="164952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2"/>
          <p:cNvSpPr/>
          <p:nvPr/>
        </p:nvSpPr>
        <p:spPr>
          <a:xfrm>
            <a:off x="2909880" y="1481040"/>
            <a:ext cx="561960" cy="34308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2824200" y="1625760"/>
            <a:ext cx="563400" cy="3427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5996160" y="379440"/>
            <a:ext cx="1439640" cy="14238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b474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25" descr="cir_lighteffect0"/>
          <p:cNvPicPr/>
          <p:nvPr/>
        </p:nvPicPr>
        <p:blipFill>
          <a:blip r:embed="rId5"/>
          <a:stretch/>
        </p:blipFill>
        <p:spPr>
          <a:xfrm>
            <a:off x="5954760" y="314280"/>
            <a:ext cx="1511280" cy="129384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26"/>
          <p:cNvSpPr/>
          <p:nvPr/>
        </p:nvSpPr>
        <p:spPr>
          <a:xfrm>
            <a:off x="6002280" y="8319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华文细黑"/>
                <a:ea typeface="华文细黑"/>
              </a:rPr>
              <a:t> </a:t>
            </a:r>
            <a:r>
              <a:rPr b="1" lang="zh-CN" sz="2000" spc="-1" strike="noStrike">
                <a:solidFill>
                  <a:srgbClr val="ffff66"/>
                </a:solidFill>
                <a:latin typeface="华文细黑"/>
                <a:ea typeface="华文细黑"/>
              </a:rPr>
              <a:t>阳光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5857920" y="29376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8"/>
          <p:cNvSpPr/>
          <p:nvPr/>
        </p:nvSpPr>
        <p:spPr>
          <a:xfrm>
            <a:off x="5673600" y="2943360"/>
            <a:ext cx="561960" cy="3427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9"/>
          <p:cNvSpPr/>
          <p:nvPr/>
        </p:nvSpPr>
        <p:spPr>
          <a:xfrm>
            <a:off x="5587920" y="3087720"/>
            <a:ext cx="563760" cy="3445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5"/>
          <p:cNvSpPr/>
          <p:nvPr/>
        </p:nvSpPr>
        <p:spPr>
          <a:xfrm>
            <a:off x="2698920" y="4627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室内外的温度相同吗？哪儿的温度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6"/>
          <p:cNvSpPr/>
          <p:nvPr/>
        </p:nvSpPr>
        <p:spPr>
          <a:xfrm>
            <a:off x="3639240" y="508464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哪一个温度可以反映当地的气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7"/>
          <p:cNvSpPr/>
          <p:nvPr/>
        </p:nvSpPr>
        <p:spPr>
          <a:xfrm>
            <a:off x="539640" y="1628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室外阴凉通风处的温度更能反映当地的气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9" descr="百叶箱2"/>
          <p:cNvPicPr/>
          <p:nvPr/>
        </p:nvPicPr>
        <p:blipFill>
          <a:blip r:embed="rId2"/>
          <a:stretch/>
        </p:blipFill>
        <p:spPr>
          <a:xfrm>
            <a:off x="4348080" y="406440"/>
            <a:ext cx="4327560" cy="51832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1"/>
          <p:cNvSpPr/>
          <p:nvPr/>
        </p:nvSpPr>
        <p:spPr>
          <a:xfrm>
            <a:off x="7308720" y="5070600"/>
            <a:ext cx="13701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百页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401840" y="20606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同一地点不同时间气温的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468360" y="3502080"/>
          <a:ext cx="8136000" cy="1341360"/>
        </p:xfrm>
        <a:graphic>
          <a:graphicData uri="http://schemas.openxmlformats.org/drawingml/2006/table">
            <a:tbl>
              <a:tblPr/>
              <a:tblGrid>
                <a:gridCol w="1544760"/>
                <a:gridCol w="1312920"/>
                <a:gridCol w="1320480"/>
                <a:gridCol w="1320840"/>
                <a:gridCol w="1316160"/>
                <a:gridCol w="13208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测量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清晨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下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傍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Rectangle 40"/>
          <p:cNvSpPr/>
          <p:nvPr/>
        </p:nvSpPr>
        <p:spPr>
          <a:xfrm>
            <a:off x="6423120" y="299736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点：（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1187280" y="9079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气温的测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8"/>
          <p:cNvSpPr/>
          <p:nvPr/>
        </p:nvSpPr>
        <p:spPr>
          <a:xfrm>
            <a:off x="7524720" y="2971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操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9"/>
          <p:cNvSpPr/>
          <p:nvPr/>
        </p:nvSpPr>
        <p:spPr>
          <a:xfrm>
            <a:off x="2195640" y="4365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0"/>
          <p:cNvSpPr/>
          <p:nvPr/>
        </p:nvSpPr>
        <p:spPr>
          <a:xfrm>
            <a:off x="3635280" y="43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1"/>
          <p:cNvSpPr/>
          <p:nvPr/>
        </p:nvSpPr>
        <p:spPr>
          <a:xfrm>
            <a:off x="4932360" y="4349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2"/>
          <p:cNvSpPr/>
          <p:nvPr/>
        </p:nvSpPr>
        <p:spPr>
          <a:xfrm>
            <a:off x="6227640" y="43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3"/>
          <p:cNvSpPr/>
          <p:nvPr/>
        </p:nvSpPr>
        <p:spPr>
          <a:xfrm>
            <a:off x="7596360" y="4365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2:46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21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