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camera.wav" ContentType="audio/x-wav"/>
  <Override PartName="/ppt/media/image2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6B5-0C18-49C9-B66E-EF78E9ED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B11-1597-4349-ADB2-298B0F9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74A-0CAF-497C-A9C4-37B92ADD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E49-F381-4883-BAD4-AB33D56E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1420-D16A-4E73-9ED6-CE156C8A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577-08D4-44B0-B0C5-3ACE32F2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914-C198-4E36-9C8A-35DFCF61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5DF2-4C5F-423B-8337-72FAC3C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4E9-F99C-4A91-9235-3AD80D4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ECF-3E1F-4074-8E80-F3A073E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0FC-CEC9-488C-8D2F-4D8A7AD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687-6DC6-4F10-BC19-570AB0F2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3AE9-B26E-43AD-83E6-C4D3EC5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D1E-E5D7-4E91-89B8-D5CA7159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A9C3-8393-4DF7-9F79-946C6341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649E-8F54-4C6E-9573-339AD9DB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09ED-46BC-4C30-A062-70F620AA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BD4A-7C56-4F3E-83D4-D598C937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60EE-B127-42A9-8B8D-2D8B2BDC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5297-F143-4E69-8995-602A1A0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6C12-EA92-4C4B-BFD4-E4EFDD4F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9288-3384-46DF-96CA-F4AA48D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853-A7EB-44F5-8955-A537EE8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ECAE-4CB8-4104-90AD-E96EF3F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568D-67EB-4BA7-B22E-A6E8A84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315F-4848-40C7-A709-BEF081A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C3E4-1EF2-4B62-A6EC-97A9A15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EFC4-B941-4500-AA1F-617BE4CE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A2B8-E9AA-464D-8FD8-8C82A05E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E9CA-B596-4505-88FE-03BAC8B1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4789-3D2F-4665-AD34-2EAEF4C7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ACD8-FC98-43F1-A07C-F8309AE4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D533-A854-4D22-844C-E2F2833A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54A-0E9F-4E41-B92F-0E17E44E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421D-8B42-433A-BD48-C378AEA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D3B3-8EF0-4B01-A6FF-85F0FEE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1009-20D0-45B6-B751-92CAFFA8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DB54-187B-432F-87F8-1CB2AEF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733B-9957-486D-8122-BF13833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0FDC-58DB-4059-B183-E9DE1BE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E2D21-BD14-4D50-ACB0-272ED6A4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50A8-DB3B-42EA-A260-DA55BEF7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FB57-006D-4309-96BB-A59BE41E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7A6-0BF4-45C3-B271-796C706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CCB-A7C9-4821-9488-B4F7EA30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CF-02D0-452A-98BA-189968D6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421-B9F8-4DDB-BB66-99497C1E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306-2015-47FF-91E5-00EC113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43F-4A6F-42D4-9E26-765334E3E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EA1-47BB-42F9-AD56-BDED9CD4D47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C4C3-2BE8-417D-8D99-8A0DEDB313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809-7E7A-42E4-AD4B-2B4EDB9EA6F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581280" y="624816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人教课标版小学语文一年级上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284040" y="6076800"/>
            <a:ext cx="67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幻灯片之家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228600" y="152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45"/>
          <p:cNvGrpSpPr/>
          <p:nvPr/>
        </p:nvGrpSpPr>
        <p:grpSpPr>
          <a:xfrm>
            <a:off x="0" y="0"/>
            <a:ext cx="9225000" cy="6858000"/>
            <a:chOff x="0" y="0"/>
            <a:chExt cx="9225000" cy="6858000"/>
          </a:xfrm>
        </p:grpSpPr>
        <p:pic>
          <p:nvPicPr>
            <p:cNvPr id="222" name="Picture 46" descr="0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25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7"/>
            <p:cNvSpPr/>
            <p:nvPr/>
          </p:nvSpPr>
          <p:spPr>
            <a:xfrm>
              <a:off x="304920" y="609480"/>
              <a:ext cx="198108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紫 禁 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48"/>
            <p:cNvSpPr/>
            <p:nvPr/>
          </p:nvSpPr>
          <p:spPr>
            <a:xfrm>
              <a:off x="304920" y="228600"/>
              <a:ext cx="19810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宋体"/>
                </a:rPr>
                <a:t>zǐ j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ì</a:t>
              </a:r>
              <a:r>
                <a:rPr b="1" lang="en-US" sz="2400" spc="-1" strike="noStrike">
                  <a:solidFill>
                    <a:srgbClr val="3333cc"/>
                  </a:solidFill>
                  <a:latin typeface="宋体"/>
                </a:rPr>
                <a:t>n ch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é</a:t>
              </a:r>
              <a:r>
                <a:rPr b="1" lang="en-US" sz="2400" spc="-1" strike="noStrike">
                  <a:solidFill>
                    <a:srgbClr val="3333cc"/>
                  </a:solidFill>
                  <a:latin typeface="宋体"/>
                </a:rPr>
                <a:t>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226" name="Picture 3" descr="changche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2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4"/>
            <p:cNvSpPr/>
            <p:nvPr/>
          </p:nvSpPr>
          <p:spPr>
            <a:xfrm>
              <a:off x="1067040" y="5335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ffff"/>
                  </a:solidFill>
                  <a:latin typeface="Times New Roman"/>
                  <a:ea typeface="楷体_GB2312"/>
                </a:rPr>
                <a:t>长 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Picture 3" descr="youleyuan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4"/>
            <p:cNvSpPr/>
            <p:nvPr/>
          </p:nvSpPr>
          <p:spPr>
            <a:xfrm>
              <a:off x="1905120" y="53352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北京游乐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0" y="0"/>
            <a:ext cx="9524520" cy="6858000"/>
            <a:chOff x="0" y="0"/>
            <a:chExt cx="9524520" cy="6858000"/>
          </a:xfrm>
        </p:grpSpPr>
        <p:pic>
          <p:nvPicPr>
            <p:cNvPr id="232" name="Picture 3" descr="1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524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4"/>
            <p:cNvSpPr/>
            <p:nvPr/>
          </p:nvSpPr>
          <p:spPr>
            <a:xfrm>
              <a:off x="475920" y="53352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颐和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5"/>
            <p:cNvSpPr/>
            <p:nvPr/>
          </p:nvSpPr>
          <p:spPr>
            <a:xfrm>
              <a:off x="555480" y="228600"/>
              <a:ext cx="25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í  hé yuá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文本框 1"/>
          <p:cNvSpPr/>
          <p:nvPr/>
        </p:nvSpPr>
        <p:spPr>
          <a:xfrm>
            <a:off x="1636560" y="1711440"/>
            <a:ext cx="75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4"/>
          <p:cNvGrpSpPr/>
          <p:nvPr/>
        </p:nvGrpSpPr>
        <p:grpSpPr>
          <a:xfrm>
            <a:off x="0" y="0"/>
            <a:ext cx="9372240" cy="6858000"/>
            <a:chOff x="0" y="0"/>
            <a:chExt cx="9372240" cy="6858000"/>
          </a:xfrm>
        </p:grpSpPr>
        <p:pic>
          <p:nvPicPr>
            <p:cNvPr id="237" name="Picture 5" descr="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72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"/>
            <p:cNvSpPr/>
            <p:nvPr/>
          </p:nvSpPr>
          <p:spPr>
            <a:xfrm>
              <a:off x="780840" y="838080"/>
              <a:ext cx="335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毛 主 席 纪 念 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7"/>
            <p:cNvSpPr/>
            <p:nvPr/>
          </p:nvSpPr>
          <p:spPr>
            <a:xfrm>
              <a:off x="702720" y="380880"/>
              <a:ext cx="39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áo zhǔ xí jì niàn tá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WW_030"/>
          <p:cNvPicPr/>
          <p:nvPr/>
        </p:nvPicPr>
        <p:blipFill>
          <a:blip r:embed="rId2"/>
          <a:stretch/>
        </p:blipFill>
        <p:spPr>
          <a:xfrm>
            <a:off x="457200" y="518148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752480" y="2590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1143000" y="16765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楷体_GB2312"/>
              </a:rPr>
              <a:t>北京是我国的首都。</a:t>
            </a:r>
            <a:endParaRPr b="0" lang="en-US" sz="24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楷体_GB2312"/>
              <a:ea typeface="楷体_GB2312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1828800" y="266688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楷体_GB2312"/>
              </a:rPr>
              <a:t>五星红旗是我国的国旗。</a:t>
            </a:r>
            <a:endParaRPr b="0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2743200" y="3581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5050"/>
                  </a:solidFill>
                  <a:round/>
                </a:ln>
                <a:solidFill>
                  <a:srgbClr val="ff5050"/>
                </a:solidFill>
                <a:latin typeface="楷体_GB2312"/>
              </a:rPr>
              <a:t>我们爱北京。</a:t>
            </a:r>
            <a:endParaRPr b="0" lang="en-US" sz="2400" spc="1" strike="noStrike">
              <a:ln w="9360">
                <a:solidFill>
                  <a:srgbClr val="ff5050"/>
                </a:solidFill>
                <a:round/>
              </a:ln>
              <a:solidFill>
                <a:srgbClr val="ff5050"/>
              </a:solidFill>
              <a:latin typeface="楷体_GB2312"/>
              <a:ea typeface="楷体_GB2312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3200400" y="44956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我们爱五星红旗。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9625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s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648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3048120" y="1219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g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6" descr="图1"/>
          <p:cNvPicPr/>
          <p:nvPr/>
        </p:nvPicPr>
        <p:blipFill>
          <a:blip r:embed="rId3"/>
          <a:stretch/>
        </p:blipFill>
        <p:spPr>
          <a:xfrm>
            <a:off x="4781520" y="1130400"/>
            <a:ext cx="495360" cy="469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图2"/>
          <p:cNvPicPr/>
          <p:nvPr/>
        </p:nvPicPr>
        <p:blipFill>
          <a:blip r:embed="rId4"/>
          <a:stretch/>
        </p:blipFill>
        <p:spPr>
          <a:xfrm>
            <a:off x="3486240" y="1287360"/>
            <a:ext cx="171360" cy="141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图2"/>
          <p:cNvPicPr/>
          <p:nvPr/>
        </p:nvPicPr>
        <p:blipFill>
          <a:blip r:embed="rId5"/>
          <a:stretch/>
        </p:blipFill>
        <p:spPr>
          <a:xfrm>
            <a:off x="4305240" y="1254240"/>
            <a:ext cx="228600" cy="183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3995640" y="5084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7CA-A6B7-4992-96C4-E925940EDF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youleyuan2"/>
          <p:cNvPicPr/>
          <p:nvPr/>
        </p:nvPicPr>
        <p:blipFill>
          <a:blip r:embed="rId15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286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北京游乐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009_JPG"/>
          <p:cNvPicPr/>
          <p:nvPr/>
        </p:nvPicPr>
        <p:blipFill>
          <a:blip r:embed="rId2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7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大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>
            <a:hlinkClick r:id="rId3" action="ppaction://hlinksldjump"/>
          </p:cNvPr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>
            <a:hlinkClick r:id="rId4" action="ppaction://hlinksldjump"/>
          </p:cNvPr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>
            <a:hlinkClick r:id="rId5" action="ppaction://hlinksldjump"/>
          </p:cNvPr>
          <p:cNvSpPr/>
          <p:nvPr/>
        </p:nvSpPr>
        <p:spPr>
          <a:xfrm>
            <a:off x="5867280" y="2286000"/>
            <a:ext cx="91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0">
            <a:hlinkClick r:id="rId6" action="ppaction://hlinksldjump"/>
          </p:cNvPr>
          <p:cNvSpPr/>
          <p:nvPr/>
        </p:nvSpPr>
        <p:spPr>
          <a:xfrm>
            <a:off x="5562720" y="2590920"/>
            <a:ext cx="838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1">
            <a:hlinkClick r:id="rId7" action="ppaction://hlinksldjump"/>
          </p:cNvPr>
          <p:cNvSpPr/>
          <p:nvPr/>
        </p:nvSpPr>
        <p:spPr>
          <a:xfrm>
            <a:off x="990720" y="42670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2">
            <a:hlinkClick r:id="rId8" action="ppaction://hlinksldjump"/>
          </p:cNvPr>
          <p:cNvSpPr/>
          <p:nvPr/>
        </p:nvSpPr>
        <p:spPr>
          <a:xfrm>
            <a:off x="2362320" y="6019920"/>
            <a:ext cx="1752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中国地图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28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034"/>
          <p:cNvGrpSpPr/>
          <p:nvPr/>
        </p:nvGrpSpPr>
        <p:grpSpPr>
          <a:xfrm>
            <a:off x="1447920" y="380880"/>
            <a:ext cx="7086600" cy="4638960"/>
            <a:chOff x="1447920" y="380880"/>
            <a:chExt cx="7086600" cy="4638960"/>
          </a:xfrm>
        </p:grpSpPr>
        <p:pic>
          <p:nvPicPr>
            <p:cNvPr id="186" name="Picture 1029" descr="008_JPG"/>
            <p:cNvPicPr/>
            <p:nvPr/>
          </p:nvPicPr>
          <p:blipFill>
            <a:blip r:embed="rId2"/>
            <a:stretch/>
          </p:blipFill>
          <p:spPr>
            <a:xfrm>
              <a:off x="1447920" y="380880"/>
              <a:ext cx="68580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030" descr="008_JPG"/>
            <p:cNvPicPr/>
            <p:nvPr/>
          </p:nvPicPr>
          <p:blipFill>
            <a:blip r:embed="rId3"/>
            <a:stretch/>
          </p:blipFill>
          <p:spPr>
            <a:xfrm>
              <a:off x="7848720" y="4572000"/>
              <a:ext cx="68580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Line 1031"/>
          <p:cNvSpPr/>
          <p:nvPr/>
        </p:nvSpPr>
        <p:spPr>
          <a:xfrm flipH="1" flipV="1">
            <a:off x="6629040" y="2971440"/>
            <a:ext cx="762120" cy="1600200"/>
          </a:xfrm>
          <a:prstGeom prst="line">
            <a:avLst/>
          </a:prstGeom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33"/>
          <p:cNvSpPr/>
          <p:nvPr/>
        </p:nvSpPr>
        <p:spPr>
          <a:xfrm>
            <a:off x="243828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约需要行走两天一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中国地图"/>
          <p:cNvPicPr/>
          <p:nvPr/>
        </p:nvPicPr>
        <p:blipFill>
          <a:blip r:embed="rId1"/>
          <a:stretch/>
        </p:blipFill>
        <p:spPr>
          <a:xfrm>
            <a:off x="304920" y="0"/>
            <a:ext cx="8642160" cy="9683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57150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0102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 flipH="1" flipV="1">
            <a:off x="6629040" y="2971440"/>
            <a:ext cx="762120" cy="1676520"/>
          </a:xfrm>
          <a:prstGeom prst="line">
            <a:avLst/>
          </a:prstGeom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1371600" y="380880"/>
            <a:ext cx="7105680" cy="4876920"/>
            <a:chOff x="1371600" y="380880"/>
            <a:chExt cx="7105680" cy="4876920"/>
          </a:xfrm>
        </p:grpSpPr>
        <p:pic>
          <p:nvPicPr>
            <p:cNvPr id="195" name="Picture 12" descr="013_JPG"/>
            <p:cNvPicPr/>
            <p:nvPr/>
          </p:nvPicPr>
          <p:blipFill>
            <a:blip r:embed="rId2"/>
            <a:stretch/>
          </p:blipFill>
          <p:spPr>
            <a:xfrm>
              <a:off x="7848720" y="4572000"/>
              <a:ext cx="6285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" descr="013_JPG"/>
            <p:cNvPicPr/>
            <p:nvPr/>
          </p:nvPicPr>
          <p:blipFill>
            <a:blip r:embed="rId3"/>
            <a:stretch/>
          </p:blipFill>
          <p:spPr>
            <a:xfrm>
              <a:off x="1371600" y="380880"/>
              <a:ext cx="62856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4"/>
          <p:cNvSpPr/>
          <p:nvPr/>
        </p:nvSpPr>
        <p:spPr>
          <a:xfrm>
            <a:off x="2362320" y="380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需要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5">
            <a:hlinkClick r:id="rId4" action="ppaction://hlinksldjump"/>
          </p:cNvPr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wgl010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1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rt_00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042920" y="1628640"/>
            <a:ext cx="7058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2560320" y="3500280"/>
            <a:ext cx="222120" cy="7621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940360" y="4076640"/>
            <a:ext cx="152640" cy="150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620960" y="3511440"/>
            <a:ext cx="222120" cy="7621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6443640" y="4076640"/>
            <a:ext cx="152280" cy="150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457200" y="990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4">
            <a:hlinkClick r:id="rId1" action="ppaction://hlinksldjump"/>
          </p:cNvPr>
          <p:cNvSpPr/>
          <p:nvPr/>
        </p:nvSpPr>
        <p:spPr>
          <a:xfrm>
            <a:off x="914400" y="3962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>
            <a:hlinkClick r:id="rId2" action="ppaction://hlinksldjump"/>
          </p:cNvPr>
          <p:cNvSpPr/>
          <p:nvPr/>
        </p:nvSpPr>
        <p:spPr>
          <a:xfrm>
            <a:off x="2438280" y="5715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009_JPG"/>
          <p:cNvPicPr/>
          <p:nvPr/>
        </p:nvPicPr>
        <p:blipFill>
          <a:blip r:embed="rId4"/>
          <a:stretch/>
        </p:blipFill>
        <p:spPr>
          <a:xfrm>
            <a:off x="1828800" y="0"/>
            <a:ext cx="5105520" cy="2057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9"/>
          <p:cNvSpPr/>
          <p:nvPr/>
        </p:nvSpPr>
        <p:spPr>
          <a:xfrm>
            <a:off x="2286000" y="990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多想去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838080" y="1828800"/>
            <a:ext cx="57913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妈妈告诉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沿着弯弯的小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就能走出大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遥远的北京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一座天安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广场上升旗仪式非常壮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4952880" y="182880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对妈妈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多想去看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56386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3"/>
          <p:cNvSpPr/>
          <p:nvPr/>
        </p:nvSpPr>
        <p:spPr>
          <a:xfrm>
            <a:off x="617220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61722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25"/>
          <p:cNvSpPr/>
          <p:nvPr/>
        </p:nvSpPr>
        <p:spPr>
          <a:xfrm>
            <a:off x="571500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6">
            <a:hlinkClick r:id="rId5" action="ppaction://hlinksldjump"/>
          </p:cNvPr>
          <p:cNvSpPr/>
          <p:nvPr/>
        </p:nvSpPr>
        <p:spPr>
          <a:xfrm>
            <a:off x="5562720" y="2590920"/>
            <a:ext cx="83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17:47Z</dcterms:created>
  <dc:creator/>
  <dc:description/>
  <cp:keywords/>
  <dc:language>en-US</dc:language>
  <cp:lastModifiedBy>xinxing</cp:lastModifiedBy>
  <dcterms:modified xsi:type="dcterms:W3CDTF">2017-04-16T15:52:24Z</dcterms:modified>
  <cp:revision>80</cp:revision>
  <dc:subject/>
  <dc:title>我多想去看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