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B573-9726-4A13-895A-CFFBF1376D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F473-83B3-4BC6-9EE4-F32F941612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1AFF-ADAD-477A-BD0E-0C73FA7AF2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20F-A089-4CC3-87FC-A17E2F3A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F26-194A-4304-BEBE-9B7CFAE4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30B-26F3-4C72-ACF4-CDBB9B15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3CA-681C-491E-9AC1-8EED4863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535-5575-4B40-9203-3899E273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615-B771-4E8C-A80C-442FC527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DFE-FA70-4748-B663-4C92FE76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682-609F-47C0-8603-4F4206A0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E92-5DE1-4AA2-BB4E-AF9C3152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C4F-FA6E-4B96-805B-BD972D6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AB9-DC3D-4687-8E65-D13D08C0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E15-9D4A-430E-AC2C-12EC2ED1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D622-3B77-45FA-A6C7-E4BDA21A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看到了什么</a:t>
            </a:r>
            <a:r>
              <a:rPr b="1" lang="en-US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209320" y="57913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紫罗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lip_image084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蝴蝶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lip_image144"/>
          <p:cNvPicPr/>
          <p:nvPr/>
        </p:nvPicPr>
        <p:blipFill>
          <a:blip r:embed="rId1"/>
          <a:stretch/>
        </p:blipFill>
        <p:spPr>
          <a:xfrm>
            <a:off x="304920" y="137160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95480" y="15998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猜植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风铃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lip_image09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剑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598320" y="1523880"/>
            <a:ext cx="7999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爬山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金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lip_image164"/>
          <p:cNvPicPr/>
          <p:nvPr/>
        </p:nvPicPr>
        <p:blipFill>
          <a:blip r:embed="rId1"/>
          <a:stretch/>
        </p:blipFill>
        <p:spPr>
          <a:xfrm>
            <a:off x="838080" y="1251000"/>
            <a:ext cx="74678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蕨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419040" y="16765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48120" y="24379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猜树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5800" y="12952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方正少儿简体"/>
              </a:rPr>
              <a:t>喜欢植物吗？校园里、大路旁、山坡上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我们都能看见植物，说说你最熟悉的是哪些植物？你了解它的哪些知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143000" y="579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1549440" y="5514840"/>
            <a:ext cx="54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白杨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1"/>
          <a:stretch/>
        </p:blipFill>
        <p:spPr>
          <a:xfrm>
            <a:off x="466560" y="3049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松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树的器官包括根、茎、叶、花、果实、种子六部分，通常你能看到哪些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棵树远看能看到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忆一下，在一棵真正的大树前，你曾经看到过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照片 001"/>
          <p:cNvPicPr/>
          <p:nvPr/>
        </p:nvPicPr>
        <p:blipFill>
          <a:blip r:embed="rId1"/>
          <a:stretch/>
        </p:blipFill>
        <p:spPr>
          <a:xfrm>
            <a:off x="45720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照片 00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450720" y="747720"/>
            <a:ext cx="8229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457200" y="116676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书上的知识是有限的，要想了解得更多、知道得更多，带着这样的目的去看大树的时候，我们的观察活动就开始了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知识小竞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小组抢答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举手发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获胜小组加三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每组回答问题两次机会，想清楚再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插话的小组扣两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制定观察计划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观察的目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观察的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观察的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准备的工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观察调查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日记、表格、图画、标本等方式记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对观察记录讨论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各小组的同学对不同的收集结果进行讨论、比较、分析相同点和不同点，思考原因，可查询百科全书或网络，获得科学有趣的新知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要尊重生命，珍惜生命，尽量不要从树上摘叶、摘花、刻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是幼儿园小朋友的观察图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4" descr=""/>
          <p:cNvPicPr/>
          <p:nvPr/>
        </p:nvPicPr>
        <p:blipFill>
          <a:blip r:embed="rId1"/>
          <a:stretch/>
        </p:blipFill>
        <p:spPr>
          <a:xfrm>
            <a:off x="457200" y="630360"/>
            <a:ext cx="822960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4" descr=""/>
          <p:cNvPicPr/>
          <p:nvPr/>
        </p:nvPicPr>
        <p:blipFill>
          <a:blip r:embed="rId1"/>
          <a:stretch/>
        </p:blipFill>
        <p:spPr>
          <a:xfrm>
            <a:off x="423720" y="533520"/>
            <a:ext cx="82296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0520" y="22824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观察树木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任务：分小组进行观察，每个小组尽量观察不同的树木；小组内要分工明确，每个人要有观察任务；描述一棵树，完成一篇观察笔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任务：我们所要观察的树长在校园的哪个地方？我们怎么按顺序来观察一棵树？（由远及近，由整体到局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交流：我们可以用哪些新的观察方法来观察新的内容？（画简图、测量树干粗细、闻树叶、看果实、拓印树皮、捡拾标本、对比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较：我们能比书上的观察记录记得更好吗？（先用简单的词语记录下来，回到教室后整理成观察笔记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树的具体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：远看树的位置，枝干、树冠的大小、粗     细、高矮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近看树根、树干的质地颜色，花叶的颜色、形状、大小、结构，树上树下的植物动物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闻：花叶的味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：树周围的细小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怎样写好观察记录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写出观察时间、地点、小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按观察的顺序来记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最好贴上收集的实物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666520" y="1676160"/>
            <a:ext cx="2514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猜花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过观察，你有什么收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133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zh-CN" sz="6600" spc="-1" strike="noStrike" u="sng">
                <a:solidFill>
                  <a:srgbClr val="ff0066"/>
                </a:solidFill>
                <a:uFillTx/>
                <a:latin typeface="Arial"/>
              </a:rPr>
              <a:t>一棵大树就是一个生机勃勃的生命世界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树木的生命意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木能调节气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生态平衡，树木通过光合作用，吸进二氧化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吐出氧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空气清洁，新鲜。一亩树林放出的氧气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呼吸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能防风固沙，涵养水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能吸收各种粉尘，一亩树林一年可吸收各种粉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—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林能减少噪音污染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宽的林带可减弱噪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—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贝。噪音的污染对人类的生活、学习、工作、休息等方面都造成了很大的危害，可以说是人们的“敌人”。因此我们更要重视植树造林。噪音还可以使人类在长期的生活中听力减弱、耳聋、变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脏、血压、神经等出现异常。甚至，还能让人在长期的噪音煎熬下死亡。这样植树造林就能使噪音减小四、五倍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木的分泌物能杀死细菌。空地每立方米空气中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个细菌，森林里只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百个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植树造林是我们每个公民的义务，国家还专门规定了在三月十二日这天为植树节。植树造林对我们的学习、工作、生活等方面都有很大的好处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植树造林可以净化空气、美化环境、绿化祖国等，它还能制造氧气供人们吸收，吸进人们呼出的二氧化碳。如果不大量的植树造林，那么地球上的氧气，就很难满足人类和各种生物的需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9099-E3AF-4F88-9E40-9D341BFB45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9"/>
          <p:cNvSpPr/>
          <p:nvPr/>
        </p:nvSpPr>
        <p:spPr>
          <a:xfrm>
            <a:off x="2438280" y="31240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125960" y="3583080"/>
            <a:ext cx="738000" cy="237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牡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465120" y="1295280"/>
            <a:ext cx="822960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冠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lip_image156"/>
          <p:cNvPicPr/>
          <p:nvPr/>
        </p:nvPicPr>
        <p:blipFill>
          <a:blip r:embed="rId1"/>
          <a:stretch/>
        </p:blipFill>
        <p:spPr>
          <a:xfrm>
            <a:off x="304920" y="1971720"/>
            <a:ext cx="85341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桃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菊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457200" y="1862280"/>
            <a:ext cx="82296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串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03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0:05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