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.gif" ContentType="image/gif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E49C-1370-4CAB-916D-F9AE329104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87BA-A094-406E-AF2E-A9F710FF5F8A}" type="slidenum">
              <a:rPr b="0" i="1" lang="zh-CN" sz="12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742-BEF1-463A-9B39-8AC29E4E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5E9-4BAF-4FC5-B8A9-25351271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4B5-0F3B-4136-B65B-BDD6AA43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D06-3B92-414A-8D8D-1463EAA7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524-1A95-4AA1-8086-B31223EF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537-6BE0-4B36-A24C-515C830C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30F-8D34-43BC-9B17-255A604E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975-728F-40E7-871A-0699108F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4EE-9E16-42A9-9266-181170FB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C6E-2371-4844-8EBF-9F367F06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162-7761-42D6-A9EB-FC28E9B1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BED-BC0D-4120-8E2B-79C441DA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D2ED-8AF2-4568-8785-795A9B1E7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jpe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3"/>
          <p:cNvSpPr/>
          <p:nvPr/>
        </p:nvSpPr>
        <p:spPr>
          <a:xfrm>
            <a:off x="533520" y="1143000"/>
            <a:ext cx="8153280" cy="12952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33cc"/>
                </a:solidFill>
                <a:latin typeface="微软雅黑"/>
                <a:ea typeface="微软雅黑"/>
              </a:rPr>
              <a:t>物体在水中是沉还是浮</a:t>
            </a:r>
            <a:endParaRPr b="0" i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矩形 4"/>
          <p:cNvSpPr/>
          <p:nvPr/>
        </p:nvSpPr>
        <p:spPr>
          <a:xfrm>
            <a:off x="2247480" y="59436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i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dghd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4842360" y="54705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宋体"/>
              </a:rPr>
              <a:t>轻重相同，小的易沉，大的易浮。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07" name="Picture 4" descr="未命名-1"/>
          <p:cNvPicPr/>
          <p:nvPr/>
        </p:nvPicPr>
        <p:blipFill>
          <a:blip r:embed="rId2"/>
          <a:stretch/>
        </p:blipFill>
        <p:spPr>
          <a:xfrm>
            <a:off x="990720" y="1143000"/>
            <a:ext cx="7848360" cy="29718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未命名-8"/>
          <p:cNvPicPr/>
          <p:nvPr/>
        </p:nvPicPr>
        <p:blipFill>
          <a:blip r:embed="rId3"/>
          <a:stretch/>
        </p:blipFill>
        <p:spPr>
          <a:xfrm>
            <a:off x="990720" y="4724280"/>
            <a:ext cx="1565280" cy="6066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6"/>
          <p:cNvSpPr/>
          <p:nvPr/>
        </p:nvSpPr>
        <p:spPr>
          <a:xfrm>
            <a:off x="1243440" y="247680"/>
            <a:ext cx="11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宋体"/>
              </a:rPr>
              <a:t>实验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4:</a:t>
            </a:r>
            <a:endParaRPr b="0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1833480" y="10656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7572"/>
                </a:solidFill>
                <a:latin typeface="Arial"/>
                <a:ea typeface="幼圆"/>
              </a:rPr>
              <a:t>想一想：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2187000" y="281844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幼圆"/>
              </a:rPr>
              <a:t>物体的沉浮与什么因素有关呢？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文本框 1"/>
          <p:cNvSpPr/>
          <p:nvPr/>
        </p:nvSpPr>
        <p:spPr>
          <a:xfrm>
            <a:off x="2022480" y="5348160"/>
            <a:ext cx="50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更多免费</a:t>
            </a:r>
            <a:r>
              <a:rPr b="0" i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PPT</a:t>
            </a:r>
            <a:r>
              <a:rPr b="0" i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模板下载：</a:t>
            </a:r>
            <a:r>
              <a:rPr b="0" i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rty54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3"/>
          <p:cNvSpPr/>
          <p:nvPr/>
        </p:nvSpPr>
        <p:spPr>
          <a:xfrm>
            <a:off x="2828880" y="6858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  <a:ea typeface="宋体"/>
              </a:rPr>
              <a:t>物体在水中是沉还是浮</a:t>
            </a:r>
            <a:endParaRPr b="0" i="1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3798360" y="190512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、物体的沉浮和它的大小、轻重的关系吗？</a:t>
            </a:r>
            <a:endParaRPr b="0" i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2236320" y="2590920"/>
            <a:ext cx="27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物体的沉浮和它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大小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有关</a:t>
            </a:r>
            <a:endParaRPr b="0" i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2312640" y="3276720"/>
            <a:ext cx="27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物体的沉浮和它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轻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有关</a:t>
            </a:r>
            <a:endParaRPr b="0" i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3619800" y="396252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、物体的沉浮和它的大小、轻重的关系：</a:t>
            </a:r>
            <a:endParaRPr b="0" i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521640" y="954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  <a:ea typeface="宋体"/>
              </a:rPr>
              <a:t>结论：</a:t>
            </a:r>
            <a:endParaRPr b="0" i="1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20" name="Group 14"/>
          <p:cNvGrpSpPr/>
          <p:nvPr/>
        </p:nvGrpSpPr>
        <p:grpSpPr>
          <a:xfrm>
            <a:off x="907560" y="4572000"/>
            <a:ext cx="5758200" cy="1306440"/>
            <a:chOff x="907560" y="4572000"/>
            <a:chExt cx="5758200" cy="1306440"/>
          </a:xfrm>
        </p:grpSpPr>
        <p:sp>
          <p:nvSpPr>
            <p:cNvPr id="521" name="Text Box 8"/>
            <p:cNvSpPr/>
            <p:nvPr/>
          </p:nvSpPr>
          <p:spPr>
            <a:xfrm>
              <a:off x="2787120" y="4572000"/>
              <a:ext cx="367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大小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相同      重的易沉    轻的易浮</a:t>
              </a:r>
              <a:endParaRPr b="0" i="1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2" name="Text Box 9"/>
            <p:cNvSpPr/>
            <p:nvPr/>
          </p:nvSpPr>
          <p:spPr>
            <a:xfrm>
              <a:off x="2809440" y="5357880"/>
              <a:ext cx="385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轻重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相同      小的易沉     大的易浮 </a:t>
              </a:r>
              <a:endParaRPr b="0" i="1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3" name="Text Box 10"/>
            <p:cNvSpPr/>
            <p:nvPr/>
          </p:nvSpPr>
          <p:spPr>
            <a:xfrm>
              <a:off x="907560" y="4976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物体</a:t>
              </a:r>
              <a:endParaRPr b="0" i="1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 flipH="1">
              <a:off x="1599840" y="4886280"/>
              <a:ext cx="456840" cy="3049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1600200" y="5343480"/>
              <a:ext cx="456840" cy="2286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4"/>
          <p:cNvSpPr txBox="1"/>
          <p:nvPr/>
        </p:nvSpPr>
        <p:spPr>
          <a:xfrm>
            <a:off x="1447920" y="1828800"/>
            <a:ext cx="49528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再见！</a:t>
            </a:r>
            <a:endParaRPr b="1" i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29D6-9661-4700-88D3-B29B10FE97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木船1"/>
          <p:cNvPicPr/>
          <p:nvPr/>
        </p:nvPicPr>
        <p:blipFill>
          <a:blip r:embed="rId1"/>
          <a:stretch/>
        </p:blipFill>
        <p:spPr>
          <a:xfrm>
            <a:off x="838080" y="1523880"/>
            <a:ext cx="3429000" cy="1459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轮船3"/>
          <p:cNvPicPr/>
          <p:nvPr/>
        </p:nvPicPr>
        <p:blipFill>
          <a:blip r:embed="rId2"/>
          <a:stretch/>
        </p:blipFill>
        <p:spPr>
          <a:xfrm>
            <a:off x="4800600" y="2286000"/>
            <a:ext cx="3809880" cy="2521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潜水艇1"/>
          <p:cNvPicPr/>
          <p:nvPr/>
        </p:nvPicPr>
        <p:blipFill>
          <a:blip r:embed="rId3"/>
          <a:stretch/>
        </p:blipFill>
        <p:spPr>
          <a:xfrm>
            <a:off x="1066680" y="388620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fgd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450" name="Freeform 3"/>
          <p:cNvSpPr/>
          <p:nvPr/>
        </p:nvSpPr>
        <p:spPr>
          <a:xfrm>
            <a:off x="5105520" y="1676520"/>
            <a:ext cx="3476520" cy="4489200"/>
          </a:xfrm>
          <a:custGeom>
            <a:avLst/>
            <a:gdLst/>
            <a:ahLst/>
            <a:rect l="l" t="t" r="r" b="b"/>
            <a:pathLst>
              <a:path w="2190" h="2828">
                <a:moveTo>
                  <a:pt x="744" y="200"/>
                </a:moveTo>
                <a:cubicBezTo>
                  <a:pt x="719" y="301"/>
                  <a:pt x="661" y="391"/>
                  <a:pt x="588" y="464"/>
                </a:cubicBezTo>
                <a:cubicBezTo>
                  <a:pt x="559" y="550"/>
                  <a:pt x="600" y="446"/>
                  <a:pt x="540" y="536"/>
                </a:cubicBezTo>
                <a:cubicBezTo>
                  <a:pt x="533" y="547"/>
                  <a:pt x="534" y="561"/>
                  <a:pt x="528" y="572"/>
                </a:cubicBezTo>
                <a:cubicBezTo>
                  <a:pt x="511" y="605"/>
                  <a:pt x="495" y="617"/>
                  <a:pt x="468" y="644"/>
                </a:cubicBezTo>
                <a:cubicBezTo>
                  <a:pt x="452" y="691"/>
                  <a:pt x="418" y="709"/>
                  <a:pt x="396" y="752"/>
                </a:cubicBezTo>
                <a:cubicBezTo>
                  <a:pt x="377" y="791"/>
                  <a:pt x="362" y="836"/>
                  <a:pt x="336" y="872"/>
                </a:cubicBezTo>
                <a:cubicBezTo>
                  <a:pt x="270" y="965"/>
                  <a:pt x="329" y="844"/>
                  <a:pt x="264" y="956"/>
                </a:cubicBezTo>
                <a:cubicBezTo>
                  <a:pt x="246" y="987"/>
                  <a:pt x="241" y="1027"/>
                  <a:pt x="216" y="1052"/>
                </a:cubicBezTo>
                <a:cubicBezTo>
                  <a:pt x="204" y="1064"/>
                  <a:pt x="191" y="1075"/>
                  <a:pt x="180" y="1088"/>
                </a:cubicBezTo>
                <a:cubicBezTo>
                  <a:pt x="142" y="1134"/>
                  <a:pt x="161" y="1148"/>
                  <a:pt x="108" y="1184"/>
                </a:cubicBezTo>
                <a:cubicBezTo>
                  <a:pt x="106" y="1190"/>
                  <a:pt x="91" y="1258"/>
                  <a:pt x="84" y="1268"/>
                </a:cubicBezTo>
                <a:cubicBezTo>
                  <a:pt x="75" y="1282"/>
                  <a:pt x="58" y="1291"/>
                  <a:pt x="48" y="1304"/>
                </a:cubicBezTo>
                <a:cubicBezTo>
                  <a:pt x="30" y="1327"/>
                  <a:pt x="0" y="1376"/>
                  <a:pt x="0" y="1376"/>
                </a:cubicBezTo>
                <a:cubicBezTo>
                  <a:pt x="16" y="1470"/>
                  <a:pt x="29" y="1454"/>
                  <a:pt x="60" y="1532"/>
                </a:cubicBezTo>
                <a:cubicBezTo>
                  <a:pt x="74" y="1568"/>
                  <a:pt x="85" y="1641"/>
                  <a:pt x="108" y="1676"/>
                </a:cubicBezTo>
                <a:cubicBezTo>
                  <a:pt x="162" y="1757"/>
                  <a:pt x="217" y="1838"/>
                  <a:pt x="276" y="1916"/>
                </a:cubicBezTo>
                <a:cubicBezTo>
                  <a:pt x="299" y="2007"/>
                  <a:pt x="341" y="2065"/>
                  <a:pt x="408" y="2132"/>
                </a:cubicBezTo>
                <a:cubicBezTo>
                  <a:pt x="423" y="2177"/>
                  <a:pt x="469" y="2259"/>
                  <a:pt x="504" y="2288"/>
                </a:cubicBezTo>
                <a:cubicBezTo>
                  <a:pt x="518" y="2299"/>
                  <a:pt x="538" y="2301"/>
                  <a:pt x="552" y="2312"/>
                </a:cubicBezTo>
                <a:cubicBezTo>
                  <a:pt x="570" y="2326"/>
                  <a:pt x="583" y="2345"/>
                  <a:pt x="600" y="2360"/>
                </a:cubicBezTo>
                <a:cubicBezTo>
                  <a:pt x="680" y="2430"/>
                  <a:pt x="773" y="2486"/>
                  <a:pt x="864" y="2540"/>
                </a:cubicBezTo>
                <a:cubicBezTo>
                  <a:pt x="921" y="2574"/>
                  <a:pt x="958" y="2609"/>
                  <a:pt x="1008" y="2648"/>
                </a:cubicBezTo>
                <a:cubicBezTo>
                  <a:pt x="1031" y="2666"/>
                  <a:pt x="1056" y="2680"/>
                  <a:pt x="1080" y="2696"/>
                </a:cubicBezTo>
                <a:cubicBezTo>
                  <a:pt x="1092" y="2704"/>
                  <a:pt x="1116" y="2720"/>
                  <a:pt x="1116" y="2720"/>
                </a:cubicBezTo>
                <a:cubicBezTo>
                  <a:pt x="1142" y="2759"/>
                  <a:pt x="1174" y="2789"/>
                  <a:pt x="1200" y="2828"/>
                </a:cubicBezTo>
                <a:cubicBezTo>
                  <a:pt x="1252" y="2793"/>
                  <a:pt x="1293" y="2754"/>
                  <a:pt x="1344" y="2720"/>
                </a:cubicBezTo>
                <a:cubicBezTo>
                  <a:pt x="1376" y="2671"/>
                  <a:pt x="1416" y="2620"/>
                  <a:pt x="1464" y="2588"/>
                </a:cubicBezTo>
                <a:cubicBezTo>
                  <a:pt x="1500" y="2516"/>
                  <a:pt x="1551" y="2429"/>
                  <a:pt x="1608" y="2372"/>
                </a:cubicBezTo>
                <a:cubicBezTo>
                  <a:pt x="1634" y="2295"/>
                  <a:pt x="1600" y="2379"/>
                  <a:pt x="1656" y="2300"/>
                </a:cubicBezTo>
                <a:cubicBezTo>
                  <a:pt x="1683" y="2262"/>
                  <a:pt x="1702" y="2219"/>
                  <a:pt x="1728" y="2180"/>
                </a:cubicBezTo>
                <a:cubicBezTo>
                  <a:pt x="1767" y="2122"/>
                  <a:pt x="1817" y="2063"/>
                  <a:pt x="1848" y="2000"/>
                </a:cubicBezTo>
                <a:cubicBezTo>
                  <a:pt x="1877" y="1943"/>
                  <a:pt x="1874" y="1914"/>
                  <a:pt x="1920" y="1868"/>
                </a:cubicBezTo>
                <a:cubicBezTo>
                  <a:pt x="1945" y="1793"/>
                  <a:pt x="1987" y="1725"/>
                  <a:pt x="2016" y="1652"/>
                </a:cubicBezTo>
                <a:cubicBezTo>
                  <a:pt x="2059" y="1543"/>
                  <a:pt x="2085" y="1374"/>
                  <a:pt x="2148" y="1280"/>
                </a:cubicBezTo>
                <a:cubicBezTo>
                  <a:pt x="2156" y="1248"/>
                  <a:pt x="2190" y="1211"/>
                  <a:pt x="2172" y="1184"/>
                </a:cubicBezTo>
                <a:cubicBezTo>
                  <a:pt x="2160" y="1165"/>
                  <a:pt x="2118" y="1103"/>
                  <a:pt x="2100" y="1076"/>
                </a:cubicBezTo>
                <a:cubicBezTo>
                  <a:pt x="2092" y="1064"/>
                  <a:pt x="2075" y="1061"/>
                  <a:pt x="2064" y="1052"/>
                </a:cubicBezTo>
                <a:cubicBezTo>
                  <a:pt x="2047" y="1037"/>
                  <a:pt x="2033" y="1019"/>
                  <a:pt x="2016" y="1004"/>
                </a:cubicBezTo>
                <a:cubicBezTo>
                  <a:pt x="2005" y="995"/>
                  <a:pt x="1991" y="989"/>
                  <a:pt x="1980" y="980"/>
                </a:cubicBezTo>
                <a:cubicBezTo>
                  <a:pt x="1943" y="949"/>
                  <a:pt x="1909" y="915"/>
                  <a:pt x="1872" y="884"/>
                </a:cubicBezTo>
                <a:cubicBezTo>
                  <a:pt x="1804" y="827"/>
                  <a:pt x="1870" y="895"/>
                  <a:pt x="1788" y="836"/>
                </a:cubicBezTo>
                <a:cubicBezTo>
                  <a:pt x="1745" y="805"/>
                  <a:pt x="1717" y="765"/>
                  <a:pt x="1680" y="728"/>
                </a:cubicBezTo>
                <a:cubicBezTo>
                  <a:pt x="1586" y="634"/>
                  <a:pt x="1706" y="786"/>
                  <a:pt x="1608" y="668"/>
                </a:cubicBezTo>
                <a:cubicBezTo>
                  <a:pt x="1569" y="621"/>
                  <a:pt x="1543" y="555"/>
                  <a:pt x="1500" y="512"/>
                </a:cubicBezTo>
                <a:cubicBezTo>
                  <a:pt x="1476" y="488"/>
                  <a:pt x="1443" y="470"/>
                  <a:pt x="1428" y="440"/>
                </a:cubicBezTo>
                <a:cubicBezTo>
                  <a:pt x="1403" y="390"/>
                  <a:pt x="1379" y="362"/>
                  <a:pt x="1344" y="320"/>
                </a:cubicBezTo>
                <a:cubicBezTo>
                  <a:pt x="1335" y="309"/>
                  <a:pt x="1331" y="293"/>
                  <a:pt x="1320" y="284"/>
                </a:cubicBezTo>
                <a:cubicBezTo>
                  <a:pt x="1310" y="276"/>
                  <a:pt x="1296" y="275"/>
                  <a:pt x="1284" y="272"/>
                </a:cubicBezTo>
                <a:cubicBezTo>
                  <a:pt x="1212" y="252"/>
                  <a:pt x="1139" y="236"/>
                  <a:pt x="1068" y="212"/>
                </a:cubicBezTo>
                <a:cubicBezTo>
                  <a:pt x="1032" y="159"/>
                  <a:pt x="1022" y="168"/>
                  <a:pt x="972" y="140"/>
                </a:cubicBezTo>
                <a:cubicBezTo>
                  <a:pt x="947" y="126"/>
                  <a:pt x="924" y="108"/>
                  <a:pt x="900" y="92"/>
                </a:cubicBezTo>
                <a:cubicBezTo>
                  <a:pt x="888" y="84"/>
                  <a:pt x="864" y="68"/>
                  <a:pt x="864" y="68"/>
                </a:cubicBezTo>
                <a:cubicBezTo>
                  <a:pt x="751" y="181"/>
                  <a:pt x="921" y="0"/>
                  <a:pt x="804" y="176"/>
                </a:cubicBezTo>
                <a:cubicBezTo>
                  <a:pt x="788" y="200"/>
                  <a:pt x="772" y="224"/>
                  <a:pt x="756" y="248"/>
                </a:cubicBezTo>
                <a:cubicBezTo>
                  <a:pt x="742" y="269"/>
                  <a:pt x="725" y="320"/>
                  <a:pt x="696" y="320"/>
                </a:cubicBezTo>
              </a:path>
            </a:pathLst>
          </a:custGeom>
          <a:solidFill>
            <a:srgbClr val="ffffff"/>
          </a:solidFill>
          <a:ln cap="rnd" w="507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1" name="Picture 4" descr="石头２"/>
          <p:cNvPicPr/>
          <p:nvPr/>
        </p:nvPicPr>
        <p:blipFill>
          <a:blip r:embed="rId2"/>
          <a:stretch/>
        </p:blipFill>
        <p:spPr>
          <a:xfrm>
            <a:off x="6019920" y="2743200"/>
            <a:ext cx="1893600" cy="2438280"/>
          </a:xfrm>
          <a:prstGeom prst="rect">
            <a:avLst/>
          </a:prstGeom>
          <a:ln w="0">
            <a:noFill/>
          </a:ln>
        </p:spPr>
      </p:pic>
      <p:sp>
        <p:nvSpPr>
          <p:cNvPr id="452" name="Freeform 5"/>
          <p:cNvSpPr/>
          <p:nvPr/>
        </p:nvSpPr>
        <p:spPr>
          <a:xfrm>
            <a:off x="228600" y="1523880"/>
            <a:ext cx="3956040" cy="2162160"/>
          </a:xfrm>
          <a:custGeom>
            <a:avLst/>
            <a:gdLst/>
            <a:ahLst/>
            <a:rect l="l" t="t" r="r" b="b"/>
            <a:pathLst>
              <a:path w="2492" h="1362">
                <a:moveTo>
                  <a:pt x="472" y="0"/>
                </a:moveTo>
                <a:cubicBezTo>
                  <a:pt x="462" y="31"/>
                  <a:pt x="455" y="59"/>
                  <a:pt x="440" y="88"/>
                </a:cubicBezTo>
                <a:cubicBezTo>
                  <a:pt x="426" y="189"/>
                  <a:pt x="392" y="287"/>
                  <a:pt x="360" y="384"/>
                </a:cubicBezTo>
                <a:cubicBezTo>
                  <a:pt x="343" y="435"/>
                  <a:pt x="334" y="491"/>
                  <a:pt x="304" y="536"/>
                </a:cubicBezTo>
                <a:cubicBezTo>
                  <a:pt x="295" y="580"/>
                  <a:pt x="291" y="604"/>
                  <a:pt x="264" y="640"/>
                </a:cubicBezTo>
                <a:cubicBezTo>
                  <a:pt x="252" y="676"/>
                  <a:pt x="247" y="697"/>
                  <a:pt x="224" y="728"/>
                </a:cubicBezTo>
                <a:cubicBezTo>
                  <a:pt x="207" y="780"/>
                  <a:pt x="199" y="842"/>
                  <a:pt x="168" y="888"/>
                </a:cubicBezTo>
                <a:cubicBezTo>
                  <a:pt x="154" y="958"/>
                  <a:pt x="139" y="1031"/>
                  <a:pt x="96" y="1088"/>
                </a:cubicBezTo>
                <a:cubicBezTo>
                  <a:pt x="82" y="1158"/>
                  <a:pt x="54" y="1221"/>
                  <a:pt x="32" y="1288"/>
                </a:cubicBezTo>
                <a:cubicBezTo>
                  <a:pt x="27" y="1304"/>
                  <a:pt x="21" y="1320"/>
                  <a:pt x="16" y="1336"/>
                </a:cubicBezTo>
                <a:cubicBezTo>
                  <a:pt x="13" y="1344"/>
                  <a:pt x="0" y="1362"/>
                  <a:pt x="8" y="1360"/>
                </a:cubicBezTo>
                <a:cubicBezTo>
                  <a:pt x="30" y="1356"/>
                  <a:pt x="50" y="1344"/>
                  <a:pt x="72" y="1344"/>
                </a:cubicBezTo>
                <a:cubicBezTo>
                  <a:pt x="717" y="1339"/>
                  <a:pt x="1363" y="1339"/>
                  <a:pt x="2008" y="1336"/>
                </a:cubicBezTo>
                <a:cubicBezTo>
                  <a:pt x="2059" y="1285"/>
                  <a:pt x="2087" y="1211"/>
                  <a:pt x="2112" y="1144"/>
                </a:cubicBezTo>
                <a:cubicBezTo>
                  <a:pt x="2136" y="1079"/>
                  <a:pt x="2173" y="1019"/>
                  <a:pt x="2192" y="952"/>
                </a:cubicBezTo>
                <a:cubicBezTo>
                  <a:pt x="2210" y="890"/>
                  <a:pt x="2220" y="814"/>
                  <a:pt x="2256" y="760"/>
                </a:cubicBezTo>
                <a:cubicBezTo>
                  <a:pt x="2272" y="696"/>
                  <a:pt x="2297" y="637"/>
                  <a:pt x="2320" y="576"/>
                </a:cubicBezTo>
                <a:cubicBezTo>
                  <a:pt x="2341" y="519"/>
                  <a:pt x="2349" y="454"/>
                  <a:pt x="2376" y="400"/>
                </a:cubicBezTo>
                <a:cubicBezTo>
                  <a:pt x="2383" y="363"/>
                  <a:pt x="2387" y="335"/>
                  <a:pt x="2408" y="304"/>
                </a:cubicBezTo>
                <a:cubicBezTo>
                  <a:pt x="2418" y="263"/>
                  <a:pt x="2429" y="222"/>
                  <a:pt x="2448" y="184"/>
                </a:cubicBezTo>
                <a:cubicBezTo>
                  <a:pt x="2471" y="69"/>
                  <a:pt x="2439" y="211"/>
                  <a:pt x="2472" y="112"/>
                </a:cubicBezTo>
                <a:cubicBezTo>
                  <a:pt x="2476" y="99"/>
                  <a:pt x="2492" y="79"/>
                  <a:pt x="2480" y="72"/>
                </a:cubicBezTo>
                <a:cubicBezTo>
                  <a:pt x="2466" y="63"/>
                  <a:pt x="2448" y="83"/>
                  <a:pt x="2432" y="88"/>
                </a:cubicBezTo>
                <a:cubicBezTo>
                  <a:pt x="2424" y="91"/>
                  <a:pt x="2408" y="96"/>
                  <a:pt x="2408" y="96"/>
                </a:cubicBezTo>
                <a:cubicBezTo>
                  <a:pt x="616" y="79"/>
                  <a:pt x="1272" y="80"/>
                  <a:pt x="440" y="80"/>
                </a:cubicBezTo>
                <a:lnTo>
                  <a:pt x="440" y="128"/>
                </a:lnTo>
              </a:path>
            </a:pathLst>
          </a:custGeom>
          <a:solidFill>
            <a:srgbClr val="ffffff"/>
          </a:solidFill>
          <a:ln cap="rnd" w="507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3" name="Picture 6" descr="木块２"/>
          <p:cNvPicPr/>
          <p:nvPr/>
        </p:nvPicPr>
        <p:blipFill>
          <a:blip r:embed="rId3"/>
          <a:stretch/>
        </p:blipFill>
        <p:spPr>
          <a:xfrm>
            <a:off x="914400" y="2209680"/>
            <a:ext cx="2666880" cy="933480"/>
          </a:xfrm>
          <a:prstGeom prst="rect">
            <a:avLst/>
          </a:prstGeom>
          <a:ln w="0">
            <a:noFill/>
          </a:ln>
        </p:spPr>
      </p:pic>
      <p:sp>
        <p:nvSpPr>
          <p:cNvPr id="454" name="Freeform 7"/>
          <p:cNvSpPr/>
          <p:nvPr/>
        </p:nvSpPr>
        <p:spPr>
          <a:xfrm>
            <a:off x="609480" y="4038480"/>
            <a:ext cx="3956040" cy="2314800"/>
          </a:xfrm>
          <a:custGeom>
            <a:avLst/>
            <a:gdLst/>
            <a:ahLst/>
            <a:rect l="l" t="t" r="r" b="b"/>
            <a:pathLst>
              <a:path w="2492" h="1362">
                <a:moveTo>
                  <a:pt x="472" y="0"/>
                </a:moveTo>
                <a:cubicBezTo>
                  <a:pt x="462" y="31"/>
                  <a:pt x="455" y="59"/>
                  <a:pt x="440" y="88"/>
                </a:cubicBezTo>
                <a:cubicBezTo>
                  <a:pt x="426" y="189"/>
                  <a:pt x="392" y="287"/>
                  <a:pt x="360" y="384"/>
                </a:cubicBezTo>
                <a:cubicBezTo>
                  <a:pt x="343" y="435"/>
                  <a:pt x="334" y="491"/>
                  <a:pt x="304" y="536"/>
                </a:cubicBezTo>
                <a:cubicBezTo>
                  <a:pt x="295" y="580"/>
                  <a:pt x="291" y="604"/>
                  <a:pt x="264" y="640"/>
                </a:cubicBezTo>
                <a:cubicBezTo>
                  <a:pt x="252" y="676"/>
                  <a:pt x="247" y="697"/>
                  <a:pt x="224" y="728"/>
                </a:cubicBezTo>
                <a:cubicBezTo>
                  <a:pt x="207" y="780"/>
                  <a:pt x="199" y="842"/>
                  <a:pt x="168" y="888"/>
                </a:cubicBezTo>
                <a:cubicBezTo>
                  <a:pt x="154" y="958"/>
                  <a:pt x="139" y="1031"/>
                  <a:pt x="96" y="1088"/>
                </a:cubicBezTo>
                <a:cubicBezTo>
                  <a:pt x="82" y="1158"/>
                  <a:pt x="54" y="1221"/>
                  <a:pt x="32" y="1288"/>
                </a:cubicBezTo>
                <a:cubicBezTo>
                  <a:pt x="27" y="1304"/>
                  <a:pt x="21" y="1320"/>
                  <a:pt x="16" y="1336"/>
                </a:cubicBezTo>
                <a:cubicBezTo>
                  <a:pt x="13" y="1344"/>
                  <a:pt x="0" y="1362"/>
                  <a:pt x="8" y="1360"/>
                </a:cubicBezTo>
                <a:cubicBezTo>
                  <a:pt x="30" y="1356"/>
                  <a:pt x="50" y="1344"/>
                  <a:pt x="72" y="1344"/>
                </a:cubicBezTo>
                <a:cubicBezTo>
                  <a:pt x="717" y="1339"/>
                  <a:pt x="1363" y="1339"/>
                  <a:pt x="2008" y="1336"/>
                </a:cubicBezTo>
                <a:cubicBezTo>
                  <a:pt x="2059" y="1285"/>
                  <a:pt x="2087" y="1211"/>
                  <a:pt x="2112" y="1144"/>
                </a:cubicBezTo>
                <a:cubicBezTo>
                  <a:pt x="2136" y="1079"/>
                  <a:pt x="2173" y="1019"/>
                  <a:pt x="2192" y="952"/>
                </a:cubicBezTo>
                <a:cubicBezTo>
                  <a:pt x="2210" y="890"/>
                  <a:pt x="2220" y="814"/>
                  <a:pt x="2256" y="760"/>
                </a:cubicBezTo>
                <a:cubicBezTo>
                  <a:pt x="2272" y="696"/>
                  <a:pt x="2297" y="637"/>
                  <a:pt x="2320" y="576"/>
                </a:cubicBezTo>
                <a:cubicBezTo>
                  <a:pt x="2341" y="519"/>
                  <a:pt x="2349" y="454"/>
                  <a:pt x="2376" y="400"/>
                </a:cubicBezTo>
                <a:cubicBezTo>
                  <a:pt x="2383" y="363"/>
                  <a:pt x="2387" y="335"/>
                  <a:pt x="2408" y="304"/>
                </a:cubicBezTo>
                <a:cubicBezTo>
                  <a:pt x="2418" y="263"/>
                  <a:pt x="2429" y="222"/>
                  <a:pt x="2448" y="184"/>
                </a:cubicBezTo>
                <a:cubicBezTo>
                  <a:pt x="2471" y="69"/>
                  <a:pt x="2439" y="211"/>
                  <a:pt x="2472" y="112"/>
                </a:cubicBezTo>
                <a:cubicBezTo>
                  <a:pt x="2476" y="99"/>
                  <a:pt x="2492" y="79"/>
                  <a:pt x="2480" y="72"/>
                </a:cubicBezTo>
                <a:cubicBezTo>
                  <a:pt x="2466" y="63"/>
                  <a:pt x="2448" y="83"/>
                  <a:pt x="2432" y="88"/>
                </a:cubicBezTo>
                <a:cubicBezTo>
                  <a:pt x="2424" y="91"/>
                  <a:pt x="2408" y="96"/>
                  <a:pt x="2408" y="96"/>
                </a:cubicBezTo>
                <a:cubicBezTo>
                  <a:pt x="616" y="79"/>
                  <a:pt x="1272" y="80"/>
                  <a:pt x="440" y="80"/>
                </a:cubicBezTo>
                <a:lnTo>
                  <a:pt x="440" y="128"/>
                </a:lnTo>
              </a:path>
            </a:pathLst>
          </a:custGeom>
          <a:solidFill>
            <a:srgbClr val="ffffff"/>
          </a:solidFill>
          <a:ln cap="rnd" w="507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5" name="Picture 8" descr="纸片2"/>
          <p:cNvPicPr/>
          <p:nvPr/>
        </p:nvPicPr>
        <p:blipFill>
          <a:blip r:embed="rId4"/>
          <a:stretch/>
        </p:blipFill>
        <p:spPr>
          <a:xfrm>
            <a:off x="1828800" y="434340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2853720" y="4572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宋体"/>
              </a:rPr>
              <a:t>实验：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5"/>
          <p:cNvSpPr/>
          <p:nvPr/>
        </p:nvSpPr>
        <p:spPr>
          <a:xfrm>
            <a:off x="4273560" y="473040"/>
            <a:ext cx="56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宋体"/>
                <a:ea typeface="宋体"/>
              </a:rPr>
              <a:t>（材料：石头、木块、小纸片）</a:t>
            </a:r>
            <a:r>
              <a:rPr b="1" lang="zh-CN" sz="2600" spc="-1" strike="noStrike">
                <a:solidFill>
                  <a:srgbClr val="0033cc"/>
                </a:solidFill>
                <a:latin typeface="Times New Roman"/>
                <a:ea typeface="宋体"/>
              </a:rPr>
              <a:t> </a:t>
            </a:r>
            <a:endParaRPr b="0" i="1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8" name="aaa.avi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553080" cy="43606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7"/>
          <p:cNvSpPr/>
          <p:nvPr/>
        </p:nvSpPr>
        <p:spPr>
          <a:xfrm>
            <a:off x="2216520" y="5029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宋体"/>
              </a:rPr>
              <a:t>沉</a:t>
            </a:r>
            <a:endParaRPr b="0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4502520" y="5029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宋体"/>
              </a:rPr>
              <a:t>浮</a:t>
            </a:r>
            <a:endParaRPr b="0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6629400" y="495288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宋体"/>
              </a:rPr>
              <a:t>沉</a:t>
            </a:r>
            <a:endParaRPr b="0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584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1404720" y="684720"/>
            <a:ext cx="358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幼圆"/>
              </a:rPr>
              <a:t>判断物体沉浮的方法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幼圆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1735200" y="2210040"/>
            <a:ext cx="527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物体不碰到容器底部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浮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，有的浮在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水面，有的浮在水中；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物体碰到容器底部是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宋体"/>
              </a:rPr>
              <a:t>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，沉在水底。 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3" descr="红萝卜２"/>
          <p:cNvPicPr/>
          <p:nvPr/>
        </p:nvPicPr>
        <p:blipFill>
          <a:blip r:embed="rId1"/>
          <a:stretch/>
        </p:blipFill>
        <p:spPr>
          <a:xfrm>
            <a:off x="914400" y="1981080"/>
            <a:ext cx="2362320" cy="6588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木块２"/>
          <p:cNvPicPr/>
          <p:nvPr/>
        </p:nvPicPr>
        <p:blipFill>
          <a:blip r:embed="rId2"/>
          <a:stretch/>
        </p:blipFill>
        <p:spPr>
          <a:xfrm>
            <a:off x="1371600" y="3733920"/>
            <a:ext cx="1066680" cy="3729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苹果３"/>
          <p:cNvPicPr/>
          <p:nvPr/>
        </p:nvPicPr>
        <p:blipFill>
          <a:blip r:embed="rId3"/>
          <a:stretch/>
        </p:blipFill>
        <p:spPr>
          <a:xfrm>
            <a:off x="6629400" y="342900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牙签2"/>
          <p:cNvPicPr/>
          <p:nvPr/>
        </p:nvPicPr>
        <p:blipFill>
          <a:blip r:embed="rId4"/>
          <a:stretch/>
        </p:blipFill>
        <p:spPr>
          <a:xfrm>
            <a:off x="3657600" y="3657600"/>
            <a:ext cx="1981080" cy="6094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锁匙2"/>
          <p:cNvPicPr/>
          <p:nvPr/>
        </p:nvPicPr>
        <p:blipFill>
          <a:blip r:embed="rId5"/>
          <a:stretch/>
        </p:blipFill>
        <p:spPr>
          <a:xfrm>
            <a:off x="7391520" y="1523880"/>
            <a:ext cx="1143000" cy="524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泡沫２"/>
          <p:cNvPicPr/>
          <p:nvPr/>
        </p:nvPicPr>
        <p:blipFill>
          <a:blip r:embed="rId6"/>
          <a:stretch/>
        </p:blipFill>
        <p:spPr>
          <a:xfrm>
            <a:off x="4114800" y="1295280"/>
            <a:ext cx="2400480" cy="151308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9"/>
          <p:cNvSpPr/>
          <p:nvPr/>
        </p:nvSpPr>
        <p:spPr>
          <a:xfrm>
            <a:off x="1492200" y="68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宋体"/>
              </a:rPr>
              <a:t>观察实验，寻求证据：</a:t>
            </a:r>
            <a:endParaRPr b="0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1006920" y="990720"/>
            <a:ext cx="14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实验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dghd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7993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红萝卜２"/>
          <p:cNvPicPr/>
          <p:nvPr/>
        </p:nvPicPr>
        <p:blipFill>
          <a:blip r:embed="rId2"/>
          <a:stretch/>
        </p:blipFill>
        <p:spPr>
          <a:xfrm>
            <a:off x="3733920" y="3733920"/>
            <a:ext cx="2361960" cy="658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" descr="苹果３"/>
          <p:cNvPicPr/>
          <p:nvPr/>
        </p:nvPicPr>
        <p:blipFill>
          <a:blip r:embed="rId3"/>
          <a:stretch/>
        </p:blipFill>
        <p:spPr>
          <a:xfrm>
            <a:off x="7010280" y="1523880"/>
            <a:ext cx="1067040" cy="10209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木块２"/>
          <p:cNvPicPr/>
          <p:nvPr/>
        </p:nvPicPr>
        <p:blipFill>
          <a:blip r:embed="rId4"/>
          <a:stretch/>
        </p:blipFill>
        <p:spPr>
          <a:xfrm>
            <a:off x="3124080" y="1676520"/>
            <a:ext cx="1067040" cy="3902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锁匙2"/>
          <p:cNvPicPr/>
          <p:nvPr/>
        </p:nvPicPr>
        <p:blipFill>
          <a:blip r:embed="rId5"/>
          <a:stretch/>
        </p:blipFill>
        <p:spPr>
          <a:xfrm>
            <a:off x="4952880" y="1752480"/>
            <a:ext cx="1143000" cy="5241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7"/>
          <p:cNvSpPr/>
          <p:nvPr/>
        </p:nvSpPr>
        <p:spPr>
          <a:xfrm>
            <a:off x="4863240" y="495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  <a:ea typeface="宋体"/>
              </a:rPr>
              <a:t>沉</a:t>
            </a: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7377840" y="2743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  <a:ea typeface="宋体"/>
              </a:rPr>
              <a:t>沉</a:t>
            </a: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5288760" y="236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  <a:ea typeface="宋体"/>
              </a:rPr>
              <a:t>沉</a:t>
            </a: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3382920" y="228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  <a:ea typeface="宋体"/>
              </a:rPr>
              <a:t>浮</a:t>
            </a: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Text Box 11"/>
          <p:cNvSpPr/>
          <p:nvPr/>
        </p:nvSpPr>
        <p:spPr>
          <a:xfrm>
            <a:off x="1891440" y="502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  <a:ea typeface="宋体"/>
              </a:rPr>
              <a:t>浮</a:t>
            </a: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82" name="Picture 12" descr="牙签2"/>
          <p:cNvPicPr/>
          <p:nvPr/>
        </p:nvPicPr>
        <p:blipFill>
          <a:blip r:embed="rId6"/>
          <a:stretch/>
        </p:blipFill>
        <p:spPr>
          <a:xfrm>
            <a:off x="838080" y="1600200"/>
            <a:ext cx="1981440" cy="6094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13"/>
          <p:cNvSpPr/>
          <p:nvPr/>
        </p:nvSpPr>
        <p:spPr>
          <a:xfrm>
            <a:off x="1706400" y="2303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  <a:ea typeface="宋体"/>
              </a:rPr>
              <a:t>浮</a:t>
            </a: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84" name="Picture 14" descr="泡沫２"/>
          <p:cNvPicPr/>
          <p:nvPr/>
        </p:nvPicPr>
        <p:blipFill>
          <a:blip r:embed="rId7"/>
          <a:stretch/>
        </p:blipFill>
        <p:spPr>
          <a:xfrm>
            <a:off x="914400" y="3124080"/>
            <a:ext cx="2400480" cy="151308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15"/>
          <p:cNvSpPr/>
          <p:nvPr/>
        </p:nvSpPr>
        <p:spPr>
          <a:xfrm>
            <a:off x="1492200" y="68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宋体"/>
              </a:rPr>
              <a:t>观察实验，寻求证据：</a:t>
            </a:r>
            <a:endParaRPr b="0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963000" y="762120"/>
            <a:ext cx="19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实验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结论：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3"/>
          <p:cNvSpPr/>
          <p:nvPr/>
        </p:nvSpPr>
        <p:spPr>
          <a:xfrm>
            <a:off x="2559240" y="4708440"/>
            <a:ext cx="4795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800080"/>
                </a:solidFill>
                <a:latin typeface="宋体"/>
                <a:ea typeface="宋体"/>
              </a:rPr>
              <a:t>大小轻重互不相同的物体，使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宋体"/>
                <a:ea typeface="宋体"/>
              </a:rPr>
              <a:t>我们看不出物体的沉浮与什么有关系。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5791320" y="990720"/>
            <a:ext cx="3124080" cy="2743200"/>
          </a:xfrm>
          <a:prstGeom prst="rect">
            <a:avLst/>
          </a:prstGeom>
          <a:solidFill>
            <a:srgbClr val="ffffff"/>
          </a:solidFill>
          <a:ln cap="rnd" w="507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89" name="Picture 5" descr="石头２"/>
          <p:cNvPicPr/>
          <p:nvPr/>
        </p:nvPicPr>
        <p:blipFill>
          <a:blip r:embed="rId1"/>
          <a:stretch/>
        </p:blipFill>
        <p:spPr>
          <a:xfrm>
            <a:off x="6553080" y="1219320"/>
            <a:ext cx="946440" cy="12189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6"/>
          <p:cNvSpPr/>
          <p:nvPr/>
        </p:nvSpPr>
        <p:spPr>
          <a:xfrm>
            <a:off x="6070320" y="274320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Times New Roman"/>
              </a:rPr>
              <a:t>(100</a:t>
            </a:r>
            <a:r>
              <a:rPr b="0" lang="zh-CN" sz="5400" spc="-1" strike="noStrike">
                <a:solidFill>
                  <a:srgbClr val="0033cc"/>
                </a:solidFill>
                <a:latin typeface="Times New Roman"/>
                <a:ea typeface="宋体"/>
              </a:rPr>
              <a:t>克</a:t>
            </a:r>
            <a:r>
              <a:rPr b="0" lang="en-US" sz="5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i="1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457200" y="990720"/>
            <a:ext cx="4648320" cy="2819160"/>
          </a:xfrm>
          <a:prstGeom prst="rect">
            <a:avLst/>
          </a:prstGeom>
          <a:solidFill>
            <a:srgbClr val="ffffff"/>
          </a:solidFill>
          <a:ln cap="rnd" w="507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92" name="Picture 8" descr="木块２"/>
          <p:cNvPicPr/>
          <p:nvPr/>
        </p:nvPicPr>
        <p:blipFill>
          <a:blip r:embed="rId2"/>
          <a:stretch/>
        </p:blipFill>
        <p:spPr>
          <a:xfrm>
            <a:off x="609480" y="1066680"/>
            <a:ext cx="4419720" cy="15462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9" descr=""/>
          <p:cNvPicPr/>
          <p:nvPr/>
        </p:nvPicPr>
        <p:blipFill>
          <a:blip r:embed="rId3"/>
          <a:stretch/>
        </p:blipFill>
        <p:spPr>
          <a:xfrm>
            <a:off x="1066680" y="4051440"/>
            <a:ext cx="1739880" cy="67284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10"/>
          <p:cNvSpPr/>
          <p:nvPr/>
        </p:nvSpPr>
        <p:spPr>
          <a:xfrm>
            <a:off x="1495080" y="2666880"/>
            <a:ext cx="25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Times New Roman"/>
              </a:rPr>
              <a:t>(150</a:t>
            </a:r>
            <a:r>
              <a:rPr b="0" lang="zh-CN" sz="5400" spc="-1" strike="noStrike">
                <a:solidFill>
                  <a:srgbClr val="0033cc"/>
                </a:solidFill>
                <a:latin typeface="Times New Roman"/>
                <a:ea typeface="宋体"/>
              </a:rPr>
              <a:t>克 </a:t>
            </a:r>
            <a:r>
              <a:rPr b="0" lang="en-US" sz="5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i="1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633960" y="171360"/>
            <a:ext cx="11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宋体"/>
              </a:rPr>
              <a:t>实验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2:</a:t>
            </a:r>
            <a:endParaRPr b="0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4842360" y="52419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大小相同，重的易沉，轻的易浮。</a:t>
            </a:r>
            <a:endParaRPr b="0" i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97" name="Picture 3" descr="圆"/>
          <p:cNvPicPr/>
          <p:nvPr/>
        </p:nvPicPr>
        <p:blipFill>
          <a:blip r:embed="rId1"/>
          <a:stretch/>
        </p:blipFill>
        <p:spPr>
          <a:xfrm>
            <a:off x="1295280" y="1504800"/>
            <a:ext cx="6324840" cy="238140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4"/>
          <p:cNvSpPr/>
          <p:nvPr/>
        </p:nvSpPr>
        <p:spPr>
          <a:xfrm>
            <a:off x="1922040" y="289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重</a:t>
            </a: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3141360" y="289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重</a:t>
            </a: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29804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重</a:t>
            </a: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5275080" y="289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轻</a:t>
            </a: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6494040" y="289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轻</a:t>
            </a: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03" name="Picture 9" descr=""/>
          <p:cNvPicPr/>
          <p:nvPr/>
        </p:nvPicPr>
        <p:blipFill>
          <a:blip r:embed="rId2"/>
          <a:stretch/>
        </p:blipFill>
        <p:spPr>
          <a:xfrm>
            <a:off x="990720" y="4343400"/>
            <a:ext cx="1739880" cy="6732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10"/>
          <p:cNvSpPr/>
          <p:nvPr/>
        </p:nvSpPr>
        <p:spPr>
          <a:xfrm>
            <a:off x="1445040" y="411120"/>
            <a:ext cx="11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宋体"/>
              </a:rPr>
              <a:t>实验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3:</a:t>
            </a:r>
            <a:endParaRPr b="0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3:50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1:43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