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type.wav" ContentType="audio/x-wav"/>
  <Override PartName="/ppt/media/image8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EBD9-5F23-4B0E-AF60-A9C428F801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0273-73E7-4147-A9CA-C9FAFC0C5C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提测评答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009-6759-488B-B2A5-F49F3134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AA9-E5FB-48D3-90D9-147B6883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786-89C7-4619-ABC1-5D135460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F2A-2845-422A-9A3F-206352C2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FD9-42C6-4112-A7D1-640141D2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FE5-CC3B-4159-AD8E-B71F7C69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AF5-1F21-4DD0-9D48-451D883B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01A-CF52-4328-A99A-B5B03A6A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B39-0FD9-4959-AB4F-C64D532A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7DB-3F7D-4ED2-83DC-44D8CB81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B64-C545-4B8A-BBFA-0C73CE62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8AD-CA88-4115-B5A4-0D3569DE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E29B-03BF-4A38-A940-4C4EBCEB72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6l"/>
          <p:cNvPicPr/>
          <p:nvPr/>
        </p:nvPicPr>
        <p:blipFill>
          <a:blip r:embed="rId1"/>
          <a:srcRect l="1896" t="0" r="1729" b="29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2197080" y="1557360"/>
            <a:ext cx="4465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想</a:t>
            </a:r>
            <a:endParaRPr b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332000" y="476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北师大版 三年级 语文 上册 第九单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38464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pic_251422hk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851280" y="851040"/>
            <a:ext cx="504036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想把脚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连在柳树根上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伸进湿软的土地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汲取甜美的营养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啊，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成一座绿色的帐篷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pic_251422hk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4140360" y="692280"/>
            <a:ext cx="4032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我想把眼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装在风筝上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看白云多柔软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瞧太阳多明亮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望啊，望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蓝天是我的课堂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pic_251422hk"/>
          <p:cNvPicPr/>
          <p:nvPr/>
        </p:nvPicPr>
        <p:blipFill>
          <a:blip r:embed="rId1"/>
          <a:srcRect l="0" t="0" r="0" b="380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995640" y="893880"/>
            <a:ext cx="47516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我想把我自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种在春天的土地上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变小草，绿得生辉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变小花，开得漂亮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成为柳絮和蒲公英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更是我最大的愿望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我会飞啊，飞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飞到遥远的地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pic_251422hk"/>
          <p:cNvPicPr/>
          <p:nvPr/>
        </p:nvPicPr>
        <p:blipFill>
          <a:blip r:embed="rId1"/>
          <a:srcRect l="0" t="0" r="0" b="380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3059280" y="1916280"/>
            <a:ext cx="58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过，飞到遥远的地方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要和爸爸妈妈商量商量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" descr="图片1了 "/>
          <p:cNvPicPr/>
          <p:nvPr/>
        </p:nvPicPr>
        <p:blipFill>
          <a:blip r:embed="rId1"/>
          <a:srcRect l="1292" t="399" r="1292" b="1599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395280" y="692280"/>
            <a:ext cx="8353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①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不过，飞向遥远的地方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要和爸爸妈妈商量商量</a:t>
            </a:r>
            <a:r>
              <a:rPr b="1" lang="en-US" sz="3600" spc="-1" strike="noStrike">
                <a:solidFill>
                  <a:srgbClr val="6600ff"/>
                </a:solidFill>
                <a:latin typeface="宋体"/>
                <a:ea typeface="宋体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11280" y="2060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这是诗中的最后一节，从诗意上看，与第四节诗是紧密相关的。乍看起来，似乎有画蛇添足之嫌，把孩子的想象一下子拉到了现实，与前面的诗句有些不和谐，甚至格格不入。实际上，正是这句话，形象地表现了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是怎样地沉迷在想象之中，以至于把想象当成了现实，一想到要飞向遥远的地方，自己是快乐了，爸爸妈妈是不是放心呢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所以得和他们商量商量。这更增加了诗的情趣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图片3"/>
          <p:cNvPicPr/>
          <p:nvPr/>
        </p:nvPicPr>
        <p:blipFill>
          <a:blip r:embed="rId2"/>
          <a:stretch/>
        </p:blipFill>
        <p:spPr>
          <a:xfrm>
            <a:off x="0" y="0"/>
            <a:ext cx="2268360" cy="50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图片1了 "/>
          <p:cNvPicPr/>
          <p:nvPr/>
        </p:nvPicPr>
        <p:blipFill>
          <a:blip r:embed="rId1"/>
          <a:srcRect l="1292" t="399" r="1292" b="15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68000" y="1915920"/>
            <a:ext cx="82090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我想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写了一个孩子一连串美妙的幻想：想把小手接在桃树枝上，想把脚丫连在柳树根上，想把眼睛装在风筝上，想把自己种在土地上。表达了儿童丰富的想象力以及对美的追求和向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763640" y="1125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觉得作者的想法美在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图12"/>
          <p:cNvPicPr/>
          <p:nvPr/>
        </p:nvPicPr>
        <p:blipFill>
          <a:blip r:embed="rId2"/>
          <a:stretch/>
        </p:blipFill>
        <p:spPr>
          <a:xfrm>
            <a:off x="0" y="189000"/>
            <a:ext cx="2376360" cy="63324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1"/>
          <p:cNvSpPr/>
          <p:nvPr/>
        </p:nvSpPr>
        <p:spPr>
          <a:xfrm>
            <a:off x="752400" y="6245280"/>
            <a:ext cx="59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1" descr="1681346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WordArt 5"/>
          <p:cNvSpPr txBox="1"/>
          <p:nvPr/>
        </p:nvSpPr>
        <p:spPr>
          <a:xfrm>
            <a:off x="2627280" y="2924280"/>
            <a:ext cx="4321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6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30EF-A3F2-4A7D-A067-BCB55149A4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9"/>
          <p:cNvPicPr/>
          <p:nvPr/>
        </p:nvPicPr>
        <p:blipFill>
          <a:blip r:embed="rId1"/>
          <a:srcRect l="1995" t="6152" r="0" b="0"/>
          <a:stretch/>
        </p:blipFill>
        <p:spPr>
          <a:xfrm>
            <a:off x="162000" y="189000"/>
            <a:ext cx="8785080" cy="5256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084320" y="3637080"/>
            <a:ext cx="74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美是到处都有的，对于我们的眼睛，不是缺少美，而是缺少发现。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en-US" sz="32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罗丹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" descr="cc20055281622401706"/>
          <p:cNvPicPr/>
          <p:nvPr/>
        </p:nvPicPr>
        <p:blipFill>
          <a:blip r:embed="rId1"/>
          <a:srcRect l="0" t="0" r="325" b="3514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684360" y="1125360"/>
            <a:ext cx="7704000" cy="642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你看到鸟语花香、绿树成荫、蓝天白云这些美丽的景色时，想到了什么？让我们一起走进作家的作品中，去品味生活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332000" y="1916280"/>
            <a:ext cx="67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　  高洪波 笔名向川，</a:t>
            </a:r>
            <a:r>
              <a:rPr b="1" lang="en-US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951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年生于内蒙古自治区开鲁县，现为中国作家协会书记处书记。出版有儿童诗集</a:t>
            </a:r>
            <a:r>
              <a:rPr b="1" lang="en-US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大象法官</a:t>
            </a:r>
            <a:r>
              <a:rPr b="1" lang="en-US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》《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我喜欢你，狐狸</a:t>
            </a:r>
            <a:r>
              <a:rPr b="1" lang="en-US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等。儿童诗</a:t>
            </a:r>
            <a:r>
              <a:rPr b="1" lang="en-US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我想</a:t>
            </a:r>
            <a:r>
              <a:rPr b="1" lang="en-US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获全国作家协会第一届全国优秀儿童文学奖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539640" y="98100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走近作者</a:t>
            </a:r>
            <a:endParaRPr b="1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640" y="2276280"/>
            <a:ext cx="7488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学会本课的生字新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正确流利有感情的朗读背诵这首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理解诗的内容，通过幻想和想象，激发学生对大自然的热爱，对美好生活的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3132000" y="134136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1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32000" y="1844640"/>
            <a:ext cx="4248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谷               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软               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营               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帐               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堂               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221440" y="1773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yā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92360" y="18414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g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16360" y="18414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稻谷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445080" y="177336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脚丫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8"/>
          <p:cNvSpPr txBox="1"/>
          <p:nvPr/>
        </p:nvSpPr>
        <p:spPr>
          <a:xfrm>
            <a:off x="3203640" y="836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547640" y="263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ruǎ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844720" y="2637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柔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292720" y="2637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jí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443640" y="2637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汲取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1547640" y="35035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yí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2844720" y="3500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营养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5075280" y="35067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pé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6586560" y="35035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雨篷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1476360" y="4365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zh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3059280" y="4365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蚊帐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5002200" y="4365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zhē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6586560" y="4365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风筝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1547640" y="52261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t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2843280" y="52261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课堂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0"/>
          <p:cNvSpPr/>
          <p:nvPr/>
        </p:nvSpPr>
        <p:spPr>
          <a:xfrm>
            <a:off x="514836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x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1"/>
          <p:cNvSpPr/>
          <p:nvPr/>
        </p:nvSpPr>
        <p:spPr>
          <a:xfrm>
            <a:off x="6443640" y="522936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花絮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2705040" y="3860640"/>
            <a:ext cx="1224000" cy="1224000"/>
            <a:chOff x="2705040" y="3860640"/>
            <a:chExt cx="1224000" cy="1224000"/>
          </a:xfrm>
        </p:grpSpPr>
        <p:sp>
          <p:nvSpPr>
            <p:cNvPr id="90" name="Rectangle 4"/>
            <p:cNvSpPr/>
            <p:nvPr/>
          </p:nvSpPr>
          <p:spPr>
            <a:xfrm>
              <a:off x="270504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H="1">
              <a:off x="270504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6"/>
            <p:cNvSpPr/>
            <p:nvPr/>
          </p:nvSpPr>
          <p:spPr>
            <a:xfrm>
              <a:off x="3317400" y="38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7"/>
          <p:cNvGrpSpPr/>
          <p:nvPr/>
        </p:nvGrpSpPr>
        <p:grpSpPr>
          <a:xfrm>
            <a:off x="3929040" y="3860640"/>
            <a:ext cx="1224000" cy="1224000"/>
            <a:chOff x="3929040" y="3860640"/>
            <a:chExt cx="1224000" cy="1224000"/>
          </a:xfrm>
        </p:grpSpPr>
        <p:sp>
          <p:nvSpPr>
            <p:cNvPr id="94" name="Rectangle 8"/>
            <p:cNvSpPr/>
            <p:nvPr/>
          </p:nvSpPr>
          <p:spPr>
            <a:xfrm>
              <a:off x="392904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9"/>
            <p:cNvSpPr/>
            <p:nvPr/>
          </p:nvSpPr>
          <p:spPr>
            <a:xfrm flipH="1">
              <a:off x="392904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4541400" y="38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1479600" y="3860640"/>
            <a:ext cx="1224000" cy="1224000"/>
            <a:chOff x="1479600" y="3860640"/>
            <a:chExt cx="1224000" cy="1224000"/>
          </a:xfrm>
        </p:grpSpPr>
        <p:sp>
          <p:nvSpPr>
            <p:cNvPr id="98" name="Rectangle 16"/>
            <p:cNvSpPr/>
            <p:nvPr/>
          </p:nvSpPr>
          <p:spPr>
            <a:xfrm>
              <a:off x="147960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 flipH="1">
              <a:off x="147960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8"/>
            <p:cNvSpPr/>
            <p:nvPr/>
          </p:nvSpPr>
          <p:spPr>
            <a:xfrm>
              <a:off x="2091960" y="38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77"/>
          <p:cNvGrpSpPr/>
          <p:nvPr/>
        </p:nvGrpSpPr>
        <p:grpSpPr>
          <a:xfrm>
            <a:off x="5148360" y="3860640"/>
            <a:ext cx="1224000" cy="1224000"/>
            <a:chOff x="5148360" y="3860640"/>
            <a:chExt cx="1224000" cy="1224000"/>
          </a:xfrm>
        </p:grpSpPr>
        <p:sp>
          <p:nvSpPr>
            <p:cNvPr id="102" name="Rectangle 78"/>
            <p:cNvSpPr/>
            <p:nvPr/>
          </p:nvSpPr>
          <p:spPr>
            <a:xfrm>
              <a:off x="5148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79"/>
            <p:cNvSpPr/>
            <p:nvPr/>
          </p:nvSpPr>
          <p:spPr>
            <a:xfrm flipH="1">
              <a:off x="5148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80"/>
            <p:cNvSpPr/>
            <p:nvPr/>
          </p:nvSpPr>
          <p:spPr>
            <a:xfrm>
              <a:off x="5760720" y="38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81"/>
          <p:cNvGrpSpPr/>
          <p:nvPr/>
        </p:nvGrpSpPr>
        <p:grpSpPr>
          <a:xfrm>
            <a:off x="6372360" y="3860640"/>
            <a:ext cx="1224000" cy="1224000"/>
            <a:chOff x="6372360" y="3860640"/>
            <a:chExt cx="1224000" cy="1224000"/>
          </a:xfrm>
        </p:grpSpPr>
        <p:sp>
          <p:nvSpPr>
            <p:cNvPr id="106" name="Rectangle 82"/>
            <p:cNvSpPr/>
            <p:nvPr/>
          </p:nvSpPr>
          <p:spPr>
            <a:xfrm>
              <a:off x="6372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83"/>
            <p:cNvSpPr/>
            <p:nvPr/>
          </p:nvSpPr>
          <p:spPr>
            <a:xfrm flipH="1">
              <a:off x="6372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84"/>
            <p:cNvSpPr/>
            <p:nvPr/>
          </p:nvSpPr>
          <p:spPr>
            <a:xfrm>
              <a:off x="6984720" y="38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19"/>
          <p:cNvSpPr/>
          <p:nvPr/>
        </p:nvSpPr>
        <p:spPr>
          <a:xfrm>
            <a:off x="1476360" y="3860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软营柔堂遥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88"/>
          <p:cNvGrpSpPr/>
          <p:nvPr/>
        </p:nvGrpSpPr>
        <p:grpSpPr>
          <a:xfrm>
            <a:off x="3349440" y="2205000"/>
            <a:ext cx="1224000" cy="1224000"/>
            <a:chOff x="3349440" y="2205000"/>
            <a:chExt cx="1224000" cy="1224000"/>
          </a:xfrm>
        </p:grpSpPr>
        <p:sp>
          <p:nvSpPr>
            <p:cNvPr id="111" name="Rectangle 89"/>
            <p:cNvSpPr/>
            <p:nvPr/>
          </p:nvSpPr>
          <p:spPr>
            <a:xfrm>
              <a:off x="3349800" y="220500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90"/>
            <p:cNvSpPr/>
            <p:nvPr/>
          </p:nvSpPr>
          <p:spPr>
            <a:xfrm flipH="1">
              <a:off x="3349440" y="281700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91"/>
            <p:cNvSpPr/>
            <p:nvPr/>
          </p:nvSpPr>
          <p:spPr>
            <a:xfrm>
              <a:off x="3961800" y="223524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92"/>
          <p:cNvGrpSpPr/>
          <p:nvPr/>
        </p:nvGrpSpPr>
        <p:grpSpPr>
          <a:xfrm>
            <a:off x="4573440" y="2205000"/>
            <a:ext cx="1224000" cy="1224000"/>
            <a:chOff x="4573440" y="2205000"/>
            <a:chExt cx="1224000" cy="1224000"/>
          </a:xfrm>
        </p:grpSpPr>
        <p:sp>
          <p:nvSpPr>
            <p:cNvPr id="115" name="Rectangle 93"/>
            <p:cNvSpPr/>
            <p:nvPr/>
          </p:nvSpPr>
          <p:spPr>
            <a:xfrm>
              <a:off x="4573440" y="2205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94"/>
            <p:cNvSpPr/>
            <p:nvPr/>
          </p:nvSpPr>
          <p:spPr>
            <a:xfrm flipH="1">
              <a:off x="4573440" y="2817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95"/>
            <p:cNvSpPr/>
            <p:nvPr/>
          </p:nvSpPr>
          <p:spPr>
            <a:xfrm>
              <a:off x="5185800" y="223524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6"/>
          <p:cNvGrpSpPr/>
          <p:nvPr/>
        </p:nvGrpSpPr>
        <p:grpSpPr>
          <a:xfrm>
            <a:off x="2124000" y="2205000"/>
            <a:ext cx="1224000" cy="1224000"/>
            <a:chOff x="2124000" y="2205000"/>
            <a:chExt cx="1224000" cy="1224000"/>
          </a:xfrm>
        </p:grpSpPr>
        <p:sp>
          <p:nvSpPr>
            <p:cNvPr id="119" name="Rectangle 97"/>
            <p:cNvSpPr/>
            <p:nvPr/>
          </p:nvSpPr>
          <p:spPr>
            <a:xfrm>
              <a:off x="2124000" y="2205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98"/>
            <p:cNvSpPr/>
            <p:nvPr/>
          </p:nvSpPr>
          <p:spPr>
            <a:xfrm flipH="1">
              <a:off x="2124000" y="2817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9"/>
            <p:cNvSpPr/>
            <p:nvPr/>
          </p:nvSpPr>
          <p:spPr>
            <a:xfrm>
              <a:off x="2736360" y="223524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100"/>
          <p:cNvGrpSpPr/>
          <p:nvPr/>
        </p:nvGrpSpPr>
        <p:grpSpPr>
          <a:xfrm>
            <a:off x="5792760" y="2205000"/>
            <a:ext cx="1224000" cy="1224000"/>
            <a:chOff x="5792760" y="2205000"/>
            <a:chExt cx="1224000" cy="1224000"/>
          </a:xfrm>
        </p:grpSpPr>
        <p:sp>
          <p:nvSpPr>
            <p:cNvPr id="123" name="Rectangle 101"/>
            <p:cNvSpPr/>
            <p:nvPr/>
          </p:nvSpPr>
          <p:spPr>
            <a:xfrm>
              <a:off x="5792760" y="2205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02"/>
            <p:cNvSpPr/>
            <p:nvPr/>
          </p:nvSpPr>
          <p:spPr>
            <a:xfrm flipH="1">
              <a:off x="5792760" y="2817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03"/>
            <p:cNvSpPr/>
            <p:nvPr/>
          </p:nvSpPr>
          <p:spPr>
            <a:xfrm>
              <a:off x="6405120" y="223524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Text Box 104"/>
          <p:cNvSpPr/>
          <p:nvPr/>
        </p:nvSpPr>
        <p:spPr>
          <a:xfrm>
            <a:off x="2195640" y="2205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悠谷脚丫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"/>
                            </p:stCondLst>
                            <p:childTnLst>
                              <p:par>
                                <p:cTn id="27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1890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感知课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611280" y="1773360"/>
            <a:ext cx="777564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自由读诗歌，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想变成什么？为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我把眼睛装在风筝上，飞上高高的蓝天，望啊，望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——”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作者能望到什么？为什么说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蓝天是我的课堂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　３</a:t>
            </a:r>
            <a:r>
              <a:rPr b="1" lang="en-US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遥远的地方会是哪里？作者飞到那里干什么</a:t>
            </a:r>
            <a:r>
              <a:rPr b="1" lang="en-US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　 </a:t>
            </a:r>
            <a:r>
              <a:rPr b="1" lang="en-US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最后一句，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要和爸爸妈妈商量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pic_251422hk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3708360" y="836640"/>
            <a:ext cx="4680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我想把手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接在桃树枝上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带着一串花苞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随着风儿悠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悠啊，悠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悠出布谷鸟声声的歌唱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971640" y="83664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诗歌朗诵</a:t>
            </a:r>
            <a:endParaRPr b="1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9:46Z</dcterms:modified>
  <cp:revision>105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